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CEDB-3E65-4C00-9476-471A689D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E5F-F265-4C27-8F8C-12DB2630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C51-012A-4D07-B43F-DE8165A9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AA5-9DFE-4B7B-8036-BBD77C52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2FC8-4DB7-4D8D-8D9A-F5C3859D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FD4E-A8C5-49E8-AC2C-49C0A20E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813D-6190-4551-B0F3-5FFDE899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C1EB-AEE3-4B44-9A83-E6D208FB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5A11-71BF-4320-9028-6BD91B6A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BA56-2F25-4088-A20E-60E7B6A1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D34E-E1B5-49D1-A69F-CE8093A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8FD-3DF2-4E1E-931C-303DBE89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8B43-854F-4238-B6A9-72698B7A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F09E-443B-4FBB-A388-6C2C3009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3C71-9959-40BC-8DA2-392B8A0F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7A2F-5AD3-4AD7-8624-7360CB8C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BA04-BA1D-49EB-A222-6BD2601F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B0009-0A84-4373-866A-5C92AF81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2882E-69FD-468F-8DE0-86823AB8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03B4C-3631-497B-B86A-90D6590D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C0FE1-985E-4DBF-BCCD-399F5AB2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71A13-AFD8-40B3-BBD2-B04B0AFE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454-7F32-4E6F-8C06-46B047B0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D6D6B-A224-44BC-AD72-1E8FD569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D35F1-89C7-427E-A4C5-DFEBB879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D1D0C-C663-4F3F-92DE-835F8D85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64BC5-CCF4-41FF-BA7B-941ADD7C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1B4CB-5DDB-48E1-97F1-16841D90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86FCA-72AB-4C6E-9075-40F61B43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259BC-C61A-4DAD-9F13-5ABD301E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0267C-FE42-45A0-B867-6030737A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490542-F024-409C-9652-9E2D283C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B8525-030F-42D0-B9FA-70705E25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23C-33D5-40FC-8F3A-C83946FB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B89D3-CAC7-4E38-B714-F07342AA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CDC6B-8CE6-4822-A421-51C4349E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E4AF0D-6BBD-4748-81B0-00F06DF0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199544-7354-40CB-A37A-3DA522D1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22AF10-0F05-4659-9023-5DBF8E4D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14276-F4A6-4CF3-A2ED-7903944D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804F24-B777-4D05-8ABA-3CA07D9F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73703-3586-4200-966A-C3937581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A9000-E8D5-44C0-8BF5-1EEEBB85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EA98C-6E01-4999-9A00-FE2373AB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7D1-8847-4376-A3D4-51A97398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DEECE6-7985-413F-A800-73E8C377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089AF-1636-4FDA-9DE5-B0A9C3DE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95804-2547-4E91-8AD7-243EE470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55093-6944-466D-A107-23203387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B9F5FB-FDF0-4340-B330-DB6D1360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9834A-3DD1-4313-8410-1F6C3207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A647EC-83D4-4F7C-AB58-44D90678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1FF0E-6EE1-4A3D-9013-385DDC1B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83775-4CD2-4886-BE3C-F7BC10F7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18181-3FFA-4A9C-BA0B-B4D391F7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F78-E549-4669-8F92-CB4C70C9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64244-23DC-439C-8A6C-D69F0D66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E0E9D-70B6-4A2E-A0F8-9F1DE39F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2E09D-DE74-4993-BF13-E1F94EDD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DB130-3831-4D0F-A68F-B22B101F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E4C69-3705-4D1F-949E-E2AF3562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2B2B8-6D34-40E3-B470-86461A96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074FD-39BB-4F1A-8405-2DA74283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50E5E-E472-4F3D-8A43-99F525D2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7FF6A-0953-4E74-BC46-51E946FA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7E202-3F35-4126-BB82-27EDB341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34A-A9F7-49B1-B57C-437C20CF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72007-A50C-46D7-8570-6DC9FC87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F1CD2-DBEF-4634-9E85-092CB1DB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9FDCB-61BE-43B4-B209-141D6298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470F06-CB0C-411F-916B-E73766FC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1437EF-21C5-4F36-A5B4-075B6288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BF3CC0-2A1C-4D1E-B9F8-61593504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82A451-553B-450A-A439-47988E25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5DAB6-1C53-4C97-A8AC-903C0B5D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362E1-B3D7-4B09-8BF6-7B676099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FDF351-8E42-46EC-9C75-021DEFB4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F95-988C-457C-8B8E-40C50B5C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ACC6D4-554B-46EE-87A5-3DC68FE2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A3F835-ABF0-4F26-A9EB-34B5DAED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DCC1E1-4A56-42C9-919D-343FD13E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A04737-C706-487E-B56B-9D019EF8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6BE689-900A-4936-B3FA-A520BB97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1FA61-3C90-4DD1-9A02-9DBCF6AB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194B4-47F5-431C-B066-5A5C1794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9541D-367D-4CC9-89A2-67D2EC52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25CEA-66BD-4922-87AF-245F8AFB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86B92-C194-4E6C-9D7A-F3F8F323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50A-7365-4893-A0AD-F94B3BE4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E4CB0-88DB-4813-88B5-6B6D7124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02703-7E47-431E-A865-DE03DCE1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67A4F-83BE-424C-B116-F577E554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8044C-C5B8-44C3-B7F3-1C78270F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957AF-6837-449D-B1FC-4B2AB57F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95A18-5876-4FFF-AADB-5F43B3D0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83A3C-CEAD-4D94-8BDC-2E49B87A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00609-788D-44EC-9048-5A0071C904C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2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edf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5edf4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d5edf4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6BD6B-E72B-4547-BC22-D8D0D5DE2B14}" type="slidenum">
              <a:rPr b="1" lang="en-US" sz="1400" spc="-1" strike="noStrike">
                <a:solidFill>
                  <a:srgbClr val="d5edf4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ED40F-D43C-4809-B6F2-C61B9EA3AD61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54C2F-E092-4108-93D2-76CD38F4B04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F0EA5-36F2-497D-9513-70139AE37C7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50D43-9E26-4362-BA94-F29B93A19C86}" type="slidenum">
              <a:rPr b="1" lang="en-US" sz="1400" spc="-1" strike="noStrike">
                <a:solidFill>
                  <a:srgbClr val="09213b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74D4E-8A4F-4916-977E-836EA67D00EE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D3D93-062E-41A7-BA81-F48682CAB21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5edf4"/>
                </a:solidFill>
                <a:latin typeface="Tw Cen MT"/>
              </a:rPr>
              <a:t>TUTORIAL 7</a:t>
            </a:r>
            <a:br>
              <a:rPr sz="4000"/>
            </a:br>
            <a:r>
              <a:rPr b="0" lang="en-US" sz="4000" spc="-1" strike="noStrike">
                <a:solidFill>
                  <a:srgbClr val="d5edf4"/>
                </a:solidFill>
                <a:latin typeface="Tw Cen MT"/>
              </a:rPr>
              <a:t>SAMPLE SIZE CALCUL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5edf4"/>
                </a:solidFill>
                <a:latin typeface="Tw Cen MT"/>
              </a:rPr>
              <a:t>DR. SHAIK SHAFFI</a:t>
            </a:r>
            <a:endParaRPr b="0" lang="en-US" sz="4000" spc="-1" strike="noStrike">
              <a:solidFill>
                <a:srgbClr val="d5edf4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r. Rufaidah Dabbagh            Dr. Nurah Al Amro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213b"/>
                </a:solidFill>
                <a:latin typeface="Tw Cen MT"/>
              </a:rPr>
              <a:t>Choose population survey by pressing “P”</a:t>
            </a:r>
            <a:endParaRPr b="0" lang="en-US" sz="40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7449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213b"/>
                </a:solidFill>
                <a:latin typeface="Tw Cen MT"/>
              </a:rPr>
              <a:t>Fill in the information as given in the problem, then press “F4”</a:t>
            </a:r>
            <a:endParaRPr b="0" lang="en-US" sz="40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28600" y="1643040"/>
            <a:ext cx="8526600" cy="37861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612720" y="5643720"/>
            <a:ext cx="767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rom the stem of the ques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ected frequency of outcome is 30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orst acceptable result within a 5% of true value is 30% + 5% = 3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2 continued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783640" cy="4214520"/>
          </a:xfrm>
          <a:prstGeom prst="rect">
            <a:avLst/>
          </a:prstGeom>
          <a:ln w="0">
            <a:noFill/>
          </a:ln>
        </p:spPr>
      </p:pic>
      <p:sp>
        <p:nvSpPr>
          <p:cNvPr id="376" name="Oval 4"/>
          <p:cNvSpPr/>
          <p:nvPr/>
        </p:nvSpPr>
        <p:spPr>
          <a:xfrm>
            <a:off x="5572080" y="4357800"/>
            <a:ext cx="785880" cy="142920"/>
          </a:xfrm>
          <a:prstGeom prst="ellipse">
            <a:avLst/>
          </a:prstGeom>
          <a:noFill/>
          <a:ln w="10080">
            <a:solidFill>
              <a:srgbClr val="ffff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Q(3) Calculate Sample Size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 new antihypertensive drug is to be tested against current treatment practice in people with systolic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blood pressure &gt; 160 mmHg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nd/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diastolic blood pressure &gt;95 mmHg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t is felt that if the new drug can achieve blood pressure levels  that ar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on the average 10 mmHg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lower than those achieved using current treatment then it would be accepted  by the medical community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investigators would lik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at least 90% power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nd have chos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α = 0.01 (two-sided)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s the current therapy is quite acceptable and they want to be sure that the new therapy is superior before switching over. Blood pressure measurements have a standard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deviation of 20 mmHg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3 (using formula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size  n =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2 σ</a:t>
            </a:r>
            <a:r>
              <a:rPr b="0" lang="en-US" sz="2900" spc="-1" strike="noStrike" u="sng" baseline="30000">
                <a:solidFill>
                  <a:srgbClr val="000000"/>
                </a:solidFill>
                <a:uFillTx/>
                <a:latin typeface="Tw Cen MT"/>
              </a:rPr>
              <a:t>2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 (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+ 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β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)</a:t>
            </a:r>
            <a:r>
              <a:rPr b="0" lang="en-US" sz="2900" spc="-1" strike="noStrike" u="sng" baseline="30000">
                <a:solidFill>
                  <a:srgbClr val="000000"/>
                </a:solidFill>
                <a:uFillTx/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d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=10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      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σ=20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α=0.01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       Z</a:t>
            </a:r>
            <a:r>
              <a:rPr b="0" lang="el-GR" sz="2600" spc="-1" strike="noStrike" baseline="-25000">
                <a:solidFill>
                  <a:srgbClr val="000000"/>
                </a:solidFill>
                <a:latin typeface="Calibri"/>
              </a:rPr>
              <a:t>(1-α)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 = 2.58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                  β=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(1-power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1-0.9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0.10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       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β)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1.28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lug into formula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 = 2 x2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(2.58+1.28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/(10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= 119.2</a:t>
            </a:r>
            <a:r>
              <a:rPr b="1" i="1" lang="en-US" sz="2900" spc="-1" strike="noStrike">
                <a:solidFill>
                  <a:srgbClr val="ff0000"/>
                </a:solidFill>
                <a:latin typeface="Tw Cen MT"/>
              </a:rPr>
              <a:t>≈ 12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3 (using tables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ring to table 3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row for sd = 2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column for d= 1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ample size should be the number that intersects the tw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Question 4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standard regimen has an efficacy of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80%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nd a new regimen has been claimed to b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90% effectiv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the sample size required to test whether the new treatment is really effective at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5% level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ith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90% power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4 (using formula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size calculation for propor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 =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(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+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β)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)</a:t>
            </a:r>
            <a:r>
              <a:rPr b="0" lang="en-US" sz="2900" spc="-1" strike="noStrike" u="sng" baseline="30000">
                <a:solidFill>
                  <a:srgbClr val="000000"/>
                </a:solidFill>
                <a:uFillTx/>
                <a:latin typeface="Tw Cen MT"/>
              </a:rPr>
              <a:t>2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[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(1-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)+ 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(1-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)]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1=80%        p2=90%     α=0.05       (1-α)=0.95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1.96  for  95% confidence level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(Power=1-β)=0.90      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β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1.282 for 90% pow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= (1.96+1.28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(0.8x0.2)+(0.9x0.1))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(0.8-0.9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263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patients for each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 sample size: 263x2=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526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4 (using tables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ring to table 4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row for P1 = 90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column for P2= 80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ample size should be the number that intersects those two lin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Question 5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find whether contaminated food  had caused diarrhea  in an area, a study is planned   in that area wher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30% individua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te contaminated food but had no diarrhe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ant to detect an </a:t>
            </a:r>
            <a:r>
              <a:rPr b="0" lang="en-US" sz="2900" spc="-1" strike="noStrike">
                <a:solidFill>
                  <a:srgbClr val="800000"/>
                </a:solidFill>
                <a:latin typeface="Tw Cen MT"/>
              </a:rPr>
              <a:t>odds ratio of  3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individuals who ate contaminated food and  had diarrhea  as compared to contro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large sample ion each group  is required to have an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80% chance of getting this odds ratio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5% level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13b"/>
                </a:solidFill>
                <a:latin typeface="Tw Cen MT"/>
              </a:rPr>
              <a:t>Q1) </a:t>
            </a:r>
            <a:r>
              <a:rPr b="1" lang="en-US" sz="4000" spc="-1" strike="noStrike" u="sng">
                <a:solidFill>
                  <a:srgbClr val="09213b"/>
                </a:solidFill>
                <a:uFillTx/>
                <a:latin typeface="Tw Cen MT"/>
              </a:rPr>
              <a:t>Sample size estimation for a descriptive study (single mean):</a:t>
            </a:r>
            <a:endParaRPr b="0" lang="en-US" sz="40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ant to estimate the mean systolic blood pressure of  Saudi  fema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standard deviation is around 20 mmH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ish to estimate the true mean to within 10 mmHg with 95% confiden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the required sample size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5 using Epi info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7450200" cy="28576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4"/>
          <p:cNvSpPr/>
          <p:nvPr/>
        </p:nvSpPr>
        <p:spPr>
          <a:xfrm>
            <a:off x="785880" y="5143680"/>
            <a:ext cx="692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hoose “unmatched cohort and cross sectional stud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5 cont.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650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5 cont.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8539200" cy="43578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378000" y="2857680"/>
            <a:ext cx="8388000" cy="571320"/>
          </a:xfrm>
          <a:prstGeom prst="rect">
            <a:avLst/>
          </a:prstGeom>
          <a:noFill/>
          <a:ln w="10080">
            <a:solidFill>
              <a:srgbClr val="ffff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Question 6 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wo competing therapies for a particular cancer are to be evaluated by the cohort study strategy in a multi center clinical trial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tients are randomized to either treatment A or B and are followed for recurrence of disease for 5 years following treatmen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any patients should be studied in each of two arms of the trial in order to b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90%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of rejecting Ho: RR=1 in favor of the alternative Ha: RR±1,if the test is to be performed a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α=0.0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level and if it is assumed that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p2=0.3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RR=1.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6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28760" y="557208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oose unmatched case control stud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7450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6 cont.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3012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6 cont.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851076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"/>
          <p:cNvSpPr/>
          <p:nvPr/>
        </p:nvSpPr>
        <p:spPr>
          <a:xfrm>
            <a:off x="214200" y="2928960"/>
            <a:ext cx="8510760" cy="571320"/>
          </a:xfrm>
          <a:prstGeom prst="rect">
            <a:avLst/>
          </a:prstGeom>
          <a:noFill/>
          <a:ln w="10080">
            <a:solidFill>
              <a:srgbClr val="ffff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22856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1  (using formula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size n = Z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α)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σ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/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20   d=10      (1- α) =0.95    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1.96    for  95% confidenc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 = (1.96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x(20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/(10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= 15.3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nce we cannot take 0.37 of a person, we round up to 16 women as our sample siz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1 (using table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ring to table 1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the row for the sd = 2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the column for d= 1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ample size will be the number that intersects those two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571320"/>
            <a:ext cx="8153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9213b"/>
                </a:solidFill>
                <a:uFillTx/>
                <a:latin typeface="Tw Cen MT"/>
              </a:rPr>
              <a:t>Q2) Sample size estimation for a descriptive study (single proportion):</a:t>
            </a:r>
            <a:br>
              <a:rPr sz="4000"/>
            </a:br>
            <a:endParaRPr b="0" lang="en-US" sz="40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ish to estimate the proportion of Saudi males who smok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 sample size do we require to achieve a 95% confidence interval of </a:t>
            </a:r>
            <a:r>
              <a:rPr b="0" lang="en-US" sz="2900" spc="-1" strike="noStrike" u="sng">
                <a:solidFill>
                  <a:srgbClr val="800000"/>
                </a:solidFill>
                <a:uFillTx/>
                <a:latin typeface="Tw Cen MT"/>
              </a:rPr>
              <a:t>width ± 5%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 that is to be within 5% of the true value) ? In a study some years ago that found approximately 30% were smoke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2 (using formula) 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ing the formula for sample size for a single propor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size n = Z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α)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(1-p)/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=0.3 d=.0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(1-α)=0.95  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1.96   for  95% confidenc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 n = (1.96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0.3)(0.7)/(0.05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= </a:t>
            </a:r>
            <a:r>
              <a:rPr b="1" lang="en-US" sz="2900" spc="-1" strike="noStrike">
                <a:solidFill>
                  <a:srgbClr val="0f3661"/>
                </a:solidFill>
                <a:latin typeface="Tw Cen MT"/>
              </a:rPr>
              <a:t>322.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w Cen MT"/>
              </a:rPr>
              <a:t>≈ </a:t>
            </a:r>
            <a:r>
              <a:rPr b="0" i="1" lang="en-US" sz="2900" spc="-1" strike="noStrike">
                <a:solidFill>
                  <a:srgbClr val="ff0000"/>
                </a:solidFill>
                <a:latin typeface="Tw Cen MT"/>
              </a:rPr>
              <a:t>32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2 (using Tables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ring to table 2 (estimating  a population proportion)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o to the row for the d= 0.0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o to the column for p= 30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ample size should be the number that intersects those tw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2 (using Epi Info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28600" y="1681200"/>
            <a:ext cx="7888320" cy="4462560"/>
          </a:xfrm>
          <a:prstGeom prst="rect">
            <a:avLst/>
          </a:prstGeom>
          <a:ln w="0">
            <a:noFill/>
          </a:ln>
        </p:spPr>
      </p:pic>
      <p:sp>
        <p:nvSpPr>
          <p:cNvPr id="366" name="Oval 5"/>
          <p:cNvSpPr/>
          <p:nvPr/>
        </p:nvSpPr>
        <p:spPr>
          <a:xfrm>
            <a:off x="2214720" y="1681200"/>
            <a:ext cx="714240" cy="318960"/>
          </a:xfrm>
          <a:prstGeom prst="ellipse">
            <a:avLst/>
          </a:prstGeom>
          <a:noFill/>
          <a:ln w="10080">
            <a:solidFill>
              <a:srgbClr val="c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Press the “S” key for sample size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1143000" y="2214720"/>
            <a:ext cx="7308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3:40:20Z</dcterms:created>
  <dc:creator>Rufaidah Dabbagh</dc:creator>
  <dc:description/>
  <dc:language>en-US</dc:language>
  <cp:lastModifiedBy>Rufaidah</cp:lastModifiedBy>
  <dcterms:modified xsi:type="dcterms:W3CDTF">2011-11-30T06:36:11Z</dcterms:modified>
  <cp:revision>21</cp:revision>
  <dc:subject/>
  <dc:title>Tutorial 7 Sample Size Calculation</dc:title>
</cp:coreProperties>
</file>