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9C1-D79C-4555-8E2A-781A19ED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AB9-3618-4559-9B6D-9F1A128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B45-D222-41D2-9F2B-140B9CC8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96E-E444-4B4A-8E03-6D4565D9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7B70-86D4-4372-88A1-D87B80E6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C355-092F-4763-A8CB-9E050441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2BFA-0FB6-445E-B9FF-F374374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7358-E2C0-4182-AD74-843B5666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2728-F1B0-4061-A794-6D0385F0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81EB-8FCE-48D5-91AF-6B07AE7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0B90-6727-4C22-B2F5-83D7AAC3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140-69D0-44BD-A35D-E314BFA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4D3-2B96-4E64-BA59-0DDCCF17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C4B7-9467-4A3A-A517-9B70CFD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0459-0B60-4925-A348-5F519C03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64A-0FD8-43CA-A948-4F69D7C8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531-EDB1-4F1C-8320-2004B923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34252-2819-461C-B183-E3A4AE4A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B5872-64FD-4CBF-81AE-58472AE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6878E-32CD-4CD0-83C5-E29BDBC4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FD589-FED7-45A2-92EF-3BF0EB58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5F0C1-9605-44A8-9018-DCA827F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5FC-8110-4305-9466-89713365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199AD-E7A1-4BF8-BAE5-209629F2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15B6A-0F0D-43C6-83A3-8718668E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DBF38-CBE3-4771-A0E1-8395660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C27C8-2D62-4572-82E9-43BCF5F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D4C48-C6B0-4DE0-85AD-64732F7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1D174-BD90-4C51-9F34-E68CB3FB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AC808-EE3A-41D0-8F2B-CC6B7F43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0BE24-8A21-4700-8094-C72C120B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AAD7C-C7F6-43F5-89EA-D1D84E2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26C09-B76A-4BF5-999B-D65B3D3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59E-7A7E-41CE-9623-3AB5C39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C69212-ED63-4684-AB2D-D762D6AF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36E45-1339-41B3-8E07-C3956BF0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DC125-3730-4AAD-A622-477DBC2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A3464-1B13-4774-84FF-41736B6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292FE-481E-487B-BE17-A45DB2E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23D1E-04F9-4A8F-AB87-BBE6DFB4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7ADF3D-C88F-474B-A665-6ABDFEF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4998C-0319-462F-8B06-3E4A956A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147CC-40FC-42F9-88BC-A995C05B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A0D61-13C7-4823-A058-41A4BBBB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B89-490C-47EF-B89A-7394B7AE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D7223-74A9-4F9F-ADF4-6F045E5E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65932-68D4-4B37-9C21-92279C3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201A5-6F22-4219-A714-E6A0B08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B2DEE-1BEC-488E-B311-2A40E8C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68CDD-1333-4720-A6E9-3C2A755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D8E72-1CFF-4D19-ADC8-1E276B8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E786C-343E-4832-A1E7-84F589C3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64F5B-3446-4F92-9E87-9598168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C2551-168C-4264-8107-B1844DF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36456-65AE-4012-A8D1-80B063F2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3FF-C58B-4121-8F9C-DEB0EB3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3D979-AC98-4C59-A5FE-410CC5C7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0573E-7379-4361-A227-624D634E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78108-87A5-4B5C-8DEE-3F935D3F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09DA-5670-4B7C-9FA7-56F7B3F8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03E41-E906-4BEE-8461-0B8C98D0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E112-6970-4D26-8BCE-F799685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ADDE-F36C-422F-86F6-92024C8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921BB-654C-4591-BF41-C7D5F1DC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E42E6-9A83-45D5-967D-86EC9FD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33CFA-BF86-4C58-ABC2-F4EC245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324-B599-4BB2-A10A-81CD8773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39A4E-D1D4-4D7F-A7EE-9BC8CE06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5D35-6818-4F49-95A2-DD9772F1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5FAB-3BA5-416C-8C44-B71E7C1A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AA3F7-0BC0-4CC2-9BBB-6E1E2171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1E662-5DEB-4A9C-86C7-86A950FF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3893C-093F-48A0-8B38-78392B9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B0CF3-1EF8-41F2-BF0B-C22BE54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B5700-8D0F-4E27-B447-98647BC7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60625-F014-4F0D-862F-442F69D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E49343-D8EC-45F1-BCBC-E803BF0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324-92A7-4DCF-8995-5690C9D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0C58FD-570C-4B46-A6DA-CB796D5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17C6C-01A5-44F8-B702-A72FF16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58215-8639-4C3C-80C0-7ACDE38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F5CBC-E43C-4CA9-B54A-970C7168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5C975-2162-4724-88D9-B9CAC501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1C26-4574-4844-B928-4F85FAA9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7CC4-4B57-4117-92FC-40DBF155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0AC7-1316-4314-877F-621710F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F4F07-C8C6-421F-B9D3-DB5A0BF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7C15-B387-480B-B7FE-733F90C6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192-89F2-4C4A-AD86-55AAB017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5357D-553F-47CE-9E6E-6E75DCE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5656-24B3-4FE7-8ACE-4499D07A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172AD-2F28-43AA-A86F-EC44E73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FEE1C-EF17-4755-B930-B7A02BDB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78F25-B01F-466B-99CC-05AD4C0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160E-A16F-406E-B05A-91BF678A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9C135-8396-4714-BD0E-955B3EEB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B9D12-528D-4E63-8AAD-BC94EBFD566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d5edf4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31F5A-9D09-4C79-8B87-6EA9E1480566}" type="slidenum">
              <a:rPr b="1" lang="en-US" sz="1400" spc="-1" strike="noStrike">
                <a:solidFill>
                  <a:srgbClr val="d5edf4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AEB01-4A3B-4A40-A5B5-D194249D8B1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13156-DE2D-4C76-909C-6D935E2BC18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C78AA-705A-40E3-8208-CB8FBC88663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87842-BC25-430F-B72E-8F9376090578}" type="slidenum">
              <a:rPr b="1" lang="en-US" sz="1400" spc="-1" strike="noStrike">
                <a:solidFill>
                  <a:srgbClr val="09213b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244FD-9C05-411D-96AE-0E37A2C10A4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3BCF4-3AFF-4C04-BF06-56C87A639B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TUTORIAL 7</a:t>
            </a: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SAMPLE SIZE CALC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DR. SHAIK SHAFFI</a:t>
            </a:r>
            <a:endParaRPr b="0" lang="en-US" sz="40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Rufaidah Dabbagh            Dr. Nurah Al Amr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Choose population survey by pressing “P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744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Fill in the information as given in the problem, then press “F4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8600" y="1643040"/>
            <a:ext cx="8526600" cy="3786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12720" y="5643720"/>
            <a:ext cx="76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rom the stem of the ques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ected frequency of outcome is 3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st acceptable result within a 5% of true value is 30% + 5% = 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continued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783640" cy="421452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5572080" y="4357800"/>
            <a:ext cx="785880" cy="142920"/>
          </a:xfrm>
          <a:prstGeom prst="ellipse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(3) Calculate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 new antihypertensive drug is to be tested against current treatment practice in people with systolic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blood pressure &gt; 16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/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iastolic blood pressure &gt;95 mmHg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felt that if the new drug can achieve blood pressure levels  that ar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on the average 1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wer than those achieved using current treatment then it would be accepted  by the medical community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investigators would lik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at least 90% power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 have chos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α = 0.01 (two-sided)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 the current therapy is quite acceptable and they want to be sure that the new therapy is superior before switching over. Blood pressure measurements have a standar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eviation of 20 mmHg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 n =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2 σ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 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d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=1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σ=2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=0.01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Z</a:t>
            </a:r>
            <a:r>
              <a:rPr b="0" lang="el-GR" sz="2600" spc="-1" strike="noStrike" baseline="-25000">
                <a:solidFill>
                  <a:srgbClr val="000000"/>
                </a:solidFill>
                <a:latin typeface="Calibri"/>
              </a:rPr>
              <a:t>(1-α)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 = 2.58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          β=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(1-power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1-0.9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0.10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lug into formula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2 x2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2.58+1.28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119.2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</a:rPr>
              <a:t>≈ 12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3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e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4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tandard regimen has an efficacy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a new regimen has been claimed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effec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sample size required to test whether the new treatment is really effective 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power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calculation for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[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+ 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1=80%        p2=90%     α=0.05       (1-α)=0.95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for  95% confidence level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Power=1-β)=0.90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2 for 90% pow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= (1.96+1.28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(0.8x0.2)+(0.9x0.1))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0.8-0.9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26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atients for each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sample size: 263x2=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52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4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P1 = 9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P2= 8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 li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5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find whether contaminated food  had caused diarrhea  in an area, a study is planned   in that area wher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30% individua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e contaminated food but had no diarrh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detect an </a:t>
            </a:r>
            <a:r>
              <a:rPr b="0" lang="en-US" sz="2900" spc="-1" strike="noStrike">
                <a:solidFill>
                  <a:srgbClr val="800000"/>
                </a:solidFill>
                <a:latin typeface="Tw Cen MT"/>
              </a:rPr>
              <a:t>odds ratio of  3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individuals who ate contaminated food and  had diarrhea  as compared to contr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large sample ion each group  is required to have a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 chance of getting this odds rati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Tw Cen MT"/>
              </a:rPr>
              <a:t>Q1) </a:t>
            </a: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Sample size estimation for a descriptive study (single mean):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estimate the mean systolic blood pressure of  Saudi  fem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 deviation is around 20 mmH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true mean to within 10 mmHg with 95% confide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required sample size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using Epi info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785880" y="514368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hoose “unmatched cohort and cross sectional stud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650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539200" cy="43578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78000" y="2857680"/>
            <a:ext cx="838800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6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competing therapies for a particular cancer are to be evaluated by the cohort study strategy in a multi center clinical tri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are randomized to either treatment A or B and are followed for recurrence of disease for 5 years following treat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patients should be studied in each of two arms of the trial in order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 rejecting Ho: RR=1 in favor of the alternative Ha: RR±1,if the test is to be performed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α=0.0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level and if it is assumed th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2=0.3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RR=1.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760" y="557208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oose unmatched case control stud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3012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851076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214200" y="2928960"/>
            <a:ext cx="851076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σ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20   d=10      (1- α) =0.95    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.96    for  95% confidenc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(2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= 15.3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ce we cannot take 0.37 of a person, we round up to 16 women as our sample siz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(using table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1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row for the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will be the number that intersects those two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57132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Q2) Sample size estimation for a descriptive study (single proportion):</a:t>
            </a:r>
            <a:br>
              <a:rPr sz="4000"/>
            </a:b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proportion of Saudi males who smok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 sample size do we require to achieve a 95% confidence interval of </a:t>
            </a:r>
            <a:r>
              <a:rPr b="0" lang="en-US" sz="2900" spc="-1" strike="noStrike" u="sng">
                <a:solidFill>
                  <a:srgbClr val="800000"/>
                </a:solidFill>
                <a:uFillTx/>
                <a:latin typeface="Tw Cen MT"/>
              </a:rPr>
              <a:t>width ± 5%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 that is to be within 5% of the true value) ? In a study some years ago that found approximately 30% were smok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formula)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the formula for sample size for a single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(1-p)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=0.3 d=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1-α)=0.95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 for  95% confidenc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0.3)(0.7)/(0.05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</a:t>
            </a:r>
            <a:r>
              <a:rPr b="1" lang="en-US" sz="2900" spc="-1" strike="noStrike">
                <a:solidFill>
                  <a:srgbClr val="0f3661"/>
                </a:solidFill>
                <a:latin typeface="Tw Cen MT"/>
              </a:rPr>
              <a:t>322.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w Cen MT"/>
              </a:rPr>
              <a:t>≈ </a:t>
            </a:r>
            <a:r>
              <a:rPr b="0" i="1" lang="en-US" sz="2900" spc="-1" strike="noStrike">
                <a:solidFill>
                  <a:srgbClr val="ff0000"/>
                </a:solidFill>
                <a:latin typeface="Tw Cen MT"/>
              </a:rPr>
              <a:t>32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2 (estimating  a population proportion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row for the d= 0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column for p= 3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Epi Info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28600" y="1681200"/>
            <a:ext cx="7888320" cy="4462560"/>
          </a:xfrm>
          <a:prstGeom prst="rect">
            <a:avLst/>
          </a:prstGeom>
          <a:ln w="0">
            <a:noFill/>
          </a:ln>
        </p:spPr>
      </p:pic>
      <p:sp>
        <p:nvSpPr>
          <p:cNvPr id="366" name="Oval 5"/>
          <p:cNvSpPr/>
          <p:nvPr/>
        </p:nvSpPr>
        <p:spPr>
          <a:xfrm>
            <a:off x="2214720" y="1681200"/>
            <a:ext cx="714240" cy="318960"/>
          </a:xfrm>
          <a:prstGeom prst="ellipse">
            <a:avLst/>
          </a:prstGeom>
          <a:noFill/>
          <a:ln w="10080">
            <a:solidFill>
              <a:srgbClr val="c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Press the “S” key for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7308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40:20Z</dcterms:created>
  <dc:creator>Rufaidah Dabbagh</dc:creator>
  <dc:description/>
  <dc:language>en-US</dc:language>
  <cp:lastModifiedBy>Rufaidah</cp:lastModifiedBy>
  <dcterms:modified xsi:type="dcterms:W3CDTF">2011-11-30T06:36:11Z</dcterms:modified>
  <cp:revision>21</cp:revision>
  <dc:subject/>
  <dc:title>Tutorial 7 Sample Size Calculation</dc:title>
</cp:coreProperties>
</file>