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383D-CA28-4691-9D43-F8A43F609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BE9E-3C68-420E-A1D8-A886C0DCC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7266-43FB-46C4-8DDE-F4F19DA42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E9D8-81E7-4C7B-B7FD-B0718A91D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FE83-EB2C-4DB2-8A01-E6E3B4B86B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07D6-3B0E-4AE9-B7C7-5510453F0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F95B-6FD5-47F6-A375-55BADF669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573-19A9-45F4-BDB3-1580D78561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3444-50D5-43EB-94E8-D23F570577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033C-43A5-4F0A-A197-7FD91C7E0D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356C-0374-45B8-A789-8D5FCE841E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0DF1-3157-4A5B-9256-1B9D59617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3E5F-D91B-4B64-932E-3D32D76AC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8757EB-0C9D-4D82-AE5E-395B514CD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F472E5-673D-43F6-8C24-68206B0D1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DFF1E1-7502-443D-974A-94FF9F3ED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9C92E0-8498-4383-A039-2547ACC97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B7D091-FE1D-471C-B7C8-05D12C120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176B6E-2172-494D-B7D6-5E3EEBF69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E861B0-3B9B-4072-A0C5-4A2C769F28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63D18A-B659-4926-BFE8-A7CB6C3A1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50DAD4-B52E-4D1B-B02E-45844F111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AB1041-4977-468D-BA8F-8C3EEDC29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0020B90-5101-420F-B3C5-DB2AC76C64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F254CD-1893-42F9-902D-64C4AF7228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565FF5C-053D-4B5A-A558-C061FEBE69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A679-6FEA-4E7C-B632-3C082894E5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LIMIT THEOREM </a:t>
              </a:r>
              <a:r>
                <a:rPr b="0" lang="en-US" sz="12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imple Random Sample:</a:t>
              </a:r>
              <a:r>
                <a:rPr b="0" lang="en-US" sz="1200" spc="-1" strike="noStrike">
                  <a:solidFill>
                    <a:srgbClr val="000000"/>
                  </a:solidFill>
                  <a:latin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Stratified Random Sampling:</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uster Sampling: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DELL</cp:lastModifiedBy>
  <dcterms:modified xsi:type="dcterms:W3CDTF">2017-02-11T11:59:28Z</dcterms:modified>
  <cp:revision>214</cp:revision>
  <dc:subject>Sampling Methods and the Central Limit Theorem</dc:subject>
  <dc:title>Chapter 8</dc:title>
</cp:coreProperties>
</file>