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8D08-B303-441F-B93A-C99C41C1B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0B74-3A70-40A6-AA4D-976717F454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F745-348C-478A-8FC2-C56E31D496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A79F-BF89-4A40-ACF1-6431C8D59B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ADC2-799D-4296-A466-C036D3C262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DD7A-EC9B-4C76-A597-F0296F14C8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DC96-A36E-485B-8AF1-A80873BCF4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8BF5-2BEC-45B9-8243-733F35CD5E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4BB0-3172-4965-8ED0-FEBEE98DF8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2D0A-D5F5-4F12-A5E9-6EB1045F2B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EA1C-5078-482C-B65F-973F2C917A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B425-8E74-4018-825F-7776AA0F22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BBD5-6841-43C0-9C61-B07101571C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BE20235-F66C-48FA-8A30-66E0B0C53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EA2057-03F5-4DD7-A2CC-28A388109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6C5814-B1D9-48B5-8633-BD3FF736B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8EEE86-973F-4441-A02D-67ED7D8D2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FFAC36-EE0E-4B10-B1F8-F6C4F1A9F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B4B280-F21B-4A76-BDF0-B5CF69639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9D4980-6BF9-498C-A03A-B6A4F656AC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3668C8-90A9-4B72-86C2-054523B692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ABB3E7-9967-41D4-BD18-32AA39586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F37A1C-48AD-4FFE-8D20-777A7F795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879EA9-A4B7-4246-8C2D-777D3022C95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231E06-F45E-4E0A-9714-4EABD0F56EE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C08EB53-01AE-44D1-B416-206F40691B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8EDF-1705-4683-BE2A-149ECC50A05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 LIMIT THEOREM </a:t>
              </a:r>
              <a:r>
                <a:rPr b="0" lang="en-US" sz="1200" spc="-1" strike="noStrike">
                  <a:solidFill>
                    <a:srgbClr val="000000"/>
                  </a:solidFill>
                  <a:latin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5120"/>
            <a:ext cx="7963200" cy="4952880"/>
          </a:xfrm>
          <a:prstGeom prst="rect">
            <a:avLst/>
          </a:prstGeom>
          <a:noFill/>
          <a:ln w="0">
            <a:noFill/>
          </a:ln>
        </p:spPr>
        <p:txBody>
          <a:bodyPr lIns="92160" rIns="92160" tIns="46080" bIns="46080" anchor="t">
            <a:normAutofit/>
          </a:bodyPr>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514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743040" indent="-2858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743040" indent="-2858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743040" indent="-2858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743040" indent="-2858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imple Random Sample:</a:t>
              </a:r>
              <a:r>
                <a:rPr b="0" lang="en-US" sz="1200" spc="-1" strike="noStrike">
                  <a:solidFill>
                    <a:srgbClr val="000000"/>
                  </a:solidFill>
                  <a:latin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Stratified Random Sampling:</a:t>
              </a:r>
              <a:r>
                <a:rPr b="0" lang="en-US" sz="1400" spc="-1" strike="noStrike">
                  <a:solidFill>
                    <a:srgbClr val="000000"/>
                  </a:solidFill>
                  <a:latin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uster Sampling: </a:t>
              </a:r>
              <a:r>
                <a:rPr b="0" lang="en-US" sz="1400" spc="-1" strike="noStrike">
                  <a:solidFill>
                    <a:srgbClr val="000000"/>
                  </a:solidFill>
                  <a:latin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eshael Alshehri</cp:lastModifiedBy>
  <dcterms:modified xsi:type="dcterms:W3CDTF">2017-02-12T08:03:34Z</dcterms:modified>
  <cp:revision>216</cp:revision>
  <dc:subject>Sampling Methods and the Central Limit Theorem</dc:subject>
  <dc:title>Chapter 8</dc:title>
</cp:coreProperties>
</file>