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862-A84B-4D18-8661-D2118305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116-53F7-48B5-979E-DD0EAE2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CBADB-0E36-4EAE-9222-73CAE48C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64CD-4561-419E-A85B-88B3A4C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C3217-7FAF-47D2-BBD1-CD25C6BA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209FF-D31B-4DCA-91FF-93B4AFA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48A1F-D7ED-4212-9F7B-5354194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9DBBD-D446-4956-A3C3-3807751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A9C22-9EA8-470E-88C6-574F7F0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6AC75-BD89-41E7-802A-BD72B642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9E4F-13F6-4450-80E5-8FD3D5EA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96E-D42D-4A57-9ECE-4E78B5F5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FFB-C479-40C9-9D1E-E3C57099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26E2-0BD6-4247-A6EF-39FFA902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A726-69D1-4F5C-A220-CDF2B261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EAA8-1199-447F-B543-7B538B47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E935-3FCB-407A-9703-B91C7FBB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ED41-A169-4C54-8AB6-45051CE4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6170-EB82-4D9E-8FCE-82A67A9C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A87B-09AA-4348-A11A-9A567A2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7C6-4D35-42F6-AC5A-C31CA8EF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E1C2-D880-4DDC-8727-C3590CE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BEA0-DACA-406E-BAC7-5BEF1A5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B49D-1F7A-4901-9B82-56451E0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AD6E-8470-4AF8-A9CC-2A41BBCA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7BEC-1023-482C-921E-946A77E4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12E0-BBAE-4B13-8678-0D4A83C1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9488-82E2-4578-A711-2B5EC56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3739-504B-4584-BA57-01B97505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2D5A-1946-4EB4-B661-959D7191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593C7-4842-4D6D-8681-139FC8B6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5A7-A863-4843-B6B0-B47D0E1C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D3F2-7E83-401E-B0A9-61D33917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76A1-29DF-4096-9F9A-E09BBDC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3C5B-492B-4E22-A298-5D5A30DC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AB38-4E5F-4CB1-B9D0-0D794B5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24C1-93DB-47B7-A8CC-C28F0F4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6896-7C31-40D7-9E33-10918241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095F-473E-4613-A2B9-3F6BFCEE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49C0-4AA4-485F-8FFE-0AA271F2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A39CE-E2DE-46E5-9EF9-82181248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7453-94E5-477B-AD30-23AA24FA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031-E032-43F2-9FD3-6050DD16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6C49-409B-4C8D-8893-7E368A1D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FC9F-61D5-45C6-9C4F-7FEDD5F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8807-4016-45B4-B1FD-8645006E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41C1-642C-464D-BBDE-D91E0D0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A991-7231-4263-8925-3C0D6BB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B06C-CB17-4C4A-B609-03D4BFA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DF87-9DA5-4810-B284-8317EE0B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A2B5-8157-4A5C-96E4-AEDCD81E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F2A3-2A11-4A7E-944E-3EAFEB14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0BC1-84D6-439D-B65D-07516120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469-B649-4239-9852-4A2A66BD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AD6B-CD90-44CF-8208-D4A5B709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71265-4053-4180-85F1-8D9051E6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146D-9FB3-408F-AA1E-0199852F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40CD-4181-45C4-8DB8-6AC4884E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A887E-472F-45AD-A595-B4A7576D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417F-4E4C-4B1C-BD4E-4263DB3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902B-AA3D-4E54-A3B6-04F77AF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EBDA3-F66B-478A-8437-9BDAA48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19FA-14E8-4B1D-B40F-B58C12F8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1CE2-84C1-4E6C-912E-37AA279C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C62-0EB8-4C98-A943-0ECDF2B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1BCA-A29A-487E-8E60-FF43D66C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861CF-01EB-45CC-B567-E28BF539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6B0D4-8F69-4525-BCB4-98743140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D38A8-3E9A-40D7-8DA0-0077BCB2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66A49-7927-41CB-9AED-0C631323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2170-85DC-4B32-A19F-118E7F0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D7B3-7CFF-4CF7-BBE8-4B9274D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CC3D-5D45-42A4-92E8-546EC667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4F1B8-6F3D-4BEC-BDBD-E0E327A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C4C18-626B-43F8-9A17-E97AEEDF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4F6-02FC-4D6B-BFDF-8C06675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1A64-87B5-4CA8-ABC7-BB4C2A17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DAA9B-F498-482A-8A9B-9111D3BE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E99C9-61E7-4E2B-94A9-FA2D1A1E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2DB7-7357-409A-9627-79C26099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B54D-2491-41EE-8A88-DDC74ED6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E928-A674-43D3-9B1B-AF6B9A6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48593-EA0F-4029-A87E-6968BBB3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7547-63B2-4FD3-B91C-E2DFBBE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BDFC-4DB5-4574-A621-EEE2C2E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A73B-8B94-4B04-84E8-C2D8CEB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14A-3E02-4384-B13E-AC16A80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FCE56-BF91-4238-9E15-4FB649F8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94E20-1196-4FD7-8E12-6C662F55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F1B86-D9D8-4278-AE5B-EA931C8D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0E693-EBEC-452A-83F1-7BE7C9B0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021B7-97DF-48F9-9117-4572E5B5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B66A9-D110-44C0-8C1B-1819BA2B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EFD31-C05C-4D35-A36B-2E08E023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3628D-81F2-4C2E-A21C-2B6C9B8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CDA1A-357C-4434-8BA0-F8A69D4F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23A7B-F222-4DE6-8769-E56420C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4AF-E464-4649-87AA-CBAA516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D6EB1-519D-49FF-A5BB-906E2D31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81C4D-8999-4F38-BC28-89D2C406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FF76-237E-409A-A8F1-44A122D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B6D1-A750-40BC-A1AF-FA41DFA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4AA6-AE69-4DD7-BE47-3F1D854B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DD31B-CA98-4493-BD5C-09FDF201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AEBC-422C-4A29-95C8-86485290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CE10E-D27F-4376-B0CE-A135E065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95745-FDE6-4A89-B27B-A3638ABC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5AAB7-9F45-4543-B2AF-3CA9AEE5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6AD-B7FE-48A0-9911-81366B1A174C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1264-D667-4441-89F5-DFC21F2E68FC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E647-1227-4EFF-9ACA-64517F476F9D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D662-BDD3-4998-8466-641A726402D5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8BEC-E942-422D-8E3E-3D72986C9376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BA2-646C-4C1B-8371-70CEA4A23F02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44E-AF50-4BCE-BFFB-42E31B38173D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10BB-1354-4AC0-A5D6-AE6F487BADF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0F90-89F0-4B17-B665-C596E96419F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Arial"/>
              </a:rPr>
              <a:t>ISBAR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SBAR &gt;&gt;&gt;&gt;&gt; WHAT IS IT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692360" y="3176280"/>
            <a:ext cx="598464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288000" indent="-28800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BAR is a tool that utilized as the model that all healthcare staff use to structure clinical communication , The goal is to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tandardize communicati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ng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 healthcare</a:t>
            </a: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vide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 algn="r" rtl="1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S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?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 who are you and who is your patient)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47920" y="2590560"/>
            <a:ext cx="651672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self by name and position, uni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 patient : full name &amp; medical record number , Age ,Sex Location (if different from you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981080" y="5029200"/>
            <a:ext cx="60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ference: Joint Commission for Transforming Healthc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tuatio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(what is your current situation 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roblem ,concern, and chief compl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current situation, concerns,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: (What is the relevant background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atient reason and date of admis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ificant and relavant medical ,surgical ,family and social his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f current medication ,allergies, IV infusion treatment and procedure as requir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scitation stat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assessment : (what is happening with patient ?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assessment finding system by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/S ,GCS ,P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modynamic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l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logical result including date an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treatment and proced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 recommendation : (what are the action to be taking?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what you ne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 requ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rify expect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any telephone order read back to ensure accurac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questions: Are there any tests required? E.g. CXR, ECG etc. Are there any medications/fluids required? What change in the treatment plan is required? How often do you want vital signs? If the patient doesn’t improve when should they be called a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16:20Z</dcterms:created>
  <dc:creator>07727</dc:creator>
  <dc:description/>
  <dc:language>en-US</dc:language>
  <cp:lastModifiedBy>DELL</cp:lastModifiedBy>
  <dcterms:modified xsi:type="dcterms:W3CDTF">2017-02-19T17:23:43Z</dcterms:modified>
  <cp:revision>106</cp:revision>
  <dc:subject/>
  <dc:title>SBAR Process</dc:title>
</cp:coreProperties>
</file>