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0C9-2215-4458-953C-8495D876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CD8-A98B-4B5A-B95B-E0C70079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61951-B9EA-4E50-984A-DB6C3C52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4874D-DF5F-46CB-ABC3-C1AA1659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C85C9-69B1-4518-B328-FEA96560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3E761-4EE6-4BD4-AA8E-0BAA7A86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E9652-EE50-42E0-B0D4-4511F4F6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761A2-CB90-40FB-8D18-785B1B69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DE9CC-A153-4565-AC88-87DB4087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23C2B-1A97-4F6E-A001-A91F24F1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A42B5-299C-4F82-8AF1-A1D7DCA4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197-D656-4759-AABA-3452DF8A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1A2-2ECF-4F78-8603-D61529BF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027E-A591-4E23-9FFC-EB8E5AC9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5C61-A29B-425D-A2C6-0C32D14B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19A3-F942-4AE9-A907-8FA251FE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9930-CA91-443F-9340-1B73D191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7C53-AFD9-4BF1-B0D8-91C552A8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3677-E77F-4A25-82BE-0A583D8B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92E0-2E0C-4083-98C0-A331AA9B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EB2E-16FC-40E8-92CF-43FC53D9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54AB-AB1A-4818-9715-B1420331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1097-732C-4816-BB64-5F5C9831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2DDC-97EC-4B6A-8E3A-E176D66E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C6C9-811A-4D85-AC08-DD880EC5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E02C-01E4-42A8-88CA-A9887CF4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7E6D-E46F-4733-BE16-10F789B3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9F4D5-F903-4495-98C8-FF92C5F7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BB672-B7E3-40DE-B267-84D6A605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877FF-4508-4733-B665-D348C22B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29037-607A-418B-95DB-BAECC395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A2E-D67F-4F24-99AA-3DF2B245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8F12C-6565-4F4B-9AFF-7475C5A0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32595-9896-4F55-B798-5BA1EEF5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63071-F860-4334-83C7-98991211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BC7FD-0672-4925-8C27-BD53FF18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8BB6-3FC8-4345-BF9C-4B9E69E9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F950-B8EC-4B0C-A1E1-91035551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9B100-5896-4751-8C15-EA7DA8BC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11F50-3A02-4120-9FAD-6F6E56CD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ABC57-F562-4BF7-9C3C-DEBAFDBE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D80F0-7F4D-4200-9D3F-88DDACED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560-861B-4908-A1B8-1CBAF86D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797B2-F52E-4A3A-8F1C-5A64EB72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94F7A-414E-43D8-91C1-0733B53C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A7C94-FADA-403B-BB61-A02EAFC2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C4D78-C5EC-43A6-ACEE-B8B3BFE7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01932-389A-4FDD-A3F4-EF89E134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358EF-9B6B-4CA2-BA24-990809B9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F1B77-8A7D-48B2-A2E8-AA9ACB26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24B54-5929-46DC-895B-744E0D46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D1F58-071C-49B3-BBCF-C3C439D7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08065-CAED-4807-A9A9-3A656215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FDF-95A4-4BB0-A2D9-13AC156A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80973-B55D-4069-B727-65833D0F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C4D61-4DF9-4FD9-967F-02A91C14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67C1E-1755-4AF4-9B5C-4FAC9AAB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FB504-ABF5-4B30-85F7-0AB25996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4A3A4-6582-4CF7-8C43-AEE3E1F2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94CD2-4457-459E-AC20-7D5E6D46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934C6-FF11-4A13-9C23-837098A5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E4FEC-BBF9-4262-AC5E-807F37F2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624E5-4979-4729-B3B0-6EA80AF5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E4FC1-6272-41FF-9EAD-D5954BE5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388-F8EB-4C30-A2AF-53738E17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FE219-25EF-49CF-8D30-56C6D525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9379E-A457-4E7E-A7DD-7746F70A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FD065-79B5-4149-9C3C-5170FDFA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ECC3D-2889-405D-B951-361F0898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985A0-C297-436C-B509-1485E217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99C83-EFDF-4941-8917-0AE49E15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60889-26C5-4BA5-B656-4A636AA4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0132E-6417-464D-8E7B-1191B13E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E9BB2-0C5F-4518-A192-8ADB41FC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3FC8C-56FE-41C1-BBD1-7E1586D9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FF9-3871-40B3-A68C-6096C194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FB04E-F2F5-488D-BFDA-F83C54AC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E4737-2640-4723-886C-A5B54AFE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D99B9-9081-4B1B-884B-87CB8518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86833-8994-4E5B-8BC1-A1A8F3EA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E6454-3283-4A88-A380-E5D29EA9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67A0F-27D8-48B8-AF56-1198BD67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46D25-2D21-4008-8863-2A993A83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2CAE7-7548-4177-A30B-A4120BDD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03469-1349-4A60-8B99-875A4BEE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BAC42-5910-4E4B-8AC4-7724A7BE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450-0268-4A6C-A03D-EABD58EB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1BFE3-F6A2-4E1B-BBF0-8A35F697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9F6E8-2846-46DC-A3D6-4A711832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CAFF8-B045-4BED-86DF-DB3208C9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B9152-4FEE-4433-97D6-B2535A61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30BFD-E8F5-4C0E-ACD0-E87E8444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BD58D-310F-4C49-B5A8-ADEEEB86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64908-2B6D-44CB-85E0-3B88C258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47104-8608-4741-8E66-9FB8261A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E703C-F1CB-4CE1-BF1D-133DBE02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6D24B-483F-4057-ABD0-FF55BC88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7DF-79D7-4933-B089-A19386C3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9B64F-AC57-471A-AA3A-020E9960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3D612-C00F-48D9-898C-A3679BCB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38478-094C-4A3D-8B31-C64C66F9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DB633-5ECD-40C4-85A0-AC25D8CE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C1984-0BE7-4CE8-8BEC-02089EEF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BEBEC-AEC0-4DC4-A447-139EEC40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2E580-D934-47B4-A8DF-C3788A34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0ABF1-D5D5-4ACD-9359-675ABCBD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A2E59-FB60-497A-B70A-3B8E55F1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D465D-9EE5-4D7B-AE17-BAC9FE8F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flourish2.png"/>
          <p:cNvPicPr/>
          <p:nvPr/>
        </p:nvPicPr>
        <p:blipFill>
          <a:blip r:embed="rId3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flourish2.png"/>
          <p:cNvPicPr/>
          <p:nvPr/>
        </p:nvPicPr>
        <p:blipFill>
          <a:blip r:embed="rId4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E799-EA71-421C-AB02-F9034D42463A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676A-7BD8-4CE3-8AD2-DB2917F8B187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487C-34C3-435E-B47E-99CDF7550E61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C203-65A5-4FCB-A507-CE62DDF5249D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9372-7CE9-47A6-B907-280F03CE3D6E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1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2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6B52-5F8A-40F0-B859-B3F87C66C4B1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6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6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E20B-29AD-47FE-9D7E-DBA5C8D893CB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1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3A69-78E0-4E8B-83C7-256C71CF2F5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D73B-645A-4C81-84F1-6677037C138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4005c"/>
                </a:solidFill>
                <a:latin typeface="Arial"/>
              </a:rPr>
              <a:t>ISBAR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SBAR &gt;&gt;&gt;&gt;&gt; WHAT IS IT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692360" y="3176280"/>
            <a:ext cx="598464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288000" indent="-28800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BAR is a tool that utilized as the model that all healthcare staff use to structure clinical communication , The goal is to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tandardize communicatio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ng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 healthcare</a:t>
            </a:r>
            <a:r>
              <a:rPr b="0" i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vider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 algn="r" rtl="1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SB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tu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grou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mmend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dentify ?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 who are you and who is your patient)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47920" y="2590560"/>
            <a:ext cx="651672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y Yourself by name and position, uni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y your patient : full name &amp; medical record number , Age ,Sex Location (if different from you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981080" y="5029200"/>
            <a:ext cx="609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Reference: Joint Commission for Transforming Healthc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tuatio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: (what is your current situation 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the problem ,concern, and chief compl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current situation, concerns, obser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ckground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: (What is the relevant background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the patient reason and date of admiss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ificant and relavant medical ,surgical ,family and social histor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f current medication ,allergies, IV infusion treatment and procedure as requir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uscitation stat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ol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assessment : (what is happening with patient ?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ysical assessment finding system by syste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/S ,GCS ,Pai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modynamic 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la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iological result including date and ti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treatment and procedu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 recommendation : (what are the action to be taking?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ain what you ne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te requ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rify expecta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any telephone order read back to ensure accurac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k questions: Are there any tests required? E.g. CXR, ECG etc. Are there any medications/fluids required? What change in the treatment plan is required? How often do you want vital signs? If the patient doesn’t improve when should they be called agai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6:16:20Z</dcterms:created>
  <dc:creator>07727</dc:creator>
  <dc:description/>
  <dc:language>en-US</dc:language>
  <cp:lastModifiedBy>DELL</cp:lastModifiedBy>
  <dcterms:modified xsi:type="dcterms:W3CDTF">2017-02-19T17:23:43Z</dcterms:modified>
  <cp:revision>106</cp:revision>
  <dc:subject/>
  <dc:title>SBAR Process</dc:title>
</cp:coreProperties>
</file>