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FD14-8055-4E88-9C5E-4610E909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2D51-510F-49D4-8299-E2916D3E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6CB04-AC99-4F66-93EB-7CE03F63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076F6-FA0D-4996-B629-07EA4B82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DAF28-F703-4222-833A-6B698F0C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DB3A9-E25C-482F-96A6-326C4D73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81F15-45CC-4333-A941-5166F44C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91757-D513-4C86-9250-DCCB5E2C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741D3-2CB4-4399-A5B5-78FFC300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C56F2-DB55-421C-880A-88494723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848C0-6999-44F9-914A-DF7B1225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89F-A20C-45BE-8790-93598706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7C5-928E-4659-9960-F2793415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C070-3000-4C2F-959D-63140659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E8B0-390E-4FFC-842E-03D86308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A359-8133-457E-8253-62DD7E1C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EB71-9F8D-4764-9416-754085E1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8454-0474-4991-9FC2-C4BEE82A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55B5-C317-4306-975B-F8066AED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3DC6-8C65-41A6-AB01-9D8345FA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63F-5B2F-43E8-A0F4-E8F6CEAC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2CDC-A4E1-4694-A812-0AE19C43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1E14-58EF-43E4-B7A4-1FF5F6A5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FADE-34DA-4D42-9004-48744F21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CA0F-4A55-4554-A653-D3126D07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AC76-AF99-43A1-9884-D84B954F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52FB5-EE98-444A-89FA-9FE0D79F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64A71-DC72-402B-8786-2D020D06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5582A-0A40-4174-BE98-C77E9168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B5405-7B45-4A14-901B-0C65D18E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FE3E4-4FD3-428E-A60B-2EE4E67A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96E4-4426-4EB5-A0B1-4722C1C7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F0DC3-8605-413D-A2C0-F3E43DDE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B0416-6C9C-4C69-9E0F-15B88180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4E183-B05D-435A-85A1-4ED257BD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715E7-1F6A-4DB5-84C9-FD6D7690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ABF2E-3DAD-420D-945B-348DBD31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BD341-B693-4382-99A6-EB2A0419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0FFE4-DF76-47A9-AE54-B069BDA9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52A6F-497E-491E-9DF2-B662F6C8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CED77-197A-4452-A47F-33C18ACE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D026D-2574-4B80-9BDA-9F446828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33D7-4428-4227-81A9-AA7EE2C4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65153-DF29-4602-9681-DA46A7D0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67FEB-6BB4-47B0-BBD5-0B33E77B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33AB2-CB0D-4EF4-A94B-286FE487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4F8A6-62F6-4F66-835E-D5B40880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C06A1-0B7F-4FBB-98B4-8CEC51AF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6CB8A-A892-41FF-83DC-9786583A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D0D7C-9EB0-42CE-9EF7-CC527B96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7C3E8-8764-4C37-96DA-273ECFAE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B0D0B-93F2-4DD9-9181-B08F3636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32C69-E6D8-4236-B344-722BF868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8BD2-B883-48FC-A65E-E3115EA9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23392-038D-4A23-BBC0-AE816A5E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7CB4E-0287-420D-99D0-96E6804D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8F381-CCB5-4945-8E11-6ACD3CF5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5F3EC-04E6-4A2D-824E-56BD3040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78D18-C8BB-4A66-8A10-A167BB4A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9E5CF-33FA-4A3C-A397-8D2541C9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85837-23C7-4B0D-AA33-94FB8F6D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736B9-2DEE-476F-9BA3-EBBD686E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EC826-3F9F-42BA-9DEF-847B02BA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8ED51-FED9-4F3E-8A7A-CB8D98330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6D18-2E2C-43BA-850A-A5BAAB0F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07C3A-49DB-4E74-AC5F-455E89D4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94DE6-F125-455B-926A-7325B2D9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902B0-A069-439F-BF03-18F47A2E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61906-2966-407C-8287-2C4B1326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AC020-AE92-4D20-8BAE-5BC8EA26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80A0A-84A5-42C4-918C-203ED4EE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311B1-F1F0-46AF-B0FE-862249D1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A44FB-216E-4CDD-87C9-618584CC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D332D-47CD-45B1-9D25-816D7250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5A233-01EA-464D-B685-133A390B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831B-811D-412D-8D53-8046C084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49DD0-DFCD-4B29-8637-AEE6A6B0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55F57-B2C0-4A31-86B7-697B6A62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EF331-3EB0-4083-8AC0-1EE5C9E6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2E1B3-B823-4910-8D6E-F95A4389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D2B71-A870-4FAC-96FA-51D27367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3FA06-AE17-4913-A777-DCC7D0B4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04A43-C85D-4C49-BED5-355EE8B5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D5A86-970B-4A5E-A924-DC4141EE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C73CC-860A-42CE-970C-49F613D5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2CD2A-8158-4B8E-BD38-7A11CCAF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FE47-BBF2-49C5-AF7E-F2DA42D5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84015-FC62-4283-881D-55598DC3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2E786-82C6-49EC-862E-3B1E2FC4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EFD35-0F41-4675-AB38-0985557E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61219-4053-4AE4-A1EF-FB7C7210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944CA-FB6B-451A-B863-B4F463E4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0E6C2-E7C6-4D24-94FA-DFBB7414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E2FD5-F23E-4306-9D76-23E73068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8EDEB-E023-4DC9-96EA-E5B57759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FB6CC-FFAF-4C62-846F-B8D3B4DD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90BC6-8537-4EF5-9CA8-1C567A85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5B37-7FB9-4F15-849F-5B11B68E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B44D0-E6D6-41F4-9C92-4026F9DD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D6A67-94F6-482A-869B-6BF18D28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93B2B-B612-44EC-BBEA-0C1436F7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0164C-81C1-413F-A41B-60B061B0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EB48A-6BF0-4299-AA40-C9A577D2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79194-6BFB-4F9D-952B-27C75A5C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516BF-7BE3-4444-8785-63AC2308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CA419-6E79-446C-83DC-65C318CA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8D463-73BF-47AE-B78B-ACCE2E05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16D62-8C1B-4C42-9C29-F6401FD4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flourish2.png"/>
          <p:cNvPicPr/>
          <p:nvPr/>
        </p:nvPicPr>
        <p:blipFill>
          <a:blip r:embed="rId3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flourish2.png"/>
          <p:cNvPicPr/>
          <p:nvPr/>
        </p:nvPicPr>
        <p:blipFill>
          <a:blip r:embed="rId4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A543-122C-4180-B4A9-5FBC6CB1F2B7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4817-89C4-4A33-B469-D25BD33E3C1A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5F5F-762B-42F9-BFDF-30AE7E3AF77F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187D-B537-4AA8-BE14-7ECD8346859D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que 7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7188-A648-49BF-8614-70EC9246C6BF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1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2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C403-AF37-4B36-B378-2CA9E2018C6E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6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6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6F19-A2FB-4997-A3B8-07CD85377D75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1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0418-3BCB-4723-9855-A7439C177A7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3233-A44F-4F3F-85A3-F7B07B4BCA9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71600" y="9144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4005c"/>
                </a:solidFill>
                <a:latin typeface="Arial"/>
              </a:rPr>
              <a:t>ISBAR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ISBAR &gt;&gt;&gt;&gt;&gt; WHAT IS IT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692360" y="3176280"/>
            <a:ext cx="598464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288000" indent="-28800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BAR is a tool that utilized as the model that all healthcare staff use to structure clinical communication , The goal is to </a:t>
            </a:r>
            <a:r>
              <a:rPr b="0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standardize communication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mong </a:t>
            </a:r>
            <a:r>
              <a:rPr b="0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ll healthcare</a:t>
            </a:r>
            <a:r>
              <a:rPr b="0" i="1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vider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88000" indent="-288000" algn="r" rtl="1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lvl="1" marL="288000" indent="-288000" algn="r" rtl="1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lvl="1" marL="288000" indent="-288000" algn="r" rtl="1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 algn="r" rtl="1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SB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tu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grou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essm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mmend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dentify ?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 who are you and who is your patient)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47920" y="2590560"/>
            <a:ext cx="6516720" cy="28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5760" indent="-4557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dentify Yourself by name and position, uni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5760" indent="-4557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5760" indent="-4557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dentify your patient : full name &amp; medical record number , Age ,Sex Location (if different from you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1981080" y="5029200"/>
            <a:ext cx="609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aramond"/>
              </a:rPr>
              <a:t>Reference: Joint Commission for Transforming Healthc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tuatio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: (what is your current situation )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the problem ,concern, and chief compla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current situation, concerns, observ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ckground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: (What is the relevant background)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the patient reason and date of admiss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gnificant and relavant medical ,surgical ,family and social histor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 of current medication ,allergies, IV infusion treatment and procedure as requir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uscitation stat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ol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assessment : (what is happening with patient ?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hysical assessment finding system by syste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/S ,GCS ,Pai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modynamic re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rrent la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diological result including date and ti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rrent treatment and procedu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 recommendation : (what are the action to be taking?)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lain what you nee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te reque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rify expecta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any telephone order read back to ensure accurac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k questions: Are there any tests required? E.g. CXR, ECG etc. Are there any medications/fluids required? What change in the treatment plan is required? How often do you want vital signs? If the patient doesn’t improve when should they be called agai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6:16:20Z</dcterms:created>
  <dc:creator>07727</dc:creator>
  <dc:description/>
  <dc:language>en-US</dc:language>
  <cp:lastModifiedBy>DELL</cp:lastModifiedBy>
  <dcterms:modified xsi:type="dcterms:W3CDTF">2017-02-19T17:23:43Z</dcterms:modified>
  <cp:revision>106</cp:revision>
  <dc:subject/>
  <dc:title>SBAR Process</dc:title>
</cp:coreProperties>
</file>