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938-8842-4701-894E-1A581D2B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9AD-7BB9-4899-8C62-8FCC174D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1019A-F66C-44CF-B158-49B9ED73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1B49E-4538-41AC-9AC4-79D7B99D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BE670-8110-4915-83D2-CA54FF72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056C2-BB7D-451E-8118-866A5994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09D8A-D1F4-43C2-ABF9-1E5F092C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39730-FF38-4918-BE3D-DD126ACA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91445-663B-48EC-909A-D83DF23B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C474E-4976-4211-964E-A8DB58DC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E68B6-16E8-4EFF-AE0B-729CB99A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B44-3015-4B21-B45E-F157E6CA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11E-EE3D-498C-8E59-8DAA1AB5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AA2A-1491-4A0F-AA5D-03E0BAF1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7818-20B6-4CF1-984E-5C19D602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798B-30B2-41EF-AF13-7F3E9A08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9CD8-AF88-441C-ADFE-51F4CBFF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3C62-493A-46C1-A2B6-839C97B4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DC1B-0DF3-4551-AC27-35CD046E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FAC3-48A3-415E-9FAC-4D655742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1FA-7570-46C9-AA72-F158AE40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BD43-347E-44BE-9254-2702DF99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251C-EC98-4CBD-993D-3E7939A8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3589-F47B-4543-9032-630E9430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A5A2-7871-4381-AF77-F537D366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4463-63ED-4EED-A92F-00482071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9EFA9-6567-48CD-BBB9-17B3BE1F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9D60-D627-48FB-9EC9-31B07D21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27913-F262-4C93-BCC2-EFB32C53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4071-514D-40E7-AFDE-71AEC0A6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24F7A-F2BF-40D5-9955-E6EA344A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B22-A074-490B-878D-ABCA6236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941FE-D58B-482B-9128-55435398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4E7C4-5BF5-4D49-B5F8-73AC55EB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D597-8B6E-43E4-A12C-31FE3EA8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956F4-FD62-4E10-A94A-20AE937B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D1524-4110-4C35-8C2A-ACE6E358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958B2-D768-4923-9728-6C5E8B80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2B9AD-F06C-42FA-83CA-8362F101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FD943-188C-4AC0-8E8C-048DC4E2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53A12-E552-40BD-B269-28144455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FB26C-45F6-4EC8-87F9-5F3510EE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26B-54CE-419B-A7FF-2BF5D3A1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123A3-12C3-4883-A0E8-9926E51B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4BDBF-5E96-44EE-8E37-33284706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44E2-6AC7-4443-86BF-DB1902DF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3D368-D725-4756-BF4D-264191DF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30AA4-AE4D-476C-B2D4-5CCCDF7C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AECD-2F59-4079-AA7F-5970A3F6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0C3C-F56B-4320-A173-CDA8D6C8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20C5A-B084-4843-B3A0-F435E1FA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470E1-D936-4905-AFD4-7C54C150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554B8-4898-4260-BC03-56FF9981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7BF-E621-4CE1-AD32-C2BD26B9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93C60-A30D-4FA4-AC65-BCF3C182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4DAF2-6EA0-4C5A-8F84-4C755AAE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47DA5-A20A-4FB0-9F63-DC382FDA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8D2B6-FC6D-457A-B1F0-F5B9ED6E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91B5A-81E2-4F3F-B555-5C52182B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76DE6-C7E2-45C0-84CE-B5190054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E061A-F289-43EA-975D-2B9448CC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3E47A-53ED-4BD7-8210-8996D124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67216-B013-468C-BF75-7D39DFFB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186D8-A8E1-4CAA-A106-A62D7113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E77-FEDB-4899-8F8E-789278D8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34055-9CD6-44E2-B120-BDAC6CE3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B9F20-2734-40E1-86FB-0E672B2A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4EF61-0F18-4815-8025-1894E26B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5F1F6-C355-4988-9311-75BF918C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BAA9D-D664-4A00-8E59-990D7A14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FD2C4-FBD8-4D21-A325-758CC346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81F79-DAD5-4E2D-90DA-78C0F9AF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3ECFC-CD7D-4839-920F-1304748F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F0582-E927-4741-94C8-12E9C08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B535D-87C9-4002-AA86-13DF962D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FE61-9B2B-41F9-861A-AD79F2ED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E3B5B-C765-42D1-BB61-3012E226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A63E9-5DB3-4962-A943-13186473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12A41-12AD-4A0B-93CD-2A164C4A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43058-3252-4FA2-BA76-892F0468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EA536-6BD3-4B5B-B3FA-565CF4EA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D8179-E679-4172-B104-9AD97002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5A2A2-870A-43C6-87CE-E9B9B419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DF40F-81FC-4B6D-9803-50428D1C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6E915-CD82-4C00-8149-50603444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890DF-E8CD-478A-A0AA-C937C01F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635-B379-4E2A-9B16-DF12A1D9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9701F-D362-4CA9-A412-A2725DC8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133FC-A464-4462-98AF-69D6D991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88DF3-8C5F-4DDC-A102-F4B064BD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55F86-7BAA-49F0-81D7-498E8AD0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3001B-6DE5-41BB-9C4E-FD858360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9C530-08FA-4376-9173-3616FDDE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3C3A6-7F44-4EC4-99FB-ACE5E60F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3A05A-F14C-4768-849B-CB3A8278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E39EA-F0C1-4052-A84B-20EBD3FB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81A27-F376-403C-8E7D-55454B1C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AA0-2063-4F29-A1C0-EB237A92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C07E5-9193-41C0-A40A-F56C1AF8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8A91D-7292-4FF8-982E-19E6D008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A36BC-A2C6-4533-900F-D9316E3A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25E37-36EF-4CE3-92E2-888B40CA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E8C9C-3400-43DD-A3E2-A520C085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0DDC1-8C1D-4082-919D-33163581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A209E-9F84-4524-8C78-E382739C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6B4CD-3D6E-46B1-8E95-94660571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A14B5-B10C-4540-9664-099BE3FD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75399-4975-4E1D-92C6-4AD85E69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flourish2.png"/>
          <p:cNvPicPr/>
          <p:nvPr/>
        </p:nvPicPr>
        <p:blipFill>
          <a:blip r:embed="rId3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flourish2.png"/>
          <p:cNvPicPr/>
          <p:nvPr/>
        </p:nvPicPr>
        <p:blipFill>
          <a:blip r:embed="rId4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BF4A-3F60-4405-AA4B-D9F5E275BA6B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1FB1-937D-4047-B9E7-4D26439CAF45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4899-8CB4-4AA6-9BFF-17136B77270E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0FDF-4016-4031-8BC0-455D4863BA2B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AF08-C282-47CC-84E0-7CB857997C3B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1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2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386A-F475-46E5-8F46-5BAB9B035E00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6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6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4EF6-297A-4851-92E5-18CBC5264DA5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1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FB19-7D02-4EAF-AAE1-2787FE6681D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C9CB-4A24-4A4F-B76E-F4EEDF45F19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4005c"/>
                </a:solidFill>
                <a:latin typeface="Arial"/>
              </a:rPr>
              <a:t>ISBAR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SBAR &gt;&gt;&gt;&gt;&gt; WHAT IS IT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692360" y="3176280"/>
            <a:ext cx="598464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288000" indent="-28800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BAR is a tool that utilized as the model that all healthcare staff use to structure clinical communication , The goal is to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tandardize communicatio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ng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 healthcare</a:t>
            </a:r>
            <a:r>
              <a:rPr b="0" i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vider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 algn="r" rtl="1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SB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tu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grou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mmend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dentify ?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 who are you and who is your patient)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47920" y="2590560"/>
            <a:ext cx="651672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y Yourself by name and position, uni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y your patient : full name &amp; medical record number , Age ,Sex Location (if different from you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981080" y="5029200"/>
            <a:ext cx="609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Reference: Joint Commission for Transforming Healthc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tuatio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: (what is your current situation 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the problem ,concern, and chief compl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current situation, concerns, obser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ckground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: (What is the relevant background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the patient reason and date of admiss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ificant and relavant medical ,surgical ,family and social histor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f current medication ,allergies, IV infusion treatment and procedure as requir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uscitation stat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ol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assessment : (what is happening with patient ?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ysical assessment finding system by syste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/S ,GCS ,Pai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modynamic 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la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iological result including date and ti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treatment and procedu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 recommendation : (what are the action to be taking?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ain what you ne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te requ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rify expecta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any telephone order read back to ensure accurac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k questions: Are there any tests required? E.g. CXR, ECG etc. Are there any medications/fluids required? What change in the treatment plan is required? How often do you want vital signs? If the patient doesn’t improve when should they be called agai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6:16:20Z</dcterms:created>
  <dc:creator>07727</dc:creator>
  <dc:description/>
  <dc:language>en-US</dc:language>
  <cp:lastModifiedBy>DELL</cp:lastModifiedBy>
  <dcterms:modified xsi:type="dcterms:W3CDTF">2017-02-19T17:23:43Z</dcterms:modified>
  <cp:revision>106</cp:revision>
  <dc:subject/>
  <dc:title>SBAR Process</dc:title>
</cp:coreProperties>
</file>