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2E4-B8C4-40AF-A06B-8FF0E723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63B2-74BD-41F2-A0EB-A3403BAD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5BF93-838C-4195-90B3-77CBFB8F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CBA8C-0962-4FA1-BE82-4DFAE8A8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EFBB5-4251-4079-9B7B-F8C21835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B5FEB-385E-4126-A106-F96C30E3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82A43-97B5-4EB0-A144-3F276668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2C3C7-BCD4-4118-8D9C-3EC29870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174C8-0885-46D8-8C95-231F2B3D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EFD0C-D204-4474-AD54-59839020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E7801-80EB-4E24-9936-B0DCB2D6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2BD-4ABA-4E96-A5F2-D5DE7C28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9B2-4DA6-4F57-AD03-65942A1B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365D-288B-4297-A967-835CC8E7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745B-8C31-4ACA-9CA1-5B8A1071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DCBF-E1D7-4644-BD28-E3B83988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7212-7339-4075-8BE4-13935D25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A8E0-F3E9-4280-A755-2E5BFE03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8464-7E55-4F4B-B3B5-15FCC3E9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BE4E-8796-4B9D-8842-CD39A34E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92F-8C5B-40A7-8FC9-DB7F5E66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C760-6A90-4427-B7B9-3437C598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07F3-951B-45F2-B98F-62731ACA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6D4D-0589-42F3-978F-82E39D5A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510D-30B0-4F2C-A239-B0503C75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1ED2-24FF-41BC-BE57-A97C225B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15E0-140E-402F-BCD2-D09031EA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E1B5A-A80A-4D4F-94CC-192AC61D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131BB-FAFA-4A36-93C7-7D34EBD3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8CD5F-A40F-468B-B57B-D4063742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71B8E-6691-48A0-83CF-555E7AE4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228-2F08-4484-9007-C9855807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9E7E8-6D63-4D88-9262-C2389036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B36C8-7EFC-4931-AA0C-98D8F048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35CFD-AEBF-4613-8993-6B3F304C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F0851-8F76-485A-84F0-247F5165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90629-B8AC-422C-8D58-C5219DCB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B5BA7-9E2C-46B6-86FC-3AF60FCF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69B1A-5973-41DC-AE14-BD2A493F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A1D84-7D30-42B7-A982-F6F7AECC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0C5DA-DAE2-4AE4-A1B2-FA0B58F4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5895-D323-4416-A5CC-EAD8EEE4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ED7-1EE2-40FE-A09F-124A9400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E900D-B5E0-40E5-992C-1055AD43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611F3-5D76-4DC6-BFA7-485CC904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9E452-BDCB-4E09-8F7D-F30A0261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9BF9C-25DF-46A5-9CB1-695B7995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7F454-E2DC-42A2-96C7-57ACD892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F8974-9D12-462C-B1DA-B0E024BF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B200F-888E-4BE3-9288-C1841755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E193A-E2EA-42FE-95C0-F68A3726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D3050-E122-4256-9778-6B72675C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30811-3A1B-4B7A-A388-B4C86A3A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C16-D77E-43DB-8E7B-824699FF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F7E83-F0D1-45B6-A612-3C0E9657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80DAC-37BA-415D-8989-DB048477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BDE69-D286-4F6C-9995-049C0A4E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BA795-4FB6-4F45-A488-269CDF01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C97BC-283A-408D-BD20-2274B473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86B2C-1C0D-4598-9393-669120D0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6E081-77DD-4E4E-9F10-61FD9536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23370-081D-432B-BFA1-52982BD0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5C8C6-0B9F-4BB3-8F45-E76802BC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BAC14-8EFF-4EF8-ACA5-7FCC2D50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6C6-7749-4C26-8172-42B911AB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DDDB2-F792-4706-92D9-9A87E709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29859-DAAD-4AC7-8915-0C945CD5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7DFD0-1F65-474A-8C28-77F466EE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5056C-A346-4DD6-AFFD-54BAFDA9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F2432-757F-4C52-9BB7-2AB510B5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A36EA-80CD-41BE-94A1-C7394794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CC973-9922-4510-A4C9-7A55923E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80EBD-C4A7-4D3E-9F45-117E64B7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BEEA7-B93F-4A24-B35B-CACF4999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463C3-A994-40FC-8AF3-A29D53A7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C2C-6BE1-419C-A29D-8CE19F6A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18F23-6CD5-4A46-93E0-CE0A34B6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63371-5D33-4CE7-8CD7-C10E0EA3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04C28-39C0-4760-A740-012BC8D8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7B255-16F5-4B93-B2DD-4D93D8D7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BB33E-281D-4D3A-B5DD-31B9BB5D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55470-E9EB-4745-9328-5A32449A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C6F83-8DD3-433E-97F2-BC68B828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084B5-8F02-49A0-9EFB-725EB5ED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38508-8E82-4394-9310-52422124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BC1E2-4FB3-4630-A895-21FE927F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0CE-9CA6-4684-8CFA-97919D73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867D6-4C18-4011-BE65-F7CC83E8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80F17-A270-4546-B3F0-9B5663B0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DC533-26FC-4D58-A8FE-7279D714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3EEF4-2E0A-48E6-96B3-2B97D757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A5DE1-72C2-4F4C-9C69-930239B5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8B71D-1645-4A3A-AE79-6BC01DD2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062D0-5FC5-4377-AA55-85CA59D2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4EBCE-CC3D-44C1-9CFC-12262704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3DC75-5309-41E6-8CDB-A0581C6E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10DC3-A43F-4224-8803-5BB07A85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240-3E82-4F79-882F-6A346752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209D7-4E95-42A7-BA7B-EE202E62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70602-A13B-418C-A6E6-5F2C8589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8E641-FF66-4348-BF32-09823AC7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F23C2-AD2C-4401-8E03-1F556769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C8DBB-4170-4520-A2D1-663084B2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6792F-2EE5-4B21-8C5E-A3A87E16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F0B74-7CFD-4A37-A0FF-997498AE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09DF6-D3AC-4942-82E4-629488F0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8CFCF-CF5F-4065-9A51-B56929D5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4CF34-E05F-432B-8A8F-E2200E06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flourish2.png"/>
          <p:cNvPicPr/>
          <p:nvPr/>
        </p:nvPicPr>
        <p:blipFill>
          <a:blip r:embed="rId3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8" descr="flourish2.png"/>
          <p:cNvPicPr/>
          <p:nvPr/>
        </p:nvPicPr>
        <p:blipFill>
          <a:blip r:embed="rId4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4D64-CBD8-422C-ACB5-F336FE351F34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5836-1D72-4424-9540-7A2B045C967A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0B41-0C99-4013-BCDF-A8B32E068A81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7801-F5E3-4AC2-ABCD-1042F1FE2FA7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c6bc9c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034A-13C2-4672-9568-233D5516097E}" type="slidenum">
              <a:rPr b="1" lang="ar-SA" sz="1200" spc="-1" strike="noStrike">
                <a:solidFill>
                  <a:srgbClr val="c6bc9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1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1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2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D3B7-2362-4E82-8B76-CD53CADFC59E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6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6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4EB5-FB4E-49D3-BA95-B1C1C26A5F35}" type="slidenum"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1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75BA-C158-4995-85ED-D0B7A39D647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89A4-EB59-4DD8-BDC4-36AD732A58D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4005c"/>
                </a:solidFill>
                <a:latin typeface="Arial"/>
              </a:rPr>
              <a:t>ISBAR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SBAR &gt;&gt;&gt;&gt;&gt; WHAT IS IT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692360" y="3176280"/>
            <a:ext cx="598464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288000" indent="-288000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BAR is a tool that utilized as the model that all healthcare staff use to structure clinical communication , The goal is to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tandardize communicatio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ng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 healthcare</a:t>
            </a:r>
            <a:r>
              <a:rPr b="0" i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vider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lvl="1" marL="288000" indent="-288000" algn="r" rtl="1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 algn="r" rtl="1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SB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tu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groun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mmend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dentify ?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 who are you and who is your patient)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47920" y="2590560"/>
            <a:ext cx="651672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y Yourself by name and position, uni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5760" indent="-4557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y your patient : full name &amp; medical record number , Age ,Sex Location (if different from you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981080" y="5029200"/>
            <a:ext cx="609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aramond"/>
              </a:rPr>
              <a:t>Reference: Joint Commission for Transforming Healthc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tuatio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: (what is your current situation 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the problem ,concern, and chief compl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current situation, concerns, obser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ckground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: (What is the relevant background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the patient reason and date of admiss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gnificant and relavant medical ,surgical ,family and social histor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st of current medication ,allergies, IV infusion treatment and procedure as requir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uscitation stat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ol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assessment : (what is happening with patient ?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ysical assessment finding system by syste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/S ,GCS ,Pai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modynamic 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la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diological result including date and ti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treatment and procedu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 recommendation : (what are the action to be taking?)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ain what you ne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te requ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rify expecta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any telephone order read back to ensure accurac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k questions: Are there any tests required? E.g. CXR, ECG etc. Are there any medications/fluids required? What change in the treatment plan is required? How often do you want vital signs? If the patient doesn’t improve when should they be called agai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6:16:20Z</dcterms:created>
  <dc:creator>07727</dc:creator>
  <dc:description/>
  <dc:language>en-US</dc:language>
  <cp:lastModifiedBy>DELL</cp:lastModifiedBy>
  <dcterms:modified xsi:type="dcterms:W3CDTF">2017-02-19T17:23:43Z</dcterms:modified>
  <cp:revision>106</cp:revision>
  <dc:subject/>
  <dc:title>SBAR Process</dc:title>
</cp:coreProperties>
</file>