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33B-40FF-4819-B884-8E83DA6D0204}" type="datetime">
              <a:rPr b="0" i="1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4B8-5AC2-4453-A07E-ACB36EA7888B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A5B-E08E-4E7A-AF9E-A7F39EC6F07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UR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678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cture 5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7732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Mental Health Nursing-NUR 417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47" name="Picture 6" descr="C:\Documents and Settings\Owner\Application Data\Microsoft\Media Catalog\Downloaded Clips\cl4b\j0187587.wmf"/>
          <p:cNvPicPr/>
          <p:nvPr/>
        </p:nvPicPr>
        <p:blipFill>
          <a:blip r:embed="rId1"/>
          <a:stretch/>
        </p:blipFill>
        <p:spPr>
          <a:xfrm>
            <a:off x="5410080" y="3505320"/>
            <a:ext cx="21337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0948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RI (Magnetic resonance imaging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dentifies brain chang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T (</a:t>
            </a: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Positron emission tomography)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(is a nuclear medicine imaging)</a:t>
            </a: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termines brain activ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EG </a:t>
            </a:r>
            <a:r>
              <a:rPr b="0" lang="ar-SA" sz="20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lectroencephalography</a:t>
            </a:r>
            <a:r>
              <a:rPr b="0" lang="ar-SA" sz="2000" spc="-1" strike="noStrike">
                <a:solidFill>
                  <a:srgbClr val="99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n</a:t>
            </a:r>
            <a:r>
              <a:rPr b="0" lang="ar-SA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lectrophysiological monitoring method to record electrical activity of the brain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2320" indent="-3171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Neurologic examination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Neuropsychologic test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30492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66"/>
                </a:solidFill>
                <a:latin typeface="Tahoma"/>
              </a:rPr>
              <a:t>Diagnosis – Examples of </a:t>
            </a:r>
            <a:r>
              <a:rPr b="0" lang="en-US" sz="3400" spc="-1" strike="noStrike">
                <a:solidFill>
                  <a:srgbClr val="ffff66"/>
                </a:solidFill>
                <a:latin typeface="Tahoma"/>
              </a:rPr>
              <a:t>Important Tes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tatonic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Characterized by marked psychomotor disturbance</a:t>
            </a:r>
            <a:endParaRPr b="0" lang="en-US" sz="22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tatonic stupor: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haracterized by extreme psychomotor retardation; patient usually mut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tatonic excitement: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xtreme psychomotor agitation; purposeless movements that must be curtailed to prevent injury to client or oth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4" name="Picture 5" descr="j0078739"/>
          <p:cNvPicPr/>
          <p:nvPr/>
        </p:nvPicPr>
        <p:blipFill>
          <a:blip r:embed="rId1"/>
          <a:stretch/>
        </p:blipFill>
        <p:spPr>
          <a:xfrm>
            <a:off x="7924680" y="1714680"/>
            <a:ext cx="87336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j0078820"/>
          <p:cNvPicPr/>
          <p:nvPr/>
        </p:nvPicPr>
        <p:blipFill>
          <a:blip r:embed="rId2"/>
          <a:stretch/>
        </p:blipFill>
        <p:spPr>
          <a:xfrm>
            <a:off x="7315200" y="4952880"/>
            <a:ext cx="17463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Disorganized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appropriate affect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tremely disorganized behav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ocial interaction impair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7" name="Picture 5" descr="BD05961_"/>
          <p:cNvPicPr/>
          <p:nvPr/>
        </p:nvPicPr>
        <p:blipFill>
          <a:blip r:embed="rId1"/>
          <a:stretch/>
        </p:blipFill>
        <p:spPr>
          <a:xfrm>
            <a:off x="6172200" y="3505320"/>
            <a:ext cx="2022480" cy="2577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161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aranoid schizophrenia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ized by hallucinations, delusions, and persecutory (feeling victimized) or grandeu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lient may be argumentative, and aggressiv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0" name="Picture 4" descr="anti-social"/>
          <p:cNvPicPr/>
          <p:nvPr/>
        </p:nvPicPr>
        <p:blipFill>
          <a:blip r:embed="rId1"/>
          <a:stretch/>
        </p:blipFill>
        <p:spPr>
          <a:xfrm>
            <a:off x="5170320" y="3733920"/>
            <a:ext cx="344016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idual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sed to diagnose a person who has a history of at least one episode of schizophrenia with prominent psychotic symptoms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chizoaffective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chizophrenic symptoms accompanied by a strong element of symptomatology associated with mood disorders, either manic or depressiv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5" name="Picture 4" descr="PE06980_"/>
          <p:cNvPicPr/>
          <p:nvPr/>
        </p:nvPicPr>
        <p:blipFill>
          <a:blip r:embed="rId1"/>
          <a:stretch/>
        </p:blipFill>
        <p:spPr>
          <a:xfrm>
            <a:off x="5638680" y="4191120"/>
            <a:ext cx="1629000" cy="1801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0760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rief psychotic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udden onset of psychotic symptoms following a severe psychosocial stressor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ymptoms persist less than 1 month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8" name="Picture 4" descr="j0119867"/>
          <p:cNvPicPr/>
          <p:nvPr/>
        </p:nvPicPr>
        <p:blipFill>
          <a:blip r:embed="rId1"/>
          <a:stretch/>
        </p:blipFill>
        <p:spPr>
          <a:xfrm>
            <a:off x="6705720" y="4038480"/>
            <a:ext cx="22096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3140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ame symptoms as schizophrenia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e duration of the disorder has been at least 1 month but fewer than 6 month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Picture 4" descr="PE06974_"/>
          <p:cNvPicPr/>
          <p:nvPr/>
        </p:nvPicPr>
        <p:blipFill>
          <a:blip r:embed="rId1"/>
          <a:stretch/>
        </p:blipFill>
        <p:spPr>
          <a:xfrm>
            <a:off x="6858000" y="4343400"/>
            <a:ext cx="1590840" cy="1766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238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ndifferentiated schizophreni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Arial"/>
              </a:rPr>
              <a:t>Characterized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y mixed schizophrenic symptoms (of other types) along with disturbances of thought, affect, and behav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4" name="Picture 4" descr="paranoid"/>
          <p:cNvPicPr/>
          <p:nvPr/>
        </p:nvPicPr>
        <p:blipFill>
          <a:blip r:embed="rId1"/>
          <a:stretch/>
        </p:blipFill>
        <p:spPr>
          <a:xfrm>
            <a:off x="5867280" y="3352680"/>
            <a:ext cx="2514600" cy="2541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54160" y="76320"/>
            <a:ext cx="84326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ypes of Schizophrenia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Nursing Process: Assessment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ent of though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lusions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False personal belief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ligiosity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Excessive demonstration of obsession with religious ideas and behavio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aranoia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Extreme suspiciousness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f oth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8" name="Picture 7" descr="BD06548_"/>
          <p:cNvPicPr/>
          <p:nvPr/>
        </p:nvPicPr>
        <p:blipFill>
          <a:blip r:embed="rId1"/>
          <a:stretch/>
        </p:blipFill>
        <p:spPr>
          <a:xfrm>
            <a:off x="6172200" y="1600200"/>
            <a:ext cx="20574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ntroduction  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e word schizophrenia is derived from the Greek words </a:t>
            </a: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skhizo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(split) and </a:t>
            </a: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phren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(mind)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0" name="Picture 4" descr="C:\Program Files\Common Files\Microsoft Shared\Clipart\cagcat50\dd00448_.wmf"/>
          <p:cNvPicPr/>
          <p:nvPr/>
        </p:nvPicPr>
        <p:blipFill>
          <a:blip r:embed="rId1"/>
          <a:stretch/>
        </p:blipFill>
        <p:spPr>
          <a:xfrm>
            <a:off x="5410080" y="35053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280" y="1238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ent of thought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Word salad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Group of words put togeth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 a random fash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agical thinking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Idea that if one thinks something, it must be tru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utism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Inability or refusal to spea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1" name="Picture 11" descr="BD19983_"/>
          <p:cNvPicPr/>
          <p:nvPr/>
        </p:nvPicPr>
        <p:blipFill>
          <a:blip r:embed="rId1"/>
          <a:stretch/>
        </p:blipFill>
        <p:spPr>
          <a:xfrm>
            <a:off x="7232760" y="417528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7013_"/>
          <p:cNvPicPr/>
          <p:nvPr/>
        </p:nvPicPr>
        <p:blipFill>
          <a:blip r:embed="rId2"/>
          <a:stretch/>
        </p:blipFill>
        <p:spPr>
          <a:xfrm>
            <a:off x="7086600" y="1895400"/>
            <a:ext cx="16765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295280"/>
            <a:ext cx="802656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orm of though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sociative looseness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Shift of ideas from one unrelated topic to anothe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ologisms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Made-up words that have meaning only to the person who invents the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240120" indent="-2401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severation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Persistent repetition of the same word or idea in response to different ques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5" name="Picture 5" descr="BS01344_"/>
          <p:cNvPicPr/>
          <p:nvPr/>
        </p:nvPicPr>
        <p:blipFill>
          <a:blip r:embed="rId1"/>
          <a:stretch/>
        </p:blipFill>
        <p:spPr>
          <a:xfrm>
            <a:off x="6740640" y="2209680"/>
            <a:ext cx="171756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PE07013_"/>
          <p:cNvPicPr/>
          <p:nvPr/>
        </p:nvPicPr>
        <p:blipFill>
          <a:blip r:embed="rId2"/>
          <a:stretch/>
        </p:blipFill>
        <p:spPr>
          <a:xfrm>
            <a:off x="6753240" y="3733920"/>
            <a:ext cx="152388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allucination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False sensory perceptions not associated with real external stimuli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llusion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Misperceptions of real external stimuli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Picture 6" descr="BD05552_"/>
          <p:cNvPicPr/>
          <p:nvPr/>
        </p:nvPicPr>
        <p:blipFill>
          <a:blip r:embed="rId1"/>
          <a:stretch/>
        </p:blipFill>
        <p:spPr>
          <a:xfrm>
            <a:off x="5181480" y="4267080"/>
            <a:ext cx="22100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12384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ffect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Emotional to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appropriate affect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Emotions are incongruent with circumstanc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ath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Lack of interest in environment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motional ambivalence: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existence of opposite emotions toward same obje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2" name="Picture 6" descr="j0149576"/>
          <p:cNvPicPr/>
          <p:nvPr/>
        </p:nvPicPr>
        <p:blipFill>
          <a:blip r:embed="rId1"/>
          <a:stretch/>
        </p:blipFill>
        <p:spPr>
          <a:xfrm>
            <a:off x="6730920" y="4952880"/>
            <a:ext cx="2403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3920" y="1390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ense of Self: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The uniqueness and individuality a person feel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holalia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Repeating words that are hear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chopraxia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Repeating movements that are observe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61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mpaired interpersonal functioning and relationship to the external world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utis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eterioration in appearance: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aired personal grooming and self-care activiti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motor behavior </a:t>
            </a: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ergia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Deficiency of ener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sturing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Voluntary assumption of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appropriate or bizarre postur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acing and rocking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Pacing back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d forth and rocking the bod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9" name="Picture 5" descr="j0078739"/>
          <p:cNvPicPr/>
          <p:nvPr/>
        </p:nvPicPr>
        <p:blipFill>
          <a:blip r:embed="rId1"/>
          <a:stretch/>
        </p:blipFill>
        <p:spPr>
          <a:xfrm>
            <a:off x="7238880" y="2063880"/>
            <a:ext cx="157824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ursing Process: Assessment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3920" y="12952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Positive and negative symptoms 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ositive symptom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Excess or distortion of normal function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egative symptoms: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ficit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r loss of normal func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13428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ioPsych4e-Tab-16-02-0"/>
          <p:cNvPicPr/>
          <p:nvPr/>
        </p:nvPicPr>
        <p:blipFill>
          <a:blip r:embed="rId2"/>
          <a:stretch/>
        </p:blipFill>
        <p:spPr>
          <a:xfrm>
            <a:off x="0" y="-1219320"/>
            <a:ext cx="9144000" cy="10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neffective role performa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Powerlessn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isk for injur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isk for other-directed viole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Risk for self-directed viole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Social isola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balanced nutrition: Less than body requireme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paired home maintenanc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paired social interac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mpaired verbal communicatio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neffective cop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ahoma"/>
              </a:rPr>
              <a:t>List of Nanda Nursing Diagnosis for Schizophrenia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7" name="Picture 32" descr="C:\Documents and Settings\Owner\Application Data\Microsoft\Media Catalog\Downloaded Clips\cl7\BD19983_.wmf"/>
          <p:cNvPicPr/>
          <p:nvPr/>
        </p:nvPicPr>
        <p:blipFill>
          <a:blip r:embed="rId1"/>
          <a:stretch/>
        </p:blipFill>
        <p:spPr>
          <a:xfrm>
            <a:off x="6707160" y="1219320"/>
            <a:ext cx="1981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ntroduction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67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ore than any other mental illness, schizophrenia probably causes mor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ngthy hospitaliz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os in family lif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orbitant costs to people and governments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ea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personal identi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sensory perception (auditory, visual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sleep patter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thought process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ressing or grooming self-care defici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Bathing or hygiene self-care defici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abled family cop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body imag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isturbed personal identity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7627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ahoma"/>
              </a:rPr>
              <a:t>List of Nanda Nursing Diagnosis for Schizophrenia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0" name="Picture 32" descr="C:\Documents and Settings\Owner\Application Data\Microsoft\Media Catalog\Downloaded Clips\cl4b\j0187587.wmf"/>
          <p:cNvPicPr/>
          <p:nvPr/>
        </p:nvPicPr>
        <p:blipFill>
          <a:blip r:embed="rId1"/>
          <a:stretch/>
        </p:blipFill>
        <p:spPr>
          <a:xfrm>
            <a:off x="6858000" y="3801960"/>
            <a:ext cx="154476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Planning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6200" y="1219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e cli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monstrates an ability to relate to others satisfactorily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cognizes distortions of real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s not harmed self or oth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rceives self realistical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monstrates ability to perceive the environment correct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aintains anxiety at a manageabl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monstrates ability to trust oth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s appropriate verbal communication in interactions with oth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rforms self-care activities independent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3" name="Picture 4" descr="BD06657_"/>
          <p:cNvPicPr/>
          <p:nvPr/>
        </p:nvPicPr>
        <p:blipFill>
          <a:blip r:embed="rId1"/>
          <a:stretch/>
        </p:blipFill>
        <p:spPr>
          <a:xfrm>
            <a:off x="6586560" y="4876920"/>
            <a:ext cx="2362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rsing interventions for the client with schizophrenia are aimed at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creasing anxiety and establishing trus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sisting client to define and test realit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couraging interaction with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suring safety of client and othe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eting client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 self-care need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moting adaptive family cop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Implementation -Client/Family Educ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620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ement of ill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ppropriate medication manage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ortance of not stopping medic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hen to contact healthcare provide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axation techniqu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ocial skills trai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aily living skills trai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467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hizophrenia requires treatment that is comprehensive and presented in a multidisciplinary effort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vidual psychotherap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Long-term therapeutic approach difficult because of client’s impairment in interpersonal functio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0" name="Picture 5" descr="paranoid"/>
          <p:cNvPicPr/>
          <p:nvPr/>
        </p:nvPicPr>
        <p:blipFill>
          <a:blip r:embed="rId1"/>
          <a:stretch/>
        </p:blipFill>
        <p:spPr>
          <a:xfrm>
            <a:off x="7162920" y="2209680"/>
            <a:ext cx="1608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s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roup therap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Some success if participating over long-term course of the illness; less successful in short-term treat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ehavior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ccupational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3" name="Picture 4" descr="group"/>
          <p:cNvPicPr/>
          <p:nvPr/>
        </p:nvPicPr>
        <p:blipFill>
          <a:blip r:embed="rId1"/>
          <a:stretch/>
        </p:blipFill>
        <p:spPr>
          <a:xfrm>
            <a:off x="5715000" y="3886200"/>
            <a:ext cx="28684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839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logical treatments (cont.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ocial skills training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Use of role play to teach client appropriate eye contact, interpersonal skills, posture, and so on, aimed at improving relationship developmen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lectroconvulsive therap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39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ocial treatmen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ilieu therapy: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 type of inpatient therapy, involving prescription of particular activities and social interactions according to a patient's emotional and interpersonal need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amily therapy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Aimed at helping family members cope with long-term effects of illnes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8" name="Picture 4" descr="BS01651_"/>
          <p:cNvPicPr/>
          <p:nvPr/>
        </p:nvPicPr>
        <p:blipFill>
          <a:blip r:embed="rId1"/>
          <a:stretch/>
        </p:blipFill>
        <p:spPr>
          <a:xfrm>
            <a:off x="6019920" y="5257800"/>
            <a:ext cx="2590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5320" y="887400"/>
            <a:ext cx="81788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pharmacolog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tipsychotics: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Used to decrease agitation and psychotic symptom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tiparkinsonian agen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thers: example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iazepam (used to treat anxiety disorders, or muscle spasms.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pranolol (used to treat tremors, angina (chest pain), hypertension, heart rhythm disorders, and other heart or circulatory conditions.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1" name="Picture 6" descr="BD08415_"/>
          <p:cNvPicPr/>
          <p:nvPr/>
        </p:nvPicPr>
        <p:blipFill>
          <a:blip r:embed="rId1"/>
          <a:stretch/>
        </p:blipFill>
        <p:spPr>
          <a:xfrm>
            <a:off x="6246720" y="2362320"/>
            <a:ext cx="228600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eatment Modalities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9903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ide effects for Antipsychotics (e. x:)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usea; GI upset; weight gai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da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creased libido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ynecomastia; amenorrhe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ient should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t stop taking the drug abruptl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t consume other medications (including over-the-counter drugs) without the physician’s knowledg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Nature of the Disorder 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hizophrenia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 serious mental disorder characterized by: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isorganized and delusional thinking (Thought processes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isturbed perceptions/hallucinati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appropriate emotions and actions (affect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ith schizophrenia, there is a severe deterioration of social and occupational function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5" name="Picture 4" descr="paranoid"/>
          <p:cNvPicPr/>
          <p:nvPr/>
        </p:nvPicPr>
        <p:blipFill>
          <a:blip r:embed="rId1"/>
          <a:stretch/>
        </p:blipFill>
        <p:spPr>
          <a:xfrm>
            <a:off x="7620120" y="2917800"/>
            <a:ext cx="1143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valuation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14000"/>
            <a:ext cx="8331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valuation question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Has client established trust with at least one staff member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anxiety level maintained at a manageable level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delusional thinking still prevalent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client able to interrupt anxiety with adaptive coping mechanisms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s client easily agitated?</a:t>
            </a: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tiological Implication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hizophrenia is probably caused by a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mbination of factors, including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logical and Heritability predisposi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ochemical Cause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hysiological fac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sychosocial stres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8" name="Picture 4" descr="paranoid"/>
          <p:cNvPicPr/>
          <p:nvPr/>
        </p:nvPicPr>
        <p:blipFill>
          <a:blip r:embed="rId1"/>
          <a:stretch/>
        </p:blipFill>
        <p:spPr>
          <a:xfrm>
            <a:off x="6400800" y="3429000"/>
            <a:ext cx="1608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tiological Implication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Arial"/>
              </a:rPr>
              <a:t>Biological and Heritability predisposition</a:t>
            </a:r>
            <a:endParaRPr b="0" lang="en-US" sz="31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enetics plays an important role in the development of schizophrenia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iochemical Caus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pamine Hypothesis: schizophrenia is caused by excessive dopamine activit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1" name="Picture 4" descr="j0118025"/>
          <p:cNvPicPr/>
          <p:nvPr/>
        </p:nvPicPr>
        <p:blipFill>
          <a:blip r:embed="rId1"/>
          <a:stretch/>
        </p:blipFill>
        <p:spPr>
          <a:xfrm>
            <a:off x="7162920" y="2362320"/>
            <a:ext cx="1523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Predisposing Factors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hysiological influences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xamples of Various physical conditions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pileps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irth traum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ead injury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lcohol abus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erebral tumor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4" name="Picture 4" descr="HM00247_"/>
          <p:cNvPicPr/>
          <p:nvPr/>
        </p:nvPicPr>
        <p:blipFill>
          <a:blip r:embed="rId1"/>
          <a:stretch/>
        </p:blipFill>
        <p:spPr>
          <a:xfrm>
            <a:off x="6553080" y="1981080"/>
            <a:ext cx="1817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Predisposing Factors </a:t>
            </a:r>
            <a:r>
              <a:rPr b="0" i="1" lang="en-US" sz="4000" spc="-1" strike="noStrike">
                <a:solidFill>
                  <a:srgbClr val="ffff66"/>
                </a:solidFill>
                <a:latin typeface="Tahoma"/>
              </a:rPr>
              <a:t>(cont.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392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sychosoci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eeply disrupted family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ressful life events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vironmental influen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3300"/>
                </a:solidFill>
                <a:latin typeface="Arial"/>
              </a:rPr>
              <a:t>Viral epidemics: associated with viral diseas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3300"/>
                </a:solidFill>
                <a:latin typeface="Arial"/>
              </a:rPr>
              <a:t>Low-socioeconomic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7" name="Picture 4" descr="j0196320"/>
          <p:cNvPicPr/>
          <p:nvPr/>
        </p:nvPicPr>
        <p:blipFill>
          <a:blip r:embed="rId1"/>
          <a:stretch/>
        </p:blipFill>
        <p:spPr>
          <a:xfrm>
            <a:off x="6781680" y="1981080"/>
            <a:ext cx="158616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Schizophrenia is diagnosed based on talking with the patient, and looking at his or her behaviour and experiences.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Tahoma"/>
              </a:rPr>
              <a:t>Diagnosis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20:23:21Z</dcterms:created>
  <dc:creator/>
  <dc:description/>
  <dc:language>en-US</dc:language>
  <cp:lastModifiedBy/>
  <dcterms:modified xsi:type="dcterms:W3CDTF">2016-10-24T12:49:39Z</dcterms:modified>
  <cp:revision>1</cp:revision>
  <dc:subject/>
  <dc:title/>
</cp:coreProperties>
</file>