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0.wmf" ContentType="image/x-wmf"/>
  <Override PartName="/ppt/media/image9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4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889-8E05-4987-846B-6D4D017B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DFB-C5CB-4AB4-B858-D304863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561-91A7-4955-A430-8132E562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94D-D01C-4865-B775-23AFE38F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2645-7274-4C99-A57B-C3628C36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A8E3-9839-4C2C-9394-9CA9DC21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AC83-90A5-4518-BF4A-AB0A6A00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8C70-815D-4F86-85B3-7A75CD23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FF71-9815-45B1-B7FF-D5B53B68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F203-BB13-4309-8683-6E28ACD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7837-20E8-473D-81C1-DD75EF42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6B5-ED68-4E19-BBF5-417F7746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4607-A65D-4974-BEBF-83990A49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43E7-DDCE-48B7-81AA-702B3ABF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F540-F95A-4715-B901-8CA38CA2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C87D-1C1A-41C1-84D5-D5A48F63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A42A-5072-483A-B440-33BE9F03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EBC-09FF-4F1D-9EDF-67FD526B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A8A-4D06-4310-AEAA-CE7D5D81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FBB-98E0-4653-BBFA-2165CCCF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866-1819-4033-8D45-0EFEB32E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5F0-BF62-434F-8380-5202DEC5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70C-55D5-4F5D-AB5D-94AAF547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4BF-9BF9-458E-B932-1F016C27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7F8C-DAF4-4F42-876D-D2662D0DB9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A0FE-A70D-48A7-87E2-B2B7084A31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9E0D-2DF4-43E4-B058-6642E330EE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Beginning to End: An Overview of Systems Analysis an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D881-08BE-49EA-BE81-D7DC81D6E3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terative and Agile Systems Development Lifecycle (SDL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457200" y="1736640"/>
            <a:ext cx="8229600" cy="4375080"/>
          </a:xfrm>
          <a:prstGeom prst="rect">
            <a:avLst/>
          </a:prstGeom>
          <a:ln w="0">
            <a:noFill/>
          </a:ln>
        </p:spPr>
      </p:pic>
      <p:sp>
        <p:nvSpPr>
          <p:cNvPr id="2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B317-BCC4-4428-9108-61DD887537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Retail Compan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door and sporting clothing and access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iing, mountain biking, water s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king, camping, mountain climb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cky Mountain and Western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ed mail order and phone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retail s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extensive E-business compon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A2F6-448A-4FA9-A500-D4544147CF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160880" cy="5292720"/>
          </a:xfrm>
          <a:prstGeom prst="rect">
            <a:avLst/>
          </a:prstGeom>
          <a:ln w="0">
            <a:noFill/>
          </a:ln>
        </p:spPr>
      </p:pic>
      <p:sp>
        <p:nvSpPr>
          <p:cNvPr id="21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2991-732A-4F84-AD18-18B34BD0D1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idgeline Mountain Outfitters (RMO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533520" y="1434960"/>
            <a:ext cx="8153280" cy="51231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94DD-7039-4905-9F79-F2F2538C5A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O Tradeshow System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project for chap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information system (ap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ing added to larger supply chain management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s one iteration of the small project, assuming there are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s through all six core processes of SDL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is to complete iteration in six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E2E4-9E1C-46EC-B4AA-F86FDC956A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MO Tradeshow System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urchasing agents attend apparel and fabric trade shows around the world to order new products from suppl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– information system (app) to collect and track information about suppliers and new products while at tradesh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radeshow Projec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– is propo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information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information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2714-DD11-4AE0-86A0-3859A670B3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-Project Activ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he problem and document the objective of the system (core process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liminary investi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Vision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approval to commence the project (core process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with key stakeholders, including executiv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reached, approve plan and bu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92CE-80B0-427E-8BA4-65E89DA703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ystem Vision Document</a:t>
            </a:r>
            <a:br>
              <a:rPr sz="3200"/>
            </a:b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roblem descrip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ystem capabiliti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Business benefits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914640" y="152280"/>
            <a:ext cx="4222800" cy="6172200"/>
          </a:xfrm>
          <a:prstGeom prst="rect">
            <a:avLst/>
          </a:prstGeom>
          <a:ln w="0">
            <a:noFill/>
          </a:ln>
        </p:spPr>
      </p:pic>
      <p:sp>
        <p:nvSpPr>
          <p:cNvPr id="2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4B68-AB24-488A-8AA2-232340C6B4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scriptio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9" name="Picture 11" descr=""/>
          <p:cNvPicPr/>
          <p:nvPr/>
        </p:nvPicPr>
        <p:blipFill>
          <a:blip r:embed="rId1"/>
          <a:stretch/>
        </p:blipFill>
        <p:spPr>
          <a:xfrm>
            <a:off x="304920" y="1763640"/>
            <a:ext cx="8381880" cy="361332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23D4-FE5B-4DE2-9D8E-2494FDA7D9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Capabil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Picture 8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338148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2C19-7211-4BE1-ABDF-08AAC85C20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reading this chapter, you should be able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purpose of systems analysis and design in the development of informat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Describe the characteristics of iterative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six core processes of the Systems Development Life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C10F-7F77-4B63-A167-454D5700E8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siness Benef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718080"/>
          </a:xfrm>
          <a:prstGeom prst="rect">
            <a:avLst/>
          </a:prstGeom>
          <a:ln w="0">
            <a:noFill/>
          </a:ln>
        </p:spPr>
      </p:pic>
      <p:sp>
        <p:nvSpPr>
          <p:cNvPr id="25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DAF0-DF26-4C74-992A-61E1FD6D74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1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2: Plan the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he major components (functional areas) that are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lier information sub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t information sub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the iterations and assign each function to an it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cide to do Supplier subsystem fir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n one iteration as it is small and straight for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team members and responsi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10A9-19B5-49A2-8E82-EA87C51BA1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220968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ork Breakdown Structure for Iteration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Based on the next four core processes in SDLC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9" name="Picture 8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5791320" cy="5469120"/>
          </a:xfrm>
          <a:prstGeom prst="rect">
            <a:avLst/>
          </a:prstGeom>
          <a:ln w="0">
            <a:noFill/>
          </a:ln>
        </p:spPr>
      </p:pic>
      <p:sp>
        <p:nvSpPr>
          <p:cNvPr id="2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ED5C-735F-491C-96F5-74ADA4B601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25909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ork Sequence Draft for Iteration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Elaborates on Work Breakdown Structure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3276720" y="0"/>
            <a:ext cx="4748040" cy="6248520"/>
          </a:xfrm>
          <a:prstGeom prst="rect">
            <a:avLst/>
          </a:prstGeom>
          <a:ln w="0">
            <a:noFill/>
          </a:ln>
        </p:spPr>
      </p:pic>
      <p:sp>
        <p:nvSpPr>
          <p:cNvPr id="2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8713-A1AB-425D-B105-DEA0C38629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2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3: Discover and Understand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preliminary fact-finding to understand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preliminary list of use cases and a use cas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preliminary list of classes and a 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9FC5-0416-4531-8211-85BF4C4C98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Use Cases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4" name="Picture 7" descr=""/>
          <p:cNvPicPr/>
          <p:nvPr/>
        </p:nvPicPr>
        <p:blipFill>
          <a:blip r:embed="rId1"/>
          <a:stretch/>
        </p:blipFill>
        <p:spPr>
          <a:xfrm>
            <a:off x="685800" y="1440000"/>
            <a:ext cx="7772400" cy="4690800"/>
          </a:xfrm>
          <a:prstGeom prst="rect">
            <a:avLst/>
          </a:prstGeom>
          <a:ln w="0">
            <a:noFill/>
          </a:ln>
        </p:spPr>
      </p:pic>
      <p:sp>
        <p:nvSpPr>
          <p:cNvPr id="2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3197-27A5-4218-8A59-104EE936F9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Object Classes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534520" cy="2908080"/>
          </a:xfrm>
          <a:prstGeom prst="rect">
            <a:avLst/>
          </a:prstGeom>
          <a:ln w="0">
            <a:noFill/>
          </a:ln>
        </p:spPr>
      </p:pic>
      <p:sp>
        <p:nvSpPr>
          <p:cNvPr id="2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27DA-CADC-4358-9FE6-E8E86996FB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liminary Class Diagram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Both subsystem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914400" y="1581120"/>
            <a:ext cx="7162920" cy="4591080"/>
          </a:xfrm>
          <a:prstGeom prst="rect">
            <a:avLst/>
          </a:prstGeom>
          <a:ln w="0">
            <a:noFill/>
          </a:ln>
        </p:spPr>
      </p:pic>
      <p:sp>
        <p:nvSpPr>
          <p:cNvPr id="2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2108-81C3-4CD9-ABBA-D8DD9FD118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3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3: Discover and Understand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in-depth fact-finding to understand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and document the detailed workflow of each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the user experience with screens and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DAD4-FC67-4302-9E3C-CA33910D06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tails Focus on Supplier Information Sub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up supp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/update suppli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up 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/update contr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49F8-4477-4DEF-827E-E74A00FEA7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dentify key documents that are used in planning a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Identify key diagrams used in systems analysis and systems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utility of identifying use cases in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plain the utility of identifying object classes in systems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0545-79A6-4CA0-B1DA-792575F4B1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 Case Diagram</a:t>
            </a: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Supplier information subsystem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1"/>
          <a:stretch/>
        </p:blipFill>
        <p:spPr>
          <a:xfrm>
            <a:off x="1295280" y="1568520"/>
            <a:ext cx="6477120" cy="4595760"/>
          </a:xfrm>
          <a:prstGeom prst="rect">
            <a:avLst/>
          </a:prstGeom>
          <a:ln w="0">
            <a:noFill/>
          </a:ln>
        </p:spPr>
      </p:pic>
      <p:sp>
        <p:nvSpPr>
          <p:cNvPr id="30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EDCE-30E0-46A7-AB79-641492F417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438280" cy="449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ity Diagram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Workflow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Look up supplier use case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219640" cy="6019920"/>
          </a:xfrm>
          <a:prstGeom prst="rect">
            <a:avLst/>
          </a:prstGeom>
          <a:ln w="0">
            <a:noFill/>
          </a:ln>
        </p:spPr>
      </p:pic>
      <p:sp>
        <p:nvSpPr>
          <p:cNvPr id="3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DF90-3877-4482-BC19-2430FEACAF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aft Screen Layout</a:t>
            </a:r>
            <a:br>
              <a:rPr sz="3900"/>
            </a:b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Look up supplier use case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1295280" y="1432080"/>
            <a:ext cx="6400800" cy="4813200"/>
          </a:xfrm>
          <a:prstGeom prst="rect">
            <a:avLst/>
          </a:prstGeom>
          <a:ln w="0">
            <a:noFill/>
          </a:ln>
        </p:spPr>
      </p:pic>
      <p:sp>
        <p:nvSpPr>
          <p:cNvPr id="31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8E97-2F66-424D-9FA3-21305C2F4F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4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the database (sche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ble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 and index ident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tribute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the system’s high leve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owser, Windows, or Smart phone; OO or proced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chitectural configuration (componen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 class diagra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bsystem architectural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4759-07C5-4059-94B7-BC9A07CCE0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base Sche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1447920" y="1409760"/>
            <a:ext cx="6248160" cy="4838760"/>
          </a:xfrm>
          <a:prstGeom prst="rect">
            <a:avLst/>
          </a:prstGeom>
          <a:ln w="0">
            <a:noFill/>
          </a:ln>
        </p:spPr>
      </p:pic>
      <p:sp>
        <p:nvSpPr>
          <p:cNvPr id="32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8CEB-73F5-4EE9-B290-1E326971D9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rchitectural Configuration Diagra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4" name="Picture 7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4799160"/>
          </a:xfrm>
          <a:prstGeom prst="rect">
            <a:avLst/>
          </a:prstGeom>
          <a:ln w="0">
            <a:noFill/>
          </a:ln>
        </p:spPr>
      </p:pic>
      <p:sp>
        <p:nvSpPr>
          <p:cNvPr id="3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E910-B5B2-4D48-9C32-E46F5DBFB9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Preliminary Design Class Diagram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Includes View Layer Classes and Domain Layer Classe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Need to add Utility Classes as well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9" name="Picture 7" descr=""/>
          <p:cNvPicPr/>
          <p:nvPr/>
        </p:nvPicPr>
        <p:blipFill>
          <a:blip r:embed="rId1"/>
          <a:stretch/>
        </p:blipFill>
        <p:spPr>
          <a:xfrm>
            <a:off x="2739960" y="533520"/>
            <a:ext cx="5224680" cy="5410080"/>
          </a:xfrm>
          <a:prstGeom prst="rect">
            <a:avLst/>
          </a:prstGeom>
          <a:ln w="0">
            <a:noFill/>
          </a:ln>
        </p:spPr>
      </p:pic>
      <p:sp>
        <p:nvSpPr>
          <p:cNvPr id="33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5930-C094-4DEE-9526-9F4029974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27432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ubsystem Architectural Design Diagram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2895480" y="676440"/>
            <a:ext cx="5867640" cy="5500440"/>
          </a:xfrm>
          <a:prstGeom prst="rect">
            <a:avLst/>
          </a:prstGeom>
          <a:ln w="0">
            <a:noFill/>
          </a:ln>
        </p:spPr>
      </p:pic>
      <p:sp>
        <p:nvSpPr>
          <p:cNvPr id="33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DE09-E021-4B10-A33A-7C32450092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tes on Managing the Projec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design diagrams sh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in a complex activity with multiple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 level architectu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 level detailed des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diagram builds on/complements an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everything is diagrammed, especially for a small projec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is also done concurre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don’t design everything then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do some design, some coding, some design, some 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D92F-AE12-484C-9C2E-93C75C266B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5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4: Design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with design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ed use case by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5: Build, Test, and Integrate System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programming (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 use case by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unit and integration t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4ADF-0E5E-48E3-9032-8EECF01FC0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uter appl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pp) – a computer software program that executes on a computing device to carry out a specific set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dest scop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 set of interrelated components that collects, processes, stores, and provides as output the information needed to complete busines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er in scope than “a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database and related manu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7366-FFF2-44C1-8101-CE8331BB50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27432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ode Example for One Clas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2666880" y="360360"/>
            <a:ext cx="5943600" cy="5622840"/>
          </a:xfrm>
          <a:prstGeom prst="rect">
            <a:avLst/>
          </a:prstGeom>
          <a:ln w="0">
            <a:noFill/>
          </a:ln>
        </p:spPr>
      </p:pic>
      <p:sp>
        <p:nvSpPr>
          <p:cNvPr id="35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0173-D37D-4C47-94F9-09F85F358C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kflow of Testing Tas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763120" cy="2611440"/>
          </a:xfrm>
          <a:prstGeom prst="rect">
            <a:avLst/>
          </a:prstGeom>
          <a:ln w="0">
            <a:noFill/>
          </a:ln>
        </p:spPr>
      </p:pic>
      <p:sp>
        <p:nvSpPr>
          <p:cNvPr id="35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8ABF-8F98-48A5-B3F0-3DE390E7EC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reen Capture for Look up supplier use ca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947880" y="1719360"/>
            <a:ext cx="7248240" cy="4411440"/>
          </a:xfrm>
          <a:prstGeom prst="rect">
            <a:avLst/>
          </a:prstGeom>
          <a:ln w="0">
            <a:noFill/>
          </a:ln>
        </p:spPr>
      </p:pic>
      <p:sp>
        <p:nvSpPr>
          <p:cNvPr id="36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4D77-9A72-419D-BFA2-8A2F2E0F8C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y 6 Activitie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Process 6: Complete System Testing and Deploy Syste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system functional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 user acceptance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y deploy part of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EB0E-8CC1-47A5-83E0-78555DFFE9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Iteration Recap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as a 6 day iteration of small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terations are longer (2 to 4 week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oject might be 2 it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projects have many more iter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 users need to be involved, particularly in day 1, 2, 3 and 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ys 4 and 5 involved design and programming concurren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time was spent programming along with design (not emphasized her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3992-BFD4-492C-B8E2-67915A6141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is Book is about Activities and Tasks in the SDL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58200" cy="4532400"/>
          </a:xfrm>
          <a:prstGeom prst="rect">
            <a:avLst/>
          </a:prstGeom>
          <a:ln w="0">
            <a:noFill/>
          </a:ln>
        </p:spPr>
      </p:pic>
      <p:sp>
        <p:nvSpPr>
          <p:cNvPr id="3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F4E4-A1D1-4F75-9DD9-9F21AFA4F6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01760" y="13712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: From Beginning to 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project overview emphasizing analysis and design and iterativ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2: Investigating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 3: Systems analysis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3: Us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ques for Identifying and modeling U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4: Domain Mod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ques for Identifying and modeling domain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5: Extending the Requirements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ing more details about use cases and domain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E43F-8BFB-4249-90C8-0D0AED41CB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You Are Hea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6: Essentials of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bout core process 4: system design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7: Designing User and System Inte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computer interaction, user interface design principles, outputs and reports, system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0: Object-Oriented Design: 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inciples, design models, and designing use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pter 11: Object-Oriented Design: Use Case Re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layer design and design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ACC1-3A1B-4BF1-B525-CBF14CA0B9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rms to review and know inclu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development lifecycle (SDL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system development process (methodolog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i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89ED-CF67-4B47-80D7-3E788B8B5C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vision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breakdown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sequence d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 classes (domain class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 class dia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level structural design (architectural desig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base sch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een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00D0-6AD9-43D1-AA7E-333AD9AF71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a planned undertaking that has a beginning and end and that produces some definit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Used to develop an information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Requires knowledge of systems analysis and systems design tools and techn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DF67-1168-4F57-A976-99CE7657B5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s analysi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ose activities that enable a person to understand and specify what an information system should accomp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s desig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ose activities that enable a person to define and describe in detail the system that solves the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7DC8-9091-4CB6-9438-0744879BB6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ystem development lifecycle (SDLC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e entire process consisting of all activities required to build, launch, and maintain an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y the problem or need and obtain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 and monitor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over and understand the details of the problem or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the system components that solve the problem or satisfy the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, test, and integrate syste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system tests and then deploy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2CE1-7ABB-41DC-B792-A2A2C37713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ormation systems development pro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the actual approach used to develop a particular information system, aka (also known as):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fied process (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eme programming (X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rocesses/methodologies now use Agile and Iterativ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ED99-572B-4856-B206-23B365279B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(continued)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gile develop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an information system development process that emphasizes flexibility to anticipate new requirements dur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v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- an approach to system development in which the system is “grown” piece by piece through multiple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small part of system (mini-project), then repeat processes to refine and add more, then repeat to refine and add more, until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Azeddine</cp:lastModifiedBy>
  <dcterms:modified xsi:type="dcterms:W3CDTF">2014-09-13T06:44:23Z</dcterms:modified>
  <cp:revision>46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