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2.wmf" ContentType="image/x-wmf"/>
  <Override PartName="/ppt/media/image10.wmf" ContentType="image/x-wmf"/>
  <Override PartName="/ppt/media/image9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6.wmf" ContentType="image/x-wmf"/>
  <Override PartName="/ppt/media/image5.png" ContentType="image/png"/>
  <Override PartName="/ppt/media/image23.png" ContentType="image/png"/>
  <Override PartName="/ppt/media/image22.wmf" ContentType="image/x-wmf"/>
  <Override PartName="/ppt/media/image21.wmf" ContentType="image/x-wmf"/>
  <Override PartName="/ppt/media/image4.wmf" ContentType="image/x-wmf"/>
  <Override PartName="/ppt/media/image20.png" ContentType="image/png"/>
  <Override PartName="/ppt/media/image2.wmf" ContentType="image/x-wmf"/>
  <Override PartName="/ppt/media/image19.png" ContentType="image/png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wmf" ContentType="image/x-wmf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58F3-2C63-4DB9-B220-373EFA386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914A-EB0A-4FB1-A8E7-33ECA2F7F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16DB-9236-4328-90C6-DDE616825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F8E3-33A2-4AE4-B698-20CC55F5B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4C44C-EFD6-434C-99A6-3E3F88F6B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61606-DC5D-4643-BFE1-09EBF7FC3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67A62-83C0-4829-9D2B-B6A0C479E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CF2D1-FF06-4D88-8C22-8AA4F6C67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C52FF-EB08-43F3-BEE7-025246EA8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9C9E6-868F-460E-9474-348A7F087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27608-C08C-48DB-A00C-C790DA919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D6D7-8DAC-446F-ABAF-6EC990534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81696-66CE-4844-8273-AFA1E8C09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0CBED-B6C3-4779-9D04-314D3653A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C0790-BB8E-4A09-9651-5B035ECA4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96755-D718-4080-B616-C83D861E3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6548F-8C00-4371-850E-52F037FA1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6C2F-D010-45DE-A9D7-DE5981B1A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BBE5-2B40-4F1B-822B-74FA17D0A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4B37-4C2C-4F8F-83BB-615960D49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9429-E918-48FD-B9A8-B0622205A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97FF-1B48-4123-BB9B-D6A1E873C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8492-550C-40CE-85C2-EAD28A9F0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5ABA-23DF-464F-BDBA-5F3737BFC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s Analysis and Design in a Changing World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54344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88FCC-45B7-40CD-9A64-10EE27076BD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1"/>
          <p:cNvSpPr/>
          <p:nvPr/>
        </p:nvSpPr>
        <p:spPr>
          <a:xfrm>
            <a:off x="457200" y="1676520"/>
            <a:ext cx="678168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4"/>
          </p:nvPr>
        </p:nvSpPr>
        <p:spPr>
          <a:xfrm>
            <a:off x="4572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5"/>
          </p:nvPr>
        </p:nvSpPr>
        <p:spPr>
          <a:xfrm>
            <a:off x="19810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s Analysis and Design in a Changing World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6"/>
          </p:nvPr>
        </p:nvSpPr>
        <p:spPr>
          <a:xfrm>
            <a:off x="73152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B507F-3DD5-42B6-8622-B135A834B00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3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s Analysis and Design in a Changing World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4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02B6A-C59C-468A-BC9E-D7615D1EF31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1066680" y="449568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apter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6"/>
          <p:cNvSpPr/>
          <p:nvPr/>
        </p:nvSpPr>
        <p:spPr>
          <a:xfrm>
            <a:off x="838080" y="152280"/>
            <a:ext cx="815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INTRODUCTION T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SYSTEMS ANALYSIS AND DESIG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AN AGILE, ITERATIVE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0" y="3048120"/>
            <a:ext cx="9144000" cy="3809880"/>
          </a:xfrm>
          <a:prstGeom prst="rect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om Beginning to End: An Overview of Systems Analysis and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9"/>
          <p:cNvSpPr/>
          <p:nvPr/>
        </p:nvSpPr>
        <p:spPr>
          <a:xfrm>
            <a:off x="3886200" y="32767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TZINGER | JACKSON | BU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0"/>
          <p:cNvSpPr/>
          <p:nvPr/>
        </p:nvSpPr>
        <p:spPr>
          <a:xfrm>
            <a:off x="990720" y="441972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TER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7FED9-4D5C-42BF-95A3-E81B140EA81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terative and Agile Systems Development Lifecycle (SDLC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9" name="Picture 8" descr=""/>
          <p:cNvPicPr/>
          <p:nvPr/>
        </p:nvPicPr>
        <p:blipFill>
          <a:blip r:embed="rId1"/>
          <a:stretch/>
        </p:blipFill>
        <p:spPr>
          <a:xfrm>
            <a:off x="457200" y="1736640"/>
            <a:ext cx="8229600" cy="4375080"/>
          </a:xfrm>
          <a:prstGeom prst="rect">
            <a:avLst/>
          </a:prstGeom>
          <a:ln w="0">
            <a:noFill/>
          </a:ln>
        </p:spPr>
      </p:pic>
      <p:sp>
        <p:nvSpPr>
          <p:cNvPr id="200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089F9-69A8-4015-9A6A-39AFA303037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idgeline Mountain Outfitters (RMO)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rge Retail Compan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utdoor and sporting clothing and accessor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kiing, mountain biking, water spor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iking, camping, mountain climb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ocky Mountain and Western Sta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rted mail order and phone ord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ded retail sto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ded extensive E-business compon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29856-A702-4620-9903-D3DF90FC47C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idgeline Mountain Outfitters (RMO)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9" name="Picture 5" descr=""/>
          <p:cNvPicPr/>
          <p:nvPr/>
        </p:nvPicPr>
        <p:blipFill>
          <a:blip r:embed="rId1"/>
          <a:stretch/>
        </p:blipFill>
        <p:spPr>
          <a:xfrm>
            <a:off x="2362320" y="838080"/>
            <a:ext cx="4160880" cy="5292720"/>
          </a:xfrm>
          <a:prstGeom prst="rect">
            <a:avLst/>
          </a:prstGeom>
          <a:ln w="0">
            <a:noFill/>
          </a:ln>
        </p:spPr>
      </p:pic>
      <p:sp>
        <p:nvSpPr>
          <p:cNvPr id="210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s Analysis and Design in a Changing World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ABED2-9570-49B2-B898-82C2F82E5E6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idgeline Mountain Outfitters (RMO)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5" name="Picture 7" descr=""/>
          <p:cNvPicPr/>
          <p:nvPr/>
        </p:nvPicPr>
        <p:blipFill>
          <a:blip r:embed="rId1"/>
          <a:stretch/>
        </p:blipFill>
        <p:spPr>
          <a:xfrm>
            <a:off x="533520" y="1434960"/>
            <a:ext cx="8153280" cy="512316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1EFA5-51A8-4E0D-B4EB-B7AA8AC00FC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MO Tradeshow System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ample project for chap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mall information system (app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ing added to larger supply chain management syst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monstrates one iteration of the small project, assuming there are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es through all six core processes of SDLC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an is to complete iteration in six da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41F24-83E4-4E6D-9CF0-2EC1A48B9A8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MO Tradeshow System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oblem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-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urchasing agents attend apparel and fabric trade shows around the world to order new products from suppli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– information system (app) to collect and track information about suppliers and new products while at tradeshow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Tradeshow Project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– is propos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plier information sub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duct information sub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E660C-91D0-4EC5-B21F-6F0435C5481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e-Project Activiti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dentify the problem and document the objective of the system (core process 1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liminary investig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ystem Vision Docu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btain approval to commence the project (core process 1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et with key stakeholders, including executive manag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ision reached, approve plan and budg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A9A1F-1530-4285-BFE6-04CCBA976F1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3352680" cy="411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System Vision Document</a:t>
            </a:r>
            <a:br>
              <a:rPr sz="3200"/>
            </a:br>
            <a:br>
              <a:rPr sz="2800"/>
            </a:b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Problem description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System capabilities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Business benefits</a:t>
            </a:r>
            <a:br>
              <a:rPr sz="2400"/>
            </a:b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34" name="Picture 10" descr=""/>
          <p:cNvPicPr/>
          <p:nvPr/>
        </p:nvPicPr>
        <p:blipFill>
          <a:blip r:embed="rId1"/>
          <a:stretch/>
        </p:blipFill>
        <p:spPr>
          <a:xfrm>
            <a:off x="3914640" y="152280"/>
            <a:ext cx="4222800" cy="6172200"/>
          </a:xfrm>
          <a:prstGeom prst="rect">
            <a:avLst/>
          </a:prstGeom>
          <a:ln w="0">
            <a:noFill/>
          </a:ln>
        </p:spPr>
      </p:pic>
      <p:sp>
        <p:nvSpPr>
          <p:cNvPr id="235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04AC4-6F3B-4614-BECE-1FCDD6FA820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oblem Description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39" name="Picture 11" descr=""/>
          <p:cNvPicPr/>
          <p:nvPr/>
        </p:nvPicPr>
        <p:blipFill>
          <a:blip r:embed="rId1"/>
          <a:stretch/>
        </p:blipFill>
        <p:spPr>
          <a:xfrm>
            <a:off x="304920" y="1763640"/>
            <a:ext cx="8381880" cy="3613320"/>
          </a:xfrm>
          <a:prstGeom prst="rect">
            <a:avLst/>
          </a:prstGeom>
          <a:ln w="0">
            <a:noFill/>
          </a:ln>
        </p:spPr>
      </p:pic>
      <p:sp>
        <p:nvSpPr>
          <p:cNvPr id="240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FD010-6A4E-4106-89AF-257A128B85B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ystem Capabiliti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44" name="Picture 8" descr=""/>
          <p:cNvPicPr/>
          <p:nvPr/>
        </p:nvPicPr>
        <p:blipFill>
          <a:blip r:embed="rId1"/>
          <a:stretch/>
        </p:blipFill>
        <p:spPr>
          <a:xfrm>
            <a:off x="152280" y="1828800"/>
            <a:ext cx="8991720" cy="3381480"/>
          </a:xfrm>
          <a:prstGeom prst="rect">
            <a:avLst/>
          </a:prstGeom>
          <a:ln w="0">
            <a:noFill/>
          </a:ln>
        </p:spPr>
      </p:pic>
      <p:sp>
        <p:nvSpPr>
          <p:cNvPr id="245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5372F-350B-46DD-B6F8-9153784F527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earning Objectiv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fter reading this chapter, you should be able t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scribe the purpose of systems analysis and design in the development of information syst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Describe the characteristics of iterative systems develop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Explain the six core processes of the Systems Development Life Cyc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25B2F-8C3C-446B-9AF5-1A1CE52E7EF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usiness Benefi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49" name="Picture 7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763120" cy="3718080"/>
          </a:xfrm>
          <a:prstGeom prst="rect">
            <a:avLst/>
          </a:prstGeom>
          <a:ln w="0">
            <a:noFill/>
          </a:ln>
        </p:spPr>
      </p:pic>
      <p:sp>
        <p:nvSpPr>
          <p:cNvPr id="250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278B1-E486-44FC-A767-8902ADA61FC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ay 1 Activities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re Process 2: Plan the Proje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e the major components (functional areas) that are need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pplier information subsyste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oduct information subsyste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fine the iterations and assign each function to an ite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cide to do Supplier subsystem firs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lan one iteration as it is small and straight forwar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e team members and responsibili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AD674-E5A4-4ECF-9437-A7B60D967ED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2209680" cy="35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Work Breakdown Structure for Iteration</a:t>
            </a:r>
            <a:br>
              <a:rPr sz="2800"/>
            </a:br>
            <a:br>
              <a:rPr sz="2800"/>
            </a:br>
            <a:br>
              <a:rPr sz="2000"/>
            </a:br>
            <a:r>
              <a:rPr b="1" lang="en-US" sz="2000" spc="-1" strike="noStrike">
                <a:solidFill>
                  <a:srgbClr val="330066"/>
                </a:solidFill>
                <a:latin typeface="Arial"/>
              </a:rPr>
              <a:t>Based on the next four core processes in SDLC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59" name="Picture 8" descr=""/>
          <p:cNvPicPr/>
          <p:nvPr/>
        </p:nvPicPr>
        <p:blipFill>
          <a:blip r:embed="rId1"/>
          <a:stretch/>
        </p:blipFill>
        <p:spPr>
          <a:xfrm>
            <a:off x="2514600" y="609480"/>
            <a:ext cx="5791320" cy="5469120"/>
          </a:xfrm>
          <a:prstGeom prst="rect">
            <a:avLst/>
          </a:prstGeom>
          <a:ln w="0">
            <a:noFill/>
          </a:ln>
        </p:spPr>
      </p:pic>
      <p:sp>
        <p:nvSpPr>
          <p:cNvPr id="260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73B70-EF5D-4E64-8D6A-38DB6B227F7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28240" y="533520"/>
            <a:ext cx="2590920" cy="35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Work Sequence Draft for Iteration</a:t>
            </a:r>
            <a:br>
              <a:rPr sz="2800"/>
            </a:br>
            <a:br>
              <a:rPr sz="2800"/>
            </a:br>
            <a:br>
              <a:rPr sz="2000"/>
            </a:br>
            <a:r>
              <a:rPr b="1" lang="en-US" sz="2000" spc="-1" strike="noStrike">
                <a:solidFill>
                  <a:srgbClr val="330066"/>
                </a:solidFill>
                <a:latin typeface="Arial"/>
              </a:rPr>
              <a:t>Elaborates on Work Breakdown Structure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64" name="Picture 7" descr=""/>
          <p:cNvPicPr/>
          <p:nvPr/>
        </p:nvPicPr>
        <p:blipFill>
          <a:blip r:embed="rId1"/>
          <a:stretch/>
        </p:blipFill>
        <p:spPr>
          <a:xfrm>
            <a:off x="3276720" y="0"/>
            <a:ext cx="4748040" cy="6248520"/>
          </a:xfrm>
          <a:prstGeom prst="rect">
            <a:avLst/>
          </a:prstGeom>
          <a:ln w="0">
            <a:noFill/>
          </a:ln>
        </p:spPr>
      </p:pic>
      <p:sp>
        <p:nvSpPr>
          <p:cNvPr id="265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F5D93-5D91-46A2-9BA7-D8188378BE1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ay 2 Activities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re Process 3: Discover and Understand Detai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 preliminary fact-finding to understand requir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velop a preliminary list of use cases and a use case diagra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velop a preliminary list of classes and a class diagra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E8D65-9854-4994-A99D-CC667515FCF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dentify Use Cases</a:t>
            </a:r>
            <a:br>
              <a:rPr sz="3900"/>
            </a:b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Both subsystems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74" name="Picture 7" descr=""/>
          <p:cNvPicPr/>
          <p:nvPr/>
        </p:nvPicPr>
        <p:blipFill>
          <a:blip r:embed="rId1"/>
          <a:stretch/>
        </p:blipFill>
        <p:spPr>
          <a:xfrm>
            <a:off x="685800" y="1440000"/>
            <a:ext cx="7772400" cy="4690800"/>
          </a:xfrm>
          <a:prstGeom prst="rect">
            <a:avLst/>
          </a:prstGeom>
          <a:ln w="0">
            <a:noFill/>
          </a:ln>
        </p:spPr>
      </p:pic>
      <p:sp>
        <p:nvSpPr>
          <p:cNvPr id="275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403A6-BB66-4022-A2FB-02A830F405E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dentify Object Classes</a:t>
            </a:r>
            <a:br>
              <a:rPr sz="3900"/>
            </a:b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Both subsystems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79" name="Picture 10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8534520" cy="2908080"/>
          </a:xfrm>
          <a:prstGeom prst="rect">
            <a:avLst/>
          </a:prstGeom>
          <a:ln w="0">
            <a:noFill/>
          </a:ln>
        </p:spPr>
      </p:pic>
      <p:sp>
        <p:nvSpPr>
          <p:cNvPr id="280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2382B-816A-4752-AFFE-238C37B3DA5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eliminary Class Diagram</a:t>
            </a:r>
            <a:br>
              <a:rPr sz="3900"/>
            </a:b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Both subsystems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84" name="Picture 7" descr=""/>
          <p:cNvPicPr/>
          <p:nvPr/>
        </p:nvPicPr>
        <p:blipFill>
          <a:blip r:embed="rId1"/>
          <a:stretch/>
        </p:blipFill>
        <p:spPr>
          <a:xfrm>
            <a:off x="914400" y="1581120"/>
            <a:ext cx="7162920" cy="4591080"/>
          </a:xfrm>
          <a:prstGeom prst="rect">
            <a:avLst/>
          </a:prstGeom>
          <a:ln w="0">
            <a:noFill/>
          </a:ln>
        </p:spPr>
      </p:pic>
      <p:sp>
        <p:nvSpPr>
          <p:cNvPr id="285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517EC-DAF8-4137-A402-87B6BF30C24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ay 3 Activities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re Process 3: Discover and Understand Detai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 in-depth fact-finding to understand requir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derstand and document the detailed workflow of each use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re Process 4: Design System Compon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fine the user experience with screens and repor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110D0-0022-45F6-8CA0-41696B0E250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etails Focus on Supplier Information Subsyste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e cas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up suppl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er/update supplier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up contact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er/update contract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15352-6D3F-45C6-938B-17FAD267BF6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earning Objectiv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Identify key documents that are used in planning a proj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Identify key diagrams used in systems analysis and systems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Explain the utility of identifying use cases in systems develop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Explain the utility of identifying object classes in systems develop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0BB62-094C-42C4-AAB2-27315AA89A4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Use Case Diagram</a:t>
            </a:r>
            <a:br>
              <a:rPr sz="3900"/>
            </a:b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Supplier information subsystem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99" name="Picture 7" descr=""/>
          <p:cNvPicPr/>
          <p:nvPr/>
        </p:nvPicPr>
        <p:blipFill>
          <a:blip r:embed="rId1"/>
          <a:stretch/>
        </p:blipFill>
        <p:spPr>
          <a:xfrm>
            <a:off x="1295280" y="1568520"/>
            <a:ext cx="6477120" cy="4595760"/>
          </a:xfrm>
          <a:prstGeom prst="rect">
            <a:avLst/>
          </a:prstGeom>
          <a:ln w="0">
            <a:noFill/>
          </a:ln>
        </p:spPr>
      </p:pic>
      <p:sp>
        <p:nvSpPr>
          <p:cNvPr id="300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89EAD-8BA4-4ABD-AD79-A71B68BAC8D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2438280" cy="449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ctivity Diagram </a:t>
            </a: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(Workflow)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Look up supplier use case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04" name="Picture 5" descr=""/>
          <p:cNvPicPr/>
          <p:nvPr/>
        </p:nvPicPr>
        <p:blipFill>
          <a:blip r:embed="rId1"/>
          <a:stretch/>
        </p:blipFill>
        <p:spPr>
          <a:xfrm>
            <a:off x="3200400" y="228600"/>
            <a:ext cx="5219640" cy="6019920"/>
          </a:xfrm>
          <a:prstGeom prst="rect">
            <a:avLst/>
          </a:prstGeom>
          <a:ln w="0">
            <a:noFill/>
          </a:ln>
        </p:spPr>
      </p:pic>
      <p:sp>
        <p:nvSpPr>
          <p:cNvPr id="305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481DA-873F-4369-B54F-1BFF9ACCB05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raft Screen Layout</a:t>
            </a:r>
            <a:br>
              <a:rPr sz="3900"/>
            </a:b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Look up supplier use case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09" name="Picture 5" descr=""/>
          <p:cNvPicPr/>
          <p:nvPr/>
        </p:nvPicPr>
        <p:blipFill>
          <a:blip r:embed="rId1"/>
          <a:stretch/>
        </p:blipFill>
        <p:spPr>
          <a:xfrm>
            <a:off x="1295280" y="1432080"/>
            <a:ext cx="6400800" cy="4813200"/>
          </a:xfrm>
          <a:prstGeom prst="rect">
            <a:avLst/>
          </a:prstGeom>
          <a:ln w="0">
            <a:noFill/>
          </a:ln>
        </p:spPr>
      </p:pic>
      <p:sp>
        <p:nvSpPr>
          <p:cNvPr id="310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1F42E-D962-4882-9DB7-9F37FCFEE3E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2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ay 4 Activities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re Process 4: Design System Compon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sign the database (schem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able desig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Key and index identific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ttribute typ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ferential integrit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sign the system’s high leve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owser, Windows, or Smart phone; OO or procedura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rchitectural configuration (component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sign class diagram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bsystem architectural desig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2EBE2-4E51-4137-A6A0-73A2C91DB7D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2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atabase Schem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19" name="Picture 5" descr=""/>
          <p:cNvPicPr/>
          <p:nvPr/>
        </p:nvPicPr>
        <p:blipFill>
          <a:blip r:embed="rId1"/>
          <a:stretch/>
        </p:blipFill>
        <p:spPr>
          <a:xfrm>
            <a:off x="1447920" y="1409760"/>
            <a:ext cx="6248160" cy="4838760"/>
          </a:xfrm>
          <a:prstGeom prst="rect">
            <a:avLst/>
          </a:prstGeom>
          <a:ln w="0">
            <a:noFill/>
          </a:ln>
        </p:spPr>
      </p:pic>
      <p:sp>
        <p:nvSpPr>
          <p:cNvPr id="320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1D4B1-874E-499F-A7AA-315B0B0953C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600" y="12204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Architectural Configuration Diagram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24" name="Picture 7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858000" cy="4799160"/>
          </a:xfrm>
          <a:prstGeom prst="rect">
            <a:avLst/>
          </a:prstGeom>
          <a:ln w="0">
            <a:noFill/>
          </a:ln>
        </p:spPr>
      </p:pic>
      <p:sp>
        <p:nvSpPr>
          <p:cNvPr id="325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8E815-DC76-472B-8057-883B0443751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28240" y="838080"/>
            <a:ext cx="2514600" cy="373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Preliminary Design Class Diagram</a:t>
            </a:r>
            <a:br>
              <a:rPr sz="2800"/>
            </a:br>
            <a:br>
              <a:rPr sz="2800"/>
            </a:br>
            <a:r>
              <a:rPr b="1" lang="en-US" sz="2000" spc="-1" strike="noStrike">
                <a:solidFill>
                  <a:srgbClr val="330066"/>
                </a:solidFill>
                <a:latin typeface="Arial"/>
              </a:rPr>
              <a:t>Includes View Layer Classes and Domain Layer Classes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330066"/>
                </a:solidFill>
                <a:latin typeface="Arial"/>
              </a:rPr>
              <a:t>Need to add Utility Classes as well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29" name="Picture 7" descr=""/>
          <p:cNvPicPr/>
          <p:nvPr/>
        </p:nvPicPr>
        <p:blipFill>
          <a:blip r:embed="rId1"/>
          <a:stretch/>
        </p:blipFill>
        <p:spPr>
          <a:xfrm>
            <a:off x="2739960" y="533520"/>
            <a:ext cx="5224680" cy="5410080"/>
          </a:xfrm>
          <a:prstGeom prst="rect">
            <a:avLst/>
          </a:prstGeom>
          <a:ln w="0">
            <a:noFill/>
          </a:ln>
        </p:spPr>
      </p:pic>
      <p:sp>
        <p:nvSpPr>
          <p:cNvPr id="330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27D64-BD22-4E70-B555-DA5E0DB7BBD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52280" y="838080"/>
            <a:ext cx="2743200" cy="243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Subsystem Architectural Design Diagram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34" name="Picture 5" descr=""/>
          <p:cNvPicPr/>
          <p:nvPr/>
        </p:nvPicPr>
        <p:blipFill>
          <a:blip r:embed="rId1"/>
          <a:stretch/>
        </p:blipFill>
        <p:spPr>
          <a:xfrm>
            <a:off x="2895480" y="676440"/>
            <a:ext cx="5867640" cy="5500440"/>
          </a:xfrm>
          <a:prstGeom prst="rect">
            <a:avLst/>
          </a:prstGeom>
          <a:ln w="0">
            <a:noFill/>
          </a:ln>
        </p:spPr>
      </p:pic>
      <p:sp>
        <p:nvSpPr>
          <p:cNvPr id="335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6AD53-5B7E-4234-8115-80B2166EBDE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otes on Managing the Project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ts of design diagrams show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sign in a complex activity with multiple leve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igh level architectura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ow level detailed desig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e diagram builds on/complements anoth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everything is diagrammed, especially for a small project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gramming is also done concurrent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ou don’t design everything then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ou do some design, some coding, some design, some cod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00B41-AB65-4C61-B079-4E3D56B2177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2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ay 5 Activities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re Process 4: Design System Compon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nue with design detai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ceed use case by use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re Process 5: Build, Test, and Integrate System Compon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nue programming (buil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ild use case by use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form unit and integration tes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E1C8E-3D82-49AF-BBAD-06DA981490F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verview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mputer applicati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app) – a computer software program that executes on a computing device to carry out a specific set of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2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Modest scop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formation system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– a set of interrelated components that collects, processes, stores, and provides as output the information needed to complete business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ader in scope than “app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database and related manual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075E0-9551-4503-A887-FB1A74D2613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52280" y="838080"/>
            <a:ext cx="2743200" cy="243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Code Example for One Clas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49" name="Picture 7" descr=""/>
          <p:cNvPicPr/>
          <p:nvPr/>
        </p:nvPicPr>
        <p:blipFill>
          <a:blip r:embed="rId1"/>
          <a:stretch/>
        </p:blipFill>
        <p:spPr>
          <a:xfrm>
            <a:off x="2666880" y="360360"/>
            <a:ext cx="5943600" cy="5622840"/>
          </a:xfrm>
          <a:prstGeom prst="rect">
            <a:avLst/>
          </a:prstGeom>
          <a:ln w="0">
            <a:noFill/>
          </a:ln>
        </p:spPr>
      </p:pic>
      <p:sp>
        <p:nvSpPr>
          <p:cNvPr id="350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9F996-95B7-4BCE-9C0F-C809A3967B5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40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orkflow of Testing Task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54" name="Picture 7" descr=""/>
          <p:cNvPicPr/>
          <p:nvPr/>
        </p:nvPicPr>
        <p:blipFill>
          <a:blip r:embed="rId1"/>
          <a:stretch/>
        </p:blipFill>
        <p:spPr>
          <a:xfrm>
            <a:off x="152280" y="2209680"/>
            <a:ext cx="8763120" cy="2611440"/>
          </a:xfrm>
          <a:prstGeom prst="rect">
            <a:avLst/>
          </a:prstGeom>
          <a:ln w="0">
            <a:noFill/>
          </a:ln>
        </p:spPr>
      </p:pic>
      <p:sp>
        <p:nvSpPr>
          <p:cNvPr id="355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C6EF2-1562-453C-BACD-9C3233FE48C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40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creen Capture for Look up supplier use cas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59" name="Picture 7" descr=""/>
          <p:cNvPicPr/>
          <p:nvPr/>
        </p:nvPicPr>
        <p:blipFill>
          <a:blip r:embed="rId1"/>
          <a:stretch/>
        </p:blipFill>
        <p:spPr>
          <a:xfrm>
            <a:off x="947880" y="1719360"/>
            <a:ext cx="7248240" cy="4411440"/>
          </a:xfrm>
          <a:prstGeom prst="rect">
            <a:avLst/>
          </a:prstGeom>
          <a:ln w="0">
            <a:noFill/>
          </a:ln>
        </p:spPr>
      </p:pic>
      <p:sp>
        <p:nvSpPr>
          <p:cNvPr id="360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02DA3-18DC-4417-A565-AA83DDE82B8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2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ay 6 Activities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re Process 6: Complete System Testing and Deploy System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form system functional tes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form user acceptance tes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ssibly deploy part of 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022B6-0432-4FA9-A8F6-A35799348E3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2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irst Iteration Recap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s was a 6 day iteration of small proje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st iterations are longer (2 to 4 week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project might be 2 it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st projects have many more iteration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d users need to be involved, particularly in day 1, 2, 3 and 6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ys 4 and 5 involved design and programming concurrentl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ts of time was spent programming along with design (not emphasized here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76281-7E7D-488F-BD97-B2CDCA4AADE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his Book is about Activities and Tasks in the SDLC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74" name="Picture 3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8458200" cy="4532400"/>
          </a:xfrm>
          <a:prstGeom prst="rect">
            <a:avLst/>
          </a:prstGeom>
          <a:ln w="0">
            <a:noFill/>
          </a:ln>
        </p:spPr>
      </p:pic>
      <p:sp>
        <p:nvSpPr>
          <p:cNvPr id="375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F5E52-E30B-4A5B-88E9-7842A56F40E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2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ere You Are Heade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01760" y="137124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pter 1: From Beginning to 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mall project overview emphasizing analysis and design and iterative develop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pter 2: Investigating System Requir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re about core process 3: Systems analysis activ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pter 3: Use Ca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chniques for Identifying and modeling U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pter 4: Domain Model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chniques for Identifying and modeling domain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pter 5: Extending the Requirements Mode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eling more details about use cases and domain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2F54E-A784-415A-9E6C-6F7BE358D82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2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ere You Are Heade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pter 6: Essentials of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re about core process 4: system design activ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pter 7: Designing User and System Interf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uman computer interaction, user interface design principles, outputs and reports, system interfa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pter 10: Object-Oriented Design: Princi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ign principles, design models, and designing use c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pter 11: Object-Oriented Design: Use Case Re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ree layer design and design patt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D593A-11A1-4259-9DD0-AD9A794CBE4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1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ummar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rms to review and know include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uter appl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formation 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j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ystems analys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ystem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ystem development lifecycle (SDL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formation system development process (methodology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gile develop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erative develop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76118-0A45-4445-8FA6-FD7B26C6B5B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1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ummar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ystem vision docu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ork breakdown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ork sequence draf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cas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case diagra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bject classes (domain class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ass diagra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sign class diagra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igh level structural design (architectural desig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base sche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reen layou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C4A19-601F-4A8C-93B9-054E5CF395C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verview </a:t>
            </a:r>
            <a:r>
              <a:rPr b="1" lang="en-US" sz="1800" spc="-1" strike="noStrike">
                <a:solidFill>
                  <a:srgbClr val="330066"/>
                </a:solidFill>
                <a:latin typeface="Arial"/>
              </a:rPr>
              <a:t>(continued)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– a planned undertaking that has a beginning and end and that produces some definite res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7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Used to develop an information syste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7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Requires knowledge of systems analysis and systems design tools and techniqu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1DF82-6732-4672-816F-8DB24EE35CC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verview </a:t>
            </a:r>
            <a:r>
              <a:rPr b="1" lang="en-US" sz="1800" spc="-1" strike="noStrike">
                <a:solidFill>
                  <a:srgbClr val="330066"/>
                </a:solidFill>
                <a:latin typeface="Arial"/>
              </a:rPr>
              <a:t>(continued)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ystems analysi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– those activities that enable a person to understand and specify what an information system should accompl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ystems design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– those activities that enable a person to define and describe in detail the system that solves the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4406F-A91E-45C3-83E9-49DF4C24D7D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verview </a:t>
            </a:r>
            <a:r>
              <a:rPr b="1" lang="en-US" sz="1800" spc="-1" strike="noStrike">
                <a:solidFill>
                  <a:srgbClr val="330066"/>
                </a:solidFill>
                <a:latin typeface="Arial"/>
              </a:rPr>
              <a:t>(continued)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76312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ystem development lifecycle (SDLC)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– the entire process consisting of all activities required to build, launch, and maintain an information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dentify the problem or need and obtain appro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an and monitor the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scover and understand the details of the problem or n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sign the system components that solve the problem or satisfy the n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ild, test, and integrate system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lete system tests and then deploy the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7823C-7F39-4D4D-B10A-70F48E56E84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verview </a:t>
            </a:r>
            <a:r>
              <a:rPr b="1" lang="en-US" sz="1800" spc="-1" strike="noStrike">
                <a:solidFill>
                  <a:srgbClr val="330066"/>
                </a:solidFill>
                <a:latin typeface="Arial"/>
              </a:rPr>
              <a:t>(continued)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formation systems development proces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– the actual approach used to develop a particular information system, aka (also known as):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ified process (U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treme programming (X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processes/methodologies now use Agile and Iterative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08111-094D-4839-A570-1CCF0992020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verview </a:t>
            </a:r>
            <a:r>
              <a:rPr b="1" lang="en-US" sz="1800" spc="-1" strike="noStrike">
                <a:solidFill>
                  <a:srgbClr val="330066"/>
                </a:solidFill>
                <a:latin typeface="Arial"/>
              </a:rPr>
              <a:t>(continued)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gile developmen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– an information system development process that emphasizes flexibility to anticipate new requirements during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ponsive to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terative developmen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-- an approach to system development in which the system is “grown” piece by piece through multiple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lete small part of system (mini-project), then repeat processes to refine and add more, then repeat to refine and add more, until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1T16:54:53Z</dcterms:created>
  <dc:creator>John</dc:creator>
  <dc:description/>
  <dc:language>en-US</dc:language>
  <cp:lastModifiedBy>Azeddine</cp:lastModifiedBy>
  <dcterms:modified xsi:type="dcterms:W3CDTF">2014-09-13T06:44:23Z</dcterms:modified>
  <cp:revision>46</cp:revision>
  <dc:subject/>
  <dc:title>Chapter 1: From bla to bl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