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105-5C0D-4166-BA89-A8B40987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275-FF17-46BC-8F4B-DD4E2477C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BA2-405B-4E1A-AA51-DF15F3F2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BB38-3822-4308-9593-A5BD26BE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4BF5-FF28-4D02-8774-5AAD29DC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381-138D-479E-BCD9-1C6F1735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A132-33AF-4604-B9B6-1BA2675F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766F-7F65-4F1D-AB8A-9638FF4D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EF4-3FC0-4FFB-B4B9-61B8DB74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53A-CD91-48DC-9C23-FBC7CD22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ACCD-589D-4C7B-91D3-A004D8D5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A7E1-E86C-4E5E-ACCC-397744F8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9FE-B0AC-4A42-BA35-12AA7A06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CD7-0CC4-4700-9C01-AB79CDBA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3B9-79D0-4621-9A77-8313836D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A1ED-6C35-4008-863A-E816B2EF5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9C10-FCC8-481C-8643-3EC10F136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CE41-37D5-43CA-8D95-E8A30028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F1A-9F73-4A5A-892F-B0F1288F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48AD-B3D6-40D8-A36C-1B7F218A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5C53-ADC1-46F9-981D-052AF91C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1913-258A-4C55-8DE9-C221E5BE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B425-E6A8-42CE-A730-16031EF0C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78FE-57A7-4357-AF60-85C88303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C887-C331-4C68-BAFC-5184F82F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CC6E-AC1B-4EA2-91F7-A75DC89A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ADE4-9F3B-475C-ACE1-23E7273E6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2A4A-45E4-40EE-BE60-0E083BB1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C08E-5EFC-49C3-822E-ECD7F394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5527-D9B6-411B-8FA4-3A1353D4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32F-8375-40B3-80F6-62400B6D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A035-06CA-4ABB-98C0-2EF78FC7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CEC-3E09-406B-AD3E-718AEBEB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917F-014C-4902-89EF-410B1591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C04-A0C0-43B4-94A0-DD3B0E54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A2C-3C44-475A-9CE9-EC28E475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6B1-B030-41C2-BE33-CB42841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626-F954-471D-A5BA-2267B048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DE9-9471-4101-9BCA-7318975A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C196-0B92-4CD8-BFD6-44367CF6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0E66-653D-408B-A43B-4625AA5A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4065-B6AA-4E5E-8816-C8520F39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4DAF-A07B-4E5A-B519-8DDCC048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7BEB-EF30-456F-A3C5-B6EEFA4A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477-D1E3-4468-A4B8-8957028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C39-E45F-47E1-8F75-FF74A31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7A6-C6F6-4165-9CBA-C4108EEA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203-D604-4852-8378-71A12B0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B3A8-79C9-4E0A-A94B-C2A9376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AB37-F496-4DA5-BDE2-1304725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24E-1840-49B3-8C59-53BDEAD9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2218-BAFF-4199-9872-C9A56172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966-8282-428C-9C01-7FC5315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92D-EEB4-4CC8-942B-F553DC1F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AB0-D778-4796-AF4B-BA7B34C3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626-605B-432B-9CF2-B586604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54B-2C88-4172-AE29-3C3A841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44B-4F6C-4C4E-9F79-1438B42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8DB-8FFB-4179-9869-00B6D05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7A97-A856-49B4-9DCA-CED11F48C4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B48-8099-4D05-9D6A-9C826791A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B465-DB04-4E47-8AD5-39A12CB616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914400" y="45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75C4-3285-4CA6-A056-D444239E65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8B68-79B5-40FD-89FF-902E73201E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odels and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fine requirements? After collecting information, create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– a representation of some aspect of the system being b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al model– something written down,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models– diagram, 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s– formulas, statistics,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raphical modeling symbols/terminology used for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87E-F58C-4A9A-809C-072C56F0A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ome Analysis and Design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1295280" y="1081080"/>
            <a:ext cx="6400800" cy="517680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BC07-CCC7-487B-B48D-89F6A69A90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asons for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rom the modeling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ing complexity by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ing all th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other development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a variety of users and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ing what was done for future maintenance/enha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AA27-1799-4289-BF1F-1304FC304B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ho do you involve and talk to?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have an interest in the successful implementatio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ith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outside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who regularly interact with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don’t directly interact, but use the information or have  financial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39B8-F9F4-4B1E-B458-97CB5BF5D8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f a comprehensive accounting system for public company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10640" cy="454968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024-6770-4C9D-9356-9833424EF8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RMO CSMS Projec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/mail sales order cle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Warehouse and shipping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 personnel who maintain online catalog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, sales, accounting, and financial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enior execu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ternal shippers (e.g., UPS and FedE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9CA-F07D-4A44-89FE-28D4EE9CE2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MO Internal Stakeholder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3476520" y="152280"/>
            <a:ext cx="4216680" cy="609624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FDB6-E851-41CB-90F4-B20828E35E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formation Gathering Techniqu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ing users and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tributing and collecting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ewing inputs, outputs, an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ing and documenting business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arching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lecting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CAD3-24FB-4582-B059-DD9623E917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viewing Users and Other Stakeholder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tain and discuss answers to th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cument th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llow up as needed in future meetings or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vestigating System Requiremen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6FD-1D0D-4D79-90F5-71CA127E1C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mes for Information Gathering Question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584440"/>
          </a:xfrm>
          <a:prstGeom prst="rect">
            <a:avLst/>
          </a:prstGeom>
          <a:ln w="0">
            <a:noFill/>
          </a:ln>
        </p:spPr>
      </p:pic>
      <p:sp>
        <p:nvSpPr>
          <p:cNvPr id="25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E471-3EA9-4B12-9E0A-4B1AC9F75D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eparing for Int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914400" y="998640"/>
            <a:ext cx="7010280" cy="5132160"/>
          </a:xfrm>
          <a:prstGeom prst="rect">
            <a:avLst/>
          </a:prstGeom>
          <a:ln w="0">
            <a:noFill/>
          </a:ln>
        </p:spPr>
      </p:pic>
      <p:sp>
        <p:nvSpPr>
          <p:cNvPr id="26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6B3-1861-4499-A0A4-5F8405E94A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2133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terview Session Age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2832120" y="228600"/>
            <a:ext cx="4876920" cy="5902200"/>
          </a:xfrm>
          <a:prstGeom prst="rect">
            <a:avLst/>
          </a:prstGeom>
          <a:ln w="0">
            <a:noFill/>
          </a:ln>
        </p:spPr>
      </p:pic>
      <p:sp>
        <p:nvSpPr>
          <p:cNvPr id="26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1C72-6582-480E-9230-A9351EFE33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Keeping an Open Items Lis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38428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EBC5-017C-4761-A227-B252FC98A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281952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istribute and Collect Questionnair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5832720" cy="6019920"/>
          </a:xfrm>
          <a:prstGeom prst="rect">
            <a:avLst/>
          </a:prstGeom>
          <a:ln w="0">
            <a:noFill/>
          </a:ln>
        </p:spPr>
      </p:pic>
      <p:sp>
        <p:nvSpPr>
          <p:cNvPr id="27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487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91F0-FE77-4B25-AAE0-C7F5EAEA35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view Inputs, Outputs, and Procedur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609480" y="1324080"/>
            <a:ext cx="7925040" cy="480672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79A-0871-490C-83FD-5DE600E0EB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dditional Techniqu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with Activity diagram (next s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others have done for simila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papers, vendor literature,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models an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know it whe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A48-7266-4804-8F0D-F89FF46B77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Documenting Workflows with Activity Diagram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– sequence of processing steps that completely handles one business transaction or custom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– describes user (or system) activities, the person who does each activity, and the sequential flow of thes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howing a graphical model of a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M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1C03-CA28-4AA2-BDC8-D3EEF7E2CA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ctivity Diagrams Symbo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4673520"/>
          </a:xfrm>
          <a:prstGeom prst="rect">
            <a:avLst/>
          </a:prstGeom>
          <a:ln w="0">
            <a:noFill/>
          </a:ln>
        </p:spPr>
      </p:pic>
      <p:sp>
        <p:nvSpPr>
          <p:cNvPr id="29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3D8-F872-4A94-8E29-D1D49E949C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2057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ctivity Diagram for RMO Order Fulfill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4830840" cy="609624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2CB9-BB3F-4735-90C5-5753167CA9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2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ystems Analysis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Are Requirem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Models and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formation-Gather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ocumenting Workflows with Activity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592-D6AA-490C-9399-F67D73067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ctivity Diagram with Concurrent Path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9356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F8F-634C-4D25-AB2A-EB1C402D31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activates correspond to the core SDLC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over and underst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jects originate from the information system strategic plan, which contains an technology architecture plan and an application architectur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MO CSMS Project will be used throughout the text as an example of analysis an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F26C-2DDE-4F86-B06A-FDB0651CE2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involves defining system requirements– functional and non-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ctivitie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PS+ is the acronym for functional, usability, reliability, performance, and secur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3E7-EEFE-4E04-B0EC-7E5D7132D8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modeling are used to explore and docu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represents some aspect of a system, and can include textual, graphical, and mathema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 is the standard set of notations and terminology for information system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D46A-1821-42FB-A5AF-B877E10E0D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are the people who have an interest in the success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internal vs. external stakeholders and operational vs. executiv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gathering techniques are used to collect information about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reviewing documents, observing business processes, researching vendors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ML Activity Diagram is used to document (model) workflows after collec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BC2-2E11-4554-8EEC-D4C65AD88B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activities of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lain the difference between functional and 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role of models in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entify and understand different kinds of stakeholders and their contributions to requirements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information-gathering techniques and determine when each is best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042A-8F6B-4711-B841-CB65D86029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introduced the system development lifecycle (SDLC) and demonstrated its use for a small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ands the SDLC processes to cover a wider range of concepts, tool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process 3: Discover and understand the details of the problem or need—is the main focus of system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ctivities are detailed in this chap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rger Ridgeline Mountain Outfitters (RMO) project is introduced that will be used throughout the text to illustrate analysis and desig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9810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8E38-3AEA-4243-BD0D-A40156C152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olve discovery and understand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763120" cy="3146400"/>
          </a:xfrm>
          <a:prstGeom prst="rect">
            <a:avLst/>
          </a:prstGeom>
          <a:ln w="0">
            <a:noFill/>
          </a:ln>
        </p:spPr>
      </p:pic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A95-4A18-4649-B472-FD1ED4CC88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documents, observing business processes, researching vend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functional requirements and non-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sential, important, vs. nice to h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w of interaction between user an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involvement, feedback, adapt to chan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4B5-4588-4EE3-B8D1-69BE234888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What Are Requirements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176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Requirement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quirements– the activities the system must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uses, functions the users car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in 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unctional Requirements– other syste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and performanc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7524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3C3-D818-46FA-A06D-658BE2837B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formance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ur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atego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Azeddine</cp:lastModifiedBy>
  <dcterms:modified xsi:type="dcterms:W3CDTF">2015-02-13T13:59:26Z</dcterms:modified>
  <cp:revision>49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