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A5BB-AB9F-4CAD-A274-FDF5FC5CC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D68-315F-471A-A539-B58B7C70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2C14-3B98-4E22-920E-FB73EEC4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F5D-BB54-4F59-B4F6-C2BDCD2C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C32A-BD3A-4107-BB15-913E3A72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D0B-9A04-4056-A691-B931F619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6D4-9370-4175-A336-AF829A96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054-8D84-4E8C-BD98-284C3A3C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7265-31F6-49C2-8C1E-3301D294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458-DD1C-4E1B-92D5-7CD2A0AEF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BBE9-30AD-4430-B59E-ED215994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8CB-1250-49CD-AF02-C1AC418C6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095-2158-453F-B847-10FD1C77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1FE8-BD28-4199-8075-6087F80C2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AA19-FA1E-4FC5-8FE3-4BD3D29F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E8A-D4A2-4598-B2F9-ABFC2F7E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E76E-D579-48C9-A0FA-A95C4144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DFEC-8D26-40F6-9395-97962103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5F8-9DD8-4E2C-BFE1-344EB4AA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5DF-9556-478D-BB33-85365C1C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B6C6-7E42-4755-B963-16CC5469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95AA-FDA7-401A-A918-80A398C0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E001-9B3F-465C-B8CB-CA4FAF4F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12D8-141C-4203-89A1-1404A1BE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7B06-1095-4D82-8FAA-93A17B7D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D76D-154D-475C-B896-C56BA914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F56-0C0F-46A9-AC92-30C3A542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418F-F74D-4287-A123-0B726ABA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75A-639E-45DA-A141-087F9A2C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C229-B6BF-4E46-8891-8826C2C27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6C79-FE2C-406F-972E-6003317F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D79-FBD7-4F47-8E59-1F0BEA21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132B-6247-44E1-9B1E-DD3049DFB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04D-E6EE-401E-AFE7-A3365028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7BD2-0AB0-4151-9119-6A4DEC19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ADB-6CC8-4134-8B39-7E24238D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918-B739-4816-9F88-67B46A78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7C5-5D17-40F7-8478-2E794C68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A12-CFD2-4996-9D6A-092AD6A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A721-842A-41BF-B25E-4041F1CE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903-DA22-4328-97F4-27FCC5C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15F6-6CA5-421C-8513-BB117A30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4E3-740B-4711-A829-587F4A33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3013-2F6B-42A5-AB1A-D1462E6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39A-CF91-43F6-9326-DA0E73C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705F-AEFD-41C8-AED5-91C99D9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EEA-465A-4DFC-981C-DEC3AA98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C5BF-1F3F-4B2D-A69C-2CC1E57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A4A7-EFCD-4636-990E-01C3E57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B61-43E0-44FB-8A29-AD9AEAB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758-A796-4171-8830-148AC576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36D-6BC5-4FCF-A49F-BFC49E07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F9A-D8C4-4E63-B318-E6EE100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18A-223F-4514-B98E-F18AB9C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DB2-7A5E-48D6-AF85-DCBA387A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4DA-9E97-4AA9-8C4B-A04EA989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98A-4108-42B2-87CA-CADB084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784-E115-4AEC-89AB-6993B7D5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9C2-CF3D-4448-81E3-5A83B18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A07-0AF3-40C4-A24D-1C7067DE8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457200" y="1676520"/>
            <a:ext cx="6781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6E71-973F-418F-946F-474BC28FB7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Analysis and Design in a Changing World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AEE4-4403-4968-823B-35431E5F34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91440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86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ZINGER | JACKSON |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838080" y="152280"/>
            <a:ext cx="815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TRODUCTION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STEMS ANALYSIS AND DESIG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GILE, ITER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5F3-4F46-4CC8-9EDC-4DE64D4AB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A5D6-60B3-4B08-96F9-FEB2812D4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Models and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efine requirements? After collecting information, create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– a representation of some aspect of the system being bui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al model– something written down,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models– diagram, sch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s– formulas, statistics,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graphical modeling symbols/terminology used for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43D-43BC-49E7-B966-48BF9F620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ome Analysis and Design Mode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1295280" y="1081080"/>
            <a:ext cx="6400800" cy="517680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BDC-867B-4B3E-8B7F-50706E1C47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asons for Model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from the modeling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ing complexity by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mbering all th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other development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with a variety of users and 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ing what was done for future maintenance/enhan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F5F-B1AB-448B-AE2C-D7C39DFFFA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Who do you involve and talk to?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have an interest in the successful implement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outside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stakehol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who regularly interact with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stakehol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persons who don’t directly interact, but use the information or have  financial inter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0299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D53-FD5F-43EF-923A-53EEABC86A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of a comprehensive accounting system for public company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10640" cy="454968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B66B-FFF1-4607-AFF5-053FC59DB7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akeholder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For RMO CSMS Project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/mail sales order cle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Warehouse and shipping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 personnel who maintain online catalog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rketing, sales, accounting, and financial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Senior execu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ternal shippers (e.g., UPS and FedE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8E88-34AA-4207-BCA2-AA99C5A1AE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MO Internal Stakeholder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3476520" y="152280"/>
            <a:ext cx="4216680" cy="6096240"/>
          </a:xfrm>
          <a:prstGeom prst="rect">
            <a:avLst/>
          </a:prstGeom>
          <a:ln w="0">
            <a:noFill/>
          </a:ln>
        </p:spPr>
      </p:pic>
      <p:sp>
        <p:nvSpPr>
          <p:cNvPr id="24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E9E2-4FE8-4CC4-9D86-80664B1809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formation Gathering Technique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ing users and other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tributing and collecting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viewing inputs, outputs,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ing and documenting business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arching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lecting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3B3-EDEF-4375-998A-3C50486643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terviewing Users and Other Stakeholder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tain and discuss answers to th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cument th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llow up as needed in future meetings or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41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nvestigating System Requiremen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969920" y="3655800"/>
            <a:ext cx="426744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Desig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ile, Iteractive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inger, Jackson &amp; B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1828800"/>
            <a:ext cx="6782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84E5-A723-458E-8368-19BF6BE18E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hemes for Information Gathering Question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584440"/>
          </a:xfrm>
          <a:prstGeom prst="rect">
            <a:avLst/>
          </a:prstGeom>
          <a:ln w="0">
            <a:noFill/>
          </a:ln>
        </p:spPr>
      </p:pic>
      <p:sp>
        <p:nvSpPr>
          <p:cNvPr id="25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C48-6A91-40C3-8281-E4C62FBED2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reparing for Int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914400" y="998640"/>
            <a:ext cx="7010280" cy="513216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C7ED-5655-4A00-9572-17DF9C0575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2133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Interview Session Age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2832120" y="228600"/>
            <a:ext cx="4876920" cy="5902200"/>
          </a:xfrm>
          <a:prstGeom prst="rect">
            <a:avLst/>
          </a:prstGeom>
          <a:ln w="0">
            <a:noFill/>
          </a:ln>
        </p:spPr>
      </p:pic>
      <p:sp>
        <p:nvSpPr>
          <p:cNvPr id="26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916-B605-4B1E-BF33-F5A08A36AD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Keeping an Open Items Lis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839440" cy="238428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FABD-F4FE-4757-919F-EC3078310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28195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Distribute and Collect Questionnaire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2895480" y="152280"/>
            <a:ext cx="5832720" cy="6019920"/>
          </a:xfrm>
          <a:prstGeom prst="rect">
            <a:avLst/>
          </a:prstGeom>
          <a:ln w="0">
            <a:noFill/>
          </a:ln>
        </p:spPr>
      </p:pic>
      <p:sp>
        <p:nvSpPr>
          <p:cNvPr id="27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487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7102-1DB8-480E-8F58-640BE6D8B8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0866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Review Inputs, Outputs, and Procedur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609480" y="1324080"/>
            <a:ext cx="7925040" cy="480672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13CF-EC77-4E05-8138-C3D9AC7120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dditional Techniqu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and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with Activity diagram (next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what others have done for simila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papers, vendor literature,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ctive User Comments and 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models an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know it whe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625-C322-4A06-8B6C-1A4360079C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Documenting Workflows with Activity Diagram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– sequence of processing steps that completely handles one business transaction or custom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– describes user (or system) activities, the person who does each activity, and the sequential flow of thes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howing a graphical model of a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M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F8FC-F07D-4258-A513-9191C0A1AC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ctivity Diagrams Symbol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4673520"/>
          </a:xfrm>
          <a:prstGeom prst="rect">
            <a:avLst/>
          </a:prstGeom>
          <a:ln w="0">
            <a:noFill/>
          </a:ln>
        </p:spPr>
      </p:pic>
      <p:sp>
        <p:nvSpPr>
          <p:cNvPr id="299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3738-7989-46B5-A4BD-37A675508C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2057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ctivity Diagram for RMO Order Fulfillment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4830840" cy="6096240"/>
          </a:xfrm>
          <a:prstGeom prst="rect">
            <a:avLst/>
          </a:prstGeom>
          <a:ln w="0">
            <a:noFill/>
          </a:ln>
        </p:spPr>
      </p:pic>
      <p:sp>
        <p:nvSpPr>
          <p:cNvPr id="30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728-5455-49F4-954C-EE14F3770B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pter 2 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ystems Analysis Activ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What Are Requirem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Models and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Stakehol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nformation-Gathering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Documenting Workflows with Activity 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6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6EBE-235B-4870-AE1F-81D2FD6EDA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Activity Diagram with Concurrent Path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935600"/>
          </a:xfrm>
          <a:prstGeom prst="rect">
            <a:avLst/>
          </a:prstGeom>
          <a:ln w="0">
            <a:noFill/>
          </a:ln>
        </p:spPr>
      </p:pic>
      <p:sp>
        <p:nvSpPr>
          <p:cNvPr id="31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9FF-4B2C-4E90-A4B9-89A5C678CB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activates correspond to the core SDLC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over and understand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jects originate from the information system strategic plan, which contains an technology architecture plan and an application architectur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MO CSMS Project will be used throughout the text as an example of analysis an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BBD-24F0-486F-9C30-5903276D55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 involves defining system requirements– functional and non-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ctivitie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PS+ is the acronym for functional, usability, reliability, performance, and secur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142-FB70-4B80-8713-FDEB2511FD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modeling are used to explore and docu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represents some aspect of a system, and can include textual, graphical, and mathema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is the standard set of notations and terminology for information system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D5FF-5CCD-4E4D-B56A-AB2197094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the people who have an interest in the success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internal vs. external stakeholders and operational vs. executive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gathering techniques are used to collect information about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reviewing documents, observing business processes, researching vendors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ML Activity Diagram is used to document (model) workflows after collec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5366-AB23-4E6D-80B8-7CAA3C4A4C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rning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activities of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lain the difference between functional and 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the role of models in 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entify and understand different kinds of stakeholders and their contributions to requirements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cribe information-gathering techniques and determine when each is best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elop activity diagrams to model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53B-C899-4A8B-AC25-411F20EF1D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pter 1 introduced the system development lifecycle (SDLC) and demonstrated its use for a small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hapter expands the SDLC processes to cover a wider range of concepts, too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e process 3: Discover and understand the details of the problem or need—is the main focus of system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ctivities are detailed in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arger Ridgeline Mountain Outfitters (RMO) project is introduced that will be used throughout the text to illustrate analysis and desig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19810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B0B-F79A-46F1-A756-DB156C7502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br>
              <a:rPr sz="36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nvolve discovery and understanding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63120" cy="3146400"/>
          </a:xfrm>
          <a:prstGeom prst="rect">
            <a:avLst/>
          </a:prstGeom>
          <a:ln w="0">
            <a:noFill/>
          </a:ln>
        </p:spPr>
      </p:pic>
      <p:sp>
        <p:nvSpPr>
          <p:cNvPr id="186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7732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EEF-1E03-4893-8A99-37822EBAE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ystems Analysis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Detail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s, questionnaires, documents, observing business processes, researching vendo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ments and sugg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functional requirements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sential, important, vs. nice to ha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User-Interface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w of interaction between user an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Requirements with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involvement, feedback, adapt to chang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536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995-81A9-4174-9141-3C8F194C1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What Are Requirements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176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quirements– the activities the system must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uses, functions the users car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in 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unctional Requirements– other syste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 and performanc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1752480" y="61722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80136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54380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ECF-928A-4648-91F7-700BAD714E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URPS+ Requirements Acrony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ction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abil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rformance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urity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more catego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Systems Analysis and Design, 6th E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25040" y="6520320"/>
            <a:ext cx="74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© 2012 Cengage Learning. All Rights Reserved. This edition is intended for use outside of the U.S. only, with content that may be different from the U.S. Edi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c0c0c0"/>
                </a:solidFill>
                <a:latin typeface="Arial"/>
                <a:ea typeface="Times New Roman"/>
              </a:rPr>
              <a:t>May not be scanned, copied, duplicated, or posted to a publicly accessible website, in whole or in p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4:53Z</dcterms:created>
  <dc:creator>John</dc:creator>
  <dc:description/>
  <dc:language>en-US</dc:language>
  <cp:lastModifiedBy>Azeddine</cp:lastModifiedBy>
  <dcterms:modified xsi:type="dcterms:W3CDTF">2015-02-13T13:59:26Z</dcterms:modified>
  <cp:revision>49</cp:revision>
  <dc:subject/>
  <dc:title>Chapter 1: From bla to bl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