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D9F-9F18-4B46-9901-11DB9068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22D-ADA8-4639-95AD-B7616B35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C33-191E-47A2-853D-EEA24BE3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6CC-3398-441A-9EBD-7EEA42A0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304-C597-421E-9D87-65BE378B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111-71CD-4B55-AEB4-2443662F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494-631A-4F86-A7F7-C9B52AC7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D0AA-C55B-45AF-AB3A-F6F112CD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100-07A6-4476-86A8-2ABF5809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F70-FDA3-4CBC-99BF-4E00C7F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AB03-7704-40A2-859A-F7C48990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DA7D-4C27-42AB-A08B-C48351D9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1D6A-7673-47F8-A449-5921D7C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F21-E721-4AAD-9B9B-117A2B4A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F344-F5F7-4489-A2D4-38DE231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429D-8B75-488D-95F6-6999BAE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C863-37D9-450E-9E2C-16EA2F12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A52-1A3C-495B-816F-222C12CE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4759-74A3-4D59-B1EB-D33ED216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8F6-DC60-4623-9273-3CCFA41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743-6A3C-4BB5-8478-B2B8A52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6FC-D1DF-4BBA-B166-EB0B576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7EA-99A4-4F74-A383-2503CB3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159-044F-4621-BA59-389CE5F2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013-9611-410F-BAA6-2261FA2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C35-FE7C-4DAA-A4BB-B8DB8EA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FD89-8AD7-4D77-A7C7-E89A4919D2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8406-C720-452A-9E27-553FD6B0A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DF4-E946-40CA-BF3F-CBB377245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8580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0988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9E2-4822-4573-A7AE-658042CAE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311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929F-92B0-41F9-BEA0-CFF1B5EA92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4619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90D-75CE-4964-A75F-5BD4B57B45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ted use cases &lt;&lt;includes&gt;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one use case invokes or includes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yone with an interest in the us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before the use case be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must be true when the use case is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for planning test case expected resul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activities that go on between actor and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re and what can go wro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7427-1FB2-4D39-BBD6-7D1AF0A0BE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se Case Description Detail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erb-no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use case can have more than one scenario (special case or more specific pat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ased on event decomposition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Written previously when use case was identifi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or more users from use cas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688-D6C5-4388-BAD0-12A738B331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2514600" cy="43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nother Fully Developed Use Case Description Exampl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</a:t>
            </a: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Ship item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1"/>
          <a:stretch/>
        </p:blipFill>
        <p:spPr>
          <a:xfrm>
            <a:off x="3019320" y="76320"/>
            <a:ext cx="5577120" cy="6248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0B8-6503-4CB2-ADA1-CCF0C6D76B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1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3624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DF18-D939-4074-BFF6-4E0C08C8E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ully Developed Use Case Description </a:t>
            </a: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(part 2 )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1642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D3C-2EEC-492A-93D1-2C9E102DC5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flow of activities only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2997360" y="380880"/>
            <a:ext cx="5049720" cy="569304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4C1-0661-4B55-A25B-26AFE10BC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2819160" cy="563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UML Activity Diagram for Use Case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Fill shopping cart</a:t>
            </a:r>
            <a:br>
              <a:rPr sz="28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Note: this shows use case with &lt;&lt;includes&gt;&gt; reltionship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4767480" cy="601992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C42-1C51-43D5-90B3-5FD113080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UML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ial case for a sequence dia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shows actor and one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 object represents the complet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input &amp; output messaging requirements for a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tor, :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, object life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the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1960-DA21-4803-8763-8D3521F1B3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 Sequence Diagram (SSD)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Notatio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67360" cy="4744800"/>
          </a:xfrm>
          <a:prstGeom prst="rect">
            <a:avLst/>
          </a:prstGeom>
          <a:ln w="0">
            <a:noFill/>
          </a:ln>
        </p:spPr>
      </p:pic>
      <p:sp>
        <p:nvSpPr>
          <p:cNvPr id="26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8A20-5CD3-43F1-ACC2-9028C2A64B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Message Notation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305920" cy="3452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09600" y="1476360"/>
            <a:ext cx="8377200" cy="517680"/>
          </a:xfrm>
          <a:prstGeom prst="rect">
            <a:avLst/>
          </a:prstGeom>
          <a:ln w="0">
            <a:noFill/>
          </a:ln>
        </p:spPr>
      </p:pic>
      <p:sp>
        <p:nvSpPr>
          <p:cNvPr id="2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464-587E-4E7A-94F8-6B31A8591B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8195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 with Loop Frame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5357880" cy="610560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BF5-390B-434E-88F3-F68B0D1857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819520" cy="556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Message Examples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Opt Frame (optional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lt Frame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if-else)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3732120" cy="6086520"/>
          </a:xfrm>
          <a:prstGeom prst="rect">
            <a:avLst/>
          </a:prstGeom>
          <a:ln w="0">
            <a:noFill/>
          </a:ln>
        </p:spPr>
      </p:pic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29E9-4442-455D-A589-0D9DCBE92B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eps for Developing SSD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input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use case flow of activities or activity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cribe the message from the external actor to the system using the message no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 it verb-noun: what the system is asked to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parameters the system will n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y special conditions on input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eration/loop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pt or Alt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dentify and add output return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 message itself: aValue:= getValue(value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explicit return on separate dashe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01A-9611-4605-9449-B1991BAF6E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Use c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560920" cy="4641840"/>
          </a:xfrm>
          <a:prstGeom prst="rect">
            <a:avLst/>
          </a:prstGeom>
          <a:ln w="0">
            <a:noFill/>
          </a:ln>
        </p:spPr>
      </p:pic>
      <p:sp>
        <p:nvSpPr>
          <p:cNvPr id="2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876-03F6-41B5-B1FE-59CEEE63A2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3619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SD for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Ship item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Use Case</a:t>
            </a:r>
            <a:br>
              <a:rPr sz="32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09480" y="16002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"/>
          <p:cNvPicPr/>
          <p:nvPr/>
        </p:nvPicPr>
        <p:blipFill>
          <a:blip r:embed="rId1"/>
          <a:stretch/>
        </p:blipFill>
        <p:spPr>
          <a:xfrm>
            <a:off x="3244680" y="152280"/>
            <a:ext cx="439452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9234-337B-4ABC-B946-7FFF4F0D8C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UML diagram showing the life of an object in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condition during an object’s life when it satisfies some criterion, performs some action, or waits for an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movement of an object from one state to anothe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description of activities performed as part of a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415A-7ED5-482C-BE2F-B35B448D64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seudo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rting point of a state machine diagram (black d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rigi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original state of an object befor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tinatio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state to which the object moves after the tran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uar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true false test to see whether a transition can f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687-705D-446A-9561-75988E65B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te Machine Diagram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a Printer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81560"/>
          </a:xfrm>
          <a:prstGeom prst="rect">
            <a:avLst/>
          </a:prstGeom>
          <a:ln w="0">
            <a:noFill/>
          </a:ln>
        </p:spPr>
      </p:pic>
      <p:sp>
        <p:nvSpPr>
          <p:cNvPr id="31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E4F0-B5E2-4832-8136-44DEF329F7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5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 for Use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—Identifying Inputs an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Machine Diagram—Identifying Objec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55EE-3AA7-4774-A804-18C3C64E73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posite States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te containing other states and tran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can be On and either Idle or 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7235640" cy="3884760"/>
          </a:xfrm>
          <a:prstGeom prst="rect">
            <a:avLst/>
          </a:prstGeom>
          <a:ln w="0">
            <a:noFill/>
          </a:ln>
        </p:spPr>
      </p:pic>
      <p:sp>
        <p:nvSpPr>
          <p:cNvPr id="31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9F64-DD3D-4E9E-A452-B91A784CFF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ncurrent Paths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ple paths in composit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ter On paths are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602400" cy="399600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6403-A0A2-4DF1-A94A-62FE674BF7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the class diagram and select classes that might require state machine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each class, make a list of status conditions (states) you can iden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gin building diagram fragments by identifying transitions that cause an object to leave the identified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ce these states in the correct order and aggregate combinations into larger fra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paths and look for independent, concurrent p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1B6-E09D-4F9D-9ECC-7E5FE5D4D8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s for Developing State Machine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k for additional transitions and test both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and each transition with appropriate message event, guard condition, and action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ew and test the state machine diagram for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ke sure state are really state for the object in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the life cycle of an object coming into existence and being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 sure the diagram covers all exception con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gain for concurrent paths and composi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A15-1D2D-498C-85DE-445A1E453C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1603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543800" cy="2611440"/>
          </a:xfrm>
          <a:prstGeom prst="rect">
            <a:avLst/>
          </a:prstGeom>
          <a:ln w="0">
            <a:noFill/>
          </a:ln>
        </p:spPr>
      </p:pic>
      <p:sp>
        <p:nvSpPr>
          <p:cNvPr id="34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8203-27A9-4413-AB53-F628BF4B1D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Item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tem() and archive() transitions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BackOrdered() transition a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83400" cy="2573280"/>
          </a:xfrm>
          <a:prstGeom prst="rect">
            <a:avLst/>
          </a:prstGeom>
          <a:ln w="0">
            <a:noFill/>
          </a:ln>
        </p:spPr>
      </p:pic>
      <p:sp>
        <p:nvSpPr>
          <p:cNvPr id="34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FA0-F0D5-49FB-9D19-1A47F1E42E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MO Domain Class States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27525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D902-E286-4788-8C70-ECE9798F9A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itial State Machine Diagram for RMO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609480" y="1859040"/>
            <a:ext cx="8001000" cy="381312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413A-6513-4455-AA24-C5C900B14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inal State Machine Diagram for Sale Obj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1346040"/>
            <a:ext cx="5737320" cy="480384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6939-1154-4A7A-97EC-A329F8FE9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ending and 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sequence diagram (S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main Cl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machi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79E-4F77-42D3-AA46-C50A333A2E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142640"/>
            <a:ext cx="83059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rite fully developed use case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flow of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ystem sequence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evelop state machine diagrams to model object behav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xplain how use case descriptions and UML diagrams work together to define f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A46-C1EF-438E-97B9-D53578DFDB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grating Requirements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507160" cy="2621160"/>
          </a:xfrm>
          <a:prstGeom prst="rect">
            <a:avLst/>
          </a:prstGeom>
          <a:ln w="0">
            <a:noFill/>
          </a:ln>
        </p:spPr>
      </p:pic>
      <p:sp>
        <p:nvSpPr>
          <p:cNvPr id="37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14F-2A44-44A3-B137-483179D50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0492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EA3-F2AE-46BB-BAFE-9AD3FF871C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0AD-DD4B-44C2-BA3A-F01A08C29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s 3 and 4 identified and modeled the two primary aspects of functional requirements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se ca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omain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focuses on additional techniques and models to extend the requirements models to show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eveloped use case descrip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vide information about each use case, including actors, stakeholders, preconditions, post conditions, the flow of activities and exceptions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irst shown in Chapter 2) can also be used to show the flow of activities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1C5E-7A3F-472E-AEF9-30CBB11BFC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 sequenc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SSDs) show the inputs and outputs for each use case as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te machine diagr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 the states an object can be in over time between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cases are modeled in more detail using fully developed use case descriptions, activity diagrams, and system sequenc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main classes are modeled in more detail using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use cases and domain classes are modeled at this level of detail. Only model when there is complexity and a need to communicate detai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C463-6C07-47B1-970B-9C15ED03BB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shown in Chapter 3 for most use c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01000" cy="2763720"/>
          </a:xfrm>
          <a:prstGeom prst="rect">
            <a:avLst/>
          </a:prstGeom>
          <a:ln w="0">
            <a:noFill/>
          </a:ln>
        </p:spPr>
      </p:pic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558-922F-4A25-8B5C-28AF8CD58B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Use Case Description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lly developed 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ore complex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use case description templat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cas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enario (if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igger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ed use cases (&lt;&lt;includes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of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eptio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3BFE-3296-4572-B930-E8F917E5DC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2666880" cy="39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ully Developed Use Case Descrip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Use case: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Create customer accoun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924520" cy="6172200"/>
          </a:xfrm>
          <a:prstGeom prst="rect">
            <a:avLst/>
          </a:prstGeom>
          <a:ln w="0">
            <a:noFill/>
          </a:ln>
        </p:spPr>
      </p:pic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Lee Reising</cp:lastModifiedBy>
  <dcterms:modified xsi:type="dcterms:W3CDTF">2012-02-28T13:54:04Z</dcterms:modified>
  <cp:revision>91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