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6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E66D-CBBB-41A8-A590-D441108C1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C44B-AFFD-4A14-A5E6-C095082E4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14B-E6B1-49D8-BBB1-E8CB80F6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A27-D974-474A-8F2C-2B56942E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4E8-7704-4C9E-BFDA-6C19A07D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0E2-BC6B-4878-86B7-648863F6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2F44-6284-4F44-BAA2-DAE110C2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7FDD-CF83-4006-92AE-707489AE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212F-2BFD-4A58-90EB-9429B4D2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DA50-140B-415A-8EC9-7DFCA0E5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46EF-7978-45AC-B714-B9473F72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28DB-7198-4B7D-8231-A87E988B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B212-5429-4E7F-A0E2-B0602818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5B2-7690-4087-B95B-0FC53973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FDEF-BBC3-4981-A81E-92CD7BC6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AB2A-A6B7-447B-A824-E4A7FA2A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DAC5-2F7D-4696-9E8E-25D0507B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6550-EB1F-4FF2-886C-2EBF276F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8A57-CF5F-41B9-B97D-0423EFC7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8A4D-9B84-4500-BE60-AE0641C5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BC2-F908-4345-AA60-55867A21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64E-43A0-4599-B6C5-15277713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355-2442-4118-971D-0FCC744C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5EC-21BF-4F7A-BF3D-973ABE6B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39E-5201-41F3-A36F-B068BE73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066-0B00-417D-9E99-44DDBFB4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4C8C-3FDD-45D5-A62E-44E68503B0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82E2-936C-4A58-8A4B-1E2A5B306E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A944-4B9C-4A52-88F5-5DA204B0A6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685800" y="4114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80988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972C-134E-4A0B-9071-C86FD0188A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1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31136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1279-C21B-4865-99F1-A6AB93CBD6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2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534520" cy="4619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FCA6-3237-489A-93DB-CB48F08E3F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Use Case Description Detail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lated use cases &lt;&lt;includes&gt;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one use case invokes or includes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yone with an interest in the us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must be true before the use case be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st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must be true when the use case is comp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for planning test case expected resul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w of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activities that go on between actor and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ception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re and what can go wro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F33E-A37D-4B57-9332-4E7B2072EC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Use Case Description Detail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as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erb-nou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enario (if nee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use case can have more than one scenario (special case or more specific path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igger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ased on event decomposition techn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Written previously when use case was identifi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or more users from use case dia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CDB2-EC51-48D4-A8FB-6178A81F8E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2514600" cy="43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nother Fully Developed Use Case Description Example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Use case</a:t>
            </a:r>
            <a:br>
              <a:rPr sz="2400"/>
            </a:b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Ship item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1"/>
          <a:stretch/>
        </p:blipFill>
        <p:spPr>
          <a:xfrm>
            <a:off x="3019320" y="76320"/>
            <a:ext cx="5577120" cy="6248160"/>
          </a:xfrm>
          <a:prstGeom prst="rect">
            <a:avLst/>
          </a:prstGeom>
          <a:ln w="0">
            <a:noFill/>
          </a:ln>
        </p:spPr>
      </p:pic>
      <p:sp>
        <p:nvSpPr>
          <p:cNvPr id="22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B4B9-2B63-4253-A761-F459F6CBCE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Ship items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1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43624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D777-76EB-4B7C-87AD-0B496D7CBC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Ship items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2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05920" cy="51642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0465-9A91-42A0-ABC4-3E594C33D4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2514600" cy="563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UML Activity Diagram for Use Case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Note: this shows flow of activities only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2997360" y="380880"/>
            <a:ext cx="5049720" cy="5693040"/>
          </a:xfrm>
          <a:prstGeom prst="rect">
            <a:avLst/>
          </a:prstGeom>
          <a:ln w="0">
            <a:noFill/>
          </a:ln>
        </p:spPr>
      </p:pic>
      <p:sp>
        <p:nvSpPr>
          <p:cNvPr id="24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3BB8-7500-44FD-B637-7551BF1DFF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2819160" cy="563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UML Activity Diagram for Use Case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Fill shopping cart</a:t>
            </a:r>
            <a:br>
              <a:rPr sz="28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Note: this shows use case with &lt;&lt;includes&gt;&gt; reltionship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4767480" cy="601992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E601-4C11-4B89-B67F-8FD6B5EBC4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 Sequence Diagram (SSD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UML sequence dia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pecial case for a sequence dia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shows actor and one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ne object represents the complet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input &amp; output messaging requirements for a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ctor, :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System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, object life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ending the Requirements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920" y="3655800"/>
            <a:ext cx="426744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A066-4042-411F-870E-F3DFE34D4A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 Sequence Diagram (SSD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Not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67360" cy="4744800"/>
          </a:xfrm>
          <a:prstGeom prst="rect">
            <a:avLst/>
          </a:prstGeom>
          <a:ln w="0">
            <a:noFill/>
          </a:ln>
        </p:spPr>
      </p:pic>
      <p:sp>
        <p:nvSpPr>
          <p:cNvPr id="26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09B1-36EA-49BF-A292-286C221B65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Message Notation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305920" cy="3452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309600" y="1476360"/>
            <a:ext cx="8377200" cy="517680"/>
          </a:xfrm>
          <a:prstGeom prst="rect">
            <a:avLst/>
          </a:prstGeom>
          <a:ln w="0">
            <a:noFill/>
          </a:ln>
        </p:spPr>
      </p:pic>
      <p:sp>
        <p:nvSpPr>
          <p:cNvPr id="2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00FF-5E05-4417-9348-E3290E9B69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28195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SD Message Examples with Loop Frame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5357880" cy="6105600"/>
          </a:xfrm>
          <a:prstGeom prst="rect">
            <a:avLst/>
          </a:prstGeom>
          <a:ln w="0">
            <a:noFill/>
          </a:ln>
        </p:spPr>
      </p:pic>
      <p:sp>
        <p:nvSpPr>
          <p:cNvPr id="27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D8DB-4860-414C-92C9-5879621008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2819520" cy="556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SD Message Examples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Opt Frame (optional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lt Frame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if-else)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3732120" cy="6086520"/>
          </a:xfrm>
          <a:prstGeom prst="rect">
            <a:avLst/>
          </a:prstGeom>
          <a:ln w="0">
            <a:noFill/>
          </a:ln>
        </p:spPr>
      </p:pic>
      <p:sp>
        <p:nvSpPr>
          <p:cNvPr id="28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BA13-8D45-4C67-AF57-E108690FFD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Steps for Developing SSD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dentify input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use case flow of activities or activity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scribe the message from the external actor to the system using the message no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e it verb-noun: what the system is asked to 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parameters the system will n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dentify any special conditions on input mess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eration/loop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pt or Alt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dentify and add output return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 message itself: aValue:= getValue(value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explicit return on separate dashed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79CD-9EE2-4B74-B9D7-90104F6AED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SD for </a:t>
            </a:r>
            <a:r>
              <a:rPr b="1" i="1" lang="en-US" sz="36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Use cas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560920" cy="4641840"/>
          </a:xfrm>
          <a:prstGeom prst="rect">
            <a:avLst/>
          </a:prstGeom>
          <a:ln w="0">
            <a:noFill/>
          </a:ln>
        </p:spPr>
      </p:pic>
      <p:sp>
        <p:nvSpPr>
          <p:cNvPr id="29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2B49-6B7B-452A-B827-280FB5A568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23619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SD for </a:t>
            </a:r>
            <a:r>
              <a:rPr b="1" i="1" lang="en-US" sz="3200" spc="-1" strike="noStrike">
                <a:solidFill>
                  <a:srgbClr val="330066"/>
                </a:solidFill>
                <a:latin typeface="Arial"/>
              </a:rPr>
              <a:t>Ship items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Use Case</a:t>
            </a:r>
            <a:br>
              <a:rPr sz="3200"/>
            </a:br>
            <a:br>
              <a:rPr sz="2800"/>
            </a:br>
            <a:br>
              <a:rPr sz="28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"/>
          <p:cNvPicPr/>
          <p:nvPr/>
        </p:nvPicPr>
        <p:blipFill>
          <a:blip r:embed="rId1"/>
          <a:stretch/>
        </p:blipFill>
        <p:spPr>
          <a:xfrm>
            <a:off x="3244680" y="152280"/>
            <a:ext cx="4394520" cy="6172200"/>
          </a:xfrm>
          <a:prstGeom prst="rect">
            <a:avLst/>
          </a:prstGeom>
          <a:ln w="0">
            <a:noFill/>
          </a:ln>
        </p:spPr>
      </p:pic>
      <p:sp>
        <p:nvSpPr>
          <p:cNvPr id="29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204C-D21B-4184-9280-D60DEC3E67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State Machine Diagram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e machine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UML diagram showing the life of an object in states and tran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condition during an object’s life when it satisfies some criterion, performs some action, or waits for an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ovement of an object from one state to anothe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ction 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description of activities performed as part of a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F726-0778-41DC-B146-704BA54198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te Machine Diagram 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seudo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tarting point of a state machine diagram (black do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igin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original state of an object before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stination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tate to which the object moves after the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uard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true false test to see whether a transition can f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5611-8B9D-4DC9-B522-64C3F4F2EE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te Machine Diagram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or a Printer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38156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0DCB-4C5D-401D-9B7C-0927F241BA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5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 for Use C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equence Diagram—Identifying Inputs and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Machine Diagram—Identifying Object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Requirement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4D6-75FB-41C0-A6CA-C4931F4E88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omposite Sta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te containing other states and tran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ter can be On and either Idle or Wo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235640" cy="3884760"/>
          </a:xfrm>
          <a:prstGeom prst="rect">
            <a:avLst/>
          </a:prstGeom>
          <a:ln w="0">
            <a:noFill/>
          </a:ln>
        </p:spPr>
      </p:pic>
      <p:sp>
        <p:nvSpPr>
          <p:cNvPr id="31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44CF-D503-4F36-90C5-DF4359289D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oncurrent Paths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ple paths in composite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ter On paths are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602400" cy="3996000"/>
          </a:xfrm>
          <a:prstGeom prst="rect">
            <a:avLst/>
          </a:prstGeom>
          <a:ln w="0">
            <a:noFill/>
          </a:ln>
        </p:spPr>
      </p:pic>
      <p:sp>
        <p:nvSpPr>
          <p:cNvPr id="3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097F-EEE4-4925-B1B3-739173760E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s for Developing State Machine Dia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ew the class diagram and select classes that might require state machine dia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each class, make a list of status conditions (states) you can identi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gin building diagram fragments by identifying transitions that cause an object to leave the identified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quence these states in the correct order and aggregate combinations into larger fra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ew paths and look for independent, concurrent pa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6696-4ADA-4935-B8F8-46A8BAFF89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s for Developing State Machine Diagram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ok for additional transitions and test both 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and each transition with appropriate message event, guard condition, and action 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ew and test the state machine diagram for the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ke sure state are really state for the object in the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llow the life cycle of an object coming into existence and being de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 sure the diagram covers all exception con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ok again for concurrent paths and composit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087D-F651-4593-8456-A9612E55C7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MO Domain Class States for SaleItem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1603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7543800" cy="2611440"/>
          </a:xfrm>
          <a:prstGeom prst="rect">
            <a:avLst/>
          </a:prstGeom>
          <a:ln w="0">
            <a:noFill/>
          </a:ln>
        </p:spPr>
      </p:pic>
      <p:sp>
        <p:nvSpPr>
          <p:cNvPr id="34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357A-1BE4-4F6A-BEF7-E6C39973FC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inal State Machine Diagram for SaleItem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Item() and archive() transitions a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kBackOrdered() transition a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483400" cy="2573280"/>
          </a:xfrm>
          <a:prstGeom prst="rect">
            <a:avLst/>
          </a:prstGeom>
          <a:ln w="0">
            <a:noFill/>
          </a:ln>
        </p:spPr>
      </p:pic>
      <p:sp>
        <p:nvSpPr>
          <p:cNvPr id="34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BF66-9C40-4C2D-A084-F14C1F233F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MO Domain Class States for Sale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2752560"/>
          </a:xfrm>
          <a:prstGeom prst="rect">
            <a:avLst/>
          </a:prstGeom>
          <a:ln w="0">
            <a:noFill/>
          </a:ln>
        </p:spPr>
      </p:pic>
      <p:sp>
        <p:nvSpPr>
          <p:cNvPr id="35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B963-09E8-4720-9458-C285AC1F96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itial State Machine Diagram for RMO Sale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609480" y="1859040"/>
            <a:ext cx="8001000" cy="3813120"/>
          </a:xfrm>
          <a:prstGeom prst="rect">
            <a:avLst/>
          </a:prstGeom>
          <a:ln w="0">
            <a:noFill/>
          </a:ln>
        </p:spPr>
      </p:pic>
      <p:sp>
        <p:nvSpPr>
          <p:cNvPr id="35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20BC-AE8B-48C0-B75C-BBC995F389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inal State Machine Diagram for Sale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1600200" y="1346040"/>
            <a:ext cx="5737320" cy="480384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81BE-32EF-4ECA-BB84-0C1B84D43F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ending and Integrating Requirements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as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sequence diagram (S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main Cla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main mode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 machin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1DA4-6175-4B48-BB21-D3CA45108A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rite fully developed use case descri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elop activity diagrams to model flow of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elop system sequence dia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elop state machine diagrams to model object behav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Explain how use case descriptions and UML diagrams work together to define function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5B58-C938-427A-A52B-B19A9BE2D1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tegrating Requirements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507160" cy="2621160"/>
          </a:xfrm>
          <a:prstGeom prst="rect">
            <a:avLst/>
          </a:prstGeom>
          <a:ln w="0">
            <a:noFill/>
          </a:ln>
        </p:spPr>
      </p:pic>
      <p:sp>
        <p:nvSpPr>
          <p:cNvPr id="37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5CE7-36E8-4680-AAE2-9A22DACFC8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0492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s 3 and 4 identified and modeled the two primary aspects of functional requirement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se ca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mai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focuses on additional techniques and models to extend the requirements models to show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veloped use case descrip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 information about each use case, including actors, stakeholders, preconditions, post conditions, the flow of activities and exceptions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first shown in Chapter 2) can also be used to show the flow of activities for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5BEC-1D60-4AF2-AA2D-1088BF91F6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stem sequenc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SSDs) show the inputs and outputs for each use case as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ate machin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ow the states an object can be in over time between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ases are modeled in more detail using fully developed use case descriptions, activity diagrams, and system sequenc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main classes are modeled in more detail using state machin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use cases and domain classes are modeled at this level of detail. Only model when there is complexity and a need to communicate detai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6198-23F0-4BA3-AB14-CF3A56B7A4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s 3 and 4 identified and modeled the two primary aspects of functional requirement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se ca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mai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focuses on additional techniques and models to extend the requirements models to show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veloped use case descrip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 information about each use case, including actors, stakeholders, preconditions, post conditions, the flow of activities and exceptions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first shown in Chapter 2) can also be used to show the flow of activities for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6D3B-B613-4C78-B0FE-E6A582B48A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stem sequenc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SSDs) show the inputs and outputs for each use case as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ate machin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ow the states an object can be in over time between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ases are modeled in more detail using fully developed use case descriptions, activity diagrams, and system sequenc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main classes are modeled in more detail using state machin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use cases and domain classes are modeled at this level of detail. Only model when there is complexity and a need to communicate detai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C727-1D9B-47B7-A597-9F575AF484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Use Case Description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shown in Chapter 3 for most use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001000" cy="2763720"/>
          </a:xfrm>
          <a:prstGeom prst="rect">
            <a:avLst/>
          </a:prstGeom>
          <a:ln w="0">
            <a:noFill/>
          </a:ln>
        </p:spPr>
      </p:pic>
      <p:sp>
        <p:nvSpPr>
          <p:cNvPr id="19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860E-CEF2-4E52-82D7-1A7701CE61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Use Case Description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lly developed use cas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ore complex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use case description templat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cas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enario (if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igger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ed use cases (&lt;&lt;includes&gt;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o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eptio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909D-534E-4407-83EE-0B8C7EF895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2666880" cy="391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ully Developed Use Case Descrip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Use case: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5924520" cy="6172200"/>
          </a:xfrm>
          <a:prstGeom prst="rect">
            <a:avLst/>
          </a:prstGeom>
          <a:ln w="0">
            <a:noFill/>
          </a:ln>
        </p:spPr>
      </p:pic>
      <p:sp>
        <p:nvSpPr>
          <p:cNvPr id="20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Lee Reising</cp:lastModifiedBy>
  <dcterms:modified xsi:type="dcterms:W3CDTF">2012-02-28T13:54:04Z</dcterms:modified>
  <cp:revision>91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