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BDB0-15FA-4CA0-8990-2ACCD69BE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3673-BDA5-4AE6-8701-8C7335C4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79A-247E-4004-AB20-1A485BAC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463-9D06-4B27-8B2B-2A5822B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601-DFBB-4054-A4A4-058FA422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32A-3B2B-401D-8B4D-9757065D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2DBB-EA71-4938-852F-7DE935E3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DE39-E92B-4F1E-8714-2D2A7186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3F33-B921-4767-9AFC-DA2501A2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75B0-C6B8-40EC-86A1-60ED9836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ABA4-B275-4942-B735-94F67611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4B23-E436-4D9A-B217-37AD5B9F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B244-E940-4289-8F26-8B7C48AD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B87-20FA-4159-9E64-0C7B6ED9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CCE6-C63F-4C20-9445-23209F32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CF6E-0186-4228-AFBB-099C622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6FF3-A911-48A1-8E2A-8DDF5E49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7E7D-7137-470D-81BD-91ABCCC1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FFD2-261E-4DCE-96F3-84F1EE3F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D07-2BBA-49D5-B565-35892D2B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D67-E06A-468E-AE5E-78F594E5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649-8C67-48F9-AF53-7BED18C4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493-58A5-4548-8FAF-DB8B8337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20E-C1A1-4AC1-A99A-BC88C1F5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C81-2428-4140-B295-48E8EC14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C73-BF9A-4AF2-9ED4-7311FE3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60F1-32BD-4880-B16E-29FC868895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874F-7228-4FF9-9CD8-48C24206B8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78F9-FFBC-497E-B258-CE8307D254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76212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3F73-AFE4-47F7-8272-D3437B2313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Newer Overlapping Phases Predictive SDLC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3547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flexibility, but still assumes predictive planning and sequential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5D57-8405-476C-8932-6FAC4544FD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er Adap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049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d in response to increasingly complex requirements and uncertain technologic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includes iterations where some of design and implementation is done from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velopers claim it is 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ay to develop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IS managers are still scep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7E3D-7F7B-4472-9642-963648EB4B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ral Model</a:t>
            </a:r>
            <a:br>
              <a:rPr sz="39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First Adaptive SDLC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026320" cy="484812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6A3E-A9E7-4227-8DEA-B167AC4FF0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e Model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opular Way to Represent Adaptive SDLC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659480" cy="487692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95A-F085-4953-BAE2-CBC2443570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12204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re Processes vs. Iterations Model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Adaptive SDLC used in this Tex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67720" cy="40989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"/>
          <p:cNvSpPr/>
          <p:nvPr/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s core processes, not phases, plus iterations in a sequence for management check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the Unified Process SDLC (see chapter 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21A9-131F-4BD7-B12B-D84395DAEF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itional Adaptive Concep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85800" y="12193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pproach that completes portions of the system in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system is implemented and partially deployed in steps dur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ets part of working system into users’ hands soo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king Sk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pproach in which the complete system structure is built early, but with bare-bon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5B66-D206-4589-924A-0626B2D157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DLC Support Ph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information systems need to be supported once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dictive SDLCs typically include support as a projec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ive SDLCs treat support as a separat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tivities whose objective is to  maintain and enhance the system after it is installed and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4B81-270E-4158-BBB9-66CC517356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port Activ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x problems/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 minor adju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pdate for changes in operating systems or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hanc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d desired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d or change functionality to comply with regulations or legisl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th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going use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lp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8523-6FEC-441C-8587-7AF77C9D17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guidelines for every facet of system development: What to do when, why and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an SDLC with activities an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project planning and project management model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analysis and design models to 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implementation and test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deployment and suppor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term used i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ystem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D94B-9922-4D0C-A06B-42344EF2D5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abstraction of an important aspect of the real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s it possible to understand a complex concept by focusing only on a relevan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ch model shows a different aspect of the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ucial for communicating proje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IS, some models are of system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odels are used to manage th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pproaches to System Developmen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2D56-0839-4037-98D5-0EFF4A7D0B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4478040"/>
          </a:xfrm>
          <a:prstGeom prst="rect">
            <a:avLst/>
          </a:prstGeom>
          <a:ln w="0">
            <a:noFill/>
          </a:ln>
        </p:spPr>
      </p:pic>
      <p:sp>
        <p:nvSpPr>
          <p:cNvPr id="29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53A4-EFC1-40E2-BFB5-A621DA26EB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 that assists developers in creating models or other components required for a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934320" cy="286560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C973-61CD-4487-BA5B-516014F29B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85800" y="1371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collection of guidelines that help an analyst complete an activity or 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arning techniques is the key to having expertise in a fiel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1"/>
          <a:stretch/>
        </p:blipFill>
        <p:spPr>
          <a:xfrm>
            <a:off x="1676520" y="2835360"/>
            <a:ext cx="5715000" cy="3409920"/>
          </a:xfrm>
          <a:prstGeom prst="rect">
            <a:avLst/>
          </a:prstGeom>
          <a:ln w="0">
            <a:noFill/>
          </a:ln>
        </p:spPr>
      </p:pic>
      <p:sp>
        <p:nvSpPr>
          <p:cNvPr id="3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8E44-56E2-4F12-AE30-561047C7EB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cludes a collection of techniques that are used to complete activities and tasks, including modeling, for every aspect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483520" cy="3861000"/>
          </a:xfrm>
          <a:prstGeom prst="rect">
            <a:avLst/>
          </a:prstGeom>
          <a:ln w="0">
            <a:noFill/>
          </a:ln>
        </p:spPr>
      </p:pic>
      <p:sp>
        <p:nvSpPr>
          <p:cNvPr id="32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9235-7262-4C48-9B58-F02CFB161D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wo Approaches to Software Construction and Model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85800" y="15238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uctu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rlier approach. Assumes a system is a collection of processes that interact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, structured design, and structur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bject-Orien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re recent approach. Assumes a system is a collection of objects that interact to comple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O analysis, OO design, and OO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64A-6C48-4110-8A83-01F0D45B9F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685800" y="1295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quence, selection/decision, and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034040" cy="412740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A671-BA5D-4EF8-960B-F1B2C16440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 down, modul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772400" cy="3828960"/>
          </a:xfrm>
          <a:prstGeom prst="rect">
            <a:avLst/>
          </a:prstGeom>
          <a:ln w="0">
            <a:noFill/>
          </a:ln>
        </p:spPr>
      </p:pic>
      <p:sp>
        <p:nvSpPr>
          <p:cNvPr id="34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AF87-B40A-4037-B720-BAE1CFC435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1523880"/>
            <a:ext cx="2590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 chart with data couples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405400" cy="4889520"/>
          </a:xfrm>
          <a:prstGeom prst="rect">
            <a:avLst/>
          </a:prstGeom>
          <a:ln w="0">
            <a:noFill/>
          </a:ln>
        </p:spPr>
      </p:pic>
      <p:sp>
        <p:nvSpPr>
          <p:cNvPr id="35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4A1-9D1A-4FA3-8F38-3D2CDA5EB9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1752480"/>
            <a:ext cx="2362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 (DF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6324480" cy="4937400"/>
          </a:xfrm>
          <a:prstGeom prst="rect">
            <a:avLst/>
          </a:prstGeom>
          <a:ln w="0">
            <a:noFill/>
          </a:ln>
        </p:spPr>
      </p:pic>
      <p:sp>
        <p:nvSpPr>
          <p:cNvPr id="3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F7CA-3933-4E83-A854-F37E5ADB62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ity-relationship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255600" y="2176560"/>
            <a:ext cx="8631360" cy="2500200"/>
          </a:xfrm>
          <a:prstGeom prst="rect">
            <a:avLst/>
          </a:prstGeom>
          <a:ln w="0">
            <a:noFill/>
          </a:ln>
        </p:spPr>
      </p:pic>
      <p:sp>
        <p:nvSpPr>
          <p:cNvPr id="37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0CF1-7523-46A6-9B84-7DC282B251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8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15238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stems Development Life Cycle (SD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pport Phase of the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ologies, Models, Tool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Approaches to Software Construction and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DCD6-199C-41E2-823A-F623398E10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685800" y="1295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t fit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4276440"/>
          </a:xfrm>
          <a:prstGeom prst="rect">
            <a:avLst/>
          </a:prstGeom>
          <a:ln w="0">
            <a:noFill/>
          </a:ln>
        </p:spPr>
      </p:pic>
      <p:sp>
        <p:nvSpPr>
          <p:cNvPr id="3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2A5D-31EB-4704-9FED-CCB6C98849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analysis (O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rocess of identifying and defining the use cases and sets of objects (classes) in the new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design (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 all of the types of objects necessary to communicate with people and devices and showing how they interact to complete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programming (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statements that define the actual classes and what each object of the class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BAEC-F24B-48EB-B840-B7188866F7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80880" y="160020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owing the O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s collaborate to get a task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5562720" cy="516600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9A8A-62E4-4B71-A47E-72ECBB3B4E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457200" y="1219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L Design Cla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05360" cy="4418280"/>
          </a:xfrm>
          <a:prstGeom prst="rect">
            <a:avLst/>
          </a:prstGeom>
          <a:ln w="0">
            <a:noFill/>
          </a:ln>
        </p:spPr>
      </p:pic>
      <p:sp>
        <p:nvSpPr>
          <p:cNvPr id="4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4219-FA68-4448-9455-3B74F93D47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457200" y="1219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L Sequenc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586040"/>
          </a:xfrm>
          <a:prstGeom prst="rect">
            <a:avLst/>
          </a:prstGeom>
          <a:ln w="0">
            <a:noFill/>
          </a:ln>
        </p:spPr>
      </p:pic>
      <p:sp>
        <p:nvSpPr>
          <p:cNvPr id="4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A1CE-826C-49C8-BB32-C326843579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457200" y="10666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hapter covers approaches to system development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wo approaches to the SDLC: Predictive and Ada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edictive SDLC, also known as the waterfall model, is used when it is possible to plan the project completely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daptive SDLC, which uses iteration, is used when the requirements are less certain and the project will need to react to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ext uses an adaptive approach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229F-FE8D-427A-A8F2-A99BA2A257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457200" y="914400"/>
            <a:ext cx="7467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new information systems require support onc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development project use a methodology (or development process) and many are available. A methodology includes an SDLC and tools, techniques, a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wo approaches to construction and modeling software: the traditional structured approach and the newer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681-94FF-4E50-AD3B-AA2647D292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522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underlying assumptions and uses of a predictive and an adaptive system development life cycle (SDL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key activities and tasks of information system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what comprises a system development methodology—the SDLC as well as models, tools, and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two overall approaches used for software construction and modeling: the structured approach and the object-oriented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C40D-120B-4ABF-9090-0F4A427D9C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demonstrated a system development project that used an iterative and agile system development life cycle (SD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chapters focused on Systems Analysis activities and tasks and some System Design activities an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we return to look at the SDLC and related concept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dictive versus Adaptive SDLC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and Tasks of System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, Methodologies, Tools and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acts of Traditional versus OO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C5B6-82A3-414E-B244-63A5138623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System Development Life Cycle (SDLC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wo general approaches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dic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fal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s the project can be planned in advance and that the information system can be developed according to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ments are well understood and/or low technic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ve Approach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rative model (as see in this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s the project must be more flexible and adapt to changing needs as the project prog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ments and needs are uncertain and/or high technic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EB35-5BD5-4A51-ACE1-5A66D7C1A0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System Development Life Cycle (SDLC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2643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rojects fall on a continuum between Predictive and 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CFB7-0251-4984-AF0F-30D464248D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ditional Predic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049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ier approach based on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ly have sequential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hases are related groups of development activities, such as planning, analysis, design, implementation, 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DLC that assumes phases can be completed sequentially with no overlap or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ce one phase is completed, you fall over the waterfall to the next phase, no go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749B-430E-455D-BB16-97AD9D725D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ditional Predic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01652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az_chikh</cp:lastModifiedBy>
  <dcterms:modified xsi:type="dcterms:W3CDTF">2014-12-15T13:03:02Z</dcterms:modified>
  <cp:revision>107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