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4E9D-C1D3-460B-BAD4-5FA1D2F35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C3C8-E458-486E-BD0F-2F87987E1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05A1-0F4B-494A-A8BA-06CFF7D68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85C9-844C-4E29-867F-AFEE3A8D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5F93-F90D-4A96-96BF-6259B1BDA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1E71-9AC0-42F2-938F-15474D7E2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EA02-D5D4-4C11-9BE3-9C1F29450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2297-3EAA-490C-A4B0-23154F2B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1A55-9B1E-4417-9DF3-ACA6C791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8C76-0457-4E12-8B8B-BD1C93F7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43C8-9F2E-49B6-8988-AAB1FFF8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9502-0B3D-41FC-8666-4DAD6E41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844F-0D71-4610-86B7-A053920B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B3A3-9733-4712-8354-DAB85915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E8FB-B02C-4C37-9E4D-8DD2D683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35FC-7815-40B6-8E05-C0B18894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E6CE-007F-433F-A7BA-543638E4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3697-5998-4CFA-AC71-0B6C565D3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D067-8CE1-489A-96D4-3D844B4F3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BD70-3844-4DA2-8E49-72692587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8694-84A4-4A5A-A1C0-2103E141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5BBA-C05A-4D56-9EDA-16023D40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30E2-7541-460B-8A91-3873E2B9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87D3-522D-4293-9BD7-DE88AB00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326A-7473-4B02-812C-FE82AE40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B127-00BC-4623-84CA-D419E5DC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Analysis and Design in a Changing World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44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0A5C-B0C9-4851-86A3-3A4C225835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1"/>
          <p:cNvSpPr/>
          <p:nvPr/>
        </p:nvSpPr>
        <p:spPr>
          <a:xfrm>
            <a:off x="457200" y="1676520"/>
            <a:ext cx="678168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5"/>
          </p:nvPr>
        </p:nvSpPr>
        <p:spPr>
          <a:xfrm>
            <a:off x="19810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Analysis and Design in a Changing World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6"/>
          </p:nvPr>
        </p:nvSpPr>
        <p:spPr>
          <a:xfrm>
            <a:off x="73152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A17E-0334-4A76-8B4F-7A464FE5A10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Analysis and Design in a Changing World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D67F-5C00-4444-8451-3FF28D1BCF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066680" y="449568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pter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838080" y="152280"/>
            <a:ext cx="815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NTRODUCTION 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YSTEMS ANALYSIS AND DESIG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N AGILE, ITERATIV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0" y="3048120"/>
            <a:ext cx="9144000" cy="3809880"/>
          </a:xfrm>
          <a:prstGeom prst="rect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762120" y="41148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3886200" y="32767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ZINGER | JACKSON | B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5782-5DD0-4F76-9E46-45FE83C8B0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Newer Overlapping Phases Predictive SDLC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8686800" cy="35478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8"/>
          <p:cNvSpPr/>
          <p:nvPr/>
        </p:nvSpPr>
        <p:spPr>
          <a:xfrm>
            <a:off x="685800" y="1295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e flexibility, but still assumes predictive planning and sequential p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5E83-FF78-4CBA-8196-5DAF5356DAA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wer Adaptive SDL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30492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erged in response to increasingly complex requirements and uncertain technological enviro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ways includes iterations where some of design and implementation is done from the begi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developers claim it is the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ay to develop informatio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IS managers are still scep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E718-A484-4F5F-80EF-D627C9715B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piral Model</a:t>
            </a:r>
            <a:br>
              <a:rPr sz="3900"/>
            </a:b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The First Adaptive SDLC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7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5026320" cy="4848120"/>
          </a:xfrm>
          <a:prstGeom prst="rect">
            <a:avLst/>
          </a:prstGeom>
          <a:ln w="0">
            <a:noFill/>
          </a:ln>
        </p:spPr>
      </p:pic>
      <p:sp>
        <p:nvSpPr>
          <p:cNvPr id="232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9FEA-8A1F-40FD-B65C-14FA177E60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terative Model</a:t>
            </a:r>
            <a:br>
              <a:rPr sz="35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Popular Way to Represent Adaptive SDLC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7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4659480" cy="4876920"/>
          </a:xfrm>
          <a:prstGeom prst="rect">
            <a:avLst/>
          </a:prstGeom>
          <a:ln w="0">
            <a:noFill/>
          </a:ln>
        </p:spPr>
      </p:pic>
      <p:sp>
        <p:nvSpPr>
          <p:cNvPr id="24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7FA4-C689-4D71-921D-25D50D15D88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1920" y="122040"/>
            <a:ext cx="807732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re Processes vs. Iterations Model</a:t>
            </a:r>
            <a:br>
              <a:rPr sz="35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The Adaptive SDLC used in this Text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7767720" cy="409896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8"/>
          <p:cNvSpPr/>
          <p:nvPr/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ws core processes, not phases, plus iterations in a sequence for management checkpoi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d on the Unified Process SDLC (see chapter 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45E9-315B-40D2-AFC1-86D3E5677A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122040"/>
            <a:ext cx="792468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ditional Adaptive Concep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685800" y="12193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n approach that completes portions of the system in inc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 system is implemented and partially deployed in steps during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Gets part of working system into users’ hands soo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lking Skele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n approach in which the complete system structure is built early, but with bare-bon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A698-E867-4BE5-9F15-32CC4BD84B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560" y="122040"/>
            <a:ext cx="792468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SDLC Support Pha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information systems need to be supported once comple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dictive SDLCs typically include support as a project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aptive SDLCs treat support as a separat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ctivities whose objective is to  maintain and enhance the system after it is installed and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DEB7-3F83-4EC4-9650-E3EECD1287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560" y="122040"/>
            <a:ext cx="792468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pport Activit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taining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ix problems/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ake minor adjus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pdate for changes in operating systems or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hancing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dd desired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dd or change functionality to comply with regulations or legisl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ing the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ngoing user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elp de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05DA-6B8F-4C81-A826-BB7E51F56E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560" y="122400"/>
            <a:ext cx="792468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Methodologies, Models, Tools, and Techniqu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ovides guidelines for every facet of system development: What to do when, why and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pecifies an SDLC with activities and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pecifies project planning and project management models and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pecifies analysis and design models to cre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pecifies implementation and testing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pecifies deployment and support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 term used i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ystem Development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D891-150A-4961-B441-C1842EF7235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560" y="122400"/>
            <a:ext cx="792468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Methodologies, Models, Tools, and Techniqu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6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n abstraction of an important aspect of the real wor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akes it possible to understand a complex concept by focusing only on a relevant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ach model shows a different aspect of the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rucial for communicating projec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IS, some models are of system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models are used to manage the development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411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Approaches to System Developmen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969920" y="3655800"/>
            <a:ext cx="4267440" cy="15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to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 and Desig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gile, Iteractive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zinger, Jackson &amp; B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380880" y="1828800"/>
            <a:ext cx="6782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Chapter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928E-6BB5-48E2-90F8-AD64C67A06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560" y="122400"/>
            <a:ext cx="792468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Methodologies, Models, Tools, and Techniqu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8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162920" cy="4478040"/>
          </a:xfrm>
          <a:prstGeom prst="rect">
            <a:avLst/>
          </a:prstGeom>
          <a:ln w="0">
            <a:noFill/>
          </a:ln>
        </p:spPr>
      </p:pic>
      <p:sp>
        <p:nvSpPr>
          <p:cNvPr id="297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228F-E136-40BE-8635-3E5C2644376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560" y="122400"/>
            <a:ext cx="792468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Methodologies, Models, Tools, and Techniqu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685800" y="137160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applications that assists developers in creating models or other components required for a pro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"/>
          <p:cNvPicPr/>
          <p:nvPr/>
        </p:nvPicPr>
        <p:blipFill>
          <a:blip r:embed="rId1"/>
          <a:stretch/>
        </p:blipFill>
        <p:spPr>
          <a:xfrm>
            <a:off x="1143000" y="3200400"/>
            <a:ext cx="6934320" cy="2865600"/>
          </a:xfrm>
          <a:prstGeom prst="rect">
            <a:avLst/>
          </a:prstGeom>
          <a:ln w="0">
            <a:noFill/>
          </a:ln>
        </p:spPr>
      </p:pic>
      <p:sp>
        <p:nvSpPr>
          <p:cNvPr id="30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BBD7-0416-4D5B-AD2D-3BA9D23B45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560" y="122400"/>
            <a:ext cx="792468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Methodologies, Models, Tools, and Techniqu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685800" y="13716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collection of guidelines that help an analyst complete an activity or tas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earning techniques is the key to having expertise in a field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8" descr=""/>
          <p:cNvPicPr/>
          <p:nvPr/>
        </p:nvPicPr>
        <p:blipFill>
          <a:blip r:embed="rId1"/>
          <a:stretch/>
        </p:blipFill>
        <p:spPr>
          <a:xfrm>
            <a:off x="1676520" y="2835360"/>
            <a:ext cx="5715000" cy="3409920"/>
          </a:xfrm>
          <a:prstGeom prst="rect">
            <a:avLst/>
          </a:prstGeom>
          <a:ln w="0">
            <a:noFill/>
          </a:ln>
        </p:spPr>
      </p:pic>
      <p:sp>
        <p:nvSpPr>
          <p:cNvPr id="31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A4A7-B61B-4D27-9E43-2FA4F550036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560" y="122400"/>
            <a:ext cx="792468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Methodologies, Models, Tools, and Techniqu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68580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Methodolog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cludes a collection of techniques that are used to complete activities and tasks, including modeling, for every aspect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8" descr=""/>
          <p:cNvPicPr/>
          <p:nvPr/>
        </p:nvPicPr>
        <p:blipFill>
          <a:blip r:embed="rId1"/>
          <a:stretch/>
        </p:blipFill>
        <p:spPr>
          <a:xfrm>
            <a:off x="1752480" y="2438280"/>
            <a:ext cx="5483520" cy="3861000"/>
          </a:xfrm>
          <a:prstGeom prst="rect">
            <a:avLst/>
          </a:prstGeom>
          <a:ln w="0">
            <a:noFill/>
          </a:ln>
        </p:spPr>
      </p:pic>
      <p:sp>
        <p:nvSpPr>
          <p:cNvPr id="324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50C2-9D8B-4498-BD1D-E7D292B80B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560" y="122400"/>
            <a:ext cx="792468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Two Approaches to Software Construction and Modeling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685800" y="152388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tructured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arlier approach. Assumes a system is a collection of processes that interact with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ed analysis, structured design, and structured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bject-Oriented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ore recent approach. Assumes a system is a collection of objects that interact to complete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O analysis, OO design, and OO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38B2-6C7A-4687-A545-644E072E6D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560" y="122400"/>
            <a:ext cx="792468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The Structured Approach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685800" y="1295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uctured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equence, selection/decision, and re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7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7034040" cy="4127400"/>
          </a:xfrm>
          <a:prstGeom prst="rect">
            <a:avLst/>
          </a:prstGeom>
          <a:ln w="0">
            <a:noFill/>
          </a:ln>
        </p:spPr>
      </p:pic>
      <p:sp>
        <p:nvSpPr>
          <p:cNvPr id="34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0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52BF-209A-4A47-AC67-965A230821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560" y="122040"/>
            <a:ext cx="792468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The Structured Approach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685800" y="1295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p down, modular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8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7772400" cy="3828960"/>
          </a:xfrm>
          <a:prstGeom prst="rect">
            <a:avLst/>
          </a:prstGeom>
          <a:ln w="0">
            <a:noFill/>
          </a:ln>
        </p:spPr>
      </p:pic>
      <p:sp>
        <p:nvSpPr>
          <p:cNvPr id="349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6505-AE83-4CA5-BCB9-C11C406DB7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560" y="122040"/>
            <a:ext cx="792468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The Structured Approach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0" y="1523880"/>
            <a:ext cx="25909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uctured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e chart with data couples sh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7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5405400" cy="4889520"/>
          </a:xfrm>
          <a:prstGeom prst="rect">
            <a:avLst/>
          </a:prstGeom>
          <a:ln w="0">
            <a:noFill/>
          </a:ln>
        </p:spPr>
      </p:pic>
      <p:sp>
        <p:nvSpPr>
          <p:cNvPr id="35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9BC1-8181-4AC0-8F2D-548B200ED3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560" y="122040"/>
            <a:ext cx="792468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The Structured Approach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0" y="1752480"/>
            <a:ext cx="23623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uctured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 diagram (DF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7" descr=""/>
          <p:cNvPicPr/>
          <p:nvPr/>
        </p:nvPicPr>
        <p:blipFill>
          <a:blip r:embed="rId1"/>
          <a:stretch/>
        </p:blipFill>
        <p:spPr>
          <a:xfrm>
            <a:off x="2362320" y="1295280"/>
            <a:ext cx="6324480" cy="4937400"/>
          </a:xfrm>
          <a:prstGeom prst="rect">
            <a:avLst/>
          </a:prstGeom>
          <a:ln w="0">
            <a:noFill/>
          </a:ln>
        </p:spPr>
      </p:pic>
      <p:sp>
        <p:nvSpPr>
          <p:cNvPr id="367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0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98D5-8674-411D-9CFF-D6622E0F30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560" y="122040"/>
            <a:ext cx="792468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The Structured Approach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685800" y="1295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tity-relationship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8" descr=""/>
          <p:cNvPicPr/>
          <p:nvPr/>
        </p:nvPicPr>
        <p:blipFill>
          <a:blip r:embed="rId1"/>
          <a:stretch/>
        </p:blipFill>
        <p:spPr>
          <a:xfrm>
            <a:off x="255600" y="2176560"/>
            <a:ext cx="8631360" cy="2500200"/>
          </a:xfrm>
          <a:prstGeom prst="rect">
            <a:avLst/>
          </a:prstGeom>
          <a:ln w="0">
            <a:noFill/>
          </a:ln>
        </p:spPr>
      </p:pic>
      <p:sp>
        <p:nvSpPr>
          <p:cNvPr id="37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C76B-683D-4067-AA63-26AA75FD2B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apter 8 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304920" y="152388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ystems Development Life Cycle (SDL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upport Phase of the SD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thodologies, Models, Tools and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Approaches to Software Construction and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gile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3CC7-8817-4C65-8986-9C2AD65D52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560" y="122040"/>
            <a:ext cx="792468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The Structured Approach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685800" y="1295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it fits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8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467480" cy="4276440"/>
          </a:xfrm>
          <a:prstGeom prst="rect">
            <a:avLst/>
          </a:prstGeom>
          <a:ln w="0">
            <a:noFill/>
          </a:ln>
        </p:spPr>
      </p:pic>
      <p:sp>
        <p:nvSpPr>
          <p:cNvPr id="38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A3DA-28B9-4F09-9996-0AFA5370CB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560" y="122040"/>
            <a:ext cx="792468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The Object-Oriented Approach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6858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ject-oriented analysis (O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process of identifying and defining the use cases and sets of objects (classes) in the new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ject-oriented design (O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fining all of the types of objects necessary to communicate with people and devices and showing how they interact to complete tas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ject-oriented programming (OO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riting statements that define the actual classes and what each object of the class d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8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296A-FC39-415E-B636-9DF0C58FDC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560" y="122040"/>
            <a:ext cx="792468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The Object-Oriented Approach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380880" y="1600200"/>
            <a:ext cx="2514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showing the O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s collaborate to get a task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6" descr=""/>
          <p:cNvPicPr/>
          <p:nvPr/>
        </p:nvPicPr>
        <p:blipFill>
          <a:blip r:embed="rId1"/>
          <a:stretch/>
        </p:blipFill>
        <p:spPr>
          <a:xfrm>
            <a:off x="2743200" y="1066680"/>
            <a:ext cx="5562720" cy="5166000"/>
          </a:xfrm>
          <a:prstGeom prst="rect">
            <a:avLst/>
          </a:prstGeom>
          <a:ln w="0">
            <a:noFill/>
          </a:ln>
        </p:spPr>
      </p:pic>
      <p:sp>
        <p:nvSpPr>
          <p:cNvPr id="40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8258-C5FA-4361-BA6A-636300CE69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560" y="122040"/>
            <a:ext cx="792468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The Object-Oriented Approach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457200" y="12193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ML Design Class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7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705360" cy="4418280"/>
          </a:xfrm>
          <a:prstGeom prst="rect">
            <a:avLst/>
          </a:prstGeom>
          <a:ln w="0">
            <a:noFill/>
          </a:ln>
        </p:spPr>
      </p:pic>
      <p:sp>
        <p:nvSpPr>
          <p:cNvPr id="40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12D4-D5F3-4B87-AB42-4665C6DBD15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560" y="122040"/>
            <a:ext cx="792468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The Object-Oriented Approach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5"/>
          <p:cNvSpPr/>
          <p:nvPr/>
        </p:nvSpPr>
        <p:spPr>
          <a:xfrm>
            <a:off x="457200" y="12193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ML Sequence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7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1680" cy="4586040"/>
          </a:xfrm>
          <a:prstGeom prst="rect">
            <a:avLst/>
          </a:prstGeom>
          <a:ln w="0">
            <a:noFill/>
          </a:ln>
        </p:spPr>
      </p:pic>
      <p:sp>
        <p:nvSpPr>
          <p:cNvPr id="41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020B-32A4-4137-B51A-617803BF75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mma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3049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457200" y="1066680"/>
            <a:ext cx="74674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chapter covers approaches to system development in more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two approaches to the SDLC: Predictive and Adap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predictive SDLC, also known as the waterfall model, is used when it is possible to plan the project completely in adv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Adaptive SDLC, which uses iteration, is used when the requirements are less certain and the project will need to react to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text uses an adaptive approach to the SD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0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DF4E-E4CD-4D3F-AE5F-B73CA567B23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mmary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(continued)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7"/>
          <p:cNvSpPr/>
          <p:nvPr/>
        </p:nvSpPr>
        <p:spPr>
          <a:xfrm>
            <a:off x="457200" y="914400"/>
            <a:ext cx="74674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 new information systems require support once comp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stem development project use a methodology (or development process) and many are available. A methodology includes an SDLC and tools, techniques, and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two approaches to construction and modeling software: the traditional structured approach and the newer object-oriented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5055-C514-4B6D-AD4D-B9914347D5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arning Objec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52280" y="914400"/>
            <a:ext cx="83822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re the underlying assumptions and uses of a predictive and an adaptive system development life cycle (SDL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Describe the key activities and tasks of information system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Explain what comprises a system development methodology—the SDLC as well as models, tools, and techniq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Describe the two overall approaches used for software construction and modeling: the structured approach and the object-oriented appro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DC66-95FE-4A69-8742-AC808B1E46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pter 1 demonstrated a system development project that used an iterative and agile system development life cycle (SD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ter chapters focused on Systems Analysis activities and tasks and some System Design activities and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 we return to look at the SDLC and related concepts in more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edictive versus Adaptive SDLC vari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tivities and Tasks of System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odels, Methodologies, Tools and Techniq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mpacts of Traditional versus OO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B7BA-EF64-4E30-9767-453A00B6981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The System Development Life Cycle (SDLC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two general approaches to the SD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dictive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fall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umes the project can be planned in advance and that the information system can be developed according to the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irements are well understood and/or low technical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aptive Approach to the SD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rative model (as see in this te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umes the project must be more flexible and adapt to changing needs as the project prog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irements and needs are uncertain and/or high technical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65C0-5AB9-4354-B1E1-1C84C78530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The System Development Life Cycle (SDLC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8686800" cy="26431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projects fall on a continuum between Predictive and Adap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83F5-3002-4244-A0D9-452B99AC0F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ditional Predictive SDL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30492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ier approach based on 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ically have sequential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hases are related groups of development activities, such as planning, analysis, design, implementation, and de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terfal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DLC that assumes phases can be completed sequentially with no overlap or it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Once one phase is completed, you fall over the waterfall to the next phase, no going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59B5-89F1-4712-BB5C-0BB3D73BE2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ditional Predictive SDL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09480" y="11430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533520" y="12193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86800" cy="4016520"/>
          </a:xfrm>
          <a:prstGeom prst="rect">
            <a:avLst/>
          </a:prstGeom>
          <a:ln w="0">
            <a:noFill/>
          </a:ln>
        </p:spPr>
      </p:pic>
      <p:sp>
        <p:nvSpPr>
          <p:cNvPr id="20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6:54:53Z</dcterms:created>
  <dc:creator>John</dc:creator>
  <dc:description/>
  <dc:language>en-US</dc:language>
  <cp:lastModifiedBy>az_chikh</cp:lastModifiedBy>
  <dcterms:modified xsi:type="dcterms:W3CDTF">2014-12-15T13:03:02Z</dcterms:modified>
  <cp:revision>107</cp:revision>
  <dc:subject/>
  <dc:title>Chapter 1: From bla to bl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