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8DDE-FE21-494D-BAF0-87886789AAC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D42A-F207-448D-9D6E-C48BD2225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C1B9-C48A-41EC-A93C-897D6B91D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6827-865B-481D-955D-42FA36EA9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1F7B-AAE1-48D7-914C-1CA483B42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7994-AE38-4D3C-9AC7-CAA80723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0077-5849-4D2B-B112-432A5CF0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5B5C-D57D-4070-B2EE-E572F3B0F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F02F-B684-467D-99F5-B7B02579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F82A-DB34-493E-8F73-187BA791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1C4A-2D91-4CE4-8757-654331E8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6FE3-6461-47B4-8784-E8E87A3E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B622-3491-40F5-89B3-9992AE23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C124-F48D-461C-9F15-3F80412B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F608-97F5-48D4-BF7D-AA071332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25F0-5EBF-4EEA-BB1F-E5A502DF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0662-E708-487C-862C-FFBA36CFEE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8521-F985-462B-8B08-A18603CA2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me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C:\Users\halmubarak.KSU1\Pictures\normal-sperm-morphology.jpg"/>
          <p:cNvPicPr/>
          <p:nvPr/>
        </p:nvPicPr>
        <p:blipFill>
          <a:blip r:embed="rId1"/>
          <a:stretch/>
        </p:blipFill>
        <p:spPr>
          <a:xfrm>
            <a:off x="8153280" y="1828800"/>
            <a:ext cx="695520" cy="3429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-360" y="11430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men is made up of fluid and of sper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The Fluid component is produced in various male  reproductive  organ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The seminal vesicl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duces a slightly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alkalin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luid which makes up 50% of the semen fluid (it contains citric acid , flavins , fructose and potassium , these substances provid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nutritional suppor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the spermatozoa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The prostate glan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ibutes a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idi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luid containing acid phosphates , citric acid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proteolytic enzym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including a clotting enzyme) , which makes up 20% of the semen flui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The rest is contributed by other male reproductive organs,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ch as the bulburethral and urethral glands , whic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produce a fluid important in lubricating the male reproductive sem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pon ejaculation the fluids from all these sources form the mixture sem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14600" y="2362320"/>
            <a:ext cx="81835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EMEN ANALY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000" spc="-1" strike="noStrike">
              <a:solidFill>
                <a:srgbClr val="b95c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Table 1" descr=""/>
          <p:cNvPicPr/>
          <p:nvPr/>
        </p:nvPicPr>
        <p:blipFill>
          <a:blip r:embed="rId1"/>
          <a:stretch/>
        </p:blipFill>
        <p:spPr>
          <a:xfrm>
            <a:off x="231840" y="384120"/>
            <a:ext cx="815004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able 1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223480" cy="65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Table 1" descr=""/>
          <p:cNvPicPr/>
          <p:nvPr/>
        </p:nvPicPr>
        <p:blipFill>
          <a:blip r:embed="rId1"/>
          <a:stretch/>
        </p:blipFill>
        <p:spPr>
          <a:xfrm>
            <a:off x="304920" y="231840"/>
            <a:ext cx="85280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able 1" descr=""/>
          <p:cNvPicPr/>
          <p:nvPr/>
        </p:nvPicPr>
        <p:blipFill>
          <a:blip r:embed="rId1"/>
          <a:stretch/>
        </p:blipFill>
        <p:spPr>
          <a:xfrm>
            <a:off x="463680" y="311040"/>
            <a:ext cx="8223120" cy="62420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permatozoa is formed in the testis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process of spermatozoa formation (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permatogenesi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 is under hormonal contro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permatozoa take over 70 days to develop and are produced solely in the testicles from a cell called 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permatogonium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permatogonium divides to produ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permatocyt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which then develop int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permatids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permatid develops its familiar tail and the cell gradually acquires the ability to move by beating its tai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permatid eventually develops into a mature spermatozoa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luid produced by the testicles contains several chemicals, but is particularly rich i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stoster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cess of spermatozoa formation is under hormonal control including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estosterone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,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Leuteinizing hormone LH , and Follicle- stimulating hormone FSH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www.ib.bioninja.com.au/_Media/spermatogenesis_med.jpeg"/>
          <p:cNvPicPr/>
          <p:nvPr/>
        </p:nvPicPr>
        <p:blipFill>
          <a:blip r:embed="rId2"/>
          <a:stretch/>
        </p:blipFill>
        <p:spPr>
          <a:xfrm>
            <a:off x="304920" y="1371600"/>
            <a:ext cx="858348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able 1" descr=""/>
          <p:cNvPicPr/>
          <p:nvPr/>
        </p:nvPicPr>
        <p:blipFill>
          <a:blip r:embed="rId1"/>
          <a:stretch/>
        </p:blipFill>
        <p:spPr>
          <a:xfrm>
            <a:off x="768240" y="1146240"/>
            <a:ext cx="761364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835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99c0"/>
                </a:solidFill>
                <a:latin typeface="Calibri"/>
              </a:rPr>
              <a:t>Normal sperm cou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concentration of spermatozoa should be at least 20 million per m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total volume of semen should be at least 2m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total number of spermatozoa in the ejaculate should be at least 40 mill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t least 75 percent of the spermatozoa should be alive (it is normal for up to 25 per cent to be dead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t least 30 percent of the spermatozoa should be of normal shape and form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t least 25 percent of the spermatozoa should be swimming with rapid forward moveme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rmal Semen Analysis Ran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88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Normal Values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lume ;  2.0 – 5.0 m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 ;  7.2- 7.8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or ; White , grayish whi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scosity; Visco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quefaction ; after 30 m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rm concentration  ;  20 – 250 million / m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tility ; &gt; 60% progressively moti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netration; &gt; 30 m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rmal Morphology ; &gt; 70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mature forms ; &lt; 2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ukocytes  ; None – Occasiona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rmal Semen Analysis R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 Blood Cells ; N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pithelial Cells ; None – fe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cteria ; N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uctose ; ( 300mg /d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p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rmal Morph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halmubarak.KSU1\Pictures\normal-sperm-morphology.jpg"/>
          <p:cNvPicPr/>
          <p:nvPr/>
        </p:nvPicPr>
        <p:blipFill>
          <a:blip r:embed="rId1"/>
          <a:stretch/>
        </p:blipFill>
        <p:spPr>
          <a:xfrm>
            <a:off x="1447920" y="2286000"/>
            <a:ext cx="695160" cy="3429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Placeholder 6"/>
          <p:cNvSpPr/>
          <p:nvPr/>
        </p:nvSpPr>
        <p:spPr>
          <a:xfrm>
            <a:off x="4724280" y="160020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Placeholder 6"/>
          <p:cNvSpPr/>
          <p:nvPr/>
        </p:nvSpPr>
        <p:spPr>
          <a:xfrm>
            <a:off x="4648320" y="167652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Placeholder 6"/>
          <p:cNvSpPr/>
          <p:nvPr/>
        </p:nvSpPr>
        <p:spPr>
          <a:xfrm>
            <a:off x="4572000" y="152388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normal Morph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:\Users\halmubarak.KSU1\Pictures\sperm2.jpg"/>
          <p:cNvPicPr/>
          <p:nvPr/>
        </p:nvPicPr>
        <p:blipFill>
          <a:blip r:embed="rId2"/>
          <a:stretch/>
        </p:blipFill>
        <p:spPr>
          <a:xfrm>
            <a:off x="4800600" y="2209680"/>
            <a:ext cx="3181320" cy="1903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C:\Users\halmubarak.KSU1\Pictures\sperm33.jpg"/>
          <p:cNvPicPr/>
          <p:nvPr/>
        </p:nvPicPr>
        <p:blipFill>
          <a:blip r:embed="rId3"/>
          <a:stretch/>
        </p:blipFill>
        <p:spPr>
          <a:xfrm>
            <a:off x="4800600" y="4387680"/>
            <a:ext cx="33336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thumbs.dreamstime.com/z/morphology-sperm-normal-abnormal-structure-52012145.jpg"/>
          <p:cNvPicPr/>
          <p:nvPr/>
        </p:nvPicPr>
        <p:blipFill>
          <a:blip r:embed="rId1"/>
          <a:stretch/>
        </p:blipFill>
        <p:spPr>
          <a:xfrm>
            <a:off x="609480" y="457200"/>
            <a:ext cx="769644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18:35:38Z</dcterms:created>
  <dc:creator>halmubarak</dc:creator>
  <dc:description/>
  <dc:language>en-US</dc:language>
  <cp:lastModifiedBy>aalbity</cp:lastModifiedBy>
  <dcterms:modified xsi:type="dcterms:W3CDTF">2016-03-23T06:08:31Z</dcterms:modified>
  <cp:revision>173</cp:revision>
  <dc:subject/>
  <dc:title>Sem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