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A633-201F-4324-BC78-E83724E2B1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6BC3-FE2F-461A-840E-E1A9C386E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BA85-4319-4B15-A947-CE1520C86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7C2-E9CF-4C2E-9310-0CB403312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4F0-C7E5-43C8-A49A-85FFE588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231-F010-4858-8ED2-4730D90F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8CE-3E41-474D-8F6C-3BED92F4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FB8-087E-421D-868B-C808BDB2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CC6-B189-4399-A836-09DA047E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82D-3786-48ED-AD9A-05674EAA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DD9-CBE4-4F02-A92C-C5B7D27B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299-A236-4BEC-A38B-66900E0B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AB1-3BC8-4F8F-8254-C75EF64F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68E-4B04-46CE-B83B-DD99FBD4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799-5A64-487B-AFD4-F7675923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AE2-D696-4F41-BC69-8A2F5527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1756-02FC-4267-9755-3A4F70A36B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4BB7-ABCB-4CB6-925F-3A0AE9706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m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Users\halmubarak.KSU1\Pictures\normal-sperm-morphology.jpg"/>
          <p:cNvPicPr/>
          <p:nvPr/>
        </p:nvPicPr>
        <p:blipFill>
          <a:blip r:embed="rId1"/>
          <a:stretch/>
        </p:blipFill>
        <p:spPr>
          <a:xfrm>
            <a:off x="8153280" y="1828800"/>
            <a:ext cx="69552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36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en is made up of fluid and of sp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e Fluid component is produced in various male  reproductive  orga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The seminal vesicl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es a slightl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lkali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luid which makes up 50% of the semen fluid (it contains citric acid , flavins , fructose and potassium , these substances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utritional suppor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the spermatozo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The prostate gl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ibutes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id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luid containing acid phosphates , citric acid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oteolytic enzym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ncluding a clotting enzyme) , which makes up 20% of the semen flu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The rest is contributed by other male reproductive organs,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as the bulburethral and urethral glands ,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oduce a fluid important in lubricating the male reproductive sem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pon ejaculation the fluids from all these sources form the mixture sem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23623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MEN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b95c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able 1" descr=""/>
          <p:cNvPicPr/>
          <p:nvPr/>
        </p:nvPicPr>
        <p:blipFill>
          <a:blip r:embed="rId1"/>
          <a:stretch/>
        </p:blipFill>
        <p:spPr>
          <a:xfrm>
            <a:off x="231840" y="384120"/>
            <a:ext cx="81500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able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22348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able 1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5280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able 1" descr=""/>
          <p:cNvPicPr/>
          <p:nvPr/>
        </p:nvPicPr>
        <p:blipFill>
          <a:blip r:embed="rId1"/>
          <a:stretch/>
        </p:blipFill>
        <p:spPr>
          <a:xfrm>
            <a:off x="463680" y="311040"/>
            <a:ext cx="8223120" cy="6242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ermatozoa is formed in the testis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cess of spermatozoa formation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ermatogenes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is under hormonal contro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ermatozoa take over 70 days to develop and are produced solely in the testicles from a cell called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rmatogoniu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ermatogonium divides to produ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rmatocy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hich then develop in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rmatid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ermatid develops its familiar tail and the cell gradually acquires the ability to move by beating its ta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ermatid eventually develops into a mature spermatozo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luid produced by the testicles contains several chemicals, but is particularly rich 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spermatozoa formation is under hormonal control including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estosterone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,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euteinizing hormone LH , and Follicle- stimulating hormone FSH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ib.bioninja.com.au/_Media/spermatogenesis_med.jpeg"/>
          <p:cNvPicPr/>
          <p:nvPr/>
        </p:nvPicPr>
        <p:blipFill>
          <a:blip r:embed="rId2"/>
          <a:stretch/>
        </p:blipFill>
        <p:spPr>
          <a:xfrm>
            <a:off x="304920" y="1371600"/>
            <a:ext cx="85834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able 1" descr=""/>
          <p:cNvPicPr/>
          <p:nvPr/>
        </p:nvPicPr>
        <p:blipFill>
          <a:blip r:embed="rId1"/>
          <a:stretch/>
        </p:blipFill>
        <p:spPr>
          <a:xfrm>
            <a:off x="768240" y="1146240"/>
            <a:ext cx="76136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99c0"/>
                </a:solidFill>
                <a:latin typeface="Calibri"/>
              </a:rPr>
              <a:t>Normal sperm co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oncentration of spermatozoa should be at least 20 million per m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otal volume of semen should be at least 2m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otal number of spermatozoa in the ejaculate should be at least 40 mill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 least 75 percent of the spermatozoa should be alive (it is normal for up to 25 per cent to be dea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 least 30 percent of the spermatozoa should be of normal shape and for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 least 25 percent of the spermatozoa should be swimming with rapid forward moveme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Semen Analysis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Normal Value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ume ;  2.0 – 5.0 m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 ;  7.2- 7.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r ; White , grayish whi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cosity; Visc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efaction ; after 30 m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rm concentration  ;  20 – 250 million / m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lity ; &gt; 60% progressively mot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etration; &gt; 30 m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 Morphology ; &gt; 7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mature forms ; &lt; 2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ukocytes  ; None – Occasio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Semen Analysis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 ; N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thelial Cells ; None – f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; N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uctose ; ( 300mg /d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mal Morph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halmubarak.KSU1\Pictures\normal-sperm-morphology.jpg"/>
          <p:cNvPicPr/>
          <p:nvPr/>
        </p:nvPicPr>
        <p:blipFill>
          <a:blip r:embed="rId1"/>
          <a:stretch/>
        </p:blipFill>
        <p:spPr>
          <a:xfrm>
            <a:off x="1447920" y="2286000"/>
            <a:ext cx="69516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Placeholder 6"/>
          <p:cNvSpPr/>
          <p:nvPr/>
        </p:nvSpPr>
        <p:spPr>
          <a:xfrm>
            <a:off x="4724280" y="16002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Placeholder 6"/>
          <p:cNvSpPr/>
          <p:nvPr/>
        </p:nvSpPr>
        <p:spPr>
          <a:xfrm>
            <a:off x="4648320" y="167652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Placeholder 6"/>
          <p:cNvSpPr/>
          <p:nvPr/>
        </p:nvSpPr>
        <p:spPr>
          <a:xfrm>
            <a:off x="4572000" y="152388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normal 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Users\halmubarak.KSU1\Pictures\sperm2.jpg"/>
          <p:cNvPicPr/>
          <p:nvPr/>
        </p:nvPicPr>
        <p:blipFill>
          <a:blip r:embed="rId2"/>
          <a:stretch/>
        </p:blipFill>
        <p:spPr>
          <a:xfrm>
            <a:off x="4800600" y="2209680"/>
            <a:ext cx="3181320" cy="1903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halmubarak.KSU1\Pictures\sperm33.jpg"/>
          <p:cNvPicPr/>
          <p:nvPr/>
        </p:nvPicPr>
        <p:blipFill>
          <a:blip r:embed="rId3"/>
          <a:stretch/>
        </p:blipFill>
        <p:spPr>
          <a:xfrm>
            <a:off x="4800600" y="4387680"/>
            <a:ext cx="33336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thumbs.dreamstime.com/z/morphology-sperm-normal-abnormal-structure-52012145.jpg"/>
          <p:cNvPicPr/>
          <p:nvPr/>
        </p:nvPicPr>
        <p:blipFill>
          <a:blip r:embed="rId1"/>
          <a:stretch/>
        </p:blipFill>
        <p:spPr>
          <a:xfrm>
            <a:off x="609480" y="457200"/>
            <a:ext cx="7696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8:35:38Z</dcterms:created>
  <dc:creator>halmubarak</dc:creator>
  <dc:description/>
  <dc:language>en-US</dc:language>
  <cp:lastModifiedBy>aalbity</cp:lastModifiedBy>
  <dcterms:modified xsi:type="dcterms:W3CDTF">2016-03-23T06:08:31Z</dcterms:modified>
  <cp:revision>173</cp:revision>
  <dc:subject/>
  <dc:title>Sem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