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6F9E-4935-4753-8099-4F150222FFD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4AA1-FF58-482E-BA54-DB7F4ADC86E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EB7-A143-435C-82B7-FEA2C64E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04F-EFC4-4B3A-8D5E-FEA74756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679-144B-4B11-B9AD-F1175745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D4D-5438-47C9-9867-C6DB88BA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561-9A56-446E-AFBA-9D1DDE91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030-D06F-4358-B85E-DF13217A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FC7-00D3-4C8C-9DA5-2D9EF02A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B0E-F2BE-4ECF-BBB5-C66697E8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3ED-BA86-45AE-8B0B-7996EE7A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2CE-3B9E-4FB2-91CB-9C295AE7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4DE-29AC-4785-A13A-564D0A6F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111-0B7F-4438-89EF-B424654C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9888-A4B6-4EF7-9D55-97720825B8F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76CF-29C4-464E-9BF0-ED06A689448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DCB0-B3A6-4E91-B8B1-F508A552F7E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D4BC-5FB0-4707-8267-82F54ACC32E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nd now for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23619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endParaRPr b="0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54C8-54D5-4A17-8E78-08FB2751BDC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6B8F-D88D-40B5-BE17-8529E2AC96C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ometric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do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2394000" y="974880"/>
                <a:ext cx="246384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Rectangle 5"/>
          <p:cNvSpPr/>
          <p:nvPr/>
        </p:nvSpPr>
        <p:spPr>
          <a:xfrm>
            <a:off x="304920" y="22096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serve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 = 1 +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105520" y="1066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??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04920" y="32004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  =  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04920" y="3809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,   (aS - S) = (a - 1)S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-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04920" y="4724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1 +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(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- 1) / (a -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04920" y="5181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mic Sans MS"/>
              </a:rPr>
              <a:t>For example: 1 + 2 + 4 + 8 +… + 1024 = 2047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540F-78BF-4B83-BC58-CAEEFAC08E7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B6C5-1FF9-456D-A29C-4DF04C1D337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Useful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888840" y="1828800"/>
                <a:ext cx="24638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914400" y="838080"/>
                <a:ext cx="22226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919080" y="2894040"/>
                <a:ext cx="34243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9"/>
              <p:cNvSpPr txBox="1"/>
              <p:nvPr/>
            </p:nvSpPr>
            <p:spPr>
              <a:xfrm>
                <a:off x="907920" y="3868560"/>
                <a:ext cx="2673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7C41-97AD-4AAC-B260-7A44A9B956B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C969-1870-4170-AF29-20046E9C4BD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ouble 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rresponding to nested loops in C or Java, there is also double (or triple etc.) summa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457200" y="2514600"/>
                <a:ext cx="1143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457200" y="3505320"/>
                <a:ext cx="17524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457200" y="4572000"/>
                <a:ext cx="10684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457200" y="5638680"/>
                <a:ext cx="3502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C39F-0A6B-4D2F-AFDE-87FA84DE0A8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2D22-F4BA-42D3-97F4-31611C74C08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quenc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pres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rdered lis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efined as a function from a subset of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a set S. We use the notation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denote the image of the integer n. We call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term of the sequen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bset of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       1   2   3   4   5  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80880" y="4724280"/>
            <a:ext cx="8458200" cy="1295640"/>
            <a:chOff x="380880" y="4724280"/>
            <a:chExt cx="8458200" cy="1295640"/>
          </a:xfrm>
        </p:grpSpPr>
        <p:sp>
          <p:nvSpPr>
            <p:cNvPr id="57" name="Rectangle 4"/>
            <p:cNvSpPr/>
            <p:nvPr/>
          </p:nvSpPr>
          <p:spPr>
            <a:xfrm>
              <a:off x="380880" y="5410080"/>
              <a:ext cx="8458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S:                        2   4   6   8   10  …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350496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403848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57164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510516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563868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6C69-0461-48B3-BBF0-AD789917606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6C19-0877-46EB-B81D-5CDF0CBAD3B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quenc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use the notation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to describe a sequen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ortant: Do not confuse this with the {} used in set nota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convenient to describe a sequence with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ormul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sequence on the previous slide can be specified as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, where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1CE8-DE98-4F57-B734-1E80EF37996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D241-D67C-4442-BEE2-781D0BC2CE9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Formula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, 3, 5, 7, 9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952880" y="23623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2n -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09480" y="3124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1, 1, -1, 1, -1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952880" y="3124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(-1)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09480" y="38862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, 5, 10, 17, 26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4952880" y="388620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609480" y="46483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.25, 0.5, 0.75, 1, 1.25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952880" y="46483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0.25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609480" y="541008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, 9, 27, 81, 243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4952880" y="5410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3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60948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are the formulas that describe the following sequences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2CCC-DAA7-4F9C-A5B3-6387583DEAF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712C-3273-4288-8F53-F3CE99AE6DA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rin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nite sequences are also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tring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ngt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string S is the number of terms that it consists 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mpty str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tains no terms at all. It has length zer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0522-C472-4548-AA2C-2FCD2458778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D378-316C-45B8-BB42-0F195EFF3CA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represents the sum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+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+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variable j is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ex of summ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running from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ower limi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 to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upper limi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. We could as well have used any other letter to denote this index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1066680"/>
            <a:ext cx="8001000" cy="990360"/>
            <a:chOff x="380880" y="1066680"/>
            <a:chExt cx="8001000" cy="990360"/>
          </a:xfrm>
        </p:grpSpPr>
        <mc:AlternateContent>
          <mc:Choice xmlns:a14="http://schemas.microsoft.com/office/drawing/2010/main" Requires="a14">
            <p:sp>
              <p:nvSpPr>
                <p:cNvPr id="90" name="Object 5"/>
                <p:cNvSpPr txBox="1"/>
                <p:nvPr/>
              </p:nvSpPr>
              <p:spPr>
                <a:xfrm>
                  <a:off x="2362320" y="1066680"/>
                  <a:ext cx="84924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1" name="Rectangle 6"/>
            <p:cNvSpPr/>
            <p:nvPr/>
          </p:nvSpPr>
          <p:spPr>
            <a:xfrm>
              <a:off x="380880" y="1295280"/>
              <a:ext cx="8001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does          stand for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FC8C-2EB6-4F67-BC38-896F9C7EABC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8DDA-DF48-4AFF-B346-0EB4B63E568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3886200"/>
            <a:ext cx="5410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1 + 2 + 3 + 4 + 5 + 6 = 2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304920" y="2057400"/>
            <a:ext cx="4038480" cy="984240"/>
            <a:chOff x="304920" y="2057400"/>
            <a:chExt cx="4038480" cy="984240"/>
          </a:xfrm>
        </p:grpSpPr>
        <p:sp>
          <p:nvSpPr>
            <p:cNvPr id="97" name="Rectangle 4"/>
            <p:cNvSpPr/>
            <p:nvPr/>
          </p:nvSpPr>
          <p:spPr>
            <a:xfrm>
              <a:off x="304920" y="2286000"/>
              <a:ext cx="4038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We write it as         .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5"/>
                <p:cNvSpPr txBox="1"/>
                <p:nvPr/>
              </p:nvSpPr>
              <p:spPr>
                <a:xfrm>
                  <a:off x="2895480" y="2057400"/>
                  <a:ext cx="84312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sup>
                        <m:e>
                          <m:sSup>
                            <m:e>
                              <m:r>
                                <m:t xml:space="preserve">j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Group 10"/>
          <p:cNvGrpSpPr/>
          <p:nvPr/>
        </p:nvGrpSpPr>
        <p:grpSpPr>
          <a:xfrm>
            <a:off x="304920" y="2781360"/>
            <a:ext cx="4876560" cy="1060560"/>
            <a:chOff x="304920" y="2781360"/>
            <a:chExt cx="4876560" cy="1060560"/>
          </a:xfrm>
        </p:grpSpPr>
        <p:sp>
          <p:nvSpPr>
            <p:cNvPr id="100" name="Rectangle 7"/>
            <p:cNvSpPr/>
            <p:nvPr/>
          </p:nvSpPr>
          <p:spPr>
            <a:xfrm>
              <a:off x="304920" y="3048120"/>
              <a:ext cx="4876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is the value of         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8"/>
                <p:cNvSpPr txBox="1"/>
                <p:nvPr/>
              </p:nvSpPr>
              <p:spPr>
                <a:xfrm>
                  <a:off x="3886200" y="2781360"/>
                  <a:ext cx="727200" cy="106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r>
                            <m:t xml:space="preserve">j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Rectangle 11"/>
          <p:cNvSpPr/>
          <p:nvPr/>
        </p:nvSpPr>
        <p:spPr>
          <a:xfrm>
            <a:off x="457200" y="552456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so much work to calculate this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80880" y="4419720"/>
            <a:ext cx="4876920" cy="1060200"/>
            <a:chOff x="380880" y="4419720"/>
            <a:chExt cx="4876920" cy="1060200"/>
          </a:xfrm>
        </p:grpSpPr>
        <p:sp>
          <p:nvSpPr>
            <p:cNvPr id="104" name="Rectangle 13"/>
            <p:cNvSpPr/>
            <p:nvPr/>
          </p:nvSpPr>
          <p:spPr>
            <a:xfrm>
              <a:off x="380880" y="4686480"/>
              <a:ext cx="4876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is the value of         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14"/>
                <p:cNvSpPr txBox="1"/>
                <p:nvPr/>
              </p:nvSpPr>
              <p:spPr>
                <a:xfrm>
                  <a:off x="3962520" y="4419720"/>
                  <a:ext cx="72684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p>
                        <m:e>
                          <m:r>
                            <m:t xml:space="preserve">j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Rectangle 16"/>
          <p:cNvSpPr/>
          <p:nvPr/>
        </p:nvSpPr>
        <p:spPr>
          <a:xfrm>
            <a:off x="304920" y="76212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ow can we express the sum of the first 1000 terms of the sequence {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} with 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=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for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 = 1, 2, 3, …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CCF6-ABB3-425A-AF8D-A20963A739A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6A24-E380-4B14-98C4-F8B3573114A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said that Friedrich Gauss came up with the following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457200" y="2133720"/>
                <a:ext cx="22226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Rectangle 5"/>
          <p:cNvSpPr/>
          <p:nvPr/>
        </p:nvSpPr>
        <p:spPr>
          <a:xfrm>
            <a:off x="304920" y="33526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you have such a formula, the result of any summation can be calculated much more easily,   fo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457200" y="4876920"/>
                <a:ext cx="519588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76EB-A29E-449B-ADFF-702B8F84D0E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C592-40EB-4268-8E70-5AD4D96C862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ithemetic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do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438280" y="990720"/>
                <a:ext cx="22226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Rectangle 5"/>
          <p:cNvSpPr/>
          <p:nvPr/>
        </p:nvSpPr>
        <p:spPr>
          <a:xfrm>
            <a:off x="304920" y="24382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serve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3 +…+ n/2 + (n/2 + 1) +…+ (n - 2) + (n - 1) + 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105520" y="1066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??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80880" y="36576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[1 + n] + [2 + (n - 1)] + [3 + (n - 2)] +…+ [n/2 + (n/2 + 1)]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04920" y="4343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(n + 1) + (n + 1) + (n + 1) + … + (n + 1)  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(with n/2 terms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5029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n(n + 1)/2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0:40Z</dcterms:modified>
  <cp:revision>57</cp:revision>
  <dc:subject/>
  <dc:title>PowerPoint Presentation</dc:title>
</cp:coreProperties>
</file>