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FC81C-550D-4D5C-A117-CA617F63A289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6C2B6-AD1A-4331-8325-28A21075C9A6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B8DB-5AB8-4E61-8957-38E2959F6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572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EBAA-081B-41D4-A9BA-FCC62D8D1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172B-3527-43BC-9CA3-81F7C1C6B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2CA1-996F-4CB6-9F24-AB001ECAA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547E-EB6B-4AC7-903D-9D90C281F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FE65-96C5-4984-99A4-EFC38A60D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653E-A911-4CDE-9B24-C8BC324AB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D88A-931A-4BFF-84AC-6A5050CE6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59E9-DDB4-4B48-8AE5-499A9414B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CA1B-22BF-4FD4-932C-063D39792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4FD7-0252-49B2-AD67-06FED2B68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2FD0-ECFF-4D5B-9054-DC182F44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c1c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1" marL="315360" indent="-315360">
              <a:spcBef>
                <a:spcPts val="901"/>
              </a:spcBef>
              <a:buClr>
                <a:srgbClr val="ffff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2" marL="315360" indent="-315360"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3" marL="315360" indent="-315360">
              <a:spcBef>
                <a:spcPts val="901"/>
              </a:spcBef>
              <a:buClr>
                <a:srgbClr val="ffff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4" marL="315360" indent="-315360">
              <a:spcBef>
                <a:spcPts val="901"/>
              </a:spcBef>
              <a:buClr>
                <a:srgbClr val="ffff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5" marL="315360" indent="-3153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6" marL="315360" indent="-3153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cc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AE6F7-F69E-4155-A674-5C2463A6189F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cc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CMSC 203 - Discrete Structures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cc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EBF41-93CD-409A-91C3-C15EDC9EC430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A17A7-010B-48B4-92F1-D8F040AA855D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73A32-7281-4EB3-87B6-B1E4DC1B84CE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…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nd now for…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80720" y="2361960"/>
            <a:ext cx="52578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ffff"/>
                </a:solidFill>
                <a:latin typeface="Comic Sans MS"/>
              </a:rPr>
              <a:t>Sequences</a:t>
            </a:r>
            <a:endParaRPr b="0" lang="en-US" sz="8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A94E2-7551-4E71-9D59-3BD93FD3C392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E89DB-B218-48BD-9BE9-C93CB85ECBB2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Geometric Serie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How does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4"/>
              <p:cNvSpPr txBox="1"/>
              <p:nvPr/>
            </p:nvSpPr>
            <p:spPr>
              <a:xfrm>
                <a:off x="2394000" y="974880"/>
                <a:ext cx="2463840" cy="108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29" name="Rectangle 5"/>
          <p:cNvSpPr/>
          <p:nvPr/>
        </p:nvSpPr>
        <p:spPr>
          <a:xfrm>
            <a:off x="304920" y="2209680"/>
            <a:ext cx="86868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Observe that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 = 1 + a + a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+ a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+ … + a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n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5105520" y="106668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??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304920" y="3200400"/>
            <a:ext cx="8686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S  =   a + a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+ a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+ … + a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+ a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(n+1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304920" y="3809880"/>
            <a:ext cx="8686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o,   (aS - S) = (a - 1)S = a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(n+1)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- 1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304920" y="4724280"/>
            <a:ext cx="8686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fore, 1 + a + a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+ … + a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= (a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(n+1)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- 1) / (a - 1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304920" y="5181480"/>
            <a:ext cx="8686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ff"/>
                </a:solidFill>
                <a:latin typeface="Comic Sans MS"/>
              </a:rPr>
              <a:t>For example: 1 + 2 + 4 + 8 +… + 1024 = 2047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AFD30-68E7-43FB-A44F-DE1CC01F1A52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034E0-0442-487B-818F-787B327CD83B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Useful Serie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104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1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2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3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4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4"/>
              <p:cNvSpPr txBox="1"/>
              <p:nvPr/>
            </p:nvSpPr>
            <p:spPr>
              <a:xfrm>
                <a:off x="888840" y="1828800"/>
                <a:ext cx="246384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7"/>
              <p:cNvSpPr txBox="1"/>
              <p:nvPr/>
            </p:nvSpPr>
            <p:spPr>
              <a:xfrm>
                <a:off x="914400" y="838080"/>
                <a:ext cx="2222640" cy="105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j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Object 8"/>
              <p:cNvSpPr txBox="1"/>
              <p:nvPr/>
            </p:nvSpPr>
            <p:spPr>
              <a:xfrm>
                <a:off x="919080" y="2894040"/>
                <a:ext cx="3424320" cy="10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r>
                              <m:t xml:space="preserve">j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Object 9"/>
              <p:cNvSpPr txBox="1"/>
              <p:nvPr/>
            </p:nvSpPr>
            <p:spPr>
              <a:xfrm>
                <a:off x="907920" y="3868560"/>
                <a:ext cx="267336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r>
                              <m:t xml:space="preserve">j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D82B4-ACEC-4312-AC00-AB18C38C6867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7B258-ECAC-4392-913B-CFF86080EBEF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Double Summat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8390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orresponding to nested loops in C or Java, there is also double (or triple etc.) summation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Example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6"/>
              <p:cNvSpPr txBox="1"/>
              <p:nvPr/>
            </p:nvSpPr>
            <p:spPr>
              <a:xfrm>
                <a:off x="457200" y="2514600"/>
                <a:ext cx="114300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5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7"/>
              <p:cNvSpPr txBox="1"/>
              <p:nvPr/>
            </p:nvSpPr>
            <p:spPr>
              <a:xfrm>
                <a:off x="457200" y="3505320"/>
                <a:ext cx="1752480" cy="100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5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8"/>
              <p:cNvSpPr txBox="1"/>
              <p:nvPr/>
            </p:nvSpPr>
            <p:spPr>
              <a:xfrm>
                <a:off x="457200" y="4572000"/>
                <a:ext cx="106848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5</m:t>
                        </m:r>
                      </m:sup>
                      <m:e>
                        <m:r>
                          <m:t xml:space="preserve">3</m:t>
                        </m:r>
                        <m:r>
                          <m:t xml:space="preserve">i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9"/>
              <p:cNvSpPr txBox="1"/>
              <p:nvPr/>
            </p:nvSpPr>
            <p:spPr>
              <a:xfrm>
                <a:off x="457200" y="5638680"/>
                <a:ext cx="350208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9E734-C1F4-4041-9A5A-BED230D8301D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70FD5-4191-49B4-A98A-3DC7343F8B22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quence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61084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Sequences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represent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ordered lists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of element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sequenc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s defined as a function from a subset of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to a set S. We use the notation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to denote the image of the integer n. We call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 term of the sequenc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xample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ubset of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:        1   2   3   4   5   …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56" name="Group 14"/>
          <p:cNvGrpSpPr/>
          <p:nvPr/>
        </p:nvGrpSpPr>
        <p:grpSpPr>
          <a:xfrm>
            <a:off x="380880" y="4724280"/>
            <a:ext cx="8458200" cy="1295640"/>
            <a:chOff x="380880" y="4724280"/>
            <a:chExt cx="8458200" cy="1295640"/>
          </a:xfrm>
        </p:grpSpPr>
        <p:sp>
          <p:nvSpPr>
            <p:cNvPr id="57" name="Rectangle 4"/>
            <p:cNvSpPr/>
            <p:nvPr/>
          </p:nvSpPr>
          <p:spPr>
            <a:xfrm>
              <a:off x="380880" y="5410080"/>
              <a:ext cx="84582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S:                        2   4   6   8   10  …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58" name="Line 5"/>
            <p:cNvSpPr/>
            <p:nvPr/>
          </p:nvSpPr>
          <p:spPr>
            <a:xfrm>
              <a:off x="3504960" y="4724280"/>
              <a:ext cx="0" cy="609840"/>
            </a:xfrm>
            <a:prstGeom prst="line">
              <a:avLst/>
            </a:prstGeom>
            <a:ln w="1908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59" name="Line 6"/>
            <p:cNvSpPr/>
            <p:nvPr/>
          </p:nvSpPr>
          <p:spPr>
            <a:xfrm>
              <a:off x="4038480" y="4724280"/>
              <a:ext cx="0" cy="609840"/>
            </a:xfrm>
            <a:prstGeom prst="line">
              <a:avLst/>
            </a:prstGeom>
            <a:ln w="1908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60" name="Line 7"/>
            <p:cNvSpPr/>
            <p:nvPr/>
          </p:nvSpPr>
          <p:spPr>
            <a:xfrm>
              <a:off x="4571640" y="4724280"/>
              <a:ext cx="0" cy="609840"/>
            </a:xfrm>
            <a:prstGeom prst="line">
              <a:avLst/>
            </a:prstGeom>
            <a:ln w="1908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61" name="Line 8"/>
            <p:cNvSpPr/>
            <p:nvPr/>
          </p:nvSpPr>
          <p:spPr>
            <a:xfrm>
              <a:off x="5105160" y="4724280"/>
              <a:ext cx="0" cy="609840"/>
            </a:xfrm>
            <a:prstGeom prst="line">
              <a:avLst/>
            </a:prstGeom>
            <a:ln w="1908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62" name="Line 9"/>
            <p:cNvSpPr/>
            <p:nvPr/>
          </p:nvSpPr>
          <p:spPr>
            <a:xfrm>
              <a:off x="5638680" y="4724280"/>
              <a:ext cx="0" cy="609840"/>
            </a:xfrm>
            <a:prstGeom prst="line">
              <a:avLst/>
            </a:prstGeom>
            <a:ln w="1908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26F66-BB07-4E44-B0EA-44C801325B5E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F059D-E128-49CD-B54B-7DFADA82E33C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quence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e use the notation {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} to describe a sequenc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Important: Do not confuse this with the {} used in set notation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t is convenient to describe a sequence with a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formula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or example, the sequence on the previous slide can be specified as {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}, where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= 2n.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41DAF-BC9E-434A-80F6-4F42BF3E4C30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4112F-A283-487B-B2B6-E7524F443AE9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The Formula Game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120" y="2361960"/>
            <a:ext cx="30481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1, 3, 5, 7, 9, …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4952880" y="2362320"/>
            <a:ext cx="3048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a</a:t>
            </a:r>
            <a:r>
              <a:rPr b="0" lang="en-US" sz="2800" spc="-1" strike="noStrike" baseline="-25000">
                <a:solidFill>
                  <a:srgbClr val="00ffff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 = 2n - 1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609480" y="3124080"/>
            <a:ext cx="3048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-1, 1, -1, 1, -1, …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4952880" y="3124080"/>
            <a:ext cx="3048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a</a:t>
            </a:r>
            <a:r>
              <a:rPr b="0" lang="en-US" sz="2800" spc="-1" strike="noStrike" baseline="-25000">
                <a:solidFill>
                  <a:srgbClr val="00ffff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 = (-1)</a:t>
            </a:r>
            <a:r>
              <a:rPr b="0" lang="en-US" sz="2800" spc="-1" strike="noStrike" baseline="30000">
                <a:solidFill>
                  <a:srgbClr val="00ffff"/>
                </a:solidFill>
                <a:latin typeface="Comic Sans MS"/>
              </a:rPr>
              <a:t>n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609480" y="3886200"/>
            <a:ext cx="3276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2, 5, 10, 17, 26, …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5" name="Rectangle 8"/>
          <p:cNvSpPr/>
          <p:nvPr/>
        </p:nvSpPr>
        <p:spPr>
          <a:xfrm>
            <a:off x="4952880" y="3886200"/>
            <a:ext cx="3048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a</a:t>
            </a:r>
            <a:r>
              <a:rPr b="0" lang="en-US" sz="2800" spc="-1" strike="noStrike" baseline="-25000">
                <a:solidFill>
                  <a:srgbClr val="00ffff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 = n</a:t>
            </a:r>
            <a:r>
              <a:rPr b="0" lang="en-US" sz="2800" spc="-1" strike="noStrike" baseline="30000">
                <a:solidFill>
                  <a:srgbClr val="00ffff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 + 1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6" name="Rectangle 9"/>
          <p:cNvSpPr/>
          <p:nvPr/>
        </p:nvSpPr>
        <p:spPr>
          <a:xfrm>
            <a:off x="609480" y="4648320"/>
            <a:ext cx="4419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0.25, 0.5, 0.75, 1, 1.25 …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7" name="Rectangle 10"/>
          <p:cNvSpPr/>
          <p:nvPr/>
        </p:nvSpPr>
        <p:spPr>
          <a:xfrm>
            <a:off x="4952880" y="4648320"/>
            <a:ext cx="3048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a</a:t>
            </a:r>
            <a:r>
              <a:rPr b="0" lang="en-US" sz="2800" spc="-1" strike="noStrike" baseline="-25000">
                <a:solidFill>
                  <a:srgbClr val="00ffff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 = 0.25n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8" name="Rectangle 11"/>
          <p:cNvSpPr/>
          <p:nvPr/>
        </p:nvSpPr>
        <p:spPr>
          <a:xfrm>
            <a:off x="609480" y="5410080"/>
            <a:ext cx="4419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3, 9, 27, 81, 243, …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9" name="Rectangle 12"/>
          <p:cNvSpPr/>
          <p:nvPr/>
        </p:nvSpPr>
        <p:spPr>
          <a:xfrm>
            <a:off x="4952880" y="5410080"/>
            <a:ext cx="3048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a</a:t>
            </a:r>
            <a:r>
              <a:rPr b="0" lang="en-US" sz="2800" spc="-1" strike="noStrike" baseline="-25000">
                <a:solidFill>
                  <a:srgbClr val="00ffff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 = 3</a:t>
            </a:r>
            <a:r>
              <a:rPr b="0" lang="en-US" sz="2800" spc="-1" strike="noStrike" baseline="30000">
                <a:solidFill>
                  <a:srgbClr val="00ffff"/>
                </a:solidFill>
                <a:latin typeface="Comic Sans MS"/>
              </a:rPr>
              <a:t>n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0" name="Rectangle 13"/>
          <p:cNvSpPr/>
          <p:nvPr/>
        </p:nvSpPr>
        <p:spPr>
          <a:xfrm>
            <a:off x="609480" y="1143000"/>
            <a:ext cx="7543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hat are the formulas that describe the following sequences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… 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9323F-DF2A-4DB7-9368-F46940AFE3AC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C5710-4081-4D4D-BCA4-23DE241B8D39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ring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inite sequences are also called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strings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denoted by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…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length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of a string S is the number of terms that it consists of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mpty string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contains no terms at all. It has length zero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CCF26-CB4A-48C3-9969-17C64F561F91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E3494-BDBF-4539-B46C-252FB5F6F04B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ummat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236196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t represents the sum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+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m+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+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m+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+ … +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variable j is called the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index of summatio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running from its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lower limit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m to its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upper limit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n. We could as well have used any other letter to denote this index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89" name="Group 8"/>
          <p:cNvGrpSpPr/>
          <p:nvPr/>
        </p:nvGrpSpPr>
        <p:grpSpPr>
          <a:xfrm>
            <a:off x="380880" y="1066680"/>
            <a:ext cx="8001000" cy="990360"/>
            <a:chOff x="380880" y="1066680"/>
            <a:chExt cx="8001000" cy="990360"/>
          </a:xfrm>
        </p:grpSpPr>
        <mc:AlternateContent>
          <mc:Choice xmlns:a14="http://schemas.microsoft.com/office/drawing/2010/main" Requires="a14">
            <p:sp>
              <p:nvSpPr>
                <p:cNvPr id="90" name="Object 5"/>
                <p:cNvSpPr txBox="1"/>
                <p:nvPr/>
              </p:nvSpPr>
              <p:spPr>
                <a:xfrm>
                  <a:off x="2362320" y="1066680"/>
                  <a:ext cx="849240" cy="99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j</m:t>
                          </m:r>
                          <m:r>
                            <m:t xml:space="preserve">=</m:t>
                          </m:r>
                          <m:r>
                            <m:t xml:space="preserve">m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91" name="Rectangle 6"/>
            <p:cNvSpPr/>
            <p:nvPr/>
          </p:nvSpPr>
          <p:spPr>
            <a:xfrm>
              <a:off x="380880" y="1295280"/>
              <a:ext cx="80010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ffff"/>
                  </a:solidFill>
                  <a:latin typeface="Comic Sans MS"/>
                </a:rPr>
                <a:t>What does          stand for?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2CDA9-2DFA-4A1A-AC81-D076E7B6A297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F8042-6489-4650-824E-E7DF450851B1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ummat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3886200"/>
            <a:ext cx="54104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t is 1 + 2 + 3 + 4 + 5 + 6 = 21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96" name="Group 9"/>
          <p:cNvGrpSpPr/>
          <p:nvPr/>
        </p:nvGrpSpPr>
        <p:grpSpPr>
          <a:xfrm>
            <a:off x="304920" y="2057400"/>
            <a:ext cx="4038480" cy="984240"/>
            <a:chOff x="304920" y="2057400"/>
            <a:chExt cx="4038480" cy="984240"/>
          </a:xfrm>
        </p:grpSpPr>
        <p:sp>
          <p:nvSpPr>
            <p:cNvPr id="97" name="Rectangle 4"/>
            <p:cNvSpPr/>
            <p:nvPr/>
          </p:nvSpPr>
          <p:spPr>
            <a:xfrm>
              <a:off x="304920" y="2286000"/>
              <a:ext cx="4038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We write it as         .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8" name="Object 5"/>
                <p:cNvSpPr txBox="1"/>
                <p:nvPr/>
              </p:nvSpPr>
              <p:spPr>
                <a:xfrm>
                  <a:off x="2895480" y="2057400"/>
                  <a:ext cx="843120" cy="98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j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1000</m:t>
                          </m:r>
                        </m:sup>
                        <m:e>
                          <m:sSup>
                            <m:e>
                              <m:r>
                                <m:t xml:space="preserve">j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9" name="Group 10"/>
          <p:cNvGrpSpPr/>
          <p:nvPr/>
        </p:nvGrpSpPr>
        <p:grpSpPr>
          <a:xfrm>
            <a:off x="304920" y="2781360"/>
            <a:ext cx="4876560" cy="1060560"/>
            <a:chOff x="304920" y="2781360"/>
            <a:chExt cx="4876560" cy="1060560"/>
          </a:xfrm>
        </p:grpSpPr>
        <p:sp>
          <p:nvSpPr>
            <p:cNvPr id="100" name="Rectangle 7"/>
            <p:cNvSpPr/>
            <p:nvPr/>
          </p:nvSpPr>
          <p:spPr>
            <a:xfrm>
              <a:off x="304920" y="3048120"/>
              <a:ext cx="48765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ffff"/>
                  </a:solidFill>
                  <a:latin typeface="Comic Sans MS"/>
                </a:rPr>
                <a:t>What is the value of         ?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1" name="Object 8"/>
                <p:cNvSpPr txBox="1"/>
                <p:nvPr/>
              </p:nvSpPr>
              <p:spPr>
                <a:xfrm>
                  <a:off x="3886200" y="2781360"/>
                  <a:ext cx="727200" cy="106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j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6</m:t>
                          </m:r>
                        </m:sup>
                        <m:e>
                          <m:r>
                            <m:t xml:space="preserve">j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2" name="Rectangle 11"/>
          <p:cNvSpPr/>
          <p:nvPr/>
        </p:nvSpPr>
        <p:spPr>
          <a:xfrm>
            <a:off x="457200" y="5524560"/>
            <a:ext cx="7543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t is so much work to calculate this…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03" name="Group 15"/>
          <p:cNvGrpSpPr/>
          <p:nvPr/>
        </p:nvGrpSpPr>
        <p:grpSpPr>
          <a:xfrm>
            <a:off x="380880" y="4419720"/>
            <a:ext cx="4876920" cy="1060200"/>
            <a:chOff x="380880" y="4419720"/>
            <a:chExt cx="4876920" cy="1060200"/>
          </a:xfrm>
        </p:grpSpPr>
        <p:sp>
          <p:nvSpPr>
            <p:cNvPr id="104" name="Rectangle 13"/>
            <p:cNvSpPr/>
            <p:nvPr/>
          </p:nvSpPr>
          <p:spPr>
            <a:xfrm>
              <a:off x="380880" y="4686480"/>
              <a:ext cx="48769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ffff"/>
                  </a:solidFill>
                  <a:latin typeface="Comic Sans MS"/>
                </a:rPr>
                <a:t>What is the value of         ?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5" name="Object 14"/>
                <p:cNvSpPr txBox="1"/>
                <p:nvPr/>
              </p:nvSpPr>
              <p:spPr>
                <a:xfrm>
                  <a:off x="3962520" y="4419720"/>
                  <a:ext cx="726840" cy="106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j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100</m:t>
                          </m:r>
                        </m:sup>
                        <m:e>
                          <m:r>
                            <m:t xml:space="preserve">j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6" name="Rectangle 16"/>
          <p:cNvSpPr/>
          <p:nvPr/>
        </p:nvSpPr>
        <p:spPr>
          <a:xfrm>
            <a:off x="304920" y="762120"/>
            <a:ext cx="83055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How can we express the sum of the first 1000 terms of the sequence {a</a:t>
            </a:r>
            <a:r>
              <a:rPr b="0" lang="en-US" sz="2800" spc="-1" strike="noStrike" baseline="-25000">
                <a:solidFill>
                  <a:srgbClr val="00ffff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} with a</a:t>
            </a:r>
            <a:r>
              <a:rPr b="0" lang="en-US" sz="2800" spc="-1" strike="noStrike" baseline="-25000">
                <a:solidFill>
                  <a:srgbClr val="00ffff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=n</a:t>
            </a:r>
            <a:r>
              <a:rPr b="0" lang="en-US" sz="2800" spc="-1" strike="noStrike" baseline="30000">
                <a:solidFill>
                  <a:srgbClr val="00ffff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 for </a:t>
            </a:r>
            <a:br>
              <a:rPr sz="2800"/>
            </a:b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n = 1, 2, 3, … 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7F755-DAEA-4FCD-BC6B-029F8BD70B1C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C2819-A325-4927-8014-771548174BC8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ummat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t is said that Friedrich Gauss came up with the following formula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4"/>
              <p:cNvSpPr txBox="1"/>
              <p:nvPr/>
            </p:nvSpPr>
            <p:spPr>
              <a:xfrm>
                <a:off x="457200" y="2133720"/>
                <a:ext cx="2222640" cy="10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j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2" name="Rectangle 5"/>
          <p:cNvSpPr/>
          <p:nvPr/>
        </p:nvSpPr>
        <p:spPr>
          <a:xfrm>
            <a:off x="304920" y="3352680"/>
            <a:ext cx="86868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hen you have such a formula, the result of any summation can be calculated much more easily,   for example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6"/>
              <p:cNvSpPr txBox="1"/>
              <p:nvPr/>
            </p:nvSpPr>
            <p:spPr>
              <a:xfrm>
                <a:off x="457200" y="4876920"/>
                <a:ext cx="5195880" cy="10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sup>
                      <m:e>
                        <m:r>
                          <m:t xml:space="preserve">j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100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5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346AF-7A00-4CA5-B5BA-23BAE0915BEC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62142-A0F3-42F8-A6B7-982BA0B73B98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rithemetic Serie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How does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4"/>
              <p:cNvSpPr txBox="1"/>
              <p:nvPr/>
            </p:nvSpPr>
            <p:spPr>
              <a:xfrm>
                <a:off x="2438280" y="990720"/>
                <a:ext cx="2222640" cy="10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j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9" name="Rectangle 5"/>
          <p:cNvSpPr/>
          <p:nvPr/>
        </p:nvSpPr>
        <p:spPr>
          <a:xfrm>
            <a:off x="304920" y="2438280"/>
            <a:ext cx="86868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Observe that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1 + 2 + 3 +…+ n/2 + (n/2 + 1) +…+ (n - 2) + (n - 1) + n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5105520" y="106668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??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380880" y="365760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= [1 + n] + [2 + (n - 1)] + [3 + (n - 2)] +…+ [n/2 + (n/2 + 1)]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304920" y="434340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= (n + 1) + (n + 1) + (n + 1) + … + (n + 1)   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(with n/2 terms)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304920" y="5029200"/>
            <a:ext cx="8686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= n(n + 1)/2.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4T00:16:35Z</dcterms:created>
  <dc:creator>Marc Pomplun</dc:creator>
  <dc:description/>
  <dc:language>en-US</dc:language>
  <cp:lastModifiedBy>OUAHID</cp:lastModifiedBy>
  <dcterms:modified xsi:type="dcterms:W3CDTF">2013-06-22T09:20:40Z</dcterms:modified>
  <cp:revision>57</cp:revision>
  <dc:subject/>
  <dc:title>PowerPoint Presentation</dc:title>
</cp:coreProperties>
</file>