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964-258D-4CC5-83B7-7AB971AF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0C8-090C-4775-A4D2-39F27ED5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65F-12B4-4561-80D7-DECE92B2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D79-00C1-4A0C-A299-FC61B909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829-2862-46B2-B630-35461F5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81C-9D87-41A7-BB1A-71D3807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D973-7EE9-4087-AFF6-18ACD9A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EEC4-B975-4A42-9FFE-BF01976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39E-DCFD-4D1B-9A14-4045ED2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196-28EC-455E-9788-78BA6D77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973-E230-4543-9FBC-3D0B315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00E-B62A-4957-B5E5-15C366F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EDAD-F40F-4074-8EB6-9816AA3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938-537A-4F2A-8176-2CCE8B0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F6AD-32C2-46D6-9CCB-81D7C07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449B-CA9F-47BD-A3E9-45CDA2C7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956-1112-45DA-9373-BA54E041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1D75-51F8-43D0-9E14-B72208F1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DBC0-0476-4A1E-8DA8-51E1AC2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1519-B756-4EA3-8261-866FAC5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E7C1-06DB-4069-8186-3C4B615E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1C6E-188C-42DB-B805-B43C6AD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EB6-AA93-4714-BD1F-FBB8F720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46F1-918D-4451-9CF0-9E12FC9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3A43-0C9C-47F9-A317-995D71E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B284-BD83-45DB-8BD4-7105A5B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E792-38FB-4AB6-8C25-59E2A4D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FB15-5C48-4733-8923-A9DB5C0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A002-7798-4FA0-BEF2-A9B9B1B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A85B-EB89-4335-B4E9-A40DECA8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7394-124C-4FB7-B5C8-6FE1970F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FA7B-EB27-4C4A-BC5E-0358F0E1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5DF0-D83F-4096-8277-778C5BE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26F-14E6-48D1-B799-5FB863F2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87F66-1019-4802-B4B7-6AB067E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949E-F438-47EA-9ED6-C124D960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EBFC-F3B0-4B5A-B46B-1D280F59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CF30-84B9-4A38-8970-6BC3D917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C65D-C468-4F17-B9C6-9BE8348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A97D-1041-481C-ACA7-AE203C9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91D8-2EAE-4B64-9AFF-2EC0904C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1E13-27A8-4AFE-BE3C-26618F4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4AA2-1A93-4204-87AE-F7B094A4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38ED-AA48-4257-A037-4203CEE9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107-B1CB-408E-B412-69CF4D99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613E-1611-4821-AF76-B28DA0B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1625-0D5E-48AA-BECB-74FA7F3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A4E0-6C7E-46D0-BD7D-5BC50F0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3B98-BC70-4773-91C4-619AFE4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46FD-7782-416B-8D97-6255F06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F987-D0A5-4F87-8A9F-0D35A6A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5F7A-2B67-41E6-BA4E-91F40A5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601B-DACA-4916-B8B5-93178BF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F313-7E40-415D-8FA2-8A4F6B6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BA12-FF5B-49DC-AF89-73E81761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A1F-8646-46F9-8DE1-39E1592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560D-3EC6-4FB8-81EE-C49AC371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62F6E-B491-4068-9146-D71A9DD0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6FEAF-E41A-4889-ABB2-DCD4361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DE953-05C8-414A-942A-1232B45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41ED-1616-4F7F-AFA7-3E7EA55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4E42-DAE9-4723-BA17-D209CFEA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E072-31F4-44CF-BD6D-61214FF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0FCA9-4C76-4E47-86FC-03045B0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F3DE-0349-4017-BF8F-AF56EC10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B834-E344-4FF2-8FE9-658784A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7FA-F3C8-4F4B-9767-8EC26C2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FC39-4116-4285-AAA1-A707BA3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35FC-0CFD-47F0-90BB-962DCC4B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5FDC-F8AE-46DE-8376-E4DBE0AA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50D9-C219-4CA3-81DB-8711B094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96CC-766F-425B-A079-F14D46B9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3CB3-2782-44F1-8CC9-B849C18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2383-1AFA-47DF-AB4F-ABC7767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84D0A-0B02-4301-9493-AF2D060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2AB4-E591-49F6-B9B1-9EC5DC65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B2C29-50FB-4702-B08F-1A66B4F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3B2-07E1-4DA7-BFF0-51C7E4A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0DBC-E53D-4CCB-9647-70C5A28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EC98-0E40-4DFE-A5C2-C68541E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C93E6-0F42-4157-93B7-92DD6C9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BA11-4189-4507-95F7-FAD78B53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6347-ABDA-4F70-ACC9-17432799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EA47-D531-4D6B-9A42-8937B63B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839DC-F732-4DFB-A309-3DC4B13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3B9E-B429-403A-ACC1-000CF387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3E1EF-B6CA-4985-B010-4AD3EAA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A5BE-F198-4B43-915D-F0F628C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8B6-A68C-4008-A953-573C780A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28475-92F4-4801-9CBF-B97BCA64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75FA-C578-40AA-8DC8-5AC4DE2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7ECFC-9757-4D4D-AD9B-A5280B1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8288-A3F5-4C40-92C2-420CB60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5395-B6C2-4F45-91E0-BB0B13C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E3DB-F10E-47E2-A2C0-E3B27EB9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6A816-6A36-4E3F-BC92-DA8A78E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661-07C4-4028-AFC3-7B96875BBAD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035-02DC-4338-B329-DAD21335708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CC5-5B04-4109-A2DD-F2BEAF7C18C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349-6662-4664-8F05-4C586FB5503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9812-2E85-41B6-B551-9C17475C32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033-7A1D-4AB0-B6A0-5806A15E82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274-A855-415B-8FD8-781741921A7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1A0-A601-4A2F-AB09-E9344C9CEC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59"/>
                </a:solidFill>
                <a:latin typeface="Bookman Old Style"/>
              </a:rPr>
              <a:t>Serous Fluid</a:t>
            </a:r>
            <a:br>
              <a:rPr sz="2900"/>
            </a:br>
            <a:br>
              <a:rPr sz="2900"/>
            </a:b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leural: Lung cavi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ericardial: hear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eritoneal: abdominal cavi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3160" y="380520"/>
            <a:ext cx="7791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eural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eural cavity normally contains less than 30 ml of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effusions occur when fluid accumulates around the lu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ent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erformed to remove this excess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leural effusions can b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udate or exuda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85440" y="30456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toneal fluid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toneal effusion is the accumulation of peritoneal fluid, also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he abdominal cav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22860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oratory testing of serous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Macroscopic examin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rous body fluids normally resemble serum, clear and pale yellow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urbid (cloudy) fluid indicates a high white blood cells which correlate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l inf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68544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Microscopic examination</a:t>
            </a: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s(RBC’s) are not normally seen in body fluids. When present in RBCs may indicate hemorrhag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BCs are normally present in low numbers. The presence of increased numbers of WBCs correlate with various pathologi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Bookman Old Style"/>
              </a:rPr>
              <a:t>Thoracentesi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t is the procedure in which the fluid is obtained by a needle and syring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eural Effus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3" name="Content Placeholder 3" descr="تنزيل (1).jpg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801" t="4580" r="3760" b="4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79" name="Picture 4" descr="2313_The_Lung_Pleure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82" name="Picture 4" descr="9737[1]"/>
          <p:cNvPicPr/>
          <p:nvPr/>
        </p:nvPicPr>
        <p:blipFill>
          <a:blip r:embed="rId1"/>
          <a:srcRect l="0" t="0" r="0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pic>
        <p:nvPicPr>
          <p:cNvPr id="355" name="Content Placeholder 3" descr="serous fluid.jpg"/>
          <p:cNvPicPr/>
          <p:nvPr/>
        </p:nvPicPr>
        <p:blipFill>
          <a:blip r:embed="rId1"/>
          <a:srcRect l="32563" t="20169" r="0" b="10687"/>
          <a:stretch/>
        </p:blipFill>
        <p:spPr>
          <a:xfrm>
            <a:off x="152280" y="533520"/>
            <a:ext cx="8508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59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body cavities are lined by a thin membrane which has 2 par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arietal membran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ines the body ca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Visceral membrane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er lining of the org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erous fluid is in the space between the 2 membran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59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Serous flu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ultra filtrat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plasma derived from the capillary network of the membra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ccumulation of serous fluid is call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ffus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33160" y="609480"/>
            <a:ext cx="77914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tion of effus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s are the accumulation of fluids in the tissue sp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udate effusions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during various systemic disorder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rupt fluid filtration, fluid reabsorption, or 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ystemic disorders that may result in the formation of transudates inclu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7720" y="30456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udate effusions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during inflammatory processe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 in damage to blood vessel walls, body cavity membrane damage, or decreased reabsorption by the lymphatic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clu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inflam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s and maligna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ud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is fluid pushed through the capillary due t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igh pressur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in the capillary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ud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is fluid that leaks around the cells of the capillaries caused by inflamm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685440" y="380880"/>
            <a:ext cx="7497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ypes of serous fluid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us body fluids are found in the ca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ounding the vital orga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luid is normally clear and slightly yellow, resembling seru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us cavities include the pericardium, pleural, and peritoneu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520" y="380520"/>
            <a:ext cx="7867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cardial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, the pericardium contains less than 50 ml of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ricardial effusions are an accumulation of fluid around the hear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dure for removing excess pericardial fluid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-cardiocent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ricardial effusions are usually alway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ud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3:41:01Z</dcterms:created>
  <dc:creator>Rehab</dc:creator>
  <dc:description/>
  <dc:language>en-US</dc:language>
  <cp:lastModifiedBy>aalbity</cp:lastModifiedBy>
  <dcterms:modified xsi:type="dcterms:W3CDTF">2016-04-18T05:27:15Z</dcterms:modified>
  <cp:revision>15</cp:revision>
  <dc:subject/>
  <dc:title>Serous Fluid</dc:title>
</cp:coreProperties>
</file>