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7A3C-0E50-43B7-812A-4C50FD88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BBE4-6271-4769-9EBA-261C6B70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1363-DFA5-4138-871E-82128D1C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58C8-C144-4428-BCBB-DAFD729F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BE85-A8BB-46FF-AB97-A3F118EC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C825-1D3E-4FD1-B40F-143615E4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48E2-01E2-4A22-8A7A-4598A363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D545-E691-4BBD-B91C-36AFC215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A1F7-DB6C-437F-BEF6-4D92B10F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9D19-B3C7-4CFB-93E3-9C76AAC0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7E9B-B673-49F0-85C5-7A295419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44A-0DB3-48E4-BFCB-679A3146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EADD-AAD6-454D-8E99-FC16FE35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E5B3-85FF-4EB0-86FD-A84260FB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19B7-3083-4E07-98E8-0F8593AE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2A32-F1F0-4250-B05A-BCCD0BB4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363E-1A15-42F0-A5DD-47FDC799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4B314-3380-483B-80A7-23BEA6BA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C185F-18DD-4663-821C-3F83C386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5F8CC-10EC-4E0F-A721-466D0D11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FE946-6B9C-420B-9581-B78D503C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04C2B-D3E4-4B52-9153-2E375DF8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2751-4639-4D0D-A9FC-D154B712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7D822-763F-4855-8B3A-319F792D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E1797-8D05-4A44-B626-410C8D2E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EA999-7FF6-4283-A0C4-8E6670C4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01F3C-40C2-42E4-8848-B59D0A23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FE066-77C3-48E6-B353-71805C4A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463E7-A848-404D-B4A5-738DE49F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C0719-2EDC-4381-9E1E-C25F8DFC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3F82D-A45D-4788-A1EA-1D77A4AE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E4116-03DB-4576-AAEC-56C67686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343B6-4D9E-4B81-851F-9D4EF6CC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88F-0D98-42A3-A70C-7F38EE14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91760-EC41-457F-9501-DB8F35C7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D4406-2030-415B-97A8-AB4B7F54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CE201-5B32-42A3-A84D-0DF1D9B5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37A76-2AB9-4E5A-BF87-E6679B32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3BBBF-0141-446A-A516-BAFC1956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6337F-7756-436A-8920-58EAA7D8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5604F-9608-4528-8700-BD53C3B3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E2B98-D863-4786-91BC-2C11614F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227F7-24CA-4C64-99C8-371F0F4C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B710C-26AE-4287-A3E1-BE6CCA1A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F949-7F57-4E9B-85F9-48ECC082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672A3-61CF-46C2-873D-B7267B58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A6B07-1B05-4A21-88AC-70A37B1C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91DDA-4AB7-4F8A-980D-E4F42178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47977-1EE7-439D-BF4B-1C1DBA40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45A1D-B9E5-47BD-8852-A021527B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4A5D7-5245-4D39-ABA5-AE122A0D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D24E6-0700-40E4-81D5-846A434C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AEF32-1740-4C4D-A594-44292547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3B655-42E1-4BA6-B020-01978647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72B9A-D783-4ED3-BF1F-DE9F8B66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807-9454-4D09-8FBB-74DA1843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F6015-693A-47E8-A622-CFBB67C3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3BEC5-10D6-464D-9B68-61DA43BA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35738-74A5-438E-B524-92F0A3B4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BC124-CFDF-4691-A4DF-1C5E2B83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6A982-B9CB-4722-A2DF-BCE4243C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48A88-5737-4721-A853-7D2421D2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3E0B3-28D4-47E7-94D0-FD6385C2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A9CFA-ED9D-472C-83BC-32760704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4FD5B-3C6F-49CB-967E-C1F8061C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4B08B-ADC8-4993-B3DD-825DBA4C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66A2-3DE7-4C21-90C0-BD0B1314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9FDCD-431C-49ED-B6CB-E2C2D6F3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8C6F8-A8BB-4F8E-97CE-ED3A4F43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52229-8540-4223-A7EB-C60FBC10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A91FA-EEDB-4EBE-9E16-600DE4BC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66E38-D5A0-4FF3-A0F5-D97EADA9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4A7ED-4D15-40A8-9024-73CB36DB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90274-8C0F-4671-9604-18540D91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A1553-D8EB-4773-B4B4-B57DB30F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6D2F6-58D7-44E1-969C-3BA86800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83BAF-CC11-4A55-8685-44693E2A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277-9654-40B3-B5D7-2492C52B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78445-8C88-48D5-88D1-74786A88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60F72-F09C-427E-9C41-08B967F4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D62AA-6268-4EE9-8550-2E112EBD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92C45-0EDE-4864-9659-B6CFD0A4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43A7D-696A-452D-AF00-A25A15EE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0EB65-92A2-45EC-A547-0476BE3F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653FC-7A6B-43FB-BF85-FE30DDA2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43857-C797-4A32-BB5C-6EDD34CA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5D39A-84AC-4423-8805-9C1AF8E9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45056-CDD8-41BD-9579-41793262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3D6-B1D4-4F20-A549-5ADEA42B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1CF39-6935-4056-86DB-1DAD58A8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88889-B463-469C-B435-EC9E1F9E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3E79B-DFA8-44FC-A69F-6A48B23B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2F001-1C92-4BE8-B505-2BDAEB6E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24333-CEF8-4C3B-AB50-94505E1F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9F9A4-3C73-498B-B1B6-A4E1E9B4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13BC2-2598-4A01-8123-4799EB37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D747-18FE-4B89-B891-CEF4921FA99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9B42-FF47-4963-931D-550C66A12DB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7D08-DD54-4F75-9B90-0AF046D6684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7157-0BF6-40B6-B2F1-79ABF36C9E8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7F6B-5870-4075-B47B-265AFEAF744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6344-0DE8-49CB-94DC-3451E29D2F1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A7A5-F0D7-402A-8B77-20C8FF31F28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8F4F-C8F6-4A2D-BA68-9A45A718E68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59"/>
                </a:solidFill>
                <a:latin typeface="Bookman Old Style"/>
              </a:rPr>
              <a:t>Serous Fluid</a:t>
            </a:r>
            <a:br>
              <a:rPr sz="2900"/>
            </a:br>
            <a:br>
              <a:rPr sz="2900"/>
            </a:br>
            <a:endParaRPr b="0" lang="en-US" sz="6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Pleural: Lung cavity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Pericardial: hear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Peritoneal: abdominal cavity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533160" y="380520"/>
            <a:ext cx="7791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leural flui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leural cavity normally contains less than 30 ml of flui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ural effusions occur when fluid accumulates around the lung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racente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performed to remove this excess flui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leural effusions can b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udate or exudat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1000" algn="r" rtl="1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685440" y="304560"/>
            <a:ext cx="77914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eritoneal fluid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ritoneal effusion is the accumulation of peritoneal fluid, also 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i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 the abdominal cavi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7200" y="22860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aboratory testing of serous flui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Macroscopic examin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rous body fluids normally resemble serum, clear and pale yellow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urbid (cloudy) fluid indicates a high white blood cells which correlates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cterial inf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685440"/>
            <a:ext cx="77914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Microscopic examination</a:t>
            </a:r>
            <a:r>
              <a:rPr b="1" lang="en-US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blood cells(RBC’s) are not normally seen in body fluids. When present in RBCs may indicate hemorrhag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BCs are normally present in low numbers. The presence of increased numbers of WBCs correlate with various pathologie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Bookman Old Style"/>
              </a:rPr>
              <a:t>Thoracentesis</a:t>
            </a:r>
            <a:endParaRPr b="0" lang="en-US" sz="5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It is the procedure in which the fluid is obtained by a needle and syringe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41112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41112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eural Effus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3" name="Content Placeholder 3" descr="تنزيل (1).jpg"/>
          <p:cNvPicPr/>
          <p:nvPr/>
        </p:nvPicPr>
        <p:blipFill>
          <a:blip r:embed="rId1"/>
          <a:stretch/>
        </p:blipFill>
        <p:spPr>
          <a:xfrm>
            <a:off x="1143000" y="1371600"/>
            <a:ext cx="662940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000000"/>
              </a:solidFill>
              <a:latin typeface="Gill Sans MT"/>
              <a:ea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rcRect l="3801" t="4580" r="3760" b="45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000000"/>
              </a:solidFill>
              <a:latin typeface="Gill Sans MT"/>
              <a:ea typeface="Arial"/>
            </a:endParaRPr>
          </a:p>
        </p:txBody>
      </p:sp>
      <p:pic>
        <p:nvPicPr>
          <p:cNvPr id="379" name="Picture 4" descr="2313_The_Lung_Pleure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000000"/>
              </a:solidFill>
              <a:latin typeface="Gill Sans MT"/>
              <a:ea typeface="Arial"/>
            </a:endParaRPr>
          </a:p>
        </p:txBody>
      </p:sp>
      <p:pic>
        <p:nvPicPr>
          <p:cNvPr id="382" name="Picture 4" descr="9737[1]"/>
          <p:cNvPicPr/>
          <p:nvPr/>
        </p:nvPicPr>
        <p:blipFill>
          <a:blip r:embed="rId1"/>
          <a:srcRect l="0" t="0" r="0" b="59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  <p:pic>
        <p:nvPicPr>
          <p:cNvPr id="355" name="Content Placeholder 3" descr="serous fluid.jpg"/>
          <p:cNvPicPr/>
          <p:nvPr/>
        </p:nvPicPr>
        <p:blipFill>
          <a:blip r:embed="rId1"/>
          <a:srcRect l="32563" t="20169" r="0" b="10687"/>
          <a:stretch/>
        </p:blipFill>
        <p:spPr>
          <a:xfrm>
            <a:off x="152280" y="533520"/>
            <a:ext cx="850896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59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body cavities are lined by a thin membrane which has 2 part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1112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Parietal membran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lines the body cav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1112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Visceral membrane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uter lining of the org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111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erous fluid is in the space between the 2 membran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59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Serous flui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111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s a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ultra filtrat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f plasma derived from the capillary network of the membran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111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1112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accumulation of serous fluid is call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111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ffusio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1112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33160" y="609480"/>
            <a:ext cx="779148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zation of effus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usions are the accumulation of fluids in the tissue spa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ransudate effusions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 during various systemic disorders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rupt fluid filtration, fluid reabsorption, or bo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ystemic disorders that may result in the formation of transudates includ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37720" y="304560"/>
            <a:ext cx="77914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xudate effusions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 during inflammatory processes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 in damage to blood vessel walls, body cavity membrane damage, or decreased reabsorption by the lymphatic 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includ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s, inflamm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rrhages and malignanc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ransudat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is fluid pushed through the capillary due to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igh pressur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in the capillary.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xudat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is fluid that leaks around the cells of the capillaries caused by inflamma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685440" y="380880"/>
            <a:ext cx="7497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ypes of serous fluid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ous body fluids are found in the cav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rounding the vital organ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luid is normally clear and slightly yellow, resembling seru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ous cavities include the pericardium, pleural, and peritoneum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0520" y="380520"/>
            <a:ext cx="7867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ericardial flui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, the pericardium contains less than 50 ml of flui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ericardial effusions are an accumulation of fluid around the hear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dure for removing excess pericardial fluid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-cardiocente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ericardial effusions are usually alway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ud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03:41:01Z</dcterms:created>
  <dc:creator>Rehab</dc:creator>
  <dc:description/>
  <dc:language>en-US</dc:language>
  <cp:lastModifiedBy>aalbity</cp:lastModifiedBy>
  <dcterms:modified xsi:type="dcterms:W3CDTF">2016-04-18T05:27:15Z</dcterms:modified>
  <cp:revision>15</cp:revision>
  <dc:subject/>
  <dc:title>Serous Fluid</dc:title>
</cp:coreProperties>
</file>