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A72-EBB9-4842-9F9A-339CE0F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F96-150D-486D-90F8-DC9623B9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6A1-A801-4F11-9B6F-C8BD7BFF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8E0-9547-451A-8593-1737AA3C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859-A451-418F-B9E8-E4C860C4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27C-370F-4369-AE92-736998FE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35D-C1B9-4F82-9229-FC4F4325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15-F594-4388-AAF4-EB780A2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AB5-209D-4308-9AC8-0CFE6EC1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859-8DA9-423B-948B-BC0ECA7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69D-E7EA-46BB-84BD-5A9E770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498-928A-4ECE-AE76-A6A3AE7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C24-B22C-49E4-9879-3AE39EFC77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360" y="-36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Tahoma"/>
              </a:rPr>
              <a:t>المخدم الرئيسي في الشبكا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مستطيل مستدير الزوايا 3" descr=""/>
          <p:cNvPicPr/>
          <p:nvPr/>
        </p:nvPicPr>
        <p:blipFill>
          <a:blip r:embed="rId1"/>
          <a:stretch/>
        </p:blipFill>
        <p:spPr>
          <a:xfrm>
            <a:off x="4638600" y="901800"/>
            <a:ext cx="4438800" cy="5790960"/>
          </a:xfrm>
          <a:prstGeom prst="rect">
            <a:avLst/>
          </a:prstGeom>
          <a:ln w="0">
            <a:noFill/>
          </a:ln>
        </p:spPr>
      </p:pic>
      <p:sp>
        <p:nvSpPr>
          <p:cNvPr id="43" name="رابط مستقيم 5"/>
          <p:cNvSpPr/>
          <p:nvPr/>
        </p:nvSpPr>
        <p:spPr>
          <a:xfrm flipH="1">
            <a:off x="4570560" y="144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وان 1"/>
          <p:cNvSpPr/>
          <p:nvPr/>
        </p:nvSpPr>
        <p:spPr>
          <a:xfrm>
            <a:off x="-71280" y="0"/>
            <a:ext cx="45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Tahoma"/>
              </a:rPr>
              <a:t>المخدمات الملح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مستطيل مستدير الزوايا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600" y="901800"/>
            <a:ext cx="443880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قوس 9"/>
          <p:cNvSpPr/>
          <p:nvPr/>
        </p:nvSpPr>
        <p:spPr>
          <a:xfrm>
            <a:off x="2571840" y="1643040"/>
            <a:ext cx="1285920" cy="689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قوس 10"/>
          <p:cNvSpPr/>
          <p:nvPr/>
        </p:nvSpPr>
        <p:spPr>
          <a:xfrm rot="18976200">
            <a:off x="2277720" y="1793520"/>
            <a:ext cx="1000080" cy="100008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قوس 11"/>
          <p:cNvSpPr/>
          <p:nvPr/>
        </p:nvSpPr>
        <p:spPr>
          <a:xfrm rot="18976200">
            <a:off x="1293480" y="1793520"/>
            <a:ext cx="1000080" cy="100008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2"/>
          <p:cNvSpPr/>
          <p:nvPr/>
        </p:nvSpPr>
        <p:spPr>
          <a:xfrm>
            <a:off x="2714760" y="192888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Tahoma"/>
              </a:rPr>
              <a:t>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3"/>
          <p:cNvSpPr/>
          <p:nvPr/>
        </p:nvSpPr>
        <p:spPr>
          <a:xfrm>
            <a:off x="1928880" y="200016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14"/>
          <p:cNvSpPr/>
          <p:nvPr/>
        </p:nvSpPr>
        <p:spPr>
          <a:xfrm>
            <a:off x="1071720" y="200016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ستطيل 15"/>
          <p:cNvSpPr/>
          <p:nvPr/>
        </p:nvSpPr>
        <p:spPr>
          <a:xfrm>
            <a:off x="1357200" y="1428840"/>
            <a:ext cx="71460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ستطيل 16"/>
          <p:cNvSpPr/>
          <p:nvPr/>
        </p:nvSpPr>
        <p:spPr>
          <a:xfrm>
            <a:off x="2428920" y="1428840"/>
            <a:ext cx="714240" cy="35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قوس 17"/>
          <p:cNvSpPr/>
          <p:nvPr/>
        </p:nvSpPr>
        <p:spPr>
          <a:xfrm flipH="1" flipV="1" rot="18976200">
            <a:off x="1879200" y="1616040"/>
            <a:ext cx="874800" cy="830160"/>
          </a:xfrm>
          <a:prstGeom prst="pi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مستدير الزوايا 18"/>
          <p:cNvSpPr/>
          <p:nvPr/>
        </p:nvSpPr>
        <p:spPr>
          <a:xfrm>
            <a:off x="928800" y="1357200"/>
            <a:ext cx="2714400" cy="15717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19"/>
          <p:cNvSpPr/>
          <p:nvPr/>
        </p:nvSpPr>
        <p:spPr>
          <a:xfrm>
            <a:off x="1928880" y="2500200"/>
            <a:ext cx="71424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1"/>
          <p:cNvSpPr/>
          <p:nvPr/>
        </p:nvSpPr>
        <p:spPr>
          <a:xfrm>
            <a:off x="214200" y="421488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المخدم الاحتياط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حل اسم الحاسب في الشبك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التصف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خدم رفع البيا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مصطلح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ahoma"/>
                <a:cs typeface="Tahoma"/>
              </a:rPr>
              <a:t>أمث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ملاحظ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المحاضرة القادمة يوم الاثنين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28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1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1432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هـ الساعة الخامسة والنصف مساءً وسوف تكون هذه المحاضرة مزدوجة في القاعة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305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ea typeface="Tahoma"/>
              </a:rPr>
              <a:t> 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خدمات التي يقدمها الخادم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ستقبال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ؤمن الإتصال بين عناصر الشبكة ويؤمن عملية تبادل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نسخ الاحتياطي للنطاق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up Domain Control (B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حل اسم الحاسب بالشبكة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 Name Server (D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ternet Name services (WI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تصفح صفحات انترنت تسمى بخدم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نقل الملفات إلى الخاد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Transfer Protocol (FT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1680" y="1589040"/>
            <a:ext cx="917568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48a54"/>
                </a:solidFill>
                <a:uFillTx/>
                <a:latin typeface="Tahoma"/>
                <a:cs typeface="Tahoma"/>
              </a:rPr>
              <a:t>المخدم الاحتياطي (</a:t>
            </a:r>
            <a:r>
              <a:rPr b="0" lang="en-US" sz="36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Back Up Domain Control</a:t>
            </a:r>
            <a:r>
              <a:rPr b="0" lang="ar-SA" sz="36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283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ويرمز له بـ </a:t>
            </a:r>
            <a:r>
              <a:rPr b="1" lang="en-US" sz="3200" spc="-1" strike="noStrike">
                <a:solidFill>
                  <a:srgbClr val="948a54"/>
                </a:solidFill>
                <a:latin typeface="Tahoma"/>
                <a:ea typeface="Tahoma"/>
              </a:rPr>
              <a:t>BDC</a:t>
            </a:r>
            <a:r>
              <a:rPr b="1" lang="ar-SA" sz="32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هو مخدم احتياطي تخزن عليه جميع العمليات التي تجري على المخدم الرئيسي ويقوم بعمل المخدم الرئيسي في حال توقفه عن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76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cs typeface="Tahoma"/>
              </a:rPr>
              <a:t>مخدم حل اسم الحاسب في الشبكة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83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Domain Name Server</a:t>
            </a: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indows Internet Name Server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INS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مهمة هذين المخدّمين هي حل اسم الحاسب في الشبكة أي : تحويل اسم الحاسب المطلوب في المتصفح إلى رقم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P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وبالعك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للخدمات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دردش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t –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دمة التراسل البريد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l-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لعا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مخدم التصفح ويرمز له بـ (</a:t>
            </a:r>
            <a:r>
              <a:rPr b="0" lang="en-US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</a:t>
            </a:r>
            <a:r>
              <a:rPr b="0" lang="en-US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Web Server</a:t>
            </a: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1003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8a54"/>
                </a:solidFill>
                <a:latin typeface="Tahoma"/>
                <a:cs typeface="Tahoma"/>
              </a:rPr>
              <a:t>يُمكّن مستخدمي الشبكة من تصفح (معلومات – بيانات) قد نُشرت علي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زر إجراء: الصفحة الرئيسية 3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cs typeface="Tahoma"/>
              </a:rPr>
              <a:t>مخدم رفع البيانات </a:t>
            </a:r>
            <a:br>
              <a:rPr sz="4000"/>
            </a:b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(</a:t>
            </a:r>
            <a:r>
              <a:rPr b="0" lang="en-US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File Transfer Protocol</a:t>
            </a:r>
            <a:r>
              <a:rPr b="0" lang="ar-SA" sz="4000" spc="-1" strike="noStrike" u="sng">
                <a:solidFill>
                  <a:srgbClr val="31859c"/>
                </a:solidFill>
                <a:uFillTx/>
                <a:latin typeface="Tahoma"/>
                <a:ea typeface="Tahoma"/>
              </a:rPr>
              <a:t>)</a:t>
            </a:r>
            <a:r>
              <a:rPr b="0" lang="ar-SA" sz="4000" spc="-1" strike="noStrike" u="sng">
                <a:solidFill>
                  <a:srgbClr val="948a54"/>
                </a:solidFill>
                <a:uFillTx/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403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يرمز له بـ </a:t>
            </a:r>
            <a:r>
              <a:rPr b="1" lang="en-US" sz="2700" spc="-1" strike="noStrike">
                <a:solidFill>
                  <a:srgbClr val="31859c"/>
                </a:solidFill>
                <a:latin typeface="Tahoma"/>
                <a:ea typeface="Tahoma"/>
              </a:rPr>
              <a:t>FTP Server</a:t>
            </a:r>
            <a:r>
              <a:rPr b="1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مهمته في الشبكة استقبا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بيانات المستخدمين (المخول لهم رفع البيانات) بعد التحقق من شخصية المستخدم مرسل البيانات من خلال اسم المستخدم وكلمة المرور الخاصة ب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1859c"/>
                </a:solidFill>
                <a:latin typeface="Tahoma"/>
                <a:cs typeface="Tahoma"/>
              </a:rPr>
              <a:t>ولسهولة رفع البيانات يستخدم على حاسب رافع البيانات برمجية تسمى </a:t>
            </a:r>
            <a:r>
              <a:rPr b="0" lang="en-US" sz="2700" spc="-1" strike="noStrike">
                <a:solidFill>
                  <a:srgbClr val="31859c"/>
                </a:solidFill>
                <a:latin typeface="Tahoma"/>
                <a:ea typeface="Tahoma"/>
              </a:rPr>
              <a:t>FTP Client</a:t>
            </a:r>
            <a:r>
              <a:rPr b="0" lang="ar-SA" sz="2700" spc="-1" strike="noStrike">
                <a:solidFill>
                  <a:srgbClr val="31859c"/>
                </a:solidFill>
                <a:latin typeface="Tahoma"/>
                <a:ea typeface="Tahoma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ستطيل 3"/>
          <p:cNvSpPr/>
          <p:nvPr/>
        </p:nvSpPr>
        <p:spPr>
          <a:xfrm>
            <a:off x="0" y="3429000"/>
            <a:ext cx="9144000" cy="121428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عند طلب الحصول عل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b space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نحصل على البيانات التال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سم 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كلمة المر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عنوان المخدم المنشور عل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288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مصطلح (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  <a:ea typeface="Tahoma"/>
              </a:rPr>
              <a:t>Web Space</a:t>
            </a:r>
            <a:r>
              <a:rPr b="0" lang="ar-SA" sz="44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3071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هو جزء من الوحدة التخزينيه لأحد مقدمي خدمة الشبكة الموس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زر إجراء: الصفحة الرئيسية 4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Tahoma"/>
                <a:cs typeface="Tahoma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Web Server</a:t>
            </a:r>
            <a:r>
              <a:rPr b="0" lang="ar-SA" sz="2400" spc="-1" strike="noStrike">
                <a:solidFill>
                  <a:srgbClr val="c00000"/>
                </a:solidFill>
                <a:latin typeface="Tahoma"/>
                <a:ea typeface="Tahoma"/>
              </a:rPr>
              <a:t> +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FTP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948a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Apache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 بالتعاون مع شركة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Zend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cs typeface="Tahoma"/>
              </a:rPr>
              <a:t>قدمت المنتج (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App Serv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 ويحوي </a:t>
            </a:r>
            <a:r>
              <a:rPr b="0" lang="en-US" sz="2400" spc="-1" strike="noStrike">
                <a:solidFill>
                  <a:srgbClr val="948a54"/>
                </a:solidFill>
                <a:latin typeface="Tahoma"/>
                <a:ea typeface="Tahoma"/>
              </a:rPr>
              <a:t>Web Server + PHP</a:t>
            </a:r>
            <a:r>
              <a:rPr b="0" lang="ar-SA" sz="2400" spc="-1" strike="noStrike">
                <a:solidFill>
                  <a:srgbClr val="948a54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Om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شركة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Microsoft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قدمت الحل متكامل ضمن المنت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nternet Information Server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ويرمز له بـ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IIS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	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cs typeface="Tahoma"/>
              </a:rPr>
              <a:t>يحوي الـ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Web Server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+</a:t>
            </a:r>
            <a:r>
              <a:rPr b="1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1859c"/>
                </a:solidFill>
                <a:latin typeface="Tahoma"/>
                <a:ea typeface="Tahoma"/>
              </a:rPr>
              <a:t>FTP Server</a:t>
            </a:r>
            <a:r>
              <a:rPr b="0" lang="ar-SA" sz="2400" spc="-1" strike="noStrike">
                <a:solidFill>
                  <a:srgbClr val="31859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زر إجراء: الصفحة الرئيسية 4"/>
          <p:cNvSpPr/>
          <p:nvPr/>
        </p:nvSpPr>
        <p:spPr>
          <a:xfrm>
            <a:off x="4357800" y="642924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ستطيل 10"/>
          <p:cNvSpPr/>
          <p:nvPr/>
        </p:nvSpPr>
        <p:spPr>
          <a:xfrm>
            <a:off x="0" y="4643280"/>
            <a:ext cx="9144000" cy="12859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أضافه شرك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Z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إلى خدم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H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التي تدعم خدمة قواعد البيانات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base Server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)المسمى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y SQL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أما شرك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icrosoft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بالإضافة إلى المنتج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 خدم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S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ذي يدعم قواعد البيانات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CCESS + SQL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06:19:16Z</dcterms:created>
  <dc:creator>user1</dc:creator>
  <dc:description/>
  <dc:language>en-US</dc:language>
  <cp:lastModifiedBy>Dr. Hisham Abhari</cp:lastModifiedBy>
  <dcterms:modified xsi:type="dcterms:W3CDTF">2002-06-02T21:42:15Z</dcterms:modified>
  <cp:revision>60</cp:revision>
  <dc:subject/>
  <dc:title>المخدم الرئيسي في الشبكات </dc:title>
</cp:coreProperties>
</file>