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5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1.wmf" ContentType="image/x-wmf"/>
  <Override PartName="/ppt/media/image8.png" ContentType="image/png"/>
  <Override PartName="/ppt/media/image13.png" ContentType="image/png"/>
  <Override PartName="/ppt/media/image49.png" ContentType="image/png"/>
  <Override PartName="/ppt/media/image12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6F9-1BE3-4FAA-BF7D-73E6B383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D10-9B1C-471B-8B0F-4C85C28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5B4-B345-4D40-A222-B0CCB37B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91A-08C9-46B8-82AF-BFA8B324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848B-CB5B-4C0A-866A-F42811FE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FE9D-EB7D-4C8D-976C-E8AD6DE2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E2B1-AFE0-4C5B-8222-C944C0BA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EC9C-F96C-465B-BE84-62FB8A83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6F8D-D867-4DD2-AD30-D71FEEA7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930C-0CF4-4D0D-8D8F-FE81A376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9EFD-892C-46DF-8A3A-63E74D7C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0C3-CB21-4152-94B5-C2B6D3B1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B573-CC78-411E-9C83-8937D1AB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4BCF-5874-4BE2-9D24-EFB8FC4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A6AD-1E20-4BDC-921F-0525541E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0C74-8977-414B-B322-EB387AE1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92AF-7D9B-4378-A219-72DB2F5E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94FB-751E-40A2-ACD8-965C81CF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4D84-1FFA-4995-9AA2-0D6718F0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33AE-F2E9-4993-AA66-F86AB9B0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48E6-24A0-4788-A171-08C8D42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BF54-1665-467C-9022-7F4C198B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A00-BFAD-4164-91FD-56498EBB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74C4-065B-421A-A233-7021ACA1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C99C-23F3-4AD2-A138-554F7357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874F-5961-473B-A638-05654D2F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CCC5-D844-463E-B2B1-BC459A88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D586-7D2D-4124-A81A-3DF59170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0131-9225-46A4-9675-B4A295E1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9BE8-0816-4D0E-8E8C-705D9698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6CD2-5B49-4750-A2B2-A15B7ADA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2848-747D-4D8C-8CD2-FA5FAA5E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6E72-E823-44E3-976B-9F55BB7A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635-47A9-4B75-8994-C574B046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F7D8-D9CC-49CE-9D18-70BF2D57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9158-73BC-4F4A-8BBA-485EF738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85C5-1228-48D9-A912-2204A0F4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C486-B287-46E4-B309-172CB38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7E48-74A3-4C3E-BC10-0542279E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014C-8174-4C48-88E4-4D4486A2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4858-4283-48FD-AA11-FC7B2BC7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915C7-4644-4F13-B682-821329D5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CF66-1EB3-47E8-83E8-31A911F3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DBF-D583-4A3E-8679-EA95D5A7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48A-4DD8-4F63-B738-9A1A5EC8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FAD-F036-4D80-974B-B58F185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BF5-4DDD-47BD-9FAD-83A87D1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82B-549F-429C-BFF8-AE4C6FB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B24-34F7-48B2-9F78-41352C2BA4A0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EEB3-D6DF-40CA-BE00-656B15F34AF0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27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27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27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28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28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28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9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9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9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9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0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0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1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31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31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31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32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32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32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32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33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33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33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34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34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34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35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35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35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35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2DC2-86E3-41F0-883B-8BD747F9A22C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403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404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405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408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411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414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417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420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423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424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5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427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430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433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436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39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42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45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448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451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454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45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458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461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464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467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470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473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476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479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482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485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92DE-91DA-4DEB-AF64-6180FD230DBD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القيادة الإداري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Picture 5" descr="leadership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1174570918"/>
          <p:cNvPicPr/>
          <p:nvPr/>
        </p:nvPicPr>
        <p:blipFill>
          <a:blip r:embed="rId1"/>
          <a:stretch/>
        </p:blipFill>
        <p:spPr>
          <a:xfrm>
            <a:off x="684360" y="1628640"/>
            <a:ext cx="7983360" cy="4896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25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1116000" y="260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e2d"/>
                </a:solidFill>
                <a:latin typeface="Times New Roman"/>
                <a:cs typeface="Arial"/>
              </a:rPr>
              <a:t>ثالثاً: دراسات جامعة أوهايو</a:t>
            </a:r>
            <a:br>
              <a:rPr sz="3200"/>
            </a:br>
            <a:r>
              <a:rPr b="1" lang="hi-IN" sz="3200" spc="-1" strike="noStrike">
                <a:solidFill>
                  <a:srgbClr val="ffce2d"/>
                </a:solidFill>
                <a:latin typeface="Times New Roman"/>
                <a:cs typeface="Arial"/>
              </a:rPr>
              <a:t>الشبكة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9000"/>
                </a:solidFill>
                <a:latin typeface="Verdana"/>
              </a:rPr>
              <a:t>معوقات القيادة الإدارية في الدول النام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785960"/>
            <a:ext cx="7589880" cy="5168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826920" y="561168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7812000" y="5510160"/>
            <a:ext cx="920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Verdana"/>
              </a:rPr>
              <a:t>المحتويات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القائد الاداري والرئي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النظريات الحديثة في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معوقات القيادة الإدارية في الدول النام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A_leader"/>
          <p:cNvPicPr/>
          <p:nvPr/>
        </p:nvPicPr>
        <p:blipFill>
          <a:blip r:embed="rId1"/>
          <a:stretch/>
        </p:blipFill>
        <p:spPr>
          <a:xfrm>
            <a:off x="157320" y="189000"/>
            <a:ext cx="896436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19280" y="676440"/>
            <a:ext cx="554508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تقوم القيادة بدور أساسي في توجيه العمل الإداري نحو تحقيق أهداف المنظم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76040" y="2204640"/>
            <a:ext cx="712476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339640" y="676440"/>
            <a:ext cx="5794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*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تعتمد على التأثير والقبو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7" name="Picture 4" descr="News_Paper_Employe"/>
          <p:cNvPicPr/>
          <p:nvPr/>
        </p:nvPicPr>
        <p:blipFill>
          <a:blip r:embed="rId1"/>
          <a:stretch/>
        </p:blipFill>
        <p:spPr>
          <a:xfrm>
            <a:off x="0" y="0"/>
            <a:ext cx="3203640" cy="2205000"/>
          </a:xfrm>
          <a:prstGeom prst="rect">
            <a:avLst/>
          </a:prstGeom>
          <a:ln w="0">
            <a:noFill/>
          </a:ln>
        </p:spPr>
      </p:pic>
      <p:sp>
        <p:nvSpPr>
          <p:cNvPr id="538" name="شكل بيضاوي 2"/>
          <p:cNvSpPr/>
          <p:nvPr/>
        </p:nvSpPr>
        <p:spPr>
          <a:xfrm>
            <a:off x="1908000" y="2060640"/>
            <a:ext cx="5759640" cy="1944720"/>
          </a:xfrm>
          <a:prstGeom prst="ellipse">
            <a:avLst/>
          </a:prstGeom>
          <a:solidFill>
            <a:srgbClr val="ed46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هي القدرة على التوجيه من أجل تحقيق هدف معين عن طريق الآخري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 لفرق بين القائد الإداري والرئيس الإداري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50920" y="1628640"/>
          <a:ext cx="8713800" cy="4896000"/>
        </p:xfrm>
        <a:graphic>
          <a:graphicData uri="http://schemas.openxmlformats.org/drawingml/2006/table">
            <a:tbl>
              <a:tblPr/>
              <a:tblGrid>
                <a:gridCol w="3427200"/>
                <a:gridCol w="3249720"/>
                <a:gridCol w="20368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رئاس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وجه الاختلا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م الذي حدد سلطته الرسم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مصد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166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ختار الرئيس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شترك الجماعة مع قائد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ختيار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867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قبلون سلطته ، خوفا من العقاب اذا امتنعوا أو قصروا في تنفيذ أوامر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كثر قبولاً، لأنها تعتمد على على الحوافز الإيجا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ب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36" descr="people-talking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"/>
          <p:cNvPicPr/>
          <p:nvPr/>
        </p:nvPicPr>
        <p:blipFill>
          <a:blip r:embed="rId2"/>
          <a:stretch/>
        </p:blipFill>
        <p:spPr>
          <a:xfrm>
            <a:off x="-30240" y="0"/>
            <a:ext cx="13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76040" y="798480"/>
            <a:ext cx="8643960" cy="6016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C:\Program Files\Microsoft Office\MEDIA\CAGCAT10\j0298653.wmf"/>
          <p:cNvPicPr/>
          <p:nvPr/>
        </p:nvPicPr>
        <p:blipFill>
          <a:blip r:embed="rId2"/>
          <a:stretch/>
        </p:blipFill>
        <p:spPr>
          <a:xfrm>
            <a:off x="12600" y="5661000"/>
            <a:ext cx="1781280" cy="1197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/>
          <p:cNvPicPr/>
          <p:nvPr/>
        </p:nvPicPr>
        <p:blipFill>
          <a:blip r:embed="rId3"/>
          <a:stretch/>
        </p:blipFill>
        <p:spPr>
          <a:xfrm>
            <a:off x="7524720" y="566100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"/>
          <p:cNvPicPr/>
          <p:nvPr/>
        </p:nvPicPr>
        <p:blipFill>
          <a:blip r:embed="rId4"/>
          <a:stretch/>
        </p:blipFill>
        <p:spPr>
          <a:xfrm>
            <a:off x="0" y="468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5"/>
          <a:stretch/>
        </p:blipFill>
        <p:spPr>
          <a:xfrm>
            <a:off x="7391520" y="4680"/>
            <a:ext cx="1779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leader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115920"/>
            <a:ext cx="8785440" cy="6640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5640" y="115920"/>
            <a:ext cx="557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634920" y="2781000"/>
            <a:ext cx="482292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نظرية سلسلة السلو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نظرية القيادة الفعال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دراسات جامعة أوهايو والشبكة الإداري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أولا : نظرية سلسلة السلو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32040" y="2637000"/>
          <a:ext cx="7124400" cy="2592360"/>
        </p:xfrm>
        <a:graphic>
          <a:graphicData uri="http://schemas.openxmlformats.org/drawingml/2006/table">
            <a:tbl>
              <a:tblPr/>
              <a:tblGrid>
                <a:gridCol w="1017360"/>
                <a:gridCol w="1017720"/>
                <a:gridCol w="1017360"/>
                <a:gridCol w="1025640"/>
                <a:gridCol w="1011240"/>
                <a:gridCol w="1017720"/>
                <a:gridCol w="1017360"/>
              </a:tblGrid>
              <a:tr h="2592360"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54" name="رابط مستقيم 6"/>
          <p:cNvSpPr/>
          <p:nvPr/>
        </p:nvSpPr>
        <p:spPr>
          <a:xfrm flipV="1">
            <a:off x="971640" y="2707920"/>
            <a:ext cx="7056360" cy="2521080"/>
          </a:xfrm>
          <a:prstGeom prst="line">
            <a:avLst/>
          </a:prstGeom>
          <a:ln w="9360">
            <a:solidFill>
              <a:srgbClr val="ed4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5" name="رابط كسهم مستقيم 8"/>
          <p:cNvCxnSpPr/>
          <p:nvPr/>
        </p:nvCxnSpPr>
        <p:spPr>
          <a:xfrm flipH="1">
            <a:off x="1475640" y="2179800"/>
            <a:ext cx="2880360" cy="8640"/>
          </a:xfrm>
          <a:prstGeom prst="straightConnector1">
            <a:avLst/>
          </a:prstGeom>
          <a:ln w="9360">
            <a:solidFill>
              <a:srgbClr val="ed4200"/>
            </a:solidFill>
            <a:miter/>
            <a:tailEnd len="med" type="arrow" w="med"/>
          </a:ln>
        </p:spPr>
      </p:cxnSp>
      <p:sp>
        <p:nvSpPr>
          <p:cNvPr id="556" name="مستطيل 12"/>
          <p:cNvSpPr/>
          <p:nvPr/>
        </p:nvSpPr>
        <p:spPr>
          <a:xfrm>
            <a:off x="4716360" y="19670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rial"/>
              </a:rPr>
              <a:t>القيادة المرتكزة على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مستطيل 16"/>
          <p:cNvSpPr/>
          <p:nvPr/>
        </p:nvSpPr>
        <p:spPr>
          <a:xfrm>
            <a:off x="4859280" y="5373720"/>
            <a:ext cx="28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rial"/>
              </a:rPr>
              <a:t>القيادة المرتكزة على ا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897200" y="5445000"/>
            <a:ext cx="2962080" cy="165240"/>
          </a:xfrm>
          <a:prstGeom prst="rect">
            <a:avLst/>
          </a:prstGeom>
          <a:ln w="0">
            <a:noFill/>
          </a:ln>
        </p:spPr>
      </p:pic>
      <p:sp>
        <p:nvSpPr>
          <p:cNvPr id="559" name="مستطيل 17"/>
          <p:cNvSpPr/>
          <p:nvPr/>
        </p:nvSpPr>
        <p:spPr>
          <a:xfrm>
            <a:off x="1050840" y="3135240"/>
            <a:ext cx="33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درجة السلطة التي يستخدمها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مستطيل 18"/>
          <p:cNvSpPr/>
          <p:nvPr/>
        </p:nvSpPr>
        <p:spPr>
          <a:xfrm>
            <a:off x="4716360" y="4365720"/>
            <a:ext cx="330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درجة الحرية المتاحة ل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ثانياً: نظرية القيادة الفعالة (الموقفية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79600" y="1805040"/>
            <a:ext cx="8180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32:08Z</dcterms:created>
  <dc:creator/>
  <dc:description/>
  <dc:language>en-US</dc:language>
  <cp:lastModifiedBy/>
  <dcterms:modified xsi:type="dcterms:W3CDTF">2017-10-25T03:26:55Z</dcterms:modified>
  <cp:revision>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