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6.jpeg" ContentType="image/jpeg"/>
  <Override PartName="/ppt/media/image45.png" ContentType="image/png"/>
  <Override PartName="/ppt/media/image10.png" ContentType="image/png"/>
  <Override PartName="/ppt/media/image11.png" ContentType="image/png"/>
  <Override PartName="/ppt/media/image46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8.png" ContentType="image/png"/>
  <Override PartName="/ppt/media/image8.jpeg" ContentType="image/jpeg"/>
  <Override PartName="/ppt/media/image39.jpeg" ContentType="image/jpeg"/>
  <Override PartName="/ppt/media/image9.gif" ContentType="image/gif"/>
  <Override PartName="/ppt/media/image12.png" ContentType="image/png"/>
  <Override PartName="/ppt/media/image37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AE38-8C77-46B6-864F-455B448E3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0BA5-363B-46E5-BA4C-895A7871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0796-8ED8-4BE5-A00D-E3ED46DE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51A3-EBC8-4844-99C4-EC78DC76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D22B-063B-4293-A9B0-A91DDFD5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0BBE-1F0D-4FD1-9191-F848A2E0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1F87-0B56-46D2-B1AA-BA2ADB44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00C2-E0A5-43A2-9CB1-3C2A7202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2207-CBA3-4D17-ADB0-E0B6556C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E71A-576E-4B32-95AB-1D62CE26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F1CE-1AC9-4DCE-93DB-5C49FE77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0A8B-4F48-44F6-95A1-BF032534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19C2-3B80-48F5-A2FC-35DBB59F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AA15-1B71-4608-BD36-2F4AEEC2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A94A-975D-4266-BBDA-5C0A9D61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4511-C1BB-43C6-99A3-A50BCEB6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BF95-0AD0-469B-826A-1A5D7334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ED8D9-659D-4B9A-9453-F83BFDFD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78829-0A24-42DE-93D2-0C5F295F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5614F-F197-4033-90AE-681C9530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341A4-B7A8-41FB-9E1D-CC688F63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65497-2B42-4503-8D45-EA032DE9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0CBD-BA19-4F73-A0F6-9646FEA4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31B0B-22AA-475A-A088-1D7FEEFE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BDA2B-DFFB-4371-94CD-59FB2219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0D168-E0F3-434E-BABF-009AA137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42EDC-2D1A-4C12-B902-65CAFAEC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206F9-E4CC-47C4-9334-B0E2049D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C9F13-705F-45EC-AE8B-B08C8C64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D0507-6FAB-4FB3-BFED-D9C8C0C6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8AC19-063C-4285-BDBD-BFAE92C8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919DA-3B3A-463F-991B-C15668B4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66E52-7A99-44B6-B7D0-FCF4B1DF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DADC-CA42-40B7-9239-7C04353B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2C139-45D6-427F-AD91-0B86D81F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9A42F-AA42-4352-A9DD-4E7A4F7E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4E865-F2F7-4016-B55D-91F3AF51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0764D-A12B-4159-A674-959C9802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82536-A68D-4D56-9459-A963013C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832C3-5D41-4762-B16D-DCE58BD3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C214A-0A46-457C-B68E-94850D06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F7318-15CD-449E-AD2E-13A447A1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98817-D118-4A00-A472-4884A301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9AEF8-44EA-452A-861C-7D6496DC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50D4-51BC-47D3-BA16-5E3C3C93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F2FD2-6DB9-43C1-8C45-03AD8817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F5E58-6FF0-43EB-A8B6-4FCEF721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D407B-C1F6-4E05-8E75-96D0B4FC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AADA0-B7CF-4144-8810-9947236C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0B611-D7F8-4680-8EA3-2B3DA357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C3545-96B4-49CC-8C74-F1D9EEA9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27871-9EB9-47AC-A226-43D5CB9D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24641-3F91-4FE9-8CEA-47E3219E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055CE-45DF-4267-AAA3-1E87ED1A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5A7B0-2D35-4AB8-A58F-A60AA2AB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AF5-9CB7-49B7-801F-1EE3EEB5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72D42-0C6D-400C-9BE3-8507A8D6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EBD74-DC94-4C02-A9D9-4AE44C66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610CD-EAA8-4291-949A-EDC444DC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85637-7FCE-4BC7-B4EA-99B89407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6F117-A1C2-4B7F-9BA1-E683F7D3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FB495-40D5-4D2C-8C69-B63CD998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378E0-2962-43EC-BA67-55B82A90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0ADD3-059C-4DD4-A3EC-6E105243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EC0A9-F53D-4E16-AF1F-87143730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17ABC-D737-4C90-8B67-601FC4C4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A9E9-455B-4B42-A4D3-EE19A6E5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AAA17-095C-4004-AF98-0B9C2C17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3FA63-3852-4014-B604-2629FA43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1497E-2650-49C3-AC95-86A67ECB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4BF59-3C8A-4E96-8EAE-2B048A75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B2CED-2DD8-4894-B5B9-3A7405FE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9990E-390C-4EC6-B4FA-5BD13C30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25BE4-B9BE-47AE-86AF-19F88D05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0DE2A-E132-40D3-9E98-82EB4B70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55127-70AC-46B0-9FF1-68832AA9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101FB-4DA0-4491-A62E-E299FA9A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B3BB-0252-4D89-9B99-9E4D271B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1CC88-8FB1-4520-B9BF-3AFF8957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41052-C5AB-44A4-8266-3DB7A96E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E0A58-DF58-4CB2-91EA-B330F0DD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FEB8D-A179-4020-95C5-6BC6C7B6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59CEB-8C72-4478-8DBF-67D2C9D3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9B416-48FA-40A5-9C03-D194FC16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0F8A3-21D8-4597-B139-93ACD2F2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A3A8F-0688-44DC-81F4-80601663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A2993-7075-4A2E-978D-ED6197AF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CF60E-11F6-4B91-8198-5D2FAD1C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EC82-89EE-491B-80B3-7A2558A3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C9BD2-2E31-45B6-A724-F8061EE2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461ED-9808-45FD-A342-68C5701B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0631B-8D6C-4AEC-AD97-CB655BC5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3BB3E-1161-4F57-80CF-46C46F11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72026-570A-4BFB-BF2A-9800EDBB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F4A3C-0EAE-4D51-8DF6-F0147CE2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A4276-5446-4BC1-BF60-6DC18D82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7F7A-0C30-4419-BE7A-FF27320B72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3240" cy="788400"/>
            </a:xfrm>
            <a:custGeom>
              <a:avLst/>
              <a:gdLst>
                <a:gd name="textAreaLeft" fmla="*/ 0 w 9093240"/>
                <a:gd name="textAreaRight" fmla="*/ 9093600 w 909324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5893-5447-4625-A979-39CBC3F81D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940B-0D45-40FE-A58B-0382606A9D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33E2-8E94-4993-B76F-B868D2C675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80E9-37EB-41B7-9F9E-B3883530C5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175B-2A11-4BC9-B2EE-1D25486085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125E-4B56-49D0-B3F1-BDB3C617EA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4262-C367-4D7B-9B81-AB949E60A9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2" name="Picture 4" descr="C:\Documents and Settings\vic vernenkar\My Documents\My Pictures\Images\shock cartoon.jpg"/>
          <p:cNvPicPr/>
          <p:nvPr/>
        </p:nvPicPr>
        <p:blipFill>
          <a:blip r:embed="rId2"/>
          <a:stretch/>
        </p:blipFill>
        <p:spPr>
          <a:xfrm>
            <a:off x="1981080" y="533520"/>
            <a:ext cx="1828800" cy="22096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C:\Documents and Settings\vic vernenkar\My Documents\My Pictures\Images\hearthomecrop3.gif"/>
          <p:cNvPicPr/>
          <p:nvPr/>
        </p:nvPicPr>
        <p:blipFill>
          <a:blip r:embed="rId3"/>
          <a:stretch/>
        </p:blipFill>
        <p:spPr>
          <a:xfrm>
            <a:off x="6858000" y="4114800"/>
            <a:ext cx="152100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C:\Documents and Settings\vic vernenkar\My Documents\My Pictures\Images\heart_circulation.jpg"/>
          <p:cNvPicPr/>
          <p:nvPr/>
        </p:nvPicPr>
        <p:blipFill>
          <a:blip r:embed="rId2"/>
          <a:stretch/>
        </p:blipFill>
        <p:spPr>
          <a:xfrm>
            <a:off x="2286000" y="1752480"/>
            <a:ext cx="55627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C:\Documents and Settings\vic vernenkar\My Documents\My Pictures\Images\swan_ganz_schematic.jpg"/>
          <p:cNvPicPr/>
          <p:nvPr/>
        </p:nvPicPr>
        <p:blipFill>
          <a:blip r:embed="rId2"/>
          <a:stretch/>
        </p:blipFill>
        <p:spPr>
          <a:xfrm>
            <a:off x="1219320" y="1865160"/>
            <a:ext cx="67053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istance against which the heart muscle contrac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hysiologically equal to ventricular wall tension during systo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VR: systemic vascular resista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nically SVR measures afterlo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VR= MAP-CVP/CO x 8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rmal value 900-1400 dynes/sec/c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ce of contraction of the myocardium independent of preload and afterlo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bility of the heart to squeeze at a constant preload and afterlo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st important factor governing contractility is perfusion of the myocardi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e measure Oxygen content in arteries going in cellular environment, measure it going out in the venous side. The difference is the uptake, or VO2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O2= CO x (CaO2-CvO2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rterial Sat (95-100%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enous Sat (70-75%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o, really in normals only 20-25% O2 utiliz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, quite a bit of O2 left in reser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said before tissues can up it to 50-60% under stres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called oxygen extraction O2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2ER= VO2/DO2 or consumption/deliver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aches a critical point as usual…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povolem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rdiogen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tributi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urogen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pt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aphylact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duction of intravascular volume and prelo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eeding, diarrhea, vomiting…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st common categories dealt with by surge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ass I (15%): Like giving bloo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ass II (15-30%): 800-1500c.Tachycardic, orthostatic, decreased pulse pressure,cool clamm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ass III (30-40%): 2000cc. Hypotension, urine drop, anxiety, combati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ass IV: &gt;40%. Obtunded, oliguria, ready to co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crease in sympathetic activity by receptors in atrium, aorta, caroti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 and Epi released with increase in HR and contractility, increasing C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VR increased as well. Shunt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kin, skeletal muscle, splanchnic circulation first, then kidney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eep brain and heart ali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xygen supply meets demand=aerobic metabolism, glucose metaboliz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ually only 25% oxygen in capillaries utilized by tissues for aerobic metab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ssues can up this to 50-60% when stressed, up to a point, then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 glucose used anerobic metab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Rectangle 102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nal perfusion drops off at afferent, renin kicks in, angiotensinogen to angiotensin1, to angiotensin 2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giotensin 2 increases vascular tone, reabsorption of Na, stimulates aldosterone release which also augments Na reabsorpt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DH release from Pituitary to retain water, vasocontrict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hift of fluid from extravascular space to intravascular space. Hct fall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echanisms overwhelmed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ncotic pressure in interstitium now greater than plasma oncotic pressure, since plasma proteins leaked out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ecapillary sphincters relax leading to increase in capillary hydrostatic pressure. Driving fluid back into interstitium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crease in coronary perfusion pressure, myocardial ischemi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cidosis leads to arteriolar vasodilatation, negative inotropic effect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all this is not interrupted…..shock state is irreversible, leads to death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ead to damage control surgery thinking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BC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rine output 0.5cc/kg/h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ctate measure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ase Deficit is a measure of number of millimoles of base necessary to correct the pH of a liter of whole blood to 7.40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remains elevated, cellular perfusion po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astric tonometry measures blood flow to stomach using a CO2 permeable ballo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equences of successful resuscitation are a result of the leaky capillary state. ARDS, ACS for examp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ailure of the heart to function effectively as a pump to provide adequate blood flow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rinsic or extrinsic cau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ow systolic BP, elevated AV O2 difference, depressed CI (&lt;2.2), elevated PCWP (&gt;15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fore treating, must exclude hypovolemia. Once excluded, decide if it is level of heart muscle or in thoracic are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st common cause is MI, with loss of 40% LV function. Leads to elevated preload, PCWP, transmitted to lungs, pulmonary edema ensu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rhythmi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chycard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duced Diastole, decreases coronary perfu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adycard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 also produces mechanical defects, ie valves, aneurysm, septal defec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trinsic causes include tension pneumothorax, caval obstruction, pulmonary embolism, pericardial tampona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BC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ugment low ventricular pressures with volume, until PCWP at least 15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CO still low, one can be confident that this is cardiogeni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potension with low SVR best treated with agent that increases contractions, and dilates periphery. Dobutamin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blem with anerobic metab is less energy yield, lactate produced. Lactic acidosis ensues, as cant be cleared as fast as CO2 from tissu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 impairs at cell level then organ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mpaired organ means poor cellular perfusion…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ock is a self perpetuating conditio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ts primarily on Beta 1 receptors in myocardium. Alternative is Amrinone, a phosphodiesterase inhibitor. Acts like Dobutamin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this is not enough to reduce SVR, add an afterload reducing agent like Nitroprusside. Caution though!!! May drop BP furth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SVR low or normal with hypotension, an inotrope that tightens periphery up is needed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ow doses, renals dilat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5-10ug/kg/min stimulates Beta 1 (inotrope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bove 10ug/kg/min Alpha stimulation with increase in SVR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atch for tachycardia however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d if the other stuff fai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sitioned in the descending aorta, inflates during diastole, deflates during systo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hysiologic effect is to augment diastolic coronary perfusion, decrease afterload during systo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" descr="C:\Documents and Settings\vic vernenkar\My Documents\My Pictures\Images\balloon pump.jpg"/>
          <p:cNvPicPr/>
          <p:nvPr/>
        </p:nvPicPr>
        <p:blipFill>
          <a:blip r:embed="rId2"/>
          <a:stretch/>
        </p:blipFill>
        <p:spPr>
          <a:xfrm>
            <a:off x="2629080" y="190512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dition where SVR drops to the point that regardless of CO, the periphery is underperfus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urogenic, Septic, Anaphylactic are the common o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erruption of sympathetic tracts responsible for vascular tone. Loss of vasoconstriction results in blood pooling, decreased venous return, decreased ventricular fill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ripheral pulses weak, cap refill brisk, UO adequate, bradycardia from unopposed vagal stim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ody’s response to an overwhelming inf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acterial wall components like endotoxin released from G- bacteri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lammatory mediators are activated, which result in hemodynamic derangemen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yperdynamic in early stages, hypodynamic in late stag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yperdynamic stage marked by low SVR, increased CO, warm extremiti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ventually leads to pooling, leakage, poor perfus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yocardial depression, hypodynamic stat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llmark is inefficient extraction of O2, or utilization of O2 from microcircul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ccurs to such a degree that it is not uncommon to see normal or increased mixed venous O2 in profoundly acidotic patien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aphylactic shock presents similar to septic, low SVR, cap leakag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BC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ll the tank first. This is often all that is necessar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not, then use a vasopressor such as an alpha ag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ually not needed for a long tim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aphylaxis treated with antihistamines, epinephrine in addition to volum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mount of oxygen that a given volume of blood carried multiplied by the speed at which it is carried to the cell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ntent of arterial O2 is CaO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aO2=1.34 x Hb x SaO2 +(.003xPaO2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livery:DO2= CO x CaO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= SV x H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V is a consequence of preload, afterload, and contractilit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ath from traumatic injury follows a trimodal distribu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st subset die at sce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ithin 6hr from unsuccessful resuscitation, brain injuries, PTX not treat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r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within 30 days from MOF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planchnic vasoconstriction to move blood to vital organ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GI tract can become ischemic, followed by reperfusion which causes cell injur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reakdown of gut mucosal injury, mucosa becomes permeable in the septic stat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ll a theory of cours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wo hit phenomena as another explan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umber of beats per minute multiplied by amount of blood per be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decrease in one necessitates an increase in the oth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chycardia earliest and most effecti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rops out at over 150 beats per minu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astolic filling drops off with tachycard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scribed by Starling in 1915. The stretch on myocardial fibers. Clinically its Left Ventricular End-diastolic Volume (LVEDV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increase of LVEDV produces increased CO up to a point, then falls off. This is the flat part of the “curve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t this point failure and pulmonary edema occur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C:\Documents and Settings\vic vernenkar\My Documents\My Pictures\Images\starling curve.gif"/>
          <p:cNvPicPr/>
          <p:nvPr/>
        </p:nvPicPr>
        <p:blipFill>
          <a:blip r:embed="rId2"/>
          <a:stretch/>
        </p:blipFill>
        <p:spPr>
          <a:xfrm>
            <a:off x="1905120" y="1600200"/>
            <a:ext cx="6095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stimates LVEDV. Catheter passed thru right heart, wedged in the pulm artery. You are now measuring a column of blood all the way to left ventricle in diastole. LVED pressure is a proxy for prelo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y things can affect this measurement of prelo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102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027" descr="C:\Documents and Settings\vic vernenkar\My Documents\My Pictures\Images\Swanganz.jpg"/>
          <p:cNvPicPr/>
          <p:nvPr/>
        </p:nvPicPr>
        <p:blipFill>
          <a:blip r:embed="rId2"/>
          <a:stretch/>
        </p:blipFill>
        <p:spPr>
          <a:xfrm>
            <a:off x="2514600" y="1447920"/>
            <a:ext cx="4724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01:34:41Z</dcterms:created>
  <dc:creator>Vic Vernenkar</dc:creator>
  <dc:description/>
  <dc:language>en-US</dc:language>
  <cp:lastModifiedBy>Abdualrahman Alshehry</cp:lastModifiedBy>
  <dcterms:modified xsi:type="dcterms:W3CDTF">2016-04-06T10:19:07Z</dcterms:modified>
  <cp:revision>24</cp:revision>
  <dc:subject/>
  <dc:title>Shock and Hypoperfusion</dc:title>
</cp:coreProperties>
</file>