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6.jpeg" ContentType="image/jpeg"/>
  <Override PartName="/ppt/media/image45.png" ContentType="image/png"/>
  <Override PartName="/ppt/media/image10.png" ContentType="image/png"/>
  <Override PartName="/ppt/media/image11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9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C0A-8D9F-401B-95C5-C3693758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AEA-5D35-481A-9A03-64FE3B0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426-D4FF-48F0-A3EB-1E6EB8FD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218-B98E-411D-9AB3-44A6DD36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74EE-61FC-4697-B3A3-063A07F8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909-0AC8-46E7-A221-FDDAF87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C8A-46FE-4487-BEB2-714CD71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F023-2667-42E2-A22D-20C0F30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595-3133-4F79-A7A1-1277FCF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97DF-C0E3-4CEA-B826-D80A769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0CF-C8F0-44FB-8E22-1729A87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C2E-6FDE-481E-8DA4-D57C9553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EA78-98DF-485C-9AAF-B7FB4FB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31A-EE00-4A77-B530-D394BF3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A0F-395C-4295-8F93-1A939333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19E-B2A1-456F-8205-3A79BA90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02A1-7B86-4818-A6F4-D38A5C88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87B4-ABA7-4475-8A0F-40555ADC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4C61-B854-4745-B7BE-3F65750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96CD-EDFA-4D3D-8ED9-77BA196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579D-8C6A-4CCE-8377-D98CA21B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379F-0158-4D85-8881-70F11D14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928-3711-463B-9BF8-99E509D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C232-A831-4270-896F-68CD376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34C3-AFA6-4A50-8E76-710A7DB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E10E-2872-4AE4-856F-DCD04CD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11E6-155E-45A9-88D5-95B60E7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FB6D-A44E-4C23-A7B4-25D67F9B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A397-1898-4D6F-A0A0-BE8F9425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5075-A852-4F91-95B3-B2EFDEAC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FA18-F8AF-45FF-9468-A294E7DF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B275-A89D-46FA-AA6B-2F520FEF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0411-E782-4A72-9357-76EB375D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9AB-CB6E-4DB2-BB71-661F2743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4622-8375-4578-B8E7-7B5F789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DC6F-9A97-4767-AE7D-C2AB37B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9D03-C740-44C4-BB8A-9DF9F526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B9ED-C2A3-4EFC-AEB3-0699DE2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0479-5D81-4C96-BE65-6CF3FD8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09D2-BCA4-40DF-8F38-9C0C9DC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65AF-FA99-4D43-AF16-EF22039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8B0A-78AD-43A1-B3B3-BE23EABD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8CB0-A881-4572-9148-C5E39EFE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928E-7186-497E-915B-03D38B4E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8B5-A8E2-47F1-BCD8-62CAF43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F337-165F-4C74-B33F-47636061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BBA10-A05F-4B04-93D8-DF9F80A9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78E6-40E3-4016-8CEF-42CD277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697F-D987-4509-AB60-3FABB3B1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5A3A-8784-4139-BAE6-756B66D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1FAC-AAB0-466E-A033-C9A85AF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B81D-C431-4F2B-B70F-713E632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D41B-EB8E-4FFE-809F-32B53560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2DE0-9F32-4680-9FDA-833EC45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73D5E-C98D-403A-A6C7-0287F42D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D6E-E3EE-479C-A6AA-CE1C992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5F4A-13E6-4F92-A211-96FE30CC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7159-34AD-41F7-AFA5-F7EE011C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B114C-A8AD-4BDF-8935-9DCB758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C2CC-E90B-4E20-980D-C70805F9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41AC-00DE-438A-88CE-1A6D385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F7F3-7B89-434A-AE64-88A6F88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FB20-503B-4518-A715-4EAEB7C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E70A-EC56-4DAF-849D-CEE4163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3ACC-24FD-46D0-A6B9-2AF5726B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B2DD-4DDC-41A7-9545-56C6979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2F7-DE81-4F33-A96E-BFA80C3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E2F2-FD5E-498F-944E-407A46EF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E484-005B-4C01-A2E0-9A1280E7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0C37-41D9-49D7-8985-D25AF647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48BB-3B6F-4ACA-B1E6-81871C7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0257-DDF5-4537-9BCF-274EC64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C06C1-6EF6-4310-8047-D5A52CA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EAD4-3F4A-4C5C-A7E3-6B2598A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50CC-4817-4820-B0E7-19D5B3A4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960D-EB3F-48B5-84C7-7560AA85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445D-F6EC-4101-8AAB-5AFDE5E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1C1-1E1D-4EE7-B22C-3F1289D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D52C-5E78-4AB8-A6C7-594359D7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F46F-9D51-49BF-BC59-17CC509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4A34-14BA-4083-AA18-A82B8C7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F76D-43AD-4F9C-9F6C-620FC2CA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37CC-B0FC-4071-90F1-626A3B5B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A917-5C5C-4B00-9212-9915335F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47B1-3A30-4E25-B328-73F60B17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6B378-24F0-4DFC-96B5-66941B19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AA3E-6E25-4888-BC61-0D287FF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FBAD-2166-4E24-A7AC-31E4FEE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467-3851-4085-9C47-D5FA30E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6A6AB-ACA0-4FB4-A190-ECE14E0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5BE0-C3DD-4671-AEF2-924A3F70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B07F6-6788-4511-B00F-6A28430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A460-482E-48FF-A7D4-65C7A7C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B5FF-CD1A-4773-9AE6-545D87D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E061-B033-43E8-A0DD-9B510DDC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2D92D-1CCD-4BF9-9AAF-E9469516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AB6-3E48-4C4E-9C08-DED07FC37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6F6-D664-476E-AF5A-E5A22F8BB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834E-B991-49F6-957E-1E526CB1DF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97C4-3AEC-4437-A123-CD9960FB23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4F0-959C-4EA9-9B05-4A76659700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0CF-8B18-472A-85CD-0CB1B9DD5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7CA-EC23-4B45-BF22-843EC4E9D3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6C0-C84C-4793-9A31-5A82DCFCE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C:\Documents and Settings\vic vernenkar\My Documents\My Pictures\Images\shock cartoon.jpg"/>
          <p:cNvPicPr/>
          <p:nvPr/>
        </p:nvPicPr>
        <p:blipFill>
          <a:blip r:embed="rId2"/>
          <a:stretch/>
        </p:blipFill>
        <p:spPr>
          <a:xfrm>
            <a:off x="1981080" y="533520"/>
            <a:ext cx="1828800" cy="2209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Documents and Settings\vic vernenkar\My Documents\My Pictures\Images\hearthomecrop3.gif"/>
          <p:cNvPicPr/>
          <p:nvPr/>
        </p:nvPicPr>
        <p:blipFill>
          <a:blip r:embed="rId3"/>
          <a:stretch/>
        </p:blipFill>
        <p:spPr>
          <a:xfrm>
            <a:off x="6858000" y="4114800"/>
            <a:ext cx="1521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vic vernenkar\My Documents\My Pictures\Images\heart_circulation.jpg"/>
          <p:cNvPicPr/>
          <p:nvPr/>
        </p:nvPicPr>
        <p:blipFill>
          <a:blip r:embed="rId2"/>
          <a:stretch/>
        </p:blipFill>
        <p:spPr>
          <a:xfrm>
            <a:off x="2286000" y="1752480"/>
            <a:ext cx="55627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vic vernenkar\My Documents\My Pictures\Images\swan_ganz_schematic.jpg"/>
          <p:cNvPicPr/>
          <p:nvPr/>
        </p:nvPicPr>
        <p:blipFill>
          <a:blip r:embed="rId2"/>
          <a:stretch/>
        </p:blipFill>
        <p:spPr>
          <a:xfrm>
            <a:off x="1219320" y="1865160"/>
            <a:ext cx="67053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istance against which the heart muscle contra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ysiologically equal to ventricular wall tension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VR: systemic vascular re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nically SVR measures after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VR= MAP-CVP/CO x 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l value 900-1400 dynes/sec/c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ce of contraction of the myocardium independent of preload and after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ility of the heart to squeeze at a constant preload and afterl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important factor governing contractility is perfusion of the myocard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easure Oxygen content in arteries going in cellular environment, measure it going out in the venous side. The difference is the uptake, or VO2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2= CO x (CaO2-CvO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terial Sat (95-100%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ous Sat (70-75%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, really in normals only 20-25% O2 utiliz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quite a bit of O2 left in reser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aid before tissues can up it to 50-60% under st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called oxygen extraction O2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2ER= VO2/DO2 or consumption/delive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ches a critical point as usual…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volem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di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r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p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c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duction of intravascular volume and prel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eeding, diarrhea, vomiting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ommon categories dealt with by surge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 (15%): Like giving bl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I (15-30%): 800-1500c.Tachycardic, orthostatic, decreased pulse pressure,cool clamm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II (30-40%): 2000cc. Hypotension, urine drop, anxiety, comba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V: &gt;40%. Obtunded, oliguria, ready to co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rease in sympathetic activity by receptors in atrium, aorta, caroti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 and Epi released with increase in HR and contractility, increasing C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VR increased as well. Shun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n, skeletal muscle, splanchnic circulation first, then kidne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brain and heart al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xygen supply meets demand=aerobic metabolism, glucose metaboliz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only 25% oxygen in capillaries utilized by tissues for aerobic meta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ssues can up this to 50-60% when stressed, up to a point, then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glucose used anerobic meta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102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nal perfusion drops off at afferent, renin kicks in, angiotensinogen to angiotensin1, to angiotensin 2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giotensin 2 increases vascular tone, reabsorption of Na, stimulates aldosterone release which also augments Na reabsorp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H release from Pituitary to retain water, vasocontric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ift of fluid from extravascular space to intravascular space. Hct fa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chanisms overwhelm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cotic pressure in interstitium now greater than plasma oncotic pressure, since plasma proteins leaked ou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capillary sphincters relax leading to increase in capillary hydrostatic pressure. Driving fluid back into interstit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crease in coronary perfusion pressure, myocardial ischem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idosis leads to arteriolar vasodilatation, negative inotropic effec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all this is not interrupted…..shock state is irreversible, leads to deat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ad to damage control surgery thin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rine output 0.5cc/kg/h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ate measur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 Deficit is a measure of number of millimoles of base necessary to correct the pH of a liter of whole blood to 7.4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mains elevated, cellular perfusion p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tric tonometry measures blood flow to stomach using a CO2 permeable ballo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equences of successful resuscitation are a result of the leaky capillary state. ARDS, ACS for examp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ilure of the heart to function effectively as a pump to provide adequate blood f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insic or extrinsic c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 systolic BP, elevated AV O2 difference, depressed CI (&lt;2.2), elevated PCWP (&gt;15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fore treating, must exclude hypovolemia. Once excluded, decide if it is level of heart muscle or in thoracic are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ommon cause is MI, with loss of 40% LV function. Leads to elevated preload, PCWP, transmitted to lungs, pulmonary edema en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rhythmi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h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duced Diastole, decreases coronary perf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d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 also produces mechanical defects, ie valves, aneurysm, septal defe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insic causes include tension pneumothorax, caval obstruction, pulmonary embolism, pericardial tampona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ment low ventricular pressures with volume, until PCWP at least 15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O still low, one can be confident that this is cardiogen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ension with low SVR best treated with agent that increases contractions, and dilates periphery. Dobutam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 with anerobic metab is less energy yield, lactate produced. Lactic acidosis ensues, as cant be cleared as fast as CO2 from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 impairs at cell level then organ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aired organ means poor cellular perfusion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ck is a self perpetuating condi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s primarily on Beta 1 receptors in myocardium. Alternative is Amrinone, a phosphodiesterase inhibitor. Acts like Dobutam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is is not enough to reduce SVR, add an afterload reducing agent like Nitroprusside. Caution though!!! May drop BP fur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SVR low or normal with hypotension, an inotrope that tightens periphery up is need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w doses, renals dil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5-10ug/kg/min stimulates Beta 1 (inotrop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ve 10ug/kg/min Alpha stimulation with increase in SV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atch for tachycardia howev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if the other stuff fai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oned in the descending aorta, inflates during diastole, deflates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ysiologic effect is to augment diastolic coronary perfusion, decrease afterload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C:\Documents and Settings\vic vernenkar\My Documents\My Pictures\Images\balloon pump.jpg"/>
          <p:cNvPicPr/>
          <p:nvPr/>
        </p:nvPicPr>
        <p:blipFill>
          <a:blip r:embed="rId2"/>
          <a:stretch/>
        </p:blipFill>
        <p:spPr>
          <a:xfrm>
            <a:off x="2629080" y="190512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dition where SVR drops to the point that regardless of CO, the periphery is underperfu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rogenic, Septic, Anaphylactic are the common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ruption of sympathetic tracts responsible for vascular tone. Loss of vasoconstriction results in blood pooling, decreased venous return, decreased ventricular fill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ipheral pulses weak, cap refill brisk, UO adequate, bradycardia from unopposed vagal stim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’s response to an overwhelming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wall components like endotoxin released from G-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lammatory mediators are activated, which result in hemodynamic derangem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erdynamic in early stages, hypodynamic in late stag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erdynamic stage marked by low SVR, increased CO, warm extremiti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ntually leads to pooling, leakage, poor perfu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yocardial depression, hypodynamic st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llmark is inefficient extraction of O2, or utilization of O2 from microcircul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curs to such a degree that it is not uncommon to see normal or increased mixed venous O2 in profoundly acidotic pati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ctic shock presents similar to septic, low SVR, cap leak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the tank first. This is often all that is necessa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not, then use a vasopressor such as an alpha ag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not needed for a long ti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xis treated with antihistamines, epinephrine in addition to volu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mount of oxygen that a given volume of blood carried multiplied by the speed at which it is carried to the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tent of arterial O2 is CaO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O2=1.34 x Hb x SaO2 +(.003xPaO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livery:DO2= CO x CaO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= SV x H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V is a consequence of preload, afterload, and contractil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th from traumatic injury follows a trimodal distrib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st subset die at sc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in 6hr from unsuccessful resuscitation, brain injuries, PTX not tre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within 30 days from M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lanchnic vasoconstriction to move blood to vital orga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I tract can become ischemic, followed by reperfusion which causes cell injur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reakdown of gut mucosal injury, mucosa becomes permeable in the septic stat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l a theory of cour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hit phenomena as another explan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beats per minute multiplied by amount of blood per be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decrease in one necessitates an increase in the o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hycardia earliest and most effec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ops out at over 150 beats per min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stolic filling drops off with tach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d by Starling in 1915. The stretch on myocardial fibers. Clinically its Left Ventricular End-diastolic Volume (LVEDV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ncrease of LVEDV produces increased CO up to a point, then falls off. This is the flat part of the “curve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is point failure and pulmonary edema occur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Documents and Settings\vic vernenkar\My Documents\My Pictures\Images\starling curve.gif"/>
          <p:cNvPicPr/>
          <p:nvPr/>
        </p:nvPicPr>
        <p:blipFill>
          <a:blip r:embed="rId2"/>
          <a:stretch/>
        </p:blipFill>
        <p:spPr>
          <a:xfrm>
            <a:off x="1905120" y="160020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imates LVEDV. Catheter passed thru right heart, wedged in the pulm artery. You are now measuring a column of blood all the way to left ventricle in diastole. LVED pressure is a proxy for pre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ings can affect this measurement of pre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102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27" descr="C:\Documents and Settings\vic vernenkar\My Documents\My Pictures\Images\Swanganz.jpg"/>
          <p:cNvPicPr/>
          <p:nvPr/>
        </p:nvPicPr>
        <p:blipFill>
          <a:blip r:embed="rId2"/>
          <a:stretch/>
        </p:blipFill>
        <p:spPr>
          <a:xfrm>
            <a:off x="2514600" y="144792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1:34:41Z</dcterms:created>
  <dc:creator>Vic Vernenkar</dc:creator>
  <dc:description/>
  <dc:language>en-US</dc:language>
  <cp:lastModifiedBy>Abdualrahman Alshehry</cp:lastModifiedBy>
  <dcterms:modified xsi:type="dcterms:W3CDTF">2016-04-06T10:19:07Z</dcterms:modified>
  <cp:revision>24</cp:revision>
  <dc:subject/>
  <dc:title>Shock and Hypoperfusion</dc:title>
</cp:coreProperties>
</file>