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4ADF-B781-4819-83E0-C4924DF96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A34C-8E9B-4880-ADA2-62FD3F3AB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5B3-6AEF-4C48-9ADB-69EC935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3F3-01BB-420E-840F-DA33F9F3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542-2AFA-44EE-A1DF-8F0F366D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46A-A181-4D7D-9F93-B99CB556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16D9-A99F-4A7C-BA23-4719E58F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FED6-7F96-41FB-8D65-C22C810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B44-29AD-48BA-966E-94F159A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2EF-FC3D-4D76-8BAC-9DCAC33E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2E6A-263E-41ED-AD70-92F876DB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2576-D73E-4176-A250-837B32E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FFDD-E5C1-41C1-97E1-8BBFC51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A72-BE9A-4C7E-9D7F-DBC2312B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5DED-1865-4187-A9C6-6C49C71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7898-E20C-4D45-A12F-148ADF4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C526-727F-4946-9D96-E37D8B9A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C51-D3EF-4EF4-BF0C-EADFCF8F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E97-F097-46C2-B014-EF3AF1E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F580-0C68-4311-8F5A-39C057DF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B539-F297-4716-855C-EA932D81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8ED4-54AE-48E4-AECF-1BC90FA6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087D-DDC4-42A0-B465-91E4AF9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FD05-70D9-4F18-984C-B60C1D0B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ECD-A16A-457C-9FCE-85E0471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7513-B567-4448-B56A-27454487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AB1C-10DA-4F8D-8BAD-818B436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3462-1869-45AC-81D9-AD37F79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B460-9E7B-49B0-B928-FF2294D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ECF3-4C30-4560-A3F0-76C7E41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A082-5165-48D0-9814-2E8F96B9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82EB-FBFC-4391-AFAF-9771CF24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0115-C5B2-45FF-81A2-23EB2B93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77DA6-7B17-4020-A561-0A89C959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0759-1D05-4D60-A94F-545EFE8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6B7-DAAE-4F8D-9CB5-B5C1D2B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A756-0FE6-4C3D-A6EB-EFEC82B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D794-D752-4956-8AC1-E476BD9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F600-3B20-4D32-9EBA-7BE433C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3634-4374-445E-9C11-94B05353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57C8-4369-41C5-9CE0-B63B8DC9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816F-C479-4B05-9879-85D931C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8377-87AA-479E-8A6A-9C5D2D77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8565-0F52-4A05-ADBB-7B0D917E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4D05-473A-4FDE-9ED6-01CBFF9C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C67-AB42-4E44-9A39-2E42555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DBE-53FA-4A12-9BDD-5CB206C6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B1E-A366-4AFE-A3FF-D62551F2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960-3455-48DA-B86F-3101DCE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7AE-9F7B-45FC-AAB7-730AC1E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990-7A4A-4C95-AD53-F7578374825A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110-9142-46BC-860A-244B69B30B52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EC5-F5AF-449B-BECB-4F0518985A83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FF53-C483-4E7B-B476-A56B9CDB3B02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2845-CBCA-49E0-91B4-339DBEED7849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AA2-43B9-4682-9E8C-657A036D3EA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9495-EF96-4172-AF24-32D55C3E12E5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B855-F8A9-49D4-A1D7-DA5A770DA7B0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حاسبة في شركات التضامن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ثاني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own Arrow Callout 1"/>
          <p:cNvSpPr/>
          <p:nvPr/>
        </p:nvSpPr>
        <p:spPr>
          <a:xfrm>
            <a:off x="981000" y="1471680"/>
            <a:ext cx="6983640" cy="3286080"/>
          </a:xfrm>
          <a:prstGeom prst="downArrowCallout">
            <a:avLst>
              <a:gd name="adj1" fmla="val 25013"/>
              <a:gd name="adj2" fmla="val 25001"/>
              <a:gd name="adj3" fmla="val 25000"/>
              <a:gd name="adj4" fmla="val 6497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981000" y="1296720"/>
            <a:ext cx="694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f2016"/>
                </a:solidFill>
                <a:uFillTx/>
                <a:latin typeface="Traditional Arabic"/>
                <a:cs typeface="Traditional Arabic"/>
              </a:rPr>
              <a:t>و فيما يلي شرح لكل 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).</a:t>
            </a:r>
            <a:r>
              <a:rPr b="1" lang="ar-SA" sz="24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 توزيع الأرباح و الخسائر حسب نسبة متفق عليها تختلف عن نسب تكوين راس المال و يكون ذلك إما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بالتساوي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حسب نسب متفق عليها </a:t>
            </a: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ثلا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:1: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أو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:1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Majalla UI"/>
              </a:rPr>
              <a:t>أ).  عندما يتفق الشركاء على توزيع الأرباح و الخسائر بالتساوي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95120" y="2119320"/>
            <a:ext cx="6964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aa2b1e"/>
                </a:solidFill>
                <a:uFillTx/>
                <a:latin typeface="Franklin Gothic Book"/>
                <a:cs typeface="Arial"/>
              </a:rPr>
              <a:t>مثــــــال (</a:t>
            </a:r>
            <a:r>
              <a:rPr b="1" lang="ar-SA" sz="2000" spc="-1" strike="noStrike" u="sng">
                <a:solidFill>
                  <a:srgbClr val="aa2b1e"/>
                </a:solidFill>
                <a:uFillTx/>
                <a:latin typeface="Franklin Gothic Book"/>
                <a:ea typeface="Arial"/>
              </a:rPr>
              <a:t>1</a:t>
            </a:r>
            <a:r>
              <a:rPr b="1" lang="ar-SA" sz="2000" spc="-1" strike="noStrike" u="sng">
                <a:solidFill>
                  <a:srgbClr val="aa2b1e"/>
                </a:solidFill>
                <a:uFillTx/>
                <a:latin typeface="Franklin Gothic 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شركة تضامن يملكها ( زيد </a:t>
            </a: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  و (عمرو </a:t>
            </a: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)  عملت خلال السنة المالية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405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و حققت صافي أرباح قدره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,000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ريالا و أن نسبة توزيع الأرباح و الخسائر بينهما بالتساوي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طلوب قيد اليومية اللازم لاثبات توزيع الأرباح للشركين في عام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405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ي المثال نجد أن توزيع الأرباح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بالتساوي بين الشركاء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Franklin Gothic Book"/>
                <a:cs typeface="Arial"/>
              </a:rPr>
              <a:t>يكون قيد توزيع الربح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المتاجرة و الأرباح و الخسائر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إلى مذكور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 جاري الشريك زي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ح/ جاري الشريك عمرو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cs typeface="Majalla UI"/>
              </a:rPr>
              <a:t>ب).  عندما يتفق الشركاء على توزيع الأرباح و الخسائر حسب نسب متفق عليها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2119320"/>
            <a:ext cx="71452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ققت الشركة ربح بمقدار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ريال واتفق الشريكين على أن تكون نسبة الأرباح كالتالي 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:2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نسبة الشريك الأول من الربح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=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=40000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نسبة الشريك الثاني من الربح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=20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Straight Connector 4"/>
          <p:cNvSpPr/>
          <p:nvPr/>
        </p:nvSpPr>
        <p:spPr>
          <a:xfrm>
            <a:off x="6029280" y="3591000"/>
            <a:ext cx="50328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6281640" y="4703760"/>
            <a:ext cx="5032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914400" y="3313080"/>
            <a:ext cx="3645000" cy="2409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1800" spc="-1" strike="noStrike" u="sng">
                <a:solidFill>
                  <a:srgbClr val="40749b"/>
                </a:solidFill>
                <a:uFillTx/>
                <a:latin typeface="Franklin Gothic Book"/>
                <a:cs typeface="Arial"/>
              </a:rPr>
              <a:t>يكون قيد توزيع الربح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من ح/ المتاجرة و الأرباح و الخسائر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         إلى مذكوري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 جاري الشريك الأو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0,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ح/ جاري الشريك الثاني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رك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463760" y="2597040"/>
            <a:ext cx="6195960" cy="1632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قد يتغير الشركاء في شركة التضامن بدخول شريك أو خروج شريك أو وفاة شريك أو دخول شريك بدل شريك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رك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دخول شريك مع بقاء الشركاء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هنا سوف يكون حالتين :</a:t>
            </a:r>
            <a:br>
              <a:rPr sz="2400"/>
            </a:b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أ-شراء جزء من الشركة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بمعنى أن يدخل الشريك الجديد مع بقاء رأس المال كما هو ويكون هناك إعادة توزيع لراس المال بين الشركاء ودفع الفرق للشركاء الموجودين)</a:t>
            </a:r>
            <a:br>
              <a:rPr sz="2400"/>
            </a:b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ب-استثمار مبلغ من المال في الشركة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بمعنى زيادة رأس مال الشركة بقيمة رأس مال الشريك الجديد 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ـرك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63400" y="2118960"/>
            <a:ext cx="619596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خروج شريك مع استمرار الشركة ببقية الشركاء.</a:t>
            </a:r>
            <a:br>
              <a:rPr sz="2400"/>
            </a:br>
            <a:r>
              <a:rPr b="1" lang="ar-SA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ضاً يوجد حالتين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-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أن يخفض رأس المال الشركة بنصيب الشريك الخارج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-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أن يشتري بقية الشركاء نصيب الشريك الخارج ويبقى رأس مال الشركة كما هو 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الشركـــاء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63400" y="2118960"/>
            <a:ext cx="619596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وفاة شريك في شركة التضامن.</a:t>
            </a:r>
            <a:br>
              <a:rPr sz="2400"/>
            </a:br>
            <a:r>
              <a:rPr b="1" lang="ar-SA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ند ذلك تؤول نسبة الشريك المتوفى إلى ورثته ويبقى الأمر في يد الورثة إما البقاء في الشركة أو بيعها.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حل شركة التضامن وتصفيتها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قصد بالتصفية ”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تسديد ديون الشركة وتوزيع ممتلكاتها بين الشركاء حسب أنصبتهم فيها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“</a:t>
            </a:r>
            <a:br>
              <a:rPr sz="2400"/>
            </a:b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إجراءات التصفية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تنهي جميع الأعمال العادية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تباع أصول الشركة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تسدد ديون الشركة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يقسم الباقي بين الشركاء حسب أنصبتهم في الأرباح والخسائ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 الشرك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63400" y="2690640"/>
            <a:ext cx="619596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749b"/>
                </a:solidFill>
                <a:latin typeface="Franklin Gothic Book"/>
                <a:ea typeface="Arial"/>
              </a:rPr>
              <a:t>” عقد يلتزم بمقتضاه شخصان أو أكثر بأن يساهم كل منهم في مشروع يستهدف الربح بتقديم حصة من مال أو عمل , لاقتسام ماقد ينشأ عن المشروع من ربح أوخساره.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 الشركــات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1643040" y="1736640"/>
            <a:ext cx="5937120" cy="63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نشآت الاقتصادية قد تأخذ أشكالاً ثلاثة من ناحية ملكيتها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7" name="Straight Arrow Connector 6"/>
          <p:cNvCxnSpPr/>
          <p:nvPr/>
        </p:nvCxnSpPr>
        <p:spPr>
          <a:xfrm>
            <a:off x="2346120" y="2371680"/>
            <a:ext cx="1332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>
            <a:stCxn id="236" idx="2"/>
          </p:cNvCxnSpPr>
          <p:nvPr/>
        </p:nvCxnSpPr>
        <p:spPr>
          <a:xfrm>
            <a:off x="4611240" y="237168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Straight Arrow Connector 10"/>
          <p:cNvCxnSpPr/>
          <p:nvPr/>
        </p:nvCxnSpPr>
        <p:spPr>
          <a:xfrm>
            <a:off x="7049880" y="237168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Rounded Rectangle 11"/>
          <p:cNvSpPr/>
          <p:nvPr/>
        </p:nvSpPr>
        <p:spPr>
          <a:xfrm>
            <a:off x="1450800" y="3021120"/>
            <a:ext cx="1816200" cy="71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شركات الأموال</a:t>
            </a: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Rounded Rectangle 12"/>
          <p:cNvSpPr/>
          <p:nvPr/>
        </p:nvSpPr>
        <p:spPr>
          <a:xfrm>
            <a:off x="3703680" y="3021120"/>
            <a:ext cx="1816200" cy="71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شركات الأشخا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5970600" y="3021120"/>
            <a:ext cx="1814400" cy="71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منشآت الفردي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3" name="Straight Arrow Connector 16"/>
          <p:cNvCxnSpPr>
            <a:stCxn id="242" idx="2"/>
          </p:cNvCxnSpPr>
          <p:nvPr/>
        </p:nvCxnSpPr>
        <p:spPr>
          <a:xfrm>
            <a:off x="6878520" y="3736800"/>
            <a:ext cx="136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17"/>
          <p:cNvCxnSpPr/>
          <p:nvPr/>
        </p:nvCxnSpPr>
        <p:spPr>
          <a:xfrm>
            <a:off x="4611600" y="3736800"/>
            <a:ext cx="136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18"/>
          <p:cNvCxnSpPr/>
          <p:nvPr/>
        </p:nvCxnSpPr>
        <p:spPr>
          <a:xfrm>
            <a:off x="2358720" y="3736800"/>
            <a:ext cx="133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Rounded Rectangle 19"/>
          <p:cNvSpPr/>
          <p:nvPr/>
        </p:nvSpPr>
        <p:spPr>
          <a:xfrm>
            <a:off x="5970600" y="4440240"/>
            <a:ext cx="2286000" cy="15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لكها شخص واحد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Rounded Rectangle 20"/>
          <p:cNvSpPr/>
          <p:nvPr/>
        </p:nvSpPr>
        <p:spPr>
          <a:xfrm>
            <a:off x="3468600" y="4440240"/>
            <a:ext cx="2286000" cy="15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لكها أكثر من شخص و يكون الجميع أو بعضهم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مسئولون عن ديون المنشأة في جميع أموالهم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Rounded Rectangle 21"/>
          <p:cNvSpPr/>
          <p:nvPr/>
        </p:nvSpPr>
        <p:spPr>
          <a:xfrm>
            <a:off x="981000" y="4240080"/>
            <a:ext cx="2286000" cy="188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95480" y="3966120"/>
            <a:ext cx="200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لكها أكثر من شخص و لكن تتحدد مسئولية الجميع عن ديون المنشأة في حدود ما يملكونه فيها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، دون أن تتعدى لأموالهم الأخرى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شركات الأشخاص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قوم على الاعتبار الشخصي للأفراد وتتكون في الغالب من أشخاص يعرف كل منهم الآخر معرفه تامة ويثق فيه ثقة جيده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أنواعهـــــــا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التضامن 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هي الشركة التي تتكون من شركين أو أكثر مسئولين بالتضامن في جميع  أموالهم عن ديون الشرك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التوصية البسيط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المحاص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شركة التضــامن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63400" y="2279160"/>
            <a:ext cx="619596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تكوين شركات التضامن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عد أن يتفق الشركاء على تكوين الشركة وتحديد رأس مالها ونصيب كل منهم يتم تحويل المبالغ الممثلة لرأس المال للشركة ووضعها تحت يدها باعتبارها شخصية محاسبية مستقلة 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"/>
          <p:cNvSpPr/>
          <p:nvPr/>
        </p:nvSpPr>
        <p:spPr>
          <a:xfrm>
            <a:off x="1378080" y="1246320"/>
            <a:ext cx="6294240" cy="1112760"/>
          </a:xfrm>
          <a:prstGeom prst="ellipse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شكال تكوين شركة التضامن بحيث يكون دفع رأس المال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>
            <a:off x="6484680" y="2358720"/>
            <a:ext cx="53244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6"/>
          <p:cNvCxnSpPr/>
          <p:nvPr/>
        </p:nvCxnSpPr>
        <p:spPr>
          <a:xfrm>
            <a:off x="4498560" y="250488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Straight Arrow Connector 11"/>
          <p:cNvCxnSpPr/>
          <p:nvPr/>
        </p:nvCxnSpPr>
        <p:spPr>
          <a:xfrm flipH="1">
            <a:off x="2054160" y="2504880"/>
            <a:ext cx="2782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Rectangle 14"/>
          <p:cNvSpPr/>
          <p:nvPr/>
        </p:nvSpPr>
        <p:spPr>
          <a:xfrm>
            <a:off x="6473880" y="3270240"/>
            <a:ext cx="1630440" cy="109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).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دفع رأس المال نقدا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3432240" y="3270240"/>
            <a:ext cx="2133360" cy="1246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432240" y="32158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دفع رأس المال نقدا و أعيان (نقود  + أصول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22240" y="3270240"/>
            <a:ext cx="2401920" cy="1511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. أن يحول أحد الشركاء منشأته الفردية  القائمة بأصولها و خصومها و يمثل الفرق كل أو بعض رأس ماله في الشركة 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توزيع الأرباح و الخسائر في شركات التضامن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95120" y="2119320"/>
            <a:ext cx="69642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ا توجد مشكله في المنشآت الفردية حيث أن الأرباح تؤول كلها لشخص واحد والخسائر يتحملها شخص واحد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ظهر مشكلة توزيع الأرباح و الخسائر في شركات التضامن و ذلك للأسباب التالية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499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جود اكثر من شريك يملك المنشأة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ختلاف حصص الشركاء في راس المال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ذلك جرت الضرورة لتوزيع الأرباح بنسب متفق عليها بين الشركاء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499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 بعض الشركاء يعملون بينما الآخرون لا يعملون بها (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كن نظام الشركات في المملكه لا يجيز للمالك أن يحسب لنفسه أجراً على عمله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يف يتم توزيع الأرباح و الخسائر في شركات تضامن؟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0920" indent="-2509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927000" y="1563840"/>
          <a:ext cx="7275600" cy="2458800"/>
        </p:xfrm>
        <a:graphic>
          <a:graphicData uri="http://schemas.openxmlformats.org/drawingml/2006/table">
            <a:tbl>
              <a:tblPr/>
              <a:tblGrid>
                <a:gridCol w="3197160"/>
                <a:gridCol w="4078440"/>
              </a:tblGrid>
              <a:tr h="731880">
                <a:tc>
                  <a:txBody>
                    <a:bodyPr lIns="62640" rIns="6264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يكون القيد في حالة الخسائر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يكون القيد في حالة الأرباح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680">
                <a:tc>
                  <a:txBody>
                    <a:bodyPr lIns="62640" rIns="6264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في حالة الخسائر نعكس القيد السابق و يكون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×ح/ جاري الشريك (أ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ح/ جاري الشريك (ب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إلى ح/ المتاجرة و الأرباح و الخسائ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××××× من ح/ المتاجرة و الأرباح و الخسائ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             إلى مذكور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×××ح/ جاري الشريك (أ) (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ته من الأربا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    ××× ح/ جاري الشريك (ب)(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Franklin Gothic Book"/>
                          <a:cs typeface="Arial"/>
                        </a:rPr>
                        <a:t>حصته من الأربا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3"/>
          <p:cNvSpPr/>
          <p:nvPr/>
        </p:nvSpPr>
        <p:spPr>
          <a:xfrm>
            <a:off x="1405080" y="927000"/>
            <a:ext cx="6175080" cy="993960"/>
          </a:xfrm>
          <a:prstGeom prst="ellipse">
            <a:avLst/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طرق توزيع الأرباح و الخسائر في شركات التضا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894360" y="2106720"/>
            <a:ext cx="1371600" cy="2730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Arial"/>
              </a:rPr>
              <a:t>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حسب نسبة متفق عليها تختلف عن نسب تكوين راس المال 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 يكون ذلك إما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بالتساوي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حسب نسب متفق عليها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363920" y="2273400"/>
            <a:ext cx="217188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حسب نسبة تكوين راس المال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4363920" y="3187800"/>
            <a:ext cx="2171880" cy="624960"/>
            <a:chOff x="4363920" y="3187800"/>
            <a:chExt cx="2171880" cy="624960"/>
          </a:xfrm>
        </p:grpSpPr>
        <p:sp>
          <p:nvSpPr>
            <p:cNvPr id="269" name="AutoShape 7"/>
            <p:cNvSpPr/>
            <p:nvPr/>
          </p:nvSpPr>
          <p:spPr>
            <a:xfrm>
              <a:off x="4363920" y="3395880"/>
              <a:ext cx="2171880" cy="41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ctr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7f2016"/>
                  </a:solidFill>
                  <a:latin typeface="Traditional Arabic"/>
                  <a:cs typeface="Traditional Arabic"/>
                </a:rPr>
                <a:t>يوجد حالتين:</a:t>
              </a:r>
              <a:r>
                <a:rPr b="1" lang="ar-SA" sz="1800" spc="-1" strike="noStrike" u="sng">
                  <a:solidFill>
                    <a:srgbClr val="7f2016"/>
                  </a:solidFill>
                  <a:uFillTx/>
                  <a:latin typeface="Traditional Arabic"/>
                  <a:ea typeface="Traditional Arab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270" name="AutoShape 8"/>
            <p:cNvCxnSpPr>
              <a:endCxn id="269" idx="0"/>
            </p:cNvCxnSpPr>
            <p:nvPr/>
          </p:nvCxnSpPr>
          <p:spPr>
            <a:xfrm>
              <a:off x="5449320" y="3187800"/>
              <a:ext cx="1080" cy="208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271" name="Text Box 9"/>
          <p:cNvSpPr/>
          <p:nvPr/>
        </p:nvSpPr>
        <p:spPr>
          <a:xfrm>
            <a:off x="4363920" y="4083120"/>
            <a:ext cx="2171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). عندما لا يتغير راس مال الشركاء خلال السن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4363920" y="5075280"/>
            <a:ext cx="21718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). إذا تغير راس مال الشركاء سواء بالزيادة أو النقصا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Right Bracket 10"/>
          <p:cNvSpPr/>
          <p:nvPr/>
        </p:nvSpPr>
        <p:spPr>
          <a:xfrm>
            <a:off x="6535800" y="4479840"/>
            <a:ext cx="225360" cy="119232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192320"/>
              <a:gd name="textAreaBottom" fmla="*/ 118296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1"/>
                  <a:pt x="21600" y="341"/>
                </a:cubicBezTo>
                <a:lnTo>
                  <a:pt x="21600" y="21259"/>
                </a:lnTo>
                <a:cubicBezTo>
                  <a:pt x="21600" y="2143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579760" y="2273400"/>
            <a:ext cx="1485720" cy="26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مع احتساب فوائد راس المال (فائدة مئوية يتفق عليها )ثم توزيع الباقي بين الشركاء حسب نسب متفق عليها</a:t>
            </a:r>
            <a:r>
              <a:rPr b="1" lang="en-US" sz="1800" spc="-1" strike="noStrike">
                <a:solidFill>
                  <a:srgbClr val="40749b"/>
                </a:solidFill>
                <a:latin typeface="Traditional Arabic"/>
                <a:ea typeface="Traditional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966960" y="2252520"/>
            <a:ext cx="1373040" cy="271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r>
              <a:rPr b="0" lang="ar-SA" sz="1800" spc="-1" strike="noStrike">
                <a:solidFill>
                  <a:srgbClr val="000000"/>
                </a:solidFill>
                <a:latin typeface="Traditional Arabic"/>
                <a:ea typeface="Arial"/>
              </a:rPr>
              <a:t> </a:t>
            </a:r>
            <a:r>
              <a:rPr b="1" lang="ar-SA" sz="1800" spc="-1" strike="noStrike">
                <a:solidFill>
                  <a:srgbClr val="40749b"/>
                </a:solidFill>
                <a:latin typeface="Traditional Arabic"/>
                <a:cs typeface="Traditional Arabic"/>
              </a:rPr>
              <a:t>توزيع الأرباح و الخسائر مع احتساب راتب الشريك العامل ثم يوزع الباقي بين الشركاء حسب نسب متفق عليها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6" name="Straight Arrow Connector 16"/>
          <p:cNvCxnSpPr/>
          <p:nvPr/>
        </p:nvCxnSpPr>
        <p:spPr>
          <a:xfrm>
            <a:off x="7102440" y="1709280"/>
            <a:ext cx="1864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Straight Arrow Connector 18"/>
          <p:cNvCxnSpPr/>
          <p:nvPr/>
        </p:nvCxnSpPr>
        <p:spPr>
          <a:xfrm>
            <a:off x="5355720" y="1920600"/>
            <a:ext cx="108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19"/>
          <p:cNvCxnSpPr/>
          <p:nvPr/>
        </p:nvCxnSpPr>
        <p:spPr>
          <a:xfrm>
            <a:off x="3578040" y="19018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22"/>
          <p:cNvCxnSpPr/>
          <p:nvPr/>
        </p:nvCxnSpPr>
        <p:spPr>
          <a:xfrm flipH="1">
            <a:off x="1881360" y="1767960"/>
            <a:ext cx="2732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4-03T19:36:38Z</dcterms:modified>
  <cp:revision>133</cp:revision>
  <dc:subject/>
  <dc:title>مقدمة في الفكر المحاسبي </dc:title>
</cp:coreProperties>
</file>