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B824-761F-4D9D-98C8-88C51E7E7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DB7-4568-4655-BEED-7EAC6CF48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8DF-00F3-4878-95D0-81B9E049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CCB-DC59-4B22-A38E-8C1C588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C57-72AB-4BCD-B893-4BD14618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A0C-2AFD-40D5-B63F-37AB683B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B4FF-FA86-4381-B482-0512310C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3BA4-B87C-4998-B260-903E926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D16-64F0-4106-B719-54668D5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19D-5189-4929-976F-FBFD10E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154D-037D-46E5-8646-B29BB48F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B5B8-1F0C-4D58-873D-8697CAE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C898-FD48-4F5B-BA3F-421A360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784-2010-40FE-A1AC-E88A478C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A427-BD71-4CA9-ACA2-000175F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DB0-098B-49A5-8A4A-4BD34659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6B13-4F70-419C-9F9D-8942E80C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A610-5A4F-4A99-B53B-6739FFBC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A41-F3F2-46A0-BEA4-DAEFE030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7F22-DCEF-4AA8-8246-2E2EBC88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900E-882B-4E32-A763-27FA217C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63A4-D33F-4B8E-9604-51D3E44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2CA7-2C0C-4597-A831-E3B6499C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D60C-2043-4E0A-B4E4-D1CF50C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20C-28FE-46CB-B48A-1745F5B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586C-3F84-4161-A152-AF2C6C6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5C4F-D273-47F7-8360-91A1AC9C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1A6B-0C4F-4240-9FCB-1E1E1E5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373C-2875-4842-BC36-D28F39E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4457-BCC9-463E-8864-E791E481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0726-BC9E-48AA-9F75-2B20EAC8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6067-A2C2-48C0-A107-21A8D1DE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C7F1-A55B-49BA-8B01-66E446EE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FF41-C89A-4F45-90FB-F72AFF59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7885-F553-4786-BD54-DBD60495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892-8B15-48AF-A523-29361C9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7B9F-310C-484E-903A-1422D73C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5D70-99F5-4990-92CA-5CAF658D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2868-9424-4DA5-B469-93EBB3DB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0AC9-FD0F-4A3E-9817-EDB585A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E648-A7E6-4701-B8CF-870B2B4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D058-42B4-46FA-A51C-E31D145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96CD-8502-4BBE-AC1E-C582ECD2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7E812-8013-46BD-A324-AF7A0357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97A8-EC42-4B21-8E3F-DBC4B494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5FE-9847-4DE1-8293-FDF3D58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323-4116-4988-9240-37D608D6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C6E-D5AF-48CA-8004-5328C9F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F79-9B4A-4EBA-977E-38C6819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C90-DC4A-4C94-BA05-E4413A5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34BC-EF65-46E9-A47F-62DA589AA0DB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152-8F53-4089-8283-2A9B821E911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899-A270-46E6-A3C6-7BCC8660A563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9A8C-E8B1-4B01-91AD-4FE65C6C4E4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EC8-52D7-4E0E-9FDF-4C27001DD4D1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4F9D-A98A-4BD5-9365-72F7E9BE0E6B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ADAF-248A-4926-BAA5-30F408A62F48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2CD-BB02-43C1-A98E-8FAC2757C74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حاسبة في شركات التضامن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ثاني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own Arrow Callout 1"/>
          <p:cNvSpPr/>
          <p:nvPr/>
        </p:nvSpPr>
        <p:spPr>
          <a:xfrm>
            <a:off x="981000" y="1471680"/>
            <a:ext cx="6983640" cy="3286080"/>
          </a:xfrm>
          <a:prstGeom prst="downArrowCallout">
            <a:avLst>
              <a:gd name="adj1" fmla="val 25013"/>
              <a:gd name="adj2" fmla="val 25001"/>
              <a:gd name="adj3" fmla="val 25000"/>
              <a:gd name="adj4" fmla="val 6497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981000" y="1296720"/>
            <a:ext cx="694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f2016"/>
                </a:solidFill>
                <a:uFillTx/>
                <a:latin typeface="Traditional Arabic"/>
                <a:cs typeface="Traditional Arabic"/>
              </a:rPr>
              <a:t>و فيما يلي شرح لكل 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).</a:t>
            </a:r>
            <a:r>
              <a:rPr b="1" lang="ar-SA" sz="24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توزيع الأرباح و الخسائر حسب نسبة متفق عليها تختلف عن نسب تكوين راس المال و يكون ذلك إما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بالتساوي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حسب نسب متفق عليها </a:t>
            </a: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ثلا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:1: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أو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:1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Majalla UI"/>
              </a:rPr>
              <a:t>أ).  عندما يتفق الشركاء على توزيع الأرباح و الخسائر بالتساوي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95120" y="2119320"/>
            <a:ext cx="6964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aa2b1e"/>
                </a:solidFill>
                <a:uFillTx/>
                <a:latin typeface="Franklin Gothic Book"/>
                <a:cs typeface="Arial"/>
              </a:rPr>
              <a:t>مثــــــال (</a:t>
            </a:r>
            <a:r>
              <a:rPr b="1" lang="ar-SA" sz="2000" spc="-1" strike="noStrike" u="sng">
                <a:solidFill>
                  <a:srgbClr val="aa2b1e"/>
                </a:solidFill>
                <a:uFillTx/>
                <a:latin typeface="Franklin Gothic Book"/>
                <a:ea typeface="Arial"/>
              </a:rPr>
              <a:t>1</a:t>
            </a:r>
            <a:r>
              <a:rPr b="1" lang="ar-SA" sz="2000" spc="-1" strike="noStrike" u="sng">
                <a:solidFill>
                  <a:srgbClr val="aa2b1e"/>
                </a:solidFill>
                <a:uFillTx/>
                <a:latin typeface="Franklin Gothic 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شركة تضامن يملكها ( زيد </a:t>
            </a: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  و (عمرو </a:t>
            </a: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)  عملت خلال السنة المالية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405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و حققت صافي أرباح قدره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,000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ريالا و أن نسبة توزيع الأرباح و الخسائر بينهما بالتساوي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طلوب قيد اليومية اللازم لاثبات توزيع الأرباح للشركين في عام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405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ي المثال نجد أن توزيع الأرباح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بالتساوي بين الشركاء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Franklin Gothic Book"/>
                <a:cs typeface="Arial"/>
              </a:rPr>
              <a:t>يكون قيد توزيع الربح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المتاجرة و الأرباح و الخسائر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إلى مذكور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 جاري الشريك زي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ح/ جاري الشريك عمرو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Majalla UI"/>
              </a:rPr>
              <a:t>ب).  عندما يتفق الشركاء على توزيع الأرباح و الخسائر حسب نسب متفق عليها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2119320"/>
            <a:ext cx="71452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ققت الشركة ربح بمقدار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ريال واتفق الشريكين على أن تكون نسبة الأرباح كالتالي 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:2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نسبة الشريك الأول من الربح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=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=40000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نسبة الشريك الثاني من الربح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=20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Straight Connector 4"/>
          <p:cNvSpPr/>
          <p:nvPr/>
        </p:nvSpPr>
        <p:spPr>
          <a:xfrm>
            <a:off x="6029280" y="3591000"/>
            <a:ext cx="50328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6281640" y="4703760"/>
            <a:ext cx="5032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914400" y="3313080"/>
            <a:ext cx="3645000" cy="2409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Franklin Gothic Book"/>
                <a:cs typeface="Arial"/>
              </a:rPr>
              <a:t>يكون قيد توزيع الربح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المتاجرة و الأرباح و الخسائر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إلى مذكور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 جاري الشريك الأو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ح/ جاري الشريك الثاني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رك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463760" y="2597040"/>
            <a:ext cx="6195960" cy="1632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قد يتغير الشركاء في شركة التضامن بدخول شريك أو خروج شريك أو وفاة شريك أو دخول شريك بدل شريك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رك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دخول شريك مع بقاء الشركاء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هنا سوف يكون حالتين :</a:t>
            </a:r>
            <a:br>
              <a:rPr sz="2400"/>
            </a:b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أ-شراء جزء من الشركة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بمعنى أن يدخل الشريك الجديد مع بقاء رأس المال كما هو ويكون هناك إعادة توزيع لراس المال بين الشركاء ودفع الفرق للشركاء الموجودين)</a:t>
            </a:r>
            <a:br>
              <a:rPr sz="2400"/>
            </a:b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ب-استثمار مبلغ من المال في الشركة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بمعنى زيادة رأس مال الشركة بقيمة رأس مال الشريك الجديد 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ـرك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63400" y="2118960"/>
            <a:ext cx="619596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خروج شريك مع استمرار الشركة ببقية الشركاء.</a:t>
            </a:r>
            <a:br>
              <a:rPr sz="2400"/>
            </a:br>
            <a:r>
              <a:rPr b="1" lang="ar-SA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ضاً يوجد حالتين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-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أن يخفض رأس المال الشركة بنصيب الشريك الخارج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-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أن يشتري بقية الشركاء نصيب الشريك الخارج ويبقى رأس مال الشركة كما هو 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ركـ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63400" y="2118960"/>
            <a:ext cx="619596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وفاة شريك في شركة التضامن.</a:t>
            </a:r>
            <a:br>
              <a:rPr sz="2400"/>
            </a:br>
            <a:r>
              <a:rPr b="1" lang="ar-SA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ند ذلك تؤول نسبة الشريك المتوفى إلى ورثته ويبقى الأمر في يد الورثة إما البقاء في الشركة أو بيعها.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حل شركة التضامن وتصفيتها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قصد بالتصفية ”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تسديد ديون الشركة وتوزيع ممتلكاتها بين الشركاء حسب أنصبتهم فيها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“</a:t>
            </a:r>
            <a:br>
              <a:rPr sz="2400"/>
            </a:b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إجراءات التصفية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تنهي جميع الأعمال العادية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تباع أصول الشركة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تسدد ديون الشركة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يقسم الباقي بين الشركاء حسب أنصبتهم في الأرباح والخسائ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 الشرك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63400" y="2690640"/>
            <a:ext cx="619596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749b"/>
                </a:solidFill>
                <a:latin typeface="Franklin Gothic Book"/>
                <a:ea typeface="Arial"/>
              </a:rPr>
              <a:t>” عقد يلتزم بمقتضاه شخصان أو أكثر بأن يساهم كل منهم في مشروع يستهدف الربح بتقديم حصة من مال أو عمل , لاقتسام ماقد ينشأ عن المشروع من ربح أوخساره.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شركــات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1643040" y="1736640"/>
            <a:ext cx="5937120" cy="63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نشآت الاقتصادية قد تأخذ أشكالاً ثلاثة من ناحية ملكيتها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7" name="Straight Arrow Connector 6"/>
          <p:cNvCxnSpPr/>
          <p:nvPr/>
        </p:nvCxnSpPr>
        <p:spPr>
          <a:xfrm>
            <a:off x="2346120" y="2371680"/>
            <a:ext cx="1332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>
            <a:stCxn id="236" idx="2"/>
          </p:cNvCxnSpPr>
          <p:nvPr/>
        </p:nvCxnSpPr>
        <p:spPr>
          <a:xfrm>
            <a:off x="4611240" y="237168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Straight Arrow Connector 10"/>
          <p:cNvCxnSpPr/>
          <p:nvPr/>
        </p:nvCxnSpPr>
        <p:spPr>
          <a:xfrm>
            <a:off x="7049880" y="237168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Rounded Rectangle 11"/>
          <p:cNvSpPr/>
          <p:nvPr/>
        </p:nvSpPr>
        <p:spPr>
          <a:xfrm>
            <a:off x="1450800" y="3021120"/>
            <a:ext cx="1816200" cy="71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شركات الأموال</a:t>
            </a: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Rounded Rectangle 12"/>
          <p:cNvSpPr/>
          <p:nvPr/>
        </p:nvSpPr>
        <p:spPr>
          <a:xfrm>
            <a:off x="3703680" y="3021120"/>
            <a:ext cx="1816200" cy="71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شركات الأشخا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5970600" y="3021120"/>
            <a:ext cx="1814400" cy="71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منشآت الفردي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3" name="Straight Arrow Connector 16"/>
          <p:cNvCxnSpPr>
            <a:stCxn id="242" idx="2"/>
          </p:cNvCxnSpPr>
          <p:nvPr/>
        </p:nvCxnSpPr>
        <p:spPr>
          <a:xfrm>
            <a:off x="6878520" y="3736800"/>
            <a:ext cx="136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17"/>
          <p:cNvCxnSpPr/>
          <p:nvPr/>
        </p:nvCxnSpPr>
        <p:spPr>
          <a:xfrm>
            <a:off x="4611600" y="3736800"/>
            <a:ext cx="136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18"/>
          <p:cNvCxnSpPr/>
          <p:nvPr/>
        </p:nvCxnSpPr>
        <p:spPr>
          <a:xfrm>
            <a:off x="2358720" y="3736800"/>
            <a:ext cx="133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Rounded Rectangle 19"/>
          <p:cNvSpPr/>
          <p:nvPr/>
        </p:nvSpPr>
        <p:spPr>
          <a:xfrm>
            <a:off x="5970600" y="4440240"/>
            <a:ext cx="2286000" cy="15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لكها شخص واحد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Rounded Rectangle 20"/>
          <p:cNvSpPr/>
          <p:nvPr/>
        </p:nvSpPr>
        <p:spPr>
          <a:xfrm>
            <a:off x="3468600" y="4440240"/>
            <a:ext cx="2286000" cy="15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لكها أكثر من شخص و يكون الجميع أو بعضهم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مسئولون عن ديون المنشأة في جميع أموالهم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Rounded Rectangle 21"/>
          <p:cNvSpPr/>
          <p:nvPr/>
        </p:nvSpPr>
        <p:spPr>
          <a:xfrm>
            <a:off x="981000" y="4240080"/>
            <a:ext cx="2286000" cy="188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95480" y="3966120"/>
            <a:ext cx="200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لكها أكثر من شخص و لكن تتحدد مسئولية الجميع عن ديون المنشأة في حدود ما يملكونه فيها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، دون أن تتعدى لأموالهم الأخرى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شركات الأشخاص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قوم على الاعتبار الشخصي للأفراد وتتكون في الغالب من أشخاص يعرف كل منهم الآخر معرفه تامة ويثق فيه ثقة جيده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أنواعهـــــــا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التضامن 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هي الشركة التي تتكون من شركين أو أكثر مسئولين بالتضامن في جميع  أموالهم عن ديون الشرك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التوصية البسيط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المحاص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شركة التضــامن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63400" y="2279160"/>
            <a:ext cx="619596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تكوين شركات التضامن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عد أن يتفق الشركاء على تكوين الشركة وتحديد رأس مالها ونصيب كل منهم يتم تحويل المبالغ الممثلة لرأس المال للشركة ووضعها تحت يدها باعتبارها شخصية محاسبية مستقلة 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"/>
          <p:cNvSpPr/>
          <p:nvPr/>
        </p:nvSpPr>
        <p:spPr>
          <a:xfrm>
            <a:off x="1378080" y="1246320"/>
            <a:ext cx="6294240" cy="1112760"/>
          </a:xfrm>
          <a:prstGeom prst="ellipse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شكال تكوين شركة التضامن بحيث يكون دفع رأس المال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>
            <a:off x="6484680" y="2358720"/>
            <a:ext cx="53244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6"/>
          <p:cNvCxnSpPr/>
          <p:nvPr/>
        </p:nvCxnSpPr>
        <p:spPr>
          <a:xfrm>
            <a:off x="4498560" y="250488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Straight Arrow Connector 11"/>
          <p:cNvCxnSpPr/>
          <p:nvPr/>
        </p:nvCxnSpPr>
        <p:spPr>
          <a:xfrm flipH="1">
            <a:off x="2054160" y="2504880"/>
            <a:ext cx="2782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Rectangle 14"/>
          <p:cNvSpPr/>
          <p:nvPr/>
        </p:nvSpPr>
        <p:spPr>
          <a:xfrm>
            <a:off x="6473880" y="3270240"/>
            <a:ext cx="1630440" cy="109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).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دفع رأس المال نقدا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3432240" y="3270240"/>
            <a:ext cx="2133360" cy="1246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432240" y="32158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دفع رأس المال نقدا و أعيان (نقود  + أصول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22240" y="3270240"/>
            <a:ext cx="2401920" cy="1511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أن يحول أحد الشركاء منشأته الفردية  القائمة بأصولها و خصومها و يمثل الفرق كل أو بعض رأس ماله في الشركة 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توزيع الأرباح و الخسائر في شركات التضامن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95120" y="2119320"/>
            <a:ext cx="69642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ا توجد مشكله في المنشآت الفردية حيث أن الأرباح تؤول كلها لشخص واحد والخسائر يتحملها شخص واحد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ظهر مشكلة توزيع الأرباح و الخسائر في شركات التضامن و ذلك للأسباب التالية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499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جود اكثر من شريك يملك المنشأة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ختلاف حصص الشركاء في راس المال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ذلك جرت الضرورة لتوزيع الأرباح بنسب متفق عليها بين الشركاء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499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 بعض الشركاء يعملون بينما الآخرون لا يعملون بها (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كن نظام الشركات في المملكه لا يجيز للمالك أن يحسب لنفسه أجراً على عمله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يف يتم توزيع الأرباح و الخسائر في شركات تضامن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27000" y="1563840"/>
          <a:ext cx="7275600" cy="2458800"/>
        </p:xfrm>
        <a:graphic>
          <a:graphicData uri="http://schemas.openxmlformats.org/drawingml/2006/table">
            <a:tbl>
              <a:tblPr/>
              <a:tblGrid>
                <a:gridCol w="3197160"/>
                <a:gridCol w="4078440"/>
              </a:tblGrid>
              <a:tr h="731880">
                <a:tc>
                  <a:txBody>
                    <a:bodyPr lIns="62640" rIns="6264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يكون القيد في حالة الخسائر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يكون القيد في حالة الأرباح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680">
                <a:tc>
                  <a:txBody>
                    <a:bodyPr lIns="62640" rIns="6264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في حالة الخسائر نعكس القيد السابق و يكون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×ح/ جاري الشريك (أ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ح/ جاري الشريك (ب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إلى ح/ المتاجرة و الأرباح و الخسائ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× من ح/ المتاجرة و الأرباح و الخسائ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             إلى مذكور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×××ح/ جاري الشريك (أ) (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ته من الأربا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××× ح/ جاري الشريك (ب)(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ته من الأربا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3"/>
          <p:cNvSpPr/>
          <p:nvPr/>
        </p:nvSpPr>
        <p:spPr>
          <a:xfrm>
            <a:off x="1405080" y="927000"/>
            <a:ext cx="6175080" cy="993960"/>
          </a:xfrm>
          <a:prstGeom prst="ellipse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طرق توزيع الأرباح و الخسائر في شركات التضا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894360" y="2106720"/>
            <a:ext cx="1371600" cy="2730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Arial"/>
              </a:rPr>
              <a:t>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حسب نسبة متفق عليها تختلف عن نسب تكوين راس المال 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يكون ذلك إما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بالتساوي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حسب نسب متفق عليها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363920" y="2273400"/>
            <a:ext cx="217188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حسب نسبة تكوين راس الما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4363920" y="3187800"/>
            <a:ext cx="2171880" cy="624960"/>
            <a:chOff x="4363920" y="3187800"/>
            <a:chExt cx="2171880" cy="624960"/>
          </a:xfrm>
        </p:grpSpPr>
        <p:sp>
          <p:nvSpPr>
            <p:cNvPr id="269" name="AutoShape 7"/>
            <p:cNvSpPr/>
            <p:nvPr/>
          </p:nvSpPr>
          <p:spPr>
            <a:xfrm>
              <a:off x="4363920" y="3395880"/>
              <a:ext cx="2171880" cy="41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7f2016"/>
                  </a:solidFill>
                  <a:latin typeface="Traditional Arabic"/>
                  <a:cs typeface="Traditional Arabic"/>
                </a:rPr>
                <a:t>يوجد حالتين:</a:t>
              </a:r>
              <a:r>
                <a:rPr b="1" lang="ar-SA" sz="1800" spc="-1" strike="noStrike" u="sng">
                  <a:solidFill>
                    <a:srgbClr val="7f2016"/>
                  </a:solidFill>
                  <a:uFillTx/>
                  <a:latin typeface="Traditional Arabic"/>
                  <a:ea typeface="Traditional Arab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270" name="AutoShape 8"/>
            <p:cNvCxnSpPr>
              <a:endCxn id="269" idx="0"/>
            </p:cNvCxnSpPr>
            <p:nvPr/>
          </p:nvCxnSpPr>
          <p:spPr>
            <a:xfrm>
              <a:off x="5449320" y="3187800"/>
              <a:ext cx="1080" cy="208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271" name="Text Box 9"/>
          <p:cNvSpPr/>
          <p:nvPr/>
        </p:nvSpPr>
        <p:spPr>
          <a:xfrm>
            <a:off x="4363920" y="4083120"/>
            <a:ext cx="2171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عندما لا يتغير راس مال الشركاء خلال السن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4363920" y="5075280"/>
            <a:ext cx="21718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إذا تغير راس مال الشركاء سواء بالزيادة أو النقصا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Right Bracket 10"/>
          <p:cNvSpPr/>
          <p:nvPr/>
        </p:nvSpPr>
        <p:spPr>
          <a:xfrm>
            <a:off x="6535800" y="4479840"/>
            <a:ext cx="225360" cy="119232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192320"/>
              <a:gd name="textAreaBottom" fmla="*/ 118296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1"/>
                  <a:pt x="21600" y="341"/>
                </a:cubicBezTo>
                <a:lnTo>
                  <a:pt x="21600" y="21259"/>
                </a:lnTo>
                <a:cubicBezTo>
                  <a:pt x="21600" y="2143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579760" y="2273400"/>
            <a:ext cx="1485720" cy="26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مع احتساب فوائد راس المال (فائدة مئوية يتفق عليها )ثم توزيع الباقي بين الشركاء حسب نسب متفق عليها</a:t>
            </a:r>
            <a:r>
              <a:rPr b="1" lang="en-US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966960" y="2252520"/>
            <a:ext cx="1373040" cy="271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r>
              <a:rPr b="0" lang="ar-SA" sz="1800" spc="-1" strike="noStrike">
                <a:solidFill>
                  <a:srgbClr val="000000"/>
                </a:solidFill>
                <a:latin typeface="Traditional Arabic"/>
                <a:ea typeface="Arial"/>
              </a:rPr>
              <a:t>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مع احتساب راتب الشريك العامل ثم يوزع الباقي بين الشركاء حسب نسب متفق عليها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6" name="Straight Arrow Connector 16"/>
          <p:cNvCxnSpPr/>
          <p:nvPr/>
        </p:nvCxnSpPr>
        <p:spPr>
          <a:xfrm>
            <a:off x="7102440" y="1709280"/>
            <a:ext cx="1864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Straight Arrow Connector 18"/>
          <p:cNvCxnSpPr/>
          <p:nvPr/>
        </p:nvCxnSpPr>
        <p:spPr>
          <a:xfrm>
            <a:off x="5355720" y="1920600"/>
            <a:ext cx="108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19"/>
          <p:cNvCxnSpPr/>
          <p:nvPr/>
        </p:nvCxnSpPr>
        <p:spPr>
          <a:xfrm>
            <a:off x="3578040" y="19018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22"/>
          <p:cNvCxnSpPr/>
          <p:nvPr/>
        </p:nvCxnSpPr>
        <p:spPr>
          <a:xfrm flipH="1">
            <a:off x="1881360" y="1767960"/>
            <a:ext cx="2732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4-03T19:36:38Z</dcterms:modified>
  <cp:revision>133</cp:revision>
  <dc:subject/>
  <dc:title>مقدمة في الفكر المحاسبي </dc:title>
</cp:coreProperties>
</file>