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CC5-D2DF-4B74-8D68-C56F6548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5F4-CB0B-4BE1-8F34-9EA85B64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BBB-6039-4ED4-8A00-CA80DC1B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DD3-DB0B-4BA7-8F52-E9E4A991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91B-FEC2-4A9B-AE14-05CB5EDD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789-6BF2-430A-AA9F-55EE82BF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E061-FE76-4E14-B43F-6C4A56F8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8BB4-E664-46B9-B4AE-60E9DB00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48F-1387-46D6-B28E-E65C842E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31B-35AA-4DA6-94C1-154C4CD1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D6D-3FD0-4109-8861-568D2E89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B99-09F9-4F07-A934-958C98D4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F5A4-C252-463F-8723-A28B67D11F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z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in Phar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particle size and increased  surface area,  lead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uniformity of weight and drug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mpalpability and spreading of dusting  and cosmetic pow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tability of susp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rates of dissolution, reaction, drying, extraction, ..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excessive siz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change in polymorphic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degradation b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flow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charg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adsorption, hence, less w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s of size reduc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: positive pressure, e.g., nut crusher, ball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: material is stationary and hit by an object ,e.g., hammer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: cutting force, e.g., scissors, colloid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tion: breaking the edges of the solid either by impact or particle collisions(fluid energy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 Reduction Equipment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mer Mi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 crush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d P.S.:0.5-50mm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P.S.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.1-5 m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 contr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Hammer speed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 size, feed siz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deflecto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pres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articles into hammer impa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Ease of cleaning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scale-up problem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advanta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logging 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, heat build up on milling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l and screen w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Image:Hammer mill open angled full.jpg"/>
          <p:cNvPicPr/>
          <p:nvPr/>
        </p:nvPicPr>
        <p:blipFill>
          <a:blip r:embed="rId1"/>
          <a:stretch/>
        </p:blipFill>
        <p:spPr>
          <a:xfrm>
            <a:off x="4724280" y="2895480"/>
            <a:ext cx="411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e crusher (Feed size: 1-5 mm. Product size: &lt;0.2 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sm of size reduction: impaction and som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al speed= 76.6/square root of D. At this speed the centrifugal force becomes greater than the gravitational force and  the balls held at the mill walls without mi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tages: wet or dry milling, continuous, abrasive material  can be mi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dvantages: long milling time, tedious cleaning, high power consumption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Ball_mill"/>
          <p:cNvPicPr/>
          <p:nvPr/>
        </p:nvPicPr>
        <p:blipFill>
          <a:blip r:embed="rId1"/>
          <a:stretch/>
        </p:blipFill>
        <p:spPr>
          <a:xfrm>
            <a:off x="7086600" y="312408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Ballmill"/>
          <p:cNvPicPr/>
          <p:nvPr/>
        </p:nvPicPr>
        <p:blipFill>
          <a:blip r:embed="rId2"/>
          <a:stretch/>
        </p:blipFill>
        <p:spPr>
          <a:xfrm>
            <a:off x="3657600" y="3276720"/>
            <a:ext cx="2962440" cy="2219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Image:Grindingmedia.JPG"/>
          <p:cNvPicPr/>
          <p:nvPr/>
        </p:nvPicPr>
        <p:blipFill>
          <a:blip r:embed="rId3"/>
          <a:stretch/>
        </p:blipFill>
        <p:spPr>
          <a:xfrm>
            <a:off x="533520" y="3352680"/>
            <a:ext cx="28098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id Energy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tra-fine particle size produc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 p. size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OO mic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p. size:5-30 micons (Ultra-f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nding medium: superheated steam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ed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of size reduction: attrition and imp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in classifi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uitable for thermo-labile substa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e effect of the expanding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Inert gasses can be used to minimize ox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Effective in producing huge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6172200" y="914400"/>
            <a:ext cx="3238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6686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oid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oid m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 used to reduce the parti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a solid in suspenn, or to reduce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let size of a liquid suspended in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. This is done by applying hi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 of hydraulic sh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frequently used to increase the st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suspensions and emul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9626760" y="53244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5715000" y="251460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oid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ll consists of a rotor and s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ance from zero to1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 film of material is pas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working surfaces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ed to high sh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size: &lt; 5 mic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41241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 siz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mall sc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ri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 Pulve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 Le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5:47:39Z</dcterms:created>
  <dc:creator>user</dc:creator>
  <dc:description/>
  <dc:language>en-US</dc:language>
  <cp:lastModifiedBy>User</cp:lastModifiedBy>
  <dcterms:modified xsi:type="dcterms:W3CDTF">2014-09-08T06:04:26Z</dcterms:modified>
  <cp:revision>23</cp:revision>
  <dc:subject/>
  <dc:title>Hammer Mill</dc:title>
</cp:coreProperties>
</file>