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BB5-9C42-4DC7-BA2C-3F5A1C02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A0B-3F26-45F1-A1B5-6C586BAC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0DB-435B-4B94-ACF9-D5BC29BA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4BD-392E-4A66-B5F2-10B95FFB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5CD-FDA3-4E09-BA02-8989BC1D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569-1A1E-4888-B384-65CD32FF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B4F-967D-4812-A180-4DE23DC9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FA9-1850-413F-950F-C8D972F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784-91FD-448A-B08D-6C74ED0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3E8-C14B-4FFA-9186-6CFF58E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0D3-86D9-42C3-923C-129D0AE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D8D-2AB7-48F7-B8AC-A6D39CB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050-7B78-4296-B1CB-680E3B1827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in 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particle size and increased  surface area, 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uniformity of weight and drug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mpalpability and spreading of dusting  and cosmetic pow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bility of susp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rates of dissolution, reaction, drying, extraction, ..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excessive siz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hange in polymorphic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degrada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ow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char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adsorption, hence, less w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of size redu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: positive pressure, e.g., nut crusher, ball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: material is stationary and hit by an object ,e.g., hammer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: cutting force, e.g., scissors, colloid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tion: breaking the edges of the solid either by impact or particle collisions(fluid energy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 Reduction Equipment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mer Mi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 crush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 P.S.:0.5-50mm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P.S.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1-5 m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Hammer speed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size, feed siz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defle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pres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icles into hammer impa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ase of cleaning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scale-up problem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logging 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, heat build up on milling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 and screen w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Image:Hammer mill open angled full.jpg"/>
          <p:cNvPicPr/>
          <p:nvPr/>
        </p:nvPicPr>
        <p:blipFill>
          <a:blip r:embed="rId1"/>
          <a:stretch/>
        </p:blipFill>
        <p:spPr>
          <a:xfrm>
            <a:off x="4724280" y="28954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e crusher (Feed size: 1-5 mm. Product size: &lt;0.2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sm of size reduction: impaction and s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speed= 76.6/square root of D. At this speed the centrifugal force becomes greater than the gravitational force and  the balls held at the mill walls without m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: wet or dry milling, continuous, abrasive material  can be mi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dvantages: long milling time, tedious cleaning, high power consumption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ll_mill"/>
          <p:cNvPicPr/>
          <p:nvPr/>
        </p:nvPicPr>
        <p:blipFill>
          <a:blip r:embed="rId1"/>
          <a:stretch/>
        </p:blipFill>
        <p:spPr>
          <a:xfrm>
            <a:off x="7086600" y="31240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Ballmill"/>
          <p:cNvPicPr/>
          <p:nvPr/>
        </p:nvPicPr>
        <p:blipFill>
          <a:blip r:embed="rId2"/>
          <a:stretch/>
        </p:blipFill>
        <p:spPr>
          <a:xfrm>
            <a:off x="3657600" y="3276720"/>
            <a:ext cx="2962440" cy="221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mage:Grindingmedia.JPG"/>
          <p:cNvPicPr/>
          <p:nvPr/>
        </p:nvPicPr>
        <p:blipFill>
          <a:blip r:embed="rId3"/>
          <a:stretch/>
        </p:blipFill>
        <p:spPr>
          <a:xfrm>
            <a:off x="533520" y="3352680"/>
            <a:ext cx="28098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Energy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-fine particle size produc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p. size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OO mic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. size:5-30 micons (Ultra-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nding medium: superheated steam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ed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of size reduction: attrition and i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in classifi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uitable for thermo-labile substa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effect of the expanding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Inert gasses can be used to minimize ox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ffective in producing huge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3238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6686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oid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oid m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 used to reduce the part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a solid in suspenn, or to reduc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size of a liquid suspended in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. This is done by applying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hydraulic sh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frequently used to increase the s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uspensions and emul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626760" y="53244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715000" y="25146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oid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l consists of a rotor and s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ance from zero to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 film of material is pa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working surface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ed to high s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ize: &lt; 5 mic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124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siz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mall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ri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Pulve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Le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7:39Z</dcterms:created>
  <dc:creator>user</dc:creator>
  <dc:description/>
  <dc:language>en-US</dc:language>
  <cp:lastModifiedBy>User</cp:lastModifiedBy>
  <dcterms:modified xsi:type="dcterms:W3CDTF">2014-09-08T06:04:26Z</dcterms:modified>
  <cp:revision>23</cp:revision>
  <dc:subject/>
  <dc:title>Hammer Mill</dc:title>
</cp:coreProperties>
</file>