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0A6A-9A75-4EE7-95F4-6E8F9C02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A9DB-AC18-4908-9C79-10BBF5DE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4449D-7376-49C2-AEB8-1DD97B14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2D57E-220E-4C50-8124-8FD54329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01492-DCA2-4A7D-82A5-2B759016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44FE2-88F0-4549-BC49-36A51616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26983-5016-41B1-92E2-D715C0ED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E1781-B947-46CB-A5CE-25B64597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7975E-AC6B-46B0-BF4E-A1BF0570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5258E-09F7-445D-95D3-C5ECF121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290A9-F506-458E-89DA-90B7DC4C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7EB1E-6DAD-48F4-8984-6ED633B2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8EE3-960E-401E-A766-CAF58772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15BC1-3AAC-4E63-88CC-AEB82B66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BE4C2-8DA4-4E44-8D15-AB831978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417A2-3A0C-46B3-9A01-59370C31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2C3FB-A28D-4B9A-83B0-73AFEC6B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09405-2015-4FF7-ACAF-B2A667DA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D280A-B3E8-4DDB-A130-EE821A77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52503-F43D-42AC-A153-7A0D4DA2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3D9C6-A7FD-481D-B90C-352D345E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E017A-95B2-41DA-AF85-195E52C7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2AE75-7132-495C-8C14-6CEA3F3D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979B-CAB4-4FF6-AA34-367915FC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5C2D0-5FDE-4A6D-AD5D-44D427AD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C8588-DD45-4014-A5A6-472F8571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0F998-34D7-4263-B2E9-195DE966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03F5E-1422-403A-9B6F-18579424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CD5FB-409D-4C69-8E04-E8750C38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E7F2E-C0DB-4331-8BCF-3C93697C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1052A-CC77-44D6-AA68-5C8931B9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8750A-2605-4A4C-AE5D-FCF068E6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596B1-92D5-4F45-825C-03303E57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BC1A7-5C68-4315-A3FA-D56AADE7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1CBA-DB30-43C7-B407-CFFBB9BC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65F6D-39C0-47CF-8765-7E59EB0D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85395-FDC9-4AFC-9009-51716007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27601-C3ED-4DC9-9082-25BC264E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56ADF-AF04-43C6-A952-2373D94E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BAFC0-F573-4ABD-9386-7613AD55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E39BD-2FF5-45B1-AB7F-166C184F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33E31-FE49-4065-A93D-0C883540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404A9-4025-4B26-9264-4BE85826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F551E-4ACA-491C-9101-2C92B76E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DFC87-04D0-4074-B901-9708A7B2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FDD4-84D7-4726-98C3-FAE3FDDB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2C2AF-CFFA-459C-BDAE-B8039425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B390C-4933-42C8-A116-A50294B0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7FED3-3310-4012-9156-D3F46C9C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02141-745C-47FB-A81B-B07F523E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463A3-B331-440B-9D96-4FD9E744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2AE0-41F0-415A-8063-24CCB825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421C-D531-4253-9170-1D0328C5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6E3D-E4BC-4784-B538-C391C6C2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3776-9C79-4603-BAFA-D4E24C65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B8CA-3978-4E4E-9642-B775C923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47FC-7BA5-4658-9994-1C446F0E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F0B9-ACFD-40A7-AE0F-6E5B4124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7D5C-8D23-4A58-AD1F-91BC41E5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08CA-FCBA-4860-9D80-996414A4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B4F0-2441-44C3-9757-59E80968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273B-6C0A-498D-96AD-6E4FA05F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86A4C-9EC5-400C-A408-F96BCF96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D082B-B339-4EF2-9E76-5D1B2C97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E352B-97EC-41B3-8B7C-63A5DF80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B4F11-188C-4264-A2BF-86E9480E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BD4CE-57BC-4500-BEA3-B41ED7C0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955D-7EC6-4A8B-93EC-A00ACC88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D1F58-2FF6-46A7-89CC-E49B92F2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3C38C-95F3-481F-ACA3-59350EFB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03073-C780-46A3-A40D-01598E4E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F3093-9C7E-4FE1-BF20-BB45F441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7463A-5D17-49B3-93E0-051CFD11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21F1F-C620-45C1-98D5-ABA8C6A9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573A1-9709-4F44-8CDB-9BD06177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F31A0-10A1-429A-9892-D7B3D720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A4038-5D5E-4ECE-AC4B-544886C5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F319B-3E34-4D20-9FD7-3278AC18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CFF-F6E5-42D3-84E4-9D829469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88896-CC36-48B1-852E-5CF9EE8F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9028C-17EA-45AC-865B-B065684D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A756B-A775-4368-ABE3-874FC0A0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EBB2B-C6D3-4065-9950-1A2913B1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72DE9-FA73-4C8A-8E0D-1332EEB8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06806-9577-4EF0-ACC8-98D90077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62121-0037-4CE9-A01C-67878CF3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15F4B-D895-4903-ACE0-9B3CE9AA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82753-F840-47C2-AD26-F077B835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F6FE2-A9F1-4D57-9D47-8796DE41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994A-9A7A-4865-BFCE-FAB23BB4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A955E-B399-4B8D-B6AF-E4CDFD65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D3CA4-DE2B-49AF-9977-59CE85E2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3D706-C23A-4246-A914-81D59724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BA50D-FAD5-4299-BDB4-220347F5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38D12-231C-4047-9275-231A80E4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18195-42FC-4667-8EDB-DA488855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FC1CF-6E74-4E37-AA7F-38436305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2048C-A76D-483B-AB49-9F60E9D2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4EF47-3AE9-47C1-9C00-A7E3574F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41D60-B605-4871-A545-EDB26904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E6A2-FA2F-4E4F-B95B-4C574951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705B0-7659-48E3-8C7B-7B521B48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1EC3B-711B-4EA1-B3C4-648ED082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5D96D-3FB2-4044-B996-8DD551C0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55E2B-5D7E-48F9-B117-A5B0EAD3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701DA-2521-4F0C-87EE-CB0F0E12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4C5AD-0FB5-401E-AAF9-63D97E55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FB145-20CC-4937-9DBD-D33B5DD1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DF712-B8C1-4D45-BB5A-9FE427B4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F272C-3AA2-41B3-ADB5-BA762BAB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EE6FF-6231-44CF-BCC7-92B27E8E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CD58-A675-4C90-B636-85BC958A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E3484-8C43-4DF8-8EEC-0BF8E272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AB2E4-45DA-4EAB-8772-3E0669A6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4B6B1-58DF-4D96-B5C6-744CCCE3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DF41C-6EDF-4B80-BACA-CB6A2997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B5369-DA8B-47C5-8EE0-2BFD3D1B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FD60C-178D-41C8-8E90-D15F387A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62F08-8A22-4C75-AD1A-99D31B7E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1EA5B-483D-4F11-A600-D4F03E7C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F37CE-1502-47DE-AAA4-D797AAA5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956FE-7249-4476-9D03-45042651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EF98-FA29-4F37-A58B-63985F1E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4ECD7-98CB-4BB9-95E0-7AECF320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0E4F4-5CE4-44A9-AD0E-AC5F9277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F37CC-23C4-4088-BF9A-020ACB11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38CFE-713F-49FD-BC22-239376D2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B0954-C749-4A51-9479-438F9AA0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FA0B3-4B43-4AA2-9932-AF250E4F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A10F0-6EA1-45AE-A873-2D863EB3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C8232-033C-463A-BECA-E352496B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78F87-B79E-4689-AF1A-1E6C49AF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730C3-E499-4EB4-AC1A-88990C21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B987-1215-41B3-B37B-DFC9A15C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775F5-B6C8-43E2-B569-7DCCEB69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E05F9-EDE1-4A62-8152-1A5A337A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2FBF4-3C12-44FF-9241-F2964656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56A60-9956-49CA-95C5-8B6B05AE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78A07-6942-4B00-AA2F-34229DD4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E54FF-0E8C-4756-BD3D-8E1ED327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9BAF5-7A1C-460B-A3B7-389521D1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1CC51-C3B2-4029-92D3-2FCD4A82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8EB5E-9D86-40D3-B686-64CB60A4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FA1D6-8275-4146-ABC3-B908ED8F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1" name="Group 3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" name="Freeform 6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" name="Group 7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6" name="Freeform 8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" name="Freeform 9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9" name="Freeform 11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" name="Freeform 12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14" name="Freeform 16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6" name="Group 18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17" name="Freeform 19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9" name="Freeform 21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24" name="Group 26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25" name="Freeform 27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30" name="Group 32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31" name="Freeform 33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36" name="Group 38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37" name="Freeform 39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45" name="Freeform 47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48" name="Freeform 50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51" name="Group 53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52" name="Freeform 54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5" name="Group 57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56" name="Freeform 58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7" name="Freeform 59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8" name="Freeform 60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59" name="Freeform 61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69" name="Group 71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70" name="Freeform 72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1" name="Freeform 73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2" name="Freeform 74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73" name="Group 75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74" name="Freeform 76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5" name="Freeform 77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6" name="Freeform 78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77" name="Freeform 79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8" name="Freeform 80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80" name="Group 82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81" name="Freeform 83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2" name="Freeform 84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3" name="Freeform 85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4" name="Freeform 86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5" name="Freeform 87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6" name="Group 88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87" name="Freeform 89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8" name="Freeform 90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89" name="Rectangle 91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  <p:sp>
          <p:nvSpPr>
            <p:cNvPr id="90" name="Rectangle 92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E025-E9B5-4BBF-A3C7-58E4807BECB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2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1188" name="Group 3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1189" name="Group 4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1190" name="Freeform 5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91" name="Freeform 6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192" name="Group 7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1193" name="Freeform 8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94" name="Freeform 9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195" name="Group 10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1196" name="Freeform 11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97" name="Freeform 12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98" name="Freeform 13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99" name="Freeform 14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200" name="Group 15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1201" name="Freeform 16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02" name="Freeform 17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203" name="Group 18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1204" name="Freeform 19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05" name="Freeform 20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206" name="Freeform 21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07" name="Freeform 22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08" name="Freeform 23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09" name="Freeform 24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10" name="Freeform 25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211" name="Group 26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1212" name="Freeform 27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13" name="Freeform 28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14" name="Freeform 29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15" name="Freeform 30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16" name="Freeform 31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217" name="Group 32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1218" name="Freeform 33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19" name="Freeform 34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20" name="Freeform 35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21" name="Freeform 36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22" name="Freeform 37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223" name="Group 38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1224" name="Freeform 39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25" name="Freeform 40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26" name="Freeform 41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27" name="Freeform 42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228" name="Group 43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1229" name="Freeform 44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30" name="Freeform 45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231" name="Group 46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1232" name="Freeform 47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33" name="Freeform 48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34" name="Freeform 49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235" name="Freeform 50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36" name="Freeform 51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37" name="Freeform 52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238" name="Group 53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1239" name="Freeform 54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40" name="Freeform 55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41" name="Freeform 56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242" name="Group 57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1243" name="Freeform 58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44" name="Freeform 59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45" name="Freeform 60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246" name="Freeform 61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47" name="Freeform 62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48" name="Freeform 63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49" name="Freeform 64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50" name="Freeform 65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51" name="Freeform 66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52" name="Freeform 67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53" name="Freeform 68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54" name="Freeform 69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55" name="Freeform 70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256" name="Group 71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1257" name="Freeform 72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58" name="Freeform 73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59" name="Freeform 74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260" name="Group 75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1261" name="Freeform 76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62" name="Freeform 77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63" name="Freeform 78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264" name="Freeform 79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65" name="Freeform 80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266" name="Freeform 81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267" name="Group 82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1268" name="Freeform 83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69" name="Freeform 84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70" name="Freeform 85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71" name="Freeform 86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72" name="Freeform 87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273" name="Group 88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1274" name="Freeform 89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75" name="Freeform 90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1276" name="Rectangle 91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  <p:sp>
          <p:nvSpPr>
            <p:cNvPr id="1277" name="Rectangle 92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9BC6-EDA5-476A-80AD-329887DA0F4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9" name="Group 2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1320" name="Group 3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1321" name="Group 4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1322" name="Freeform 5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23" name="Freeform 6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24" name="Group 7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1325" name="Freeform 8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26" name="Freeform 9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27" name="Group 10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1328" name="Freeform 11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29" name="Freeform 12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30" name="Freeform 13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31" name="Freeform 14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32" name="Group 15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1333" name="Freeform 16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34" name="Freeform 17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35" name="Group 18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1336" name="Freeform 19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37" name="Freeform 20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338" name="Freeform 21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39" name="Freeform 22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40" name="Freeform 23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41" name="Freeform 24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42" name="Freeform 25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343" name="Group 26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1344" name="Freeform 27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45" name="Freeform 28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46" name="Freeform 29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47" name="Freeform 30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48" name="Freeform 31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49" name="Group 32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1350" name="Freeform 33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51" name="Freeform 34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52" name="Freeform 35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53" name="Freeform 36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54" name="Freeform 37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55" name="Group 38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1356" name="Freeform 39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57" name="Freeform 40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58" name="Freeform 41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59" name="Freeform 42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60" name="Group 43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1361" name="Freeform 44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62" name="Freeform 45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63" name="Group 46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1364" name="Freeform 47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65" name="Freeform 48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66" name="Freeform 49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367" name="Freeform 50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68" name="Freeform 51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69" name="Freeform 52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370" name="Group 53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1371" name="Freeform 54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72" name="Freeform 55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73" name="Freeform 56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74" name="Group 57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1375" name="Freeform 58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76" name="Freeform 59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77" name="Freeform 60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378" name="Freeform 61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79" name="Freeform 62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80" name="Freeform 63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81" name="Freeform 64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82" name="Freeform 65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83" name="Freeform 66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84" name="Freeform 67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85" name="Freeform 68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86" name="Freeform 69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87" name="Freeform 70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388" name="Group 71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1389" name="Freeform 72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90" name="Freeform 73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91" name="Freeform 74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92" name="Group 75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1393" name="Freeform 76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94" name="Freeform 77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95" name="Freeform 78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396" name="Freeform 79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97" name="Freeform 80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398" name="Freeform 81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399" name="Group 82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1400" name="Freeform 83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01" name="Freeform 84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02" name="Freeform 85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03" name="Freeform 86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04" name="Freeform 87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05" name="Group 88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1406" name="Freeform 89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07" name="Freeform 90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1408" name="Rectangle 91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  <p:sp>
          <p:nvSpPr>
            <p:cNvPr id="1409" name="Rectangle 92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2F04-74EC-4534-87A4-6674AC1665B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1" name="Group 2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1452" name="Group 3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1453" name="Group 4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1454" name="Freeform 5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55" name="Freeform 6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56" name="Group 7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1457" name="Freeform 8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58" name="Freeform 9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59" name="Group 10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1460" name="Freeform 11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61" name="Freeform 12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62" name="Freeform 13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63" name="Freeform 14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64" name="Group 15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1465" name="Freeform 16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66" name="Freeform 17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67" name="Group 18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1468" name="Freeform 19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69" name="Freeform 20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470" name="Freeform 21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471" name="Freeform 22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472" name="Freeform 23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473" name="Freeform 24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474" name="Freeform 25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475" name="Group 26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1476" name="Freeform 27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77" name="Freeform 28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78" name="Freeform 29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79" name="Freeform 30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80" name="Freeform 31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81" name="Group 32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1482" name="Freeform 33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83" name="Freeform 34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84" name="Freeform 35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85" name="Freeform 36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86" name="Freeform 37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87" name="Group 38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1488" name="Freeform 39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89" name="Freeform 40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90" name="Freeform 41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91" name="Freeform 42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92" name="Group 43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1493" name="Freeform 44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94" name="Freeform 45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95" name="Group 46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1496" name="Freeform 47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97" name="Freeform 48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98" name="Freeform 49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499" name="Freeform 50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00" name="Freeform 51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01" name="Freeform 52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502" name="Group 53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1503" name="Freeform 54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04" name="Freeform 55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05" name="Freeform 56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506" name="Group 57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1507" name="Freeform 58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08" name="Freeform 59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09" name="Freeform 60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510" name="Freeform 61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11" name="Freeform 62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12" name="Freeform 63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13" name="Freeform 64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14" name="Freeform 65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15" name="Freeform 66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16" name="Freeform 67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17" name="Freeform 68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18" name="Freeform 69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19" name="Freeform 70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520" name="Group 71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1521" name="Freeform 72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22" name="Freeform 73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23" name="Freeform 74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524" name="Group 75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1525" name="Freeform 76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26" name="Freeform 77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27" name="Freeform 78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528" name="Freeform 79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29" name="Freeform 80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30" name="Freeform 81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531" name="Group 82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1532" name="Freeform 83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33" name="Freeform 84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34" name="Freeform 85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35" name="Freeform 86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36" name="Freeform 87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537" name="Group 88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1538" name="Freeform 89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39" name="Freeform 90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1540" name="Rectangle 91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  <p:sp>
          <p:nvSpPr>
            <p:cNvPr id="1541" name="Rectangle 92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333333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4664-BCD6-4020-87B3-C0FCF57B7217}" type="slidenum">
              <a:rPr b="0" lang="ar-SA" sz="1200" spc="-1" strike="noStrike">
                <a:solidFill>
                  <a:srgbClr val="333333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-25560" y="-56880"/>
            <a:ext cx="9163080" cy="7189920"/>
            <a:chOff x="-25560" y="-56880"/>
            <a:chExt cx="9163080" cy="7189920"/>
          </a:xfrm>
        </p:grpSpPr>
        <p:grpSp>
          <p:nvGrpSpPr>
            <p:cNvPr id="133" name="Group 3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134" name="Group 4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135" name="Freeform 5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6" name="Freeform 6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7" name="Group 101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138" name="Freeform 8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9" name="Freeform 9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0" name="Group 10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141" name="Freeform 11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2" name="Freeform 12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3" name="Freeform 13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4" name="Freeform 14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5" name="Group 15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146" name="Freeform 16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7" name="Freeform 17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8" name="Group 18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149" name="Freeform 19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0" name="Freeform 20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51" name="Freeform 21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2" name="Freeform 22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3" name="Freeform 23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4" name="Freeform 24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5" name="Freeform 25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56" name="Group 26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157" name="Freeform 27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8" name="Freeform 28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9" name="Freeform 29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0" name="Freeform 30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1" name="Freeform 31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62" name="Group 32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163" name="Freeform 33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4" name="Freeform 34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5" name="Freeform 35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6" name="Freeform 36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7" name="Freeform 37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68" name="Group 38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169" name="Freeform 39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0" name="Freeform 40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1" name="Freeform 41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2" name="Freeform 42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73" name="Group 43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174" name="Freeform 44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5" name="Freeform 45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76" name="Group 46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177" name="Freeform 47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8" name="Freeform 48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9" name="Freeform 49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80" name="Freeform 50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81" name="Freeform 51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82" name="Freeform 52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83" name="Group 53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184" name="Freeform 54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85" name="Freeform 55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86" name="Freeform 56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87" name="Group 57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188" name="Freeform 58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89" name="Freeform 59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90" name="Freeform 60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91" name="Freeform 61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2" name="Freeform 62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3" name="Freeform 63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4" name="Freeform 64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5" name="Freeform 65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6" name="Freeform 66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7" name="Freeform 67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8" name="Freeform 68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9" name="Freeform 69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00" name="Freeform 70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201" name="Group 71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202" name="Freeform 72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03" name="Freeform 73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04" name="Freeform 74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205" name="Group 75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206" name="Freeform 76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07" name="Freeform 77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08" name="Freeform 78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209" name="Freeform 79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10" name="Freeform 80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11" name="Freeform 81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212" name="Group 82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213" name="Freeform 83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14" name="Freeform 84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15" name="Freeform 85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16" name="Freeform 86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17" name="Freeform 87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218" name="Group 88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219" name="Freeform 89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20" name="Freeform 90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221" name="Rectangle 91"/>
            <p:cNvSpPr/>
            <p:nvPr/>
          </p:nvSpPr>
          <p:spPr>
            <a:xfrm>
              <a:off x="1174680" y="3430440"/>
              <a:ext cx="7962840" cy="7776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B54D-D597-4F3A-8AEA-94692C9686F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264" name="Group 3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265" name="Group 4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266" name="Freeform 5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67" name="Freeform 6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268" name="Group 7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269" name="Freeform 8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70" name="Freeform 9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271" name="Group 10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272" name="Freeform 11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73" name="Freeform 12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74" name="Freeform 13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75" name="Freeform 14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276" name="Group 15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277" name="Freeform 16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78" name="Freeform 17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279" name="Group 18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280" name="Freeform 19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81" name="Freeform 20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282" name="Freeform 21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83" name="Freeform 22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84" name="Freeform 23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85" name="Freeform 24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86" name="Freeform 25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287" name="Group 26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288" name="Freeform 27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89" name="Freeform 28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90" name="Freeform 29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91" name="Freeform 30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92" name="Freeform 31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293" name="Group 32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294" name="Freeform 33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95" name="Freeform 34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96" name="Freeform 35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97" name="Freeform 36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98" name="Freeform 37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299" name="Group 38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300" name="Freeform 39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01" name="Freeform 40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02" name="Freeform 41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03" name="Freeform 42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304" name="Group 43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305" name="Freeform 44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06" name="Freeform 45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307" name="Group 46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308" name="Freeform 47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09" name="Freeform 48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10" name="Freeform 49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311" name="Freeform 50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312" name="Freeform 51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313" name="Freeform 52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314" name="Group 53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315" name="Freeform 54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16" name="Freeform 55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17" name="Freeform 56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318" name="Group 57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319" name="Freeform 58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20" name="Freeform 59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21" name="Freeform 60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322" name="Freeform 61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323" name="Freeform 62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324" name="Freeform 63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325" name="Freeform 64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326" name="Freeform 65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327" name="Freeform 66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328" name="Freeform 67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329" name="Freeform 68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330" name="Freeform 69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331" name="Freeform 70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332" name="Group 71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333" name="Freeform 72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34" name="Freeform 73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35" name="Freeform 74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336" name="Group 75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337" name="Freeform 76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38" name="Freeform 77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39" name="Freeform 78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340" name="Freeform 79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341" name="Freeform 80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342" name="Freeform 81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343" name="Group 82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344" name="Freeform 83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45" name="Freeform 84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46" name="Freeform 85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47" name="Freeform 86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48" name="Freeform 87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349" name="Group 88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350" name="Freeform 89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51" name="Freeform 90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352" name="Rectangle 91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  <p:sp>
          <p:nvSpPr>
            <p:cNvPr id="353" name="Rectangle 92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2FDE-CC79-42C5-BBC4-3825CEAC1D8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396" name="Group 3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397" name="Group 4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398" name="Freeform 5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99" name="Freeform 6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00" name="Group 7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401" name="Freeform 8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02" name="Freeform 9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03" name="Group 10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404" name="Freeform 11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05" name="Freeform 12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06" name="Freeform 13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07" name="Freeform 14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08" name="Group 15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409" name="Freeform 16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10" name="Freeform 17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11" name="Group 18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412" name="Freeform 19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13" name="Freeform 20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414" name="Freeform 21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15" name="Freeform 22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16" name="Freeform 23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17" name="Freeform 24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18" name="Freeform 25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419" name="Group 26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420" name="Freeform 27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21" name="Freeform 28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22" name="Freeform 29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23" name="Freeform 30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24" name="Freeform 31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25" name="Group 32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426" name="Freeform 33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27" name="Freeform 34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28" name="Freeform 35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29" name="Freeform 36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30" name="Freeform 37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31" name="Group 38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432" name="Freeform 39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33" name="Freeform 40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34" name="Freeform 41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35" name="Freeform 42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36" name="Group 43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437" name="Freeform 44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38" name="Freeform 45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39" name="Group 46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440" name="Freeform 47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41" name="Freeform 48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42" name="Freeform 49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443" name="Freeform 50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44" name="Freeform 51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45" name="Freeform 52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446" name="Group 53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447" name="Freeform 54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48" name="Freeform 55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49" name="Freeform 56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50" name="Group 57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451" name="Freeform 58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52" name="Freeform 59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53" name="Freeform 60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454" name="Freeform 61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55" name="Freeform 62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56" name="Freeform 63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57" name="Freeform 64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58" name="Freeform 65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59" name="Freeform 66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60" name="Freeform 67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61" name="Freeform 68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62" name="Freeform 69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63" name="Freeform 70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464" name="Group 71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465" name="Freeform 72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66" name="Freeform 73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67" name="Freeform 74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68" name="Group 75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469" name="Freeform 76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70" name="Freeform 77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71" name="Freeform 78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472" name="Freeform 79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73" name="Freeform 80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74" name="Freeform 81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475" name="Group 82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476" name="Freeform 83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77" name="Freeform 84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78" name="Freeform 85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79" name="Freeform 86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80" name="Freeform 87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81" name="Group 88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482" name="Freeform 89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83" name="Freeform 90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484" name="Rectangle 91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  <p:sp>
          <p:nvSpPr>
            <p:cNvPr id="485" name="Rectangle 92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D7D5-5C8B-46D1-810D-4D2E2010EE4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2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528" name="Group 3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529" name="Group 4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530" name="Freeform 5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31" name="Freeform 6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32" name="Group 7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533" name="Freeform 8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34" name="Freeform 9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35" name="Group 10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536" name="Freeform 11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37" name="Freeform 12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38" name="Freeform 13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39" name="Freeform 14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40" name="Group 15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541" name="Freeform 16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42" name="Freeform 17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43" name="Group 18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544" name="Freeform 19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45" name="Freeform 20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546" name="Freeform 21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47" name="Freeform 22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48" name="Freeform 23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49" name="Freeform 24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50" name="Freeform 25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551" name="Group 26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552" name="Freeform 27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53" name="Freeform 28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54" name="Freeform 29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55" name="Freeform 30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56" name="Freeform 31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57" name="Group 32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558" name="Freeform 33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59" name="Freeform 34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60" name="Freeform 35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61" name="Freeform 36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62" name="Freeform 37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63" name="Group 38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564" name="Freeform 39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65" name="Freeform 40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66" name="Freeform 41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67" name="Freeform 42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68" name="Group 43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569" name="Freeform 44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70" name="Freeform 45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71" name="Group 46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572" name="Freeform 47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73" name="Freeform 48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74" name="Freeform 49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575" name="Freeform 50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76" name="Freeform 51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77" name="Freeform 52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578" name="Group 53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579" name="Freeform 54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80" name="Freeform 55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81" name="Freeform 56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82" name="Group 57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583" name="Freeform 58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84" name="Freeform 59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85" name="Freeform 60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586" name="Freeform 61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87" name="Freeform 62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88" name="Freeform 63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89" name="Freeform 64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90" name="Freeform 65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91" name="Freeform 66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92" name="Freeform 67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93" name="Freeform 68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94" name="Freeform 69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95" name="Freeform 70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596" name="Group 71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597" name="Freeform 72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98" name="Freeform 73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99" name="Freeform 74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600" name="Group 75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601" name="Freeform 76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02" name="Freeform 77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03" name="Freeform 78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604" name="Freeform 79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05" name="Freeform 80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06" name="Freeform 81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607" name="Group 82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608" name="Freeform 83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09" name="Freeform 84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10" name="Freeform 85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11" name="Freeform 86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12" name="Freeform 87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613" name="Group 88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614" name="Freeform 89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15" name="Freeform 90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616" name="Rectangle 91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  <p:sp>
          <p:nvSpPr>
            <p:cNvPr id="617" name="Rectangle 92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3D7A-DBF0-4908-9F1D-E5438310B92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660" name="Group 3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661" name="Group 4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662" name="Freeform 5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63" name="Freeform 6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664" name="Group 7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665" name="Freeform 8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66" name="Freeform 9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667" name="Group 10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668" name="Freeform 11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69" name="Freeform 12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70" name="Freeform 13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71" name="Freeform 14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672" name="Group 15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673" name="Freeform 16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74" name="Freeform 17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675" name="Group 18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676" name="Freeform 19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77" name="Freeform 20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678" name="Freeform 21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79" name="Freeform 22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80" name="Freeform 23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81" name="Freeform 24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82" name="Freeform 25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683" name="Group 26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684" name="Freeform 27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85" name="Freeform 28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86" name="Freeform 29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87" name="Freeform 30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88" name="Freeform 31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689" name="Group 32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690" name="Freeform 33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91" name="Freeform 34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92" name="Freeform 35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93" name="Freeform 36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94" name="Freeform 37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695" name="Group 38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696" name="Freeform 39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97" name="Freeform 40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98" name="Freeform 41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699" name="Freeform 42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700" name="Group 43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701" name="Freeform 44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02" name="Freeform 45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703" name="Group 46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704" name="Freeform 47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05" name="Freeform 48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06" name="Freeform 49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707" name="Freeform 50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08" name="Freeform 51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09" name="Freeform 52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710" name="Group 53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711" name="Freeform 54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12" name="Freeform 55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13" name="Freeform 56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714" name="Group 57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715" name="Freeform 58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16" name="Freeform 59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17" name="Freeform 60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718" name="Freeform 61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19" name="Freeform 62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20" name="Freeform 63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21" name="Freeform 64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22" name="Freeform 65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23" name="Freeform 66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24" name="Freeform 67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25" name="Freeform 68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26" name="Freeform 69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27" name="Freeform 70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728" name="Group 71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729" name="Freeform 72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30" name="Freeform 73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31" name="Freeform 74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732" name="Group 75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733" name="Freeform 76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34" name="Freeform 77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35" name="Freeform 78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736" name="Freeform 79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37" name="Freeform 80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38" name="Freeform 81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739" name="Group 82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740" name="Freeform 83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41" name="Freeform 84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42" name="Freeform 85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43" name="Freeform 86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44" name="Freeform 87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745" name="Group 88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746" name="Freeform 89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47" name="Freeform 90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748" name="Rectangle 91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  <p:sp>
          <p:nvSpPr>
            <p:cNvPr id="749" name="Rectangle 92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3741-C8B0-4D21-891B-9C9FF763483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Group 2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792" name="Group 3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793" name="Group 4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794" name="Freeform 5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95" name="Freeform 6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796" name="Group 7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797" name="Freeform 8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98" name="Freeform 9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799" name="Group 10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800" name="Freeform 11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01" name="Freeform 12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02" name="Freeform 13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03" name="Freeform 14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04" name="Group 15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805" name="Freeform 16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06" name="Freeform 17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07" name="Group 18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808" name="Freeform 19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09" name="Freeform 20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810" name="Freeform 21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11" name="Freeform 22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12" name="Freeform 23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13" name="Freeform 24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14" name="Freeform 25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815" name="Group 26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816" name="Freeform 27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17" name="Freeform 28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18" name="Freeform 29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19" name="Freeform 30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20" name="Freeform 31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21" name="Group 32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822" name="Freeform 33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23" name="Freeform 34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24" name="Freeform 35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25" name="Freeform 36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26" name="Freeform 37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27" name="Group 38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828" name="Freeform 39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29" name="Freeform 40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30" name="Freeform 41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31" name="Freeform 42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32" name="Group 43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833" name="Freeform 44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34" name="Freeform 45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35" name="Group 46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836" name="Freeform 47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37" name="Freeform 48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38" name="Freeform 49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839" name="Freeform 50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40" name="Freeform 51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41" name="Freeform 52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842" name="Group 53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843" name="Freeform 54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44" name="Freeform 55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45" name="Freeform 56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46" name="Group 57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847" name="Freeform 58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48" name="Freeform 59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49" name="Freeform 60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850" name="Freeform 61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51" name="Freeform 62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52" name="Freeform 63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53" name="Freeform 64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54" name="Freeform 65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55" name="Freeform 66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56" name="Freeform 67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57" name="Freeform 68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58" name="Freeform 69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59" name="Freeform 70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860" name="Group 71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861" name="Freeform 72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62" name="Freeform 73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63" name="Freeform 74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64" name="Group 75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865" name="Freeform 76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66" name="Freeform 77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67" name="Freeform 78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868" name="Freeform 79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69" name="Freeform 80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870" name="Freeform 81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871" name="Group 82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872" name="Freeform 83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73" name="Freeform 84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74" name="Freeform 85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75" name="Freeform 86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76" name="Freeform 87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77" name="Group 88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878" name="Freeform 89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79" name="Freeform 90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880" name="Rectangle 91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  <p:sp>
          <p:nvSpPr>
            <p:cNvPr id="881" name="Rectangle 92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B192-141A-4869-A57D-DAD2CEB2508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Group 2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924" name="Group 3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925" name="Group 4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926" name="Freeform 5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27" name="Freeform 6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928" name="Group 7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929" name="Freeform 8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30" name="Freeform 9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931" name="Group 10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932" name="Freeform 11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33" name="Freeform 12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34" name="Freeform 13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35" name="Freeform 14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936" name="Group 15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937" name="Freeform 16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38" name="Freeform 17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939" name="Group 18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940" name="Freeform 19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41" name="Freeform 20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942" name="Freeform 21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43" name="Freeform 22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44" name="Freeform 23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45" name="Freeform 24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46" name="Freeform 25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947" name="Group 26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948" name="Freeform 27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49" name="Freeform 28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50" name="Freeform 29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51" name="Freeform 30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52" name="Freeform 31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953" name="Group 32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954" name="Freeform 33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55" name="Freeform 34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56" name="Freeform 35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57" name="Freeform 36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58" name="Freeform 37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959" name="Group 38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960" name="Freeform 39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61" name="Freeform 40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62" name="Freeform 41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63" name="Freeform 42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964" name="Group 43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965" name="Freeform 44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66" name="Freeform 45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967" name="Group 46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968" name="Freeform 47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69" name="Freeform 48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70" name="Freeform 49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971" name="Freeform 50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72" name="Freeform 51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73" name="Freeform 52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974" name="Group 53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975" name="Freeform 54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76" name="Freeform 55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77" name="Freeform 56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978" name="Group 57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979" name="Freeform 58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80" name="Freeform 59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81" name="Freeform 60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982" name="Freeform 61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83" name="Freeform 62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84" name="Freeform 63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85" name="Freeform 64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86" name="Freeform 65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87" name="Freeform 66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88" name="Freeform 67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89" name="Freeform 68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90" name="Freeform 69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991" name="Freeform 70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992" name="Group 71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993" name="Freeform 72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94" name="Freeform 73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95" name="Freeform 74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996" name="Group 75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997" name="Freeform 76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98" name="Freeform 77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999" name="Freeform 78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000" name="Freeform 79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001" name="Freeform 80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002" name="Freeform 81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003" name="Group 82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1004" name="Freeform 83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05" name="Freeform 84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06" name="Freeform 85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07" name="Freeform 86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08" name="Freeform 87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009" name="Group 88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1010" name="Freeform 89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11" name="Freeform 90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1012" name="Rectangle 91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  <p:sp>
          <p:nvSpPr>
            <p:cNvPr id="1013" name="Rectangle 92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14BF-6FF3-4AC1-A4BB-6C824087A40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Group 2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1056" name="Group 3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1057" name="Group 4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1058" name="Freeform 5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59" name="Freeform 6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060" name="Group 7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1061" name="Freeform 8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62" name="Freeform 9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063" name="Group 10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1064" name="Freeform 11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65" name="Freeform 12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66" name="Freeform 13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67" name="Freeform 14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068" name="Group 15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1069" name="Freeform 16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70" name="Freeform 17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071" name="Group 18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1072" name="Freeform 19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73" name="Freeform 20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074" name="Freeform 21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075" name="Freeform 22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076" name="Freeform 23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077" name="Freeform 24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078" name="Freeform 25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079" name="Group 26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1080" name="Freeform 27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81" name="Freeform 28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82" name="Freeform 29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83" name="Freeform 30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84" name="Freeform 31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085" name="Group 32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1086" name="Freeform 33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87" name="Freeform 34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88" name="Freeform 35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89" name="Freeform 36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90" name="Freeform 37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091" name="Group 38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1092" name="Freeform 39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93" name="Freeform 40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94" name="Freeform 41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95" name="Freeform 42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096" name="Group 43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1097" name="Freeform 44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98" name="Freeform 45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099" name="Group 46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1100" name="Freeform 47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01" name="Freeform 48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02" name="Freeform 49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103" name="Freeform 50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104" name="Freeform 51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105" name="Freeform 52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106" name="Group 53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1107" name="Freeform 54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08" name="Freeform 55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09" name="Freeform 56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110" name="Group 57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1111" name="Freeform 58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12" name="Freeform 59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13" name="Freeform 60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114" name="Freeform 61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115" name="Freeform 62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116" name="Freeform 63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117" name="Freeform 64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118" name="Freeform 65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119" name="Freeform 66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120" name="Freeform 67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121" name="Freeform 68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122" name="Freeform 69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123" name="Freeform 70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124" name="Group 71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1125" name="Freeform 72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26" name="Freeform 73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27" name="Freeform 74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128" name="Group 75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1129" name="Freeform 76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30" name="Freeform 77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31" name="Freeform 78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132" name="Freeform 79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133" name="Freeform 80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134" name="Freeform 81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135" name="Group 82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1136" name="Freeform 83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37" name="Freeform 84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38" name="Freeform 85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39" name="Freeform 86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40" name="Freeform 87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141" name="Group 88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1142" name="Freeform 89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43" name="Freeform 90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1144" name="Rectangle 91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  <p:sp>
          <p:nvSpPr>
            <p:cNvPr id="1145" name="Rectangle 92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EDB0-646D-4E35-9CCF-01EAA882875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The Skin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Basic Functions: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kin reacts to negative and positive influences of our environmen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kin is an active organ that responds to many factor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kin is the largest functioning organ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Skin Care Products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Herbs and botanical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ynergistic complexe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Active ingredient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echnology 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afety studie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Efficacy studie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032"/>
                </a:solidFill>
                <a:latin typeface="Palatino Linotype"/>
              </a:rPr>
              <a:t>Pure, Safe, Beneficial</a:t>
            </a: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Skin Care Steps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eansing – lift dirt without stripping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Moisturizing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- protect against water los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Protecting – from environmen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Masques – draw out impuritie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Exfolients – remove dead skin cell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5032"/>
                </a:solidFill>
                <a:latin typeface="Palatino Linotype"/>
              </a:rPr>
              <a:t>Each Step Takes Key Ingredient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eansing preparations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R/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Mineral oil                                450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Bees wax                                    160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Borax                                             10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Water                                           380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Procedure: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12120" indent="-31212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1.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Melt bees wax , then add mineral  oil and heat the mixture up to 80 oC on water bath.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12120" indent="-31212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2.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Dissolve borax in the amount of water, and heat to the same temperature.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12120" indent="-31212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3.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Add #2 to #1 gradually with trituration on water bath for complete emulsification.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12120" indent="-31212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4.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Remove from water bath and continue vigorously trituration.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12120" indent="-31212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12120" indent="-31212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eansing preparations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Mineral oil                                500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tearic acid                                100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Lanolin                                          50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EA                                                13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Water                                            337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Moisturizing  cream: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tearic acid                                  170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Lanolin                                           10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Liquid paraffin                                20 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Potassium hydroxide                     14 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Glycerol                                          86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Water                                            700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1614" name="Picture 4" descr="images (1)"/>
          <p:cNvPicPr/>
          <p:nvPr/>
        </p:nvPicPr>
        <p:blipFill>
          <a:blip r:embed="rId1">
            <a:grayscl/>
          </a:blip>
          <a:stretch/>
        </p:blipFill>
        <p:spPr>
          <a:xfrm>
            <a:off x="6659640" y="189000"/>
            <a:ext cx="2295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procedure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1.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Melt stearic acid, luquid paraffin and lanolin on water bath at 75-80 oC.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2.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Dissolve KOH  in water-glycerol mixture, and heat to the same temperature.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3.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Add #2 to #1 gradually with stirring on water bath for complete emulsification.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4.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Remove from water bath and continue stirring until cooling. 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5.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 Then add the perfume.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The Skin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kin is approximately 18 square fee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kin weighs 5 – 8 pound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5032"/>
                </a:solidFill>
                <a:latin typeface="Palatino Linotype"/>
              </a:rPr>
              <a:t>You want to take care of your Skin</a:t>
            </a:r>
            <a:endParaRPr b="0" lang="en-US" sz="36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The Skin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Important Functions: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Protection 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emperature regulation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nsation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retion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Absorption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ontrol of evaporation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5032"/>
                </a:solidFill>
                <a:latin typeface="Palatino Linotype"/>
              </a:rPr>
              <a:t>Each Square Inch of Skin Contains:</a:t>
            </a: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65 hairs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95-100 sebaceous glands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78 yards of nerves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20 yards of blood vessels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650 sweat glands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9,500,000 cells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1,300 nerve endings (records pain)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19,500 sensory 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78 sensory apparatuses to record heat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13 sensory apparatuses to record cold 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1591" name="Picture 4" descr="skin"/>
          <p:cNvPicPr/>
          <p:nvPr/>
        </p:nvPicPr>
        <p:blipFill>
          <a:blip r:embed="rId1"/>
          <a:stretch/>
        </p:blipFill>
        <p:spPr>
          <a:xfrm>
            <a:off x="6019920" y="1600200"/>
            <a:ext cx="27716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Skin structure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1593" name="Picture 4" descr="Skin_tws_9_03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Aging Process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ollagen production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Elastin production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Between the ages of 28 &amp; 80 – drops 65%!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ollagen &amp; Elastin help give strength to skin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ckness of skin decreases 6% every 10 year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Thin skin has poor ability to hold and retain moisture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Aging Process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Intrinsic factors account for 10% of the visible signs of aging 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Actinic factors account for 90% of the visible signs of aging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5032"/>
                </a:solidFill>
                <a:latin typeface="Palatino Linotype"/>
              </a:rPr>
              <a:t>Protection &amp; Prevention are Key!</a:t>
            </a:r>
            <a:endParaRPr b="0" lang="en-US" sz="36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Wrinkles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In your 40’s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39480" indent="-339480"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Elasticity diminishes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39480" indent="-339480"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Skin loses memory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39480" indent="-339480"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Repetitive movements form permanent wrinkles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In your 50’s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39480" indent="-339480"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Gravity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39480" indent="-339480"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Collagen &amp; elastin decreases</a:t>
            </a: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	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39480" indent="-339480">
              <a:spcBef>
                <a:spcPts val="700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Skin and muscles sag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Aging and Skin Care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eansing 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Important to have moisture in your skin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Water = Hydration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We want to increase the skin’s ability to hold water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	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2:13:02Z</dcterms:created>
  <dc:creator>sstewart</dc:creator>
  <dc:description/>
  <dc:language>en-US</dc:language>
  <cp:lastModifiedBy>User</cp:lastModifiedBy>
  <dcterms:modified xsi:type="dcterms:W3CDTF">2016-10-17T09:21:58Z</dcterms:modified>
  <cp:revision>9</cp:revision>
  <dc:subject/>
  <dc:title>Lunch and Learn – Summer Session</dc:title>
</cp:coreProperties>
</file>