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481-C729-4AA6-BBCA-3CF3B103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743-F431-4A99-AA3C-6BCE1F42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64B29-94C2-4536-AB71-792F201F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042C7-0C7B-4C84-A738-E12E8D4C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A7F4E-4F23-431D-8C85-2C858520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C76D4-5811-4BB3-B6A4-8E21807F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673A7-FA7F-40D9-878B-C0F7AEFC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2CB0C-BAD4-44C7-96B6-B885D897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3CDA2-C510-4B1B-A39D-6DFD9BB5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C34D4-1D78-4869-B560-2BFFEFD6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376D9-BDA6-4921-ADC0-E091018F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8CC5A-E5ED-458F-8C3C-834083A4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0D1-FF9E-45C6-86CA-ADF8BC99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A582D-F1CE-416A-BF8A-024C1046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04B97-F364-45C9-BB63-01D40E4C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F955D-A6BA-4550-AC1F-4D3DD336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D9519-B6A0-486C-90E3-1E70ACF0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F7F1E-A9B3-463A-8E5C-32D5AF54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CC1C9-8B2F-489A-A9D2-841B04C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3CC41-3B28-4FAE-9EA9-55C52C8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43AC8-D1BE-49BC-87C8-A3FE2AD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14F2B-971C-4397-A2F7-8EAD95A8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CC587-487D-46EB-BE4E-720EA4A7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66A-6283-4AA8-A612-D1206DC6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EB8ED-8147-49C4-8616-B361CFA0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14E2A-2689-4AA5-9C8B-226B071B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3964B-71DB-4D99-B15B-6157AA4C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8885B-2261-41E1-AFAA-6C87879C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3E4A3-3E8D-4AE9-B45C-0BD93988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7BC8E-771F-4268-AAF2-DCBF60BA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A2AB0-3824-4CB8-B7CF-1A570D1C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42A56-00CC-44B7-B625-542F126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88274-64A3-4930-80DB-97FE1D44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2662B-993C-4DA3-9710-4099E1C6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385E-8DAA-439C-8D91-81DAFB48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8C7FE-C16F-4415-9155-996B0DB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D1445-9A74-4056-B9C7-F9109638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E4885-EAB0-4107-B925-42B571CF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C0196-B9E9-4308-9C5B-E5828057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6252C-A53E-403C-9F4B-2DE6EF62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79A4B-9F25-4288-9D30-BEF31A41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24CFF-FCD7-4322-B8BC-E36B2A85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346E3-1E12-4CC9-A508-CB740CB4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248DD-0711-452F-A209-7B01904E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A4BA4-E498-40B6-AFFC-51DC4A1E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8F06-B877-47AA-98AF-C7FEAE33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13270-930B-4E8C-BE61-B7D7FAD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453E3-EC2B-4160-A76C-F80D592E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5E7A5-2F1A-4CD7-814D-2AD957D1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54696-6268-4AC6-9BB3-9026C2C0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B6217-0B58-4323-AE6C-0C04CAAE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607D-8F04-446D-A398-1BD043DB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B0F5-8A2B-4223-BB06-68B8940D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E299-2C8D-4EBA-A820-478D491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5BE0-5D9D-44AF-8E45-963D2FF5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C176-3EFE-4136-AAA1-400C596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B2A-B087-44B0-8CF5-0DB8D747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0E33-7E27-466C-9C02-6AFEEA87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B3C0-1578-4085-BD8F-10D168A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8144-810A-49AF-91CB-53752EB5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EE17-E136-4413-BE7D-A6357A71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4BA3-1DBE-4305-BA28-644E71D0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A438-4919-43CE-BAFE-F87B2707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0E5B-D3D2-4FED-B42F-E9B063F4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553C-E0A7-4503-BC05-0BA9D4F8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4BEB-20FD-4A7A-BBB4-602B6DA4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3CA2-4A09-4A66-A0B2-B287D4C9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BD0-AB41-4539-B2CC-D5CC8EE9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F1A3-0C6C-41BF-AFE1-37FA121B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2DFA-D759-4C04-8C49-C4F3C27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3532-AFA8-45DD-81F4-AD2D5FB7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9730-12F7-48D9-B5D5-C5577ABB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223E-1373-4C11-A7E3-9BE32E90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C5B2-D003-41D7-9E04-EEE57731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D60C-7EBB-4E81-A1B4-59BE620A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B23F0-8B25-400A-BA34-99F38167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1296-7F5A-4E8D-90C2-2D872737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8052-76D5-48EB-8793-20F131EE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CBD-710C-4A06-B6D7-721C1979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B4047-63F5-43EF-A8A7-9CEA1321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04CA-1A21-4E0C-8FE6-0E200A1F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D3D59-012F-424A-9F00-27321597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A6A4-C727-474A-BC0C-4EA4044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8025-7747-4126-AE18-E04FD938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25BC-BCDB-44EB-A1CC-DBCFD9A6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FA9F-392D-49DB-8D95-DAC28246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DBF76-80DE-4F6A-B6D2-ED262192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C490-BDCA-4FC4-9798-05AA622F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CFE4-ADB1-43DC-93F1-A61C8896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3C4-EC36-4D43-AF03-CF3A6DB4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E0B3-B318-492B-B425-2221EDA6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85942-23EF-48DF-85CD-6C746CB8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C419-2244-4E3D-90C0-218B62A8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AF82-A8E0-4312-AC04-06C25DBF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48AD-5952-4840-8385-8B947DBB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D5E9-21E5-47EE-B13F-AB1FCD3B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62BB-2980-4875-9463-BDAA4F7D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39887-63C8-4A87-BABB-6E2653E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16F06-143C-4FF7-8EB4-23FB0161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C2170-B83D-4F59-9CB4-C83A70F9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33A-D77D-4FF7-A95B-803F05DA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4D8D-4BA2-4434-88C2-DEB13FB9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89356-BA32-4133-A1AA-DE0BFC69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61A59-FBC3-478F-9926-77C78310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893B1-0D50-484D-A872-1B868C2F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5C3C-FB77-456C-A605-4B6F0EED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FED9-C2E1-4023-A123-AE271F0A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F774-AA7A-410E-B1D9-F1B9316E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8A7C-ABAE-4636-BFE0-61DB585A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D9518-4F1B-429C-AD6A-743D483E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E897B-A8E2-4B81-98CC-99340AEE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983-B904-4477-BF13-86217A18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106C-463F-4E0A-A9E0-99285B55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DEC6D-569C-4769-A070-48119898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987AF-61A6-4BC0-BB91-A4113F79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63358-9112-4BB4-BE01-33678E8A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A4B41-7AF3-4FC2-B7FD-97010D14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CBE9D-C5AE-4EE5-BED1-2393E639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AA886-7A59-42D8-A44B-B5DBE122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64C9C-5A0B-4B3E-970A-9D431DA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E714E-F8DE-4E34-878E-F9D59289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D77C-5C70-4A9C-9603-FB3F9CE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B66-E39D-4247-AB91-2D4E3B97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8294F-53A9-4651-8F17-BF2C4964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82B8F-1EEB-4330-824E-BBB88188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C2B5E-400A-4806-B396-F8127091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956A4-99CB-49CC-9E3E-655BBECA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C6680-6894-4A74-83BE-AD4037BD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E6BAD-6B41-4D9D-99D7-EAEBE2DE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6668B-23AA-4447-9AF3-09577BC8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C3B79-63A4-447C-B3A6-9A92F76A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375D9-361A-4A41-874A-786DB5D7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0527B-6894-4DEC-9714-62C3D0A7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AAD-7BA7-4873-AC5D-23C688E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7BA71-73D1-41B0-BB64-9F01967D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404F1-EBEE-4010-937A-A21F21C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2F322-4F12-4526-AE44-F732F720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2E4F3-8360-4CA7-A600-F71A06A2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7E1AF-B280-4E6B-B85B-97A213EB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DC167-A95B-4A70-896A-23D9C40B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C7B65-7E07-4BF7-A198-A12A25B4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B40FF-2B5E-4F8D-A6D2-8359D190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771CF-8B09-41F8-BA95-FF2630CA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BCA8B-47A1-4ECE-BF1B-C444C691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7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4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5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1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5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1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2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5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6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9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9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0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3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4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7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0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1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5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6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8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89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90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F4A-87E8-405A-9DB6-E6218A8CC17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188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189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190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1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92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193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4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95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196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7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8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9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00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201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02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03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204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05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206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07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08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09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10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211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212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3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4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5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6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17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218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9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0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1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2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23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224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5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6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7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28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229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30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31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232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33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34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235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36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37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238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239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40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41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42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243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44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45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246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47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48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49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0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1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2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3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4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5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256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1257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58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59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60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1261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62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63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264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65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66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267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268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69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70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71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72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73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274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75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276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277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AC9C-E9C7-4F55-8B65-73228E00B5E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320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21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22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23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24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25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26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27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328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29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30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31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32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333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34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35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336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37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338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39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40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41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42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343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344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45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46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47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48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49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350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1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2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3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4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55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356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7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8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9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60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361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2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63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364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5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6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367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68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69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370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371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72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73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74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375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76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77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378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79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0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1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2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3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4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5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6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7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388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1389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0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1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92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1393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4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5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396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97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98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399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400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1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2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3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4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05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406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7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408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409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B7B4-205E-4D45-8573-078B3DF98EE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452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453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454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55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6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457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58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9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460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1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2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3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64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5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6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67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68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9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470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471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472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473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474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475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476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7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8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1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482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6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7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488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9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0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1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92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95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496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499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00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01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02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503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4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5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506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507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8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9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10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1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2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3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4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5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6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7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8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9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20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1521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22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23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524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1525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26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27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28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29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30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31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532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3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4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5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6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537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538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9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540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541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33333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25DA-6D39-48E6-B7FE-F95A37964B6D}" type="slidenum">
              <a:rPr b="0" lang="ar-SA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33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4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5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7" name="Group 101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8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0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41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2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3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4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9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1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2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3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6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57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8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9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0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1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2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63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4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5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6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7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8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69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0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1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2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3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74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5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6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77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8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9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80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1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2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83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84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5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6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87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88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9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90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1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2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3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4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5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6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7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9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0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01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202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3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4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05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206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7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8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209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0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12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13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4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5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6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7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18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19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20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221" name="Rectangle 91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2018-64F8-4B3C-85A7-D7D691A892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264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65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266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67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68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269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0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71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272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3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4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5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76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277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8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79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280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1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282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83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84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85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86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87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88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9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0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1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2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93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294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5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6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7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8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99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00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1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2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3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4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305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6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7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308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9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10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311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12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13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314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315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16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17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18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319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0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1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322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3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4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5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6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7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8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9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30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31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332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333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4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5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36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337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8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9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340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41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42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343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344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5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6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7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8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49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350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51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352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353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B1AF-6DC5-47F4-B65D-93CC043AF78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396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397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98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99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00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401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2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03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404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5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6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7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08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409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10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11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412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13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14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15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16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17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18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419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420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1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2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3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4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25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426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7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8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9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0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31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432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3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4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5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36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37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8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39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40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41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42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43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44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45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446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447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48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49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50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451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52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53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54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5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6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7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8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9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60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61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62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63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464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465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6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7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68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469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0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1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72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73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74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475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476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7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8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9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80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81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482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83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484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485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2164-057D-4124-BFCD-3B320809A9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528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529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530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1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32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533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4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35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536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7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8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9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40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541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2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43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544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5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46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47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48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49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50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51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552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3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4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5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6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57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558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9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0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1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2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63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564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5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6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7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68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569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0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71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572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3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4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75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76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77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78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79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0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1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82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83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4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5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86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87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88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89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0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1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2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3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4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5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96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597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98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99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00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601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02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03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604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5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6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07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608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09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10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11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13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614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15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616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617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2E8C-F9A8-431B-AA65-18EA400CC8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660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661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662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63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64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65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66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67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668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69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70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71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72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673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74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75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676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77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678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79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0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1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2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83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684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85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86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87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88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89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690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1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2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3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4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95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696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7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8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9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00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701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02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03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704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05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06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07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08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09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710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711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2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3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14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715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6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7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18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19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0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1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2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3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4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5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6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7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728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29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30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31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32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33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34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35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36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37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38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739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740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1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2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3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4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45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746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7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748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749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4EF6-CA89-4D03-9C3C-2A077CACB7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792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793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794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95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96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797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98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99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800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1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2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3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04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805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6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07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808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9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810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11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12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13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14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15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816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17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18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19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0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21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822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3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4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5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6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27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828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9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0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1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32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833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4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35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836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7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8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839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40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41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42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843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4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5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46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847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8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9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850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1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2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3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4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5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6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7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8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9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60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861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62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63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64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865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66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67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868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69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70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71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72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3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4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5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6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77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8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9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880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881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37CA-DF32-4D06-8AF5-0BE46A83342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924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925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926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27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28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929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0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31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32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3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4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5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36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937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8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39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940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41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942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43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44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45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46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947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948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49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0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1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2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53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954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5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6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7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8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59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960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1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2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3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64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965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6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67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968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9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70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971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72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73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974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975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76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77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78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979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80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81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982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3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4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5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6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7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8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9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90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91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992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993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94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95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96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997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98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99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000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01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02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003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004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05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06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07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08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09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010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11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012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013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83E-0683-4F78-BC54-70B95EA5D23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056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057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058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59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60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061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62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63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064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65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66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67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68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069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70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71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072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73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074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75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76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77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78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079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080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1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2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3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4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85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086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7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8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9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0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91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092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3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4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5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96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097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8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99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100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01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02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103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04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05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106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107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08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09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10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111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12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13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114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5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6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7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8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9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20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21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22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23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124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1125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26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27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28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1129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0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1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132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33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34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135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136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7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8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9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40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41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142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43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144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145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2A95-B86E-4896-89F1-DF21342A969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The Ski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asic Functions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reacts to negative and positive influences of our environmen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is an active organ that responds to many factor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is the largest functioning orga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Skin Care Product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Herbs and botanical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ynergistic complexe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ctive ingredient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echnology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afety studie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Efficacy studie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032"/>
                </a:solidFill>
                <a:latin typeface="Palatino Linotype"/>
              </a:rPr>
              <a:t>Pure, Safe, Beneficial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Skin Care Step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eansing – lift dirt without stripping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oisturizing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- protect against water los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rotecting – from environmen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asques – draw out impuritie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Exfolients – remove dead skin cell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Each Step Takes Key Ingredient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eansing preparation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R/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ineral oil                                45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ees wax                                    16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orax                                             1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ater                                           38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rocedure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1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elt bees wax , then add mineral  oil and heat the mixture up to 80 oC on water bath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2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Dissolve borax in the amount of water, and heat to the same temperature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3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dd #2 to #1 gradually with trituration on water bath for complete emulsification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4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Remove from water bath and continue vigorously trituration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eansing preparation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ineral oil                                50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tearic acid                                10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anolin                                          5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EA                                                13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ater                                            337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oisturizing  cream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tearic acid                                  17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anolin                                           1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iquid paraffin                                20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otassium hydroxide                     14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Glycerol                                          86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ater                                            70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1614" name="Picture 4" descr="images (1)"/>
          <p:cNvPicPr/>
          <p:nvPr/>
        </p:nvPicPr>
        <p:blipFill>
          <a:blip r:embed="rId1">
            <a:grayscl/>
          </a:blip>
          <a:stretch/>
        </p:blipFill>
        <p:spPr>
          <a:xfrm>
            <a:off x="6659640" y="189000"/>
            <a:ext cx="2295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procedur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1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elt stearic acid, luquid paraffin and lanolin on water bath at 75-80 oC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2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Dissolve KOH  in water-glycerol mixture, and heat to the same temperature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3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dd #2 to #1 gradually with stirring on water bath for complete emulsification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4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Remove from water bath and continue stirring until cooling.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5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Then add the perfume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The Ski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is approximately 18 square fee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weighs 5 – 8 pound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5032"/>
                </a:solidFill>
                <a:latin typeface="Palatino Linotype"/>
              </a:rPr>
              <a:t>You want to take care of your Skin</a:t>
            </a: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The Ski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mportant Functions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rotection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emperature regula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nsa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re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bsorp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ontrol of evapora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Each Square Inch of Skin Contains: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65 hair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95-100 sebaceous gland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78 yards of nerve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20 yards of blood vessel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650 sweat gland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9,500,000 cell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1,300 nerve endings (records pain)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19,500 sensory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78 sensory apparatuses to record heat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13 sensory apparatuses to record cold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1591" name="Picture 4" descr="skin"/>
          <p:cNvPicPr/>
          <p:nvPr/>
        </p:nvPicPr>
        <p:blipFill>
          <a:blip r:embed="rId1"/>
          <a:stretch/>
        </p:blipFill>
        <p:spPr>
          <a:xfrm>
            <a:off x="6019920" y="1600200"/>
            <a:ext cx="2771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Skin structur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1593" name="Picture 4" descr="Skin_tws_9_0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Aging Proces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ollagen produc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Elastin produc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Between the ages of 28 &amp; 80 – drops 65%!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ollagen &amp; Elastin help give strength to ski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ckness of skin decreases 6% every 10 year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Thin skin has poor ability to hold and retain moisture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Aging Proces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ntrinsic factors account for 10% of the visible signs of aging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ctinic factors account for 90% of the visible signs of aging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5032"/>
                </a:solidFill>
                <a:latin typeface="Palatino Linotype"/>
              </a:rPr>
              <a:t>Protection &amp; Prevention are Key!</a:t>
            </a: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Wrinkle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In your 40’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Elasticity diminishe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Skin loses memory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Repetitive movements form permanent wrinkle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In your 50’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Gravity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Collagen &amp; elastin decreases</a:t>
            </a: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	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Skin and muscles sag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Aging and Skin Car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eansing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mportant to have moisture in your ski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ater = Hydra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e want to increase the skin’s ability to hold water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2:13:02Z</dcterms:created>
  <dc:creator>sstewart</dc:creator>
  <dc:description/>
  <dc:language>en-US</dc:language>
  <cp:lastModifiedBy>User</cp:lastModifiedBy>
  <dcterms:modified xsi:type="dcterms:W3CDTF">2016-10-17T09:21:58Z</dcterms:modified>
  <cp:revision>9</cp:revision>
  <dc:subject/>
  <dc:title>Lunch and Learn – Summer Session</dc:title>
</cp:coreProperties>
</file>