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313D-E7A5-4E80-A9DC-1CBD4DB8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A5C-8B90-4260-8B84-01646639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95A-3957-467C-84F0-C1244A47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48F-547F-4BBF-9639-36DDA205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4711-1BB9-40A2-86B4-383898A7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403A-B337-4470-A85A-2F4844CD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2918-2E2A-4DCB-AAD9-A3B54B43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C1DD-9B27-45B6-BB2F-89B7C4F5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9465-D4A4-4ACF-8307-76CF99B8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8AF-3573-4766-8485-37F0167A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0721-4EF7-4C21-AABF-3B3DEFD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DF4-D098-4AAC-935B-287512C0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F05D-324F-4A2D-903E-8ACC1AE4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953-7778-440B-9491-2A3AE71F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45D-6B77-45A9-9D5E-43734537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DBA2-42F8-4053-AE67-08ECA044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F51-1A52-4534-AF15-EF1AADF8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B62-7E48-4C2A-9A0B-2BF4A49F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388-FD1E-4C11-A10E-26264B5C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B104-9A1A-40CA-A211-8154FC7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C9F-8E94-43E4-8CB3-91C62278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55E-65D3-42DF-A7C1-A740DA7F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F8A-0B9D-4AE1-80BD-04DF065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8FA-2DCC-4B0D-9710-02F3B90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A0E1-D931-42E4-8D02-86907D4C49E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0890-E9B5-4230-9D9A-9D0366D4DB18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4280"/>
            <a:ext cx="640080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973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039320" y="210960"/>
            <a:ext cx="6563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Neurocognitive</a:t>
            </a: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consequences</a:t>
            </a: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efb"/>
                </a:solidFill>
                <a:latin typeface="comic"/>
              </a:rPr>
              <a:t>of sleep   deprivation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9240" y="567072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prepared By : dr.noo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a8e9c"/>
                </a:solidFill>
                <a:latin typeface="comic"/>
              </a:rPr>
              <a:t>Psychiatry resedent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f4df"/>
                </a:solidFill>
                <a:latin typeface="comic"/>
              </a:rPr>
              <a:t>Broad cognitive performance effects of sleep deprivation</a:t>
            </a:r>
            <a:r>
              <a:rPr b="0" lang="en-US" sz="32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2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In voluntary microsleeps occu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Cognitive slowing occurs in subject-paced tasks ,while time pressure increases cognitive erro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Response time slows !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Short-term memory &amp; working memory performance declin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Reduced learning (acquisition) of cognitive task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Performance requiring divergent thinking deteriorates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-9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Cont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.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Response perservation on ineffective solutions is more likel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Increased compensatory effort is required to remain behaviorally effectiv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asks may begun well, but performance deteriorates as task duration increases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here is growing neglect of activities judged to be non essenti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(loss of situational awareness)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10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Mood changes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y present with Anxiety or Depressive sx 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oor moo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Irritability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Low energy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Decrease libido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hese symptoms disappear suddenly when normal sleep restored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11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Neurophysiological measur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386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1. PET studies 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global decrease in glucose metabolism in cortical &amp; subcrotical area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2. FMRI 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thalamic activation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temporal activation &amp;    parietal area activation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ebc76"/>
                </a:solidFill>
                <a:latin typeface="Tempus Sans ITC"/>
              </a:rPr>
              <a:t>3. EEG :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     in amplitude &amp; alpha-frequency wave form 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7c6e50"/>
                </a:solidFill>
                <a:uFillTx/>
                <a:latin typeface="Arial Unicode MS"/>
                <a:ea typeface="Arial Unicode MS"/>
              </a:rPr>
              <a:t>Neuropsychopharmacology,2001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60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12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84360" y="292392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3860640"/>
            <a:ext cx="0" cy="3589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276720" y="386028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47640" y="4724280"/>
            <a:ext cx="0" cy="43200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Other consequenc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2f1311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Accidents :  2d leading cause of death for cars in us,major cause for truck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c6e50"/>
                </a:solidFill>
                <a:uFillTx/>
                <a:latin typeface="Arial Unicode MS"/>
                <a:ea typeface="Arial Unicode MS"/>
              </a:rPr>
              <a:t>Am J Res:Crit Care 2006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e331e"/>
                </a:solidFill>
                <a:uFillTx/>
                <a:latin typeface="Arial Unicode MS"/>
                <a:ea typeface="Arial Unicode MS"/>
              </a:rPr>
              <a:t>FATILATY RATE INJURY SEVERITY LEVEL SIMILAR TO ALCOHOL RELATED CRACHES !!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336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 Unicode MS"/>
                <a:ea typeface="Arial Unicode MS"/>
              </a:rPr>
              <a:t>-13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2. Quality of lif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Social &amp; marital life affected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3.Respiratory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ventilatory response to hypercapnia or hypoxia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Tempus Sans ITC"/>
              </a:rPr>
              <a:t>-14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4437000"/>
            <a:ext cx="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4. Immune function 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in plasma level of TNF-alpha &amp; IL</a:t>
            </a:r>
            <a:r>
              <a:rPr b="1" lang="ar-SA" sz="3200" spc="-1" strike="noStrike">
                <a:solidFill>
                  <a:srgbClr val="2f1311"/>
                </a:solidFill>
                <a:latin typeface="Tempus Sans ITC"/>
              </a:rPr>
              <a:t>ـــ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6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which are involved in immune regula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c6e50"/>
                </a:solidFill>
                <a:latin typeface="Arial"/>
              </a:rPr>
              <a:t>Clin J Endocrino Met 2004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15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84360" y="2565360"/>
            <a:ext cx="0" cy="5047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5 . Appetit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  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in serum leptin (anorexigenic hormone) &amp; </a:t>
            </a:r>
            <a:r>
              <a:rPr b="1" lang="ar-SA" sz="3200" spc="-1" strike="noStrike">
                <a:solidFill>
                  <a:srgbClr val="2f1311"/>
                </a:solidFill>
                <a:latin typeface="Tempus Sans ITC"/>
              </a:rPr>
              <a:t>  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in hunger &amp;appetite esp. to calorie-dense food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(( excessive eating &amp; </a:t>
            </a:r>
            <a:r>
              <a:rPr b="1" lang="en-US" sz="3200" spc="-1" strike="noStrike">
                <a:solidFill>
                  <a:srgbClr val="ae331e"/>
                </a:solidFill>
                <a:latin typeface="Tempus Sans ITC"/>
              </a:rPr>
              <a:t>obesity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)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-16-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2924280"/>
            <a:ext cx="0" cy="3603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203640" y="3284640"/>
            <a:ext cx="0" cy="5032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Sources</a:t>
            </a:r>
            <a:r>
              <a:rPr b="0" lang="en-US" sz="36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Seminars in neurology 2005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Sleep 2003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J Neuropsychopharmacolog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Up to date 2006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Arch of Gen Psychiatr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df4df"/>
                </a:solidFill>
                <a:uFillTx/>
                <a:latin typeface="comic"/>
              </a:rPr>
              <a:t>Points to be covered</a:t>
            </a:r>
            <a:r>
              <a:rPr b="1" lang="en-US" sz="4000" spc="-1" strike="noStrike" u="sng">
                <a:solidFill>
                  <a:srgbClr val="fdf4df"/>
                </a:solidFill>
                <a:uFillTx/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What is normal sleep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Sleep deprivation &amp; its types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 ?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Neurocognitive consequences of sleep deprivation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016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  <a:ea typeface="Lucida Sans Unicode"/>
              </a:rPr>
              <a:t>Other consequences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.                      -1</a:t>
            </a: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404280"/>
            <a:ext cx="738648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Most people require approximately 8 hrs \ day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sleeping less than 4 hrs or more than 10 hrs is associated with increase risk of mortality !!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Arch Gen Psychiatr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f1311"/>
                </a:solidFill>
                <a:latin typeface="Arial"/>
              </a:rPr>
              <a:t>-2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Normal sleep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To define it , you should answer two questions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d817b"/>
                </a:solidFill>
                <a:latin typeface="Tempus Sans ITC"/>
              </a:rPr>
              <a:t>A-quantity of sleep</a:t>
            </a:r>
            <a:r>
              <a:rPr b="1" i="1" lang="en-US" sz="3200" spc="-1" strike="noStrike">
                <a:solidFill>
                  <a:srgbClr val="2f1311"/>
                </a:solidFill>
                <a:latin typeface="Tempus Sans ITC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Wake spontaneous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How alert he is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d817b"/>
                </a:solidFill>
                <a:latin typeface="Tempus Sans ITC"/>
              </a:rPr>
              <a:t>B- quality of sleep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…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No . Of awakening during night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Any  2ry sleep dis. 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What is sleep deprivation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?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c76"/>
                </a:solidFill>
                <a:uFillTx/>
                <a:latin typeface="Tempus Sans ITC"/>
              </a:rPr>
              <a:t>No specific def</a:t>
            </a:r>
            <a:r>
              <a:rPr b="1" lang="en-US" sz="3200" spc="-1" strike="noStrike">
                <a:solidFill>
                  <a:srgbClr val="bebc76"/>
                </a:solidFill>
                <a:latin typeface="Tempus Sans ITC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an be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Partial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umulative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bc76"/>
                </a:solidFill>
                <a:uFillTx/>
                <a:latin typeface="Tempus Sans ITC"/>
              </a:rPr>
              <a:t>Other  classification</a:t>
            </a: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 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Long ter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Short term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Partial 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Cognitive deficits</a:t>
            </a:r>
            <a:r>
              <a:rPr b="0" lang="en-US" sz="4000" spc="-1" strike="noStrike">
                <a:solidFill>
                  <a:srgbClr val="fdf4df"/>
                </a:solidFill>
                <a:latin typeface="comic"/>
              </a:rPr>
              <a:t> :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Deficits in day time performance are experienced universally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st studies show negative impact on three areas 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od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Cognitive performance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tor functions .                       -5-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692280"/>
            <a:ext cx="7386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eta-analysis study showed that mood &amp; cognition more affected by partial sleep deprivation &gt; total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leep 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Tempus Sans ITC"/>
              </a:rPr>
              <a:t>More complex cognitive tasks involving higher cog. functions are regarded to be insensitive to sleep deprivatio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J Exp Psycho Appl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-6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Neurobehavioral effect of partial or total sleep deprivation &lt; 6hrs \ day =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Cognitive deficits equal t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2 days of total sleep deprivation !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Tempus Sans ITC"/>
              </a:rPr>
              <a:t>Those subjects un aware of there deficit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Sleep,200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153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1311"/>
                </a:solidFill>
                <a:latin typeface="Arial"/>
              </a:rPr>
              <a:t>-7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f4df"/>
                </a:solidFill>
                <a:latin typeface="comic"/>
              </a:rPr>
              <a:t>Deficits in neurocognitive performance requiring working memory results in</a:t>
            </a:r>
            <a:r>
              <a:rPr b="0" lang="en-US" sz="3600" spc="-1" strike="noStrike">
                <a:solidFill>
                  <a:srgbClr val="fdf4d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Difficulty in determining scope of problem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Remembering temporal association of informa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intaining focus on relevant cues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Maintaining flexible thinking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Taking inappropriate risk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oor insight to performance 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Perservating on thoughts &amp; action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8</a:t>
            </a:r>
            <a:r>
              <a:rPr b="1" lang="en-US" sz="2800" spc="-1" strike="noStrike">
                <a:solidFill>
                  <a:srgbClr val="2f1311"/>
                </a:solidFill>
                <a:latin typeface="Tempus Sans ITC"/>
              </a:rPr>
              <a:t>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4:59:06Z</dcterms:created>
  <dc:creator>www.arabswell.com</dc:creator>
  <dc:description/>
  <dc:language>en-US</dc:language>
  <cp:lastModifiedBy>www.arabswell.com</cp:lastModifiedBy>
  <dcterms:modified xsi:type="dcterms:W3CDTF">2006-11-29T10:39:17Z</dcterms:modified>
  <cp:revision>6</cp:revision>
  <dc:subject/>
  <dc:title>الشريحة 1</dc:title>
</cp:coreProperties>
</file>