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DA5-0FEF-449A-8176-7496ABE1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357-50CD-410A-9D0F-864B690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409-09E2-48C8-B6C5-3F7880F0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64F-3AAE-4B2A-A56E-B9DC0019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7A8-2DAB-45A7-A61E-38D9B3D9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D15C-33F3-43FB-9B7A-0D1BA54D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7967-5300-4146-B71A-595A7CD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9744-6CBE-4391-BC15-4A06E15E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D859-60B5-49D7-9B5D-E1C19AA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3C7-295E-4FB2-898D-975D16F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D9A-971C-4BB3-A2FC-EF62E99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CA9-1A1C-4B68-BE69-7478C46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CA1-703C-423D-9694-143BC1BA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16E-994B-4BF4-B68F-4095904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640F-E50E-433C-8126-2B01F34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A29-1618-4228-BF64-564121D3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5AC5-FD7E-4431-A98B-980066D4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B20-70BC-4502-B430-8B035DEC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89C-CF3E-4CE3-8A3E-50C626A9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E07-C5A1-4981-A7D9-09B6A10A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C31-33A4-4459-837F-E6FD22F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D04-CCC3-40F8-A0A2-BC61BDC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37B-09CA-4AE5-929B-13FA42DB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E62-DBDB-4E8A-AA55-FA82FE8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8BEA-B143-4334-983F-672B0B7B134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3924-4D5A-4BC9-9453-791B5081A88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4280"/>
            <a:ext cx="64008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73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39320" y="210960"/>
            <a:ext cx="656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Neurocognitive</a:t>
            </a: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consequences</a:t>
            </a: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of sleep   deprivation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9240" y="567072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prepared By : dr.no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Psychiatry reseden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4df"/>
                </a:solidFill>
                <a:latin typeface="comic"/>
              </a:rPr>
              <a:t>Broad cognitive performance effects of sleep deprivation</a:t>
            </a:r>
            <a:r>
              <a:rPr b="0" lang="en-US" sz="32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In voluntary microsleeps occu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Cognitive slowing occurs in subject-paced tasks ,while time pressure increases cognitive erro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Response time slows !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Short-term memory &amp; working memory performance decli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Reduced learning (acquisition) of cognitive task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Performance requiring divergent thinking deteriorates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-9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Cont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.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Response perservation on ineffective solutions is more likel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Increased compensatory effort is required to remain behaviorally effectiv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asks may begun well, but performance deteriorates as task duration increases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here is growing neglect of activities judged to be non essenti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(loss of situational awareness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10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Mood changes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y present with Anxiety or Depressive sx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oor m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Irritability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Low energy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Decrease libido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hese symptoms disappear suddenly when normal sleep restored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11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Neurophysiological measur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1. PET studies 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global decrease in glucose metabolism in cortical &amp; subcrotical area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2. FMRI 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thalamic activation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temporal activation &amp;    parietal area activation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3. EEG :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in amplitude &amp; alpha-frequency wave form 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7c6e50"/>
                </a:solidFill>
                <a:uFillTx/>
                <a:latin typeface="Arial Unicode MS"/>
                <a:ea typeface="Arial Unicode MS"/>
              </a:rPr>
              <a:t>Neuropsychopharmacology,2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12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84360" y="292392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86064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76720" y="386028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724280"/>
            <a:ext cx="0" cy="432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Other consequenc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Accidents :  2d leading cause of death for cars in us,major cause for truck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c6e50"/>
                </a:solidFill>
                <a:uFillTx/>
                <a:latin typeface="Arial Unicode MS"/>
                <a:ea typeface="Arial Unicode MS"/>
              </a:rPr>
              <a:t>Am J Res:Crit Care 200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e331e"/>
                </a:solidFill>
                <a:uFillTx/>
                <a:latin typeface="Arial Unicode MS"/>
                <a:ea typeface="Arial Unicode MS"/>
              </a:rPr>
              <a:t>FATILATY RATE INJURY SEVERITY LEVEL SIMILAR TO ALCOHOL RELATED CRACHES !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-13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2. Quality of lif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Social &amp; marital life affected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3.Respiratory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ventilatory response to hypercapnia or hypoxia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-14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4437000"/>
            <a:ext cx="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4. Immune function 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in plasma level of TNF-alpha &amp; IL</a:t>
            </a:r>
            <a:r>
              <a:rPr b="1" lang="ar-SA" sz="3200" spc="-1" strike="noStrike">
                <a:solidFill>
                  <a:srgbClr val="2f1311"/>
                </a:solidFill>
                <a:latin typeface="Tempus Sans ITC"/>
              </a:rPr>
              <a:t>ـــ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6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which are involved in immune regula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c6e50"/>
                </a:solidFill>
                <a:latin typeface="Arial"/>
              </a:rPr>
              <a:t>Clin J Endocrino Met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15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84360" y="2565360"/>
            <a:ext cx="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5 . Appetit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in serum leptin (anorexigenic hormone) &amp; </a:t>
            </a:r>
            <a:r>
              <a:rPr b="1" lang="ar-SA" sz="3200" spc="-1" strike="noStrike">
                <a:solidFill>
                  <a:srgbClr val="2f1311"/>
                </a:solidFill>
                <a:latin typeface="Tempus Sans ITC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in hunger &amp;appetite esp. to calorie-dens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(( excessive eating &amp; </a:t>
            </a:r>
            <a:r>
              <a:rPr b="1" lang="en-US" sz="3200" spc="-1" strike="noStrike">
                <a:solidFill>
                  <a:srgbClr val="ae331e"/>
                </a:solidFill>
                <a:latin typeface="Tempus Sans ITC"/>
              </a:rPr>
              <a:t>obesity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)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-16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92428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3640" y="3284640"/>
            <a:ext cx="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Sourc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Seminars in neurology 2005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Sleep 2003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Neuropsychopharmacolog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Up to date 2006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Arch of Gen Psychiatr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4df"/>
                </a:solidFill>
                <a:uFillTx/>
                <a:latin typeface="comic"/>
              </a:rPr>
              <a:t>Points to be covered</a:t>
            </a:r>
            <a:r>
              <a:rPr b="1" lang="en-US" sz="4000" spc="-1" strike="noStrike" u="sng">
                <a:solidFill>
                  <a:srgbClr val="fdf4df"/>
                </a:solidFill>
                <a:uFillTx/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What is normal sleep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Sleep deprivation &amp; its types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Neurocognitive consequences of sleep deprivation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Other consequences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.                      -1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Most people require approximately 8 hrs \ day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sleeping less than 4 hrs or more than 10 hrs is associated with increase risk of mortality !!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Arch Gen Psychiat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2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Normal sleep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To define it , you should answer two questions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d817b"/>
                </a:solidFill>
                <a:latin typeface="Tempus Sans ITC"/>
              </a:rPr>
              <a:t>A-quantity of sleep</a:t>
            </a:r>
            <a:r>
              <a:rPr b="1" i="1" lang="en-US" sz="3200" spc="-1" strike="noStrike">
                <a:solidFill>
                  <a:srgbClr val="2f1311"/>
                </a:solidFill>
                <a:latin typeface="Tempus Sans ITC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Wake spontaneous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How alert he is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d817b"/>
                </a:solidFill>
                <a:latin typeface="Tempus Sans ITC"/>
              </a:rPr>
              <a:t>B- quality of sleep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…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No . Of awakening during nigh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Any  2ry sleep dis.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What is sleep deprivation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?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c76"/>
                </a:solidFill>
                <a:uFillTx/>
                <a:latin typeface="Tempus Sans ITC"/>
              </a:rPr>
              <a:t>No specific def</a:t>
            </a:r>
            <a:r>
              <a:rPr b="1" lang="en-US" sz="3200" spc="-1" strike="noStrike">
                <a:solidFill>
                  <a:srgbClr val="bebc76"/>
                </a:solidFill>
                <a:latin typeface="Tempus Sans ITC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an b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Partial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umulative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c76"/>
                </a:solidFill>
                <a:uFillTx/>
                <a:latin typeface="Tempus Sans ITC"/>
              </a:rPr>
              <a:t>Other  classification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Long ter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Short ter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Partial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Cognitive deficits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Deficits in day time performance are experienced universall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st studies show negative impact on three areas 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od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Cognitive performance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tor functions .                       -5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eta-analysis study showed that mood &amp; cognition more affected by partial sleep deprivation &gt; total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leep 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re complex cognitive tasks involving higher cog. functions are regarded to be insensitive to sleep deprivatio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J Exp Psycho Appl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-6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Neurobehavioral effect of partial or total sleep deprivation &lt; 6hrs \ day =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ognitive deficits equal t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2 days of total sleep deprivation !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Those subjects un aware of there defici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leep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-7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4df"/>
                </a:solidFill>
                <a:latin typeface="comic"/>
              </a:rPr>
              <a:t>Deficits in neurocognitive performance requiring working memory results in</a:t>
            </a:r>
            <a:r>
              <a:rPr b="0" lang="en-US" sz="3600" spc="-1" strike="noStrike">
                <a:solidFill>
                  <a:srgbClr val="fdf4d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Difficulty in determining scope of problem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Remembering temporal association of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intaining focus on relevant cues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intaining flexible thinking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aking inappropriate risk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oor insight to performance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erservating on thoughts &amp; actio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8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4:59:06Z</dcterms:created>
  <dc:creator>www.arabswell.com</dc:creator>
  <dc:description/>
  <dc:language>en-US</dc:language>
  <cp:lastModifiedBy>www.arabswell.com</cp:lastModifiedBy>
  <dcterms:modified xsi:type="dcterms:W3CDTF">2006-11-29T10:39:17Z</dcterms:modified>
  <cp:revision>6</cp:revision>
  <dc:subject/>
  <dc:title>الشريحة 1</dc:title>
</cp:coreProperties>
</file>