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8C7-18E4-4ADA-8275-5E3FAEE7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9D6-91AF-4BC1-8199-2DC2BCDC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5CC-5C72-45A6-B68F-132602CC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60F-FCF1-40BB-BDC2-C3750E8D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13E6-5901-4D28-AA89-CFC7BE00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0D46-F3C2-4D19-B615-98BFA1B3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0AD6-41F0-4823-90BE-50229F37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7712-2188-40CD-A61A-B315E394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55C8-087E-475E-8445-702E345A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76C8-32B6-4B60-967F-34A25C5F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E57-D874-4C40-8A2E-037B3703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628-2E52-4F17-8F1C-290F5C50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A58E-B2EA-43F3-858E-61F63BF6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410B-3400-454E-B201-40395747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E979-BCDB-4BE3-9CAD-A4B70D54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D0AC-E944-4F47-A2E8-61573B13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23EF-F820-4F01-B9DF-FE7A31C8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34B-FAC1-4DF9-BE4B-8F619EBB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94B-8241-4661-ADB7-63F36F8D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B00-85B3-49B5-97D5-EAA3E2F6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579-B19A-4E60-B4E8-63E15AC8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A42-838D-410F-B94B-A48EF11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648-199F-4419-8056-DA257A4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F84-B972-4AEF-A9AD-F00E722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63CF-B237-47A6-BB2F-1F189B88D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9E6D-F2C2-42F4-9CDD-26D5741BF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ucl.ac.uk/lapt/med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ucl.ac.uk/lapt/med" TargetMode="External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451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Sleep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948360" y="4005360"/>
          <a:ext cx="176868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05360"/>
                    <a:ext cx="17686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9280" y="4221000"/>
            <a:ext cx="5689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Slides available at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www.ucl.ac.uk/lapt/med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0" y="184464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ony Gardner-Medwin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Physiology room 33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cgbarg@ucl.ac.uk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190600" y="693720"/>
          <a:ext cx="53341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693720"/>
                    <a:ext cx="53341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833480" y="693720"/>
            <a:ext cx="1224000" cy="503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WAK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W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Single pyramidal tract neuron activity in monkey motor cortex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836640"/>
            <a:ext cx="8351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tered neuronal firing patterns &amp; increased     synchron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tting off sensory inflow, e.g. at LG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3240" y="16344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anges in CNS Activ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4534200" cy="5496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35640" y="30081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SW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2560" y="14241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Awak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7280" y="4735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Awak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Responses from cat LGN  (lateral geniculate nucleus) to 0.1 Hz visual stimulation.   Brainstem sectioned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836640"/>
            <a:ext cx="8351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tered neuronal firing patterns &amp; increased     synchron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utting off sensory inflow, e.g. at LG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tting off motor outflow by descending inhibition (NB brainstem lesions and 5HT (serotonin) depleters can prevent thi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Different “connectivity” of brain,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Arial"/>
              </a:rPr>
              <a:t>e.g.   “PGO” waves  </a:t>
            </a:r>
            <a:r>
              <a:rPr b="1" lang="en-GB" sz="2200" spc="-1" strike="noStrike">
                <a:solidFill>
                  <a:srgbClr val="010000"/>
                </a:solidFill>
                <a:latin typeface="Arial"/>
              </a:rPr>
              <a:t>(Pons – Geniculate – Occiptal cortex)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10000"/>
                </a:solidFill>
                <a:latin typeface="Arial"/>
              </a:rPr>
              <a:t>- visual cortex gets signals from the brainstem instead of from the eyes during REM sleep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240" y="16344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anges in CNS Activ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4360" y="1552680"/>
            <a:ext cx="8315280" cy="3752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209520"/>
            <a:ext cx="87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Activity in cat optic radiation (LGN projection to visual cortex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Awake and in paradoxical (REM) slee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962000" y="647640"/>
          <a:ext cx="5220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647640"/>
                    <a:ext cx="5220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6000" y="5157720"/>
            <a:ext cx="180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Visual cortex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1484280"/>
            <a:ext cx="151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Optic chiasm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2133720"/>
            <a:ext cx="172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Times New Roman"/>
              </a:rPr>
              <a:t>Optic radi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3068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LG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6720" y="476280"/>
            <a:ext cx="792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ecreased sleep latency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icrosleep episodes (&amp; can be EEG slow waves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or performance in long boring tasks (?=2) but short term performance usually norm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ritability, bizarre statements, paranoia (? ~ cf. schizophrenia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creased % of SWS on recovery night (though only &lt;~30% of lost sleep is recovered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 animals can -&gt; death after ~ 2 weeks, associated with metabolic and immune abnormalitie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2200" y="11592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Effects of Total Sleep Depriv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7162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Effects of REM Depriv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412596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1 - 4 above, similar to total sleep depriva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ecomes difficult to arouse or shift from R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(5) is opposite: Increased REM on recovery night, and decreased latency to R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ssible improvement of affect in endogenous depression and bipolar disord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835280" y="1773360"/>
          <a:ext cx="477180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73360"/>
                    <a:ext cx="477180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81440" y="4508640"/>
            <a:ext cx="5459760" cy="1923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Nuclei of certain known chemic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neuro-modulatory system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AcetylCholine: Tegmentum [PGO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Noradrenaline: Locus Coeruleus [Arousal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5HT (serotonin): Raphe [Arousal, SWS]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65600" y="3881520"/>
            <a:ext cx="193680" cy="1951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21240" y="3592440"/>
            <a:ext cx="193680" cy="19548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49600" y="3808440"/>
            <a:ext cx="193680" cy="1951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067280" y="4005360"/>
            <a:ext cx="433440" cy="5760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9800" y="40464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Arousal and Neuro-modulatory System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3573360"/>
            <a:ext cx="17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Thalamu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41300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Diffuse projection from RETICULAR ACTIVATING SYSTEM (R.A.S.)      -&gt; arous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0720" y="1773360"/>
            <a:ext cx="2376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Specific’ sensory signals to thalamus and cortex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00720" y="3213000"/>
            <a:ext cx="25923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Non-specific’ collaterals of sensory axons go to RETICULAR ACTIVATING SYSTEM (R.A.S.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905120" y="2438280"/>
            <a:ext cx="3227400" cy="2743200"/>
            <a:chOff x="1905120" y="2438280"/>
            <a:chExt cx="3227400" cy="274320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2349720" y="2438280"/>
              <a:ext cx="27828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905120" y="2590920"/>
              <a:ext cx="1752840" cy="25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68360" y="907920"/>
            <a:ext cx="482472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linical Probl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hanges in C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epriv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716280"/>
            <a:ext cx="6400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Good textbook: Kandel &amp; Schwartz – Principles of Neural Scienc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Arial"/>
              </a:rPr>
              <a:t>[  But they nearly all are adequate ]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333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451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Sleep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948360" y="4005360"/>
          <a:ext cx="176868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005360"/>
                    <a:ext cx="17686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4000" y="3933720"/>
            <a:ext cx="568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www.ucl.ac.uk/lapt/med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Please use the </a:t>
            </a:r>
            <a:r>
              <a:rPr b="0" lang="en-GB" sz="2400" spc="-1" strike="noStrike" u="sng">
                <a:solidFill>
                  <a:srgbClr val="010000"/>
                </a:solidFill>
                <a:uFillTx/>
                <a:latin typeface="Arial"/>
              </a:rPr>
              <a:t>Web Discussion Forum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for problems/queri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0" y="184464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ony Gardner-Medwin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Physiology room 33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cgbarg@ucl.ac.uk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33320" y="876240"/>
            <a:ext cx="7677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832360" cy="3792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836640"/>
            <a:ext cx="8569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leep is not 1 state, but 2 radically different stat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brain is not resting, but is active (in altered way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The brain is (arguably) conscious, but very poor at remembering what it was experiencing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0000" y="2142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Three conclusions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92720" y="1359000"/>
            <a:ext cx="17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OMNI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&amp; poor slee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9280" y="324972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Problems with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waking task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10720" y="3807000"/>
            <a:ext cx="196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Psychological/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Psychiatr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1280" y="3733920"/>
            <a:ext cx="720720" cy="288720"/>
          </a:xfrm>
          <a:prstGeom prst="line">
            <a:avLst/>
          </a:prstGeom>
          <a:ln w="44280">
            <a:solidFill>
              <a:srgbClr val="00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151000"/>
            <a:ext cx="0" cy="1008000"/>
          </a:xfrm>
          <a:prstGeom prst="line">
            <a:avLst/>
          </a:prstGeom>
          <a:ln w="44280">
            <a:solidFill>
              <a:srgbClr val="00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2151000"/>
            <a:ext cx="1297080" cy="1584360"/>
          </a:xfrm>
          <a:prstGeom prst="line">
            <a:avLst/>
          </a:prstGeom>
          <a:ln w="44280">
            <a:solidFill>
              <a:srgbClr val="009999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292360" y="1143000"/>
            <a:ext cx="3151800" cy="1513440"/>
            <a:chOff x="5292360" y="1143000"/>
            <a:chExt cx="3151800" cy="1513440"/>
          </a:xfrm>
        </p:grpSpPr>
        <p:sp>
          <p:nvSpPr>
            <p:cNvPr id="103" name=""/>
            <p:cNvSpPr/>
            <p:nvPr/>
          </p:nvSpPr>
          <p:spPr>
            <a:xfrm>
              <a:off x="6301800" y="2257560"/>
              <a:ext cx="18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Sleep apnoe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292360" y="2006280"/>
              <a:ext cx="934920" cy="36036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363640" y="1430280"/>
              <a:ext cx="863640" cy="36036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8920" y="1143000"/>
              <a:ext cx="214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Shiftwork, jetlag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H="1" flipV="1">
            <a:off x="4716360" y="2151000"/>
            <a:ext cx="1441440" cy="1728720"/>
          </a:xfrm>
          <a:prstGeom prst="line">
            <a:avLst/>
          </a:prstGeom>
          <a:ln w="44280">
            <a:solidFill>
              <a:srgbClr val="00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2920" y="1935000"/>
            <a:ext cx="2736720" cy="3277440"/>
            <a:chOff x="682920" y="1935000"/>
            <a:chExt cx="2736720" cy="3277440"/>
          </a:xfrm>
        </p:grpSpPr>
        <p:sp>
          <p:nvSpPr>
            <p:cNvPr id="109" name=""/>
            <p:cNvSpPr/>
            <p:nvPr/>
          </p:nvSpPr>
          <p:spPr>
            <a:xfrm>
              <a:off x="682920" y="2151000"/>
              <a:ext cx="2430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NARCOLEPS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(sudden daytime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sleepiness) &amp;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CATAPLEX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(sudden paralysis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42920" y="4508640"/>
              <a:ext cx="208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HYPERSOMNI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(night &amp; day)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0" y="2943360"/>
              <a:ext cx="720720" cy="35856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771640" y="3951360"/>
              <a:ext cx="648000" cy="50328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2920" y="1935000"/>
              <a:ext cx="576360" cy="35892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4960" y="21420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Principal Clinical Problems associated with slee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84360" y="2708280"/>
            <a:ext cx="6624720" cy="3280320"/>
            <a:chOff x="2484360" y="2708280"/>
            <a:chExt cx="6624720" cy="3280320"/>
          </a:xfrm>
        </p:grpSpPr>
        <p:sp>
          <p:nvSpPr>
            <p:cNvPr id="116" name=""/>
            <p:cNvSpPr/>
            <p:nvPr/>
          </p:nvSpPr>
          <p:spPr>
            <a:xfrm>
              <a:off x="5291280" y="530064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Risk of Death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84360" y="558972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99"/>
                  </a:solidFill>
                  <a:latin typeface="Arial"/>
                </a:rPr>
                <a:t>Sleep asthma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427640" y="5589360"/>
              <a:ext cx="720720" cy="14292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6000" y="2708280"/>
              <a:ext cx="1715760" cy="2665440"/>
            </a:xfrm>
            <a:custGeom>
              <a:avLst/>
              <a:gdLst/>
              <a:ahLst/>
              <a:rect l="l" t="t" r="r" b="b"/>
              <a:pathLst>
                <a:path w="1081" h="1679">
                  <a:moveTo>
                    <a:pt x="499" y="0"/>
                  </a:moveTo>
                  <a:cubicBezTo>
                    <a:pt x="790" y="336"/>
                    <a:pt x="1081" y="673"/>
                    <a:pt x="998" y="953"/>
                  </a:cubicBezTo>
                  <a:cubicBezTo>
                    <a:pt x="915" y="1233"/>
                    <a:pt x="457" y="1456"/>
                    <a:pt x="0" y="1679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96360" y="5157720"/>
              <a:ext cx="151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?? Some cot deaths?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40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Times New Roman"/>
              </a:rPr>
              <a:t>??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8000" y="836640"/>
            <a:ext cx="49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lectroencephalogram (EEG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nvasive recording of ‘field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otentials’ summed from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many cel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ingle cell recording i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unanaesthetised animals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(extracellular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Les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timul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harmacological interven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sychophysics (sensory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erformanc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ET, MRI yet to have much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59280" y="765000"/>
            <a:ext cx="4033800" cy="3361680"/>
            <a:chOff x="4859280" y="765000"/>
            <a:chExt cx="4033800" cy="3361680"/>
          </a:xfrm>
        </p:grpSpPr>
        <p:grpSp>
          <p:nvGrpSpPr>
            <p:cNvPr id="124" name=""/>
            <p:cNvGrpSpPr/>
            <p:nvPr/>
          </p:nvGrpSpPr>
          <p:grpSpPr>
            <a:xfrm>
              <a:off x="4859280" y="765000"/>
              <a:ext cx="2665440" cy="3168360"/>
              <a:chOff x="4859280" y="765000"/>
              <a:chExt cx="2665440" cy="3168360"/>
            </a:xfrm>
          </p:grpSpPr>
          <p:sp>
            <p:nvSpPr>
              <p:cNvPr id="125" name=""/>
              <p:cNvSpPr/>
              <p:nvPr/>
            </p:nvSpPr>
            <p:spPr>
              <a:xfrm>
                <a:off x="6373800" y="1125360"/>
                <a:ext cx="503280" cy="50472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999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35640" y="1196640"/>
                <a:ext cx="503280" cy="50472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999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38920" y="765000"/>
                <a:ext cx="433440" cy="79200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076720" y="1125360"/>
                <a:ext cx="2232000" cy="280800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08720" y="2133360"/>
                <a:ext cx="216000" cy="79200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59280" y="2204640"/>
                <a:ext cx="216000" cy="79236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6300720" y="3069720"/>
              <a:ext cx="1440000" cy="36036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72360" y="2277720"/>
              <a:ext cx="1439640" cy="36036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0720" y="837720"/>
              <a:ext cx="1440000" cy="36036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0720" y="1485720"/>
              <a:ext cx="1440000" cy="36036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04000" y="3212640"/>
              <a:ext cx="936720" cy="21744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04000" y="2422080"/>
              <a:ext cx="936720" cy="21744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04000" y="1630080"/>
              <a:ext cx="936720" cy="21744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04000" y="1196640"/>
              <a:ext cx="936720" cy="217440"/>
            </a:xfrm>
            <a:custGeom>
              <a:avLst/>
              <a:gdLst/>
              <a:ahLst/>
              <a:rect l="l" t="t" r="r" b="b"/>
              <a:pathLst>
                <a:path w="907" h="227">
                  <a:moveTo>
                    <a:pt x="0" y="227"/>
                  </a:moveTo>
                  <a:cubicBezTo>
                    <a:pt x="151" y="155"/>
                    <a:pt x="302" y="83"/>
                    <a:pt x="453" y="45"/>
                  </a:cubicBezTo>
                  <a:cubicBezTo>
                    <a:pt x="604" y="7"/>
                    <a:pt x="824" y="7"/>
                    <a:pt x="907" y="0"/>
                  </a:cubicBezTo>
                </a:path>
              </a:pathLst>
            </a:custGeom>
            <a:noFill/>
            <a:ln w="12600">
              <a:solidFill>
                <a:srgbClr val="0099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40720" y="837720"/>
              <a:ext cx="1152360" cy="32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EOG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Front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Pariet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Occipit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99"/>
                  </a:solidFill>
                  <a:latin typeface="Arial"/>
                </a:rPr>
                <a:t>EEG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4360" y="115920"/>
            <a:ext cx="57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00"/>
                </a:solidFill>
                <a:latin typeface="Times New Roman"/>
              </a:rPr>
              <a:t>Techniques for studying the sleeping brai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8000" y="620640"/>
          <a:ext cx="42894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20640"/>
                    <a:ext cx="42894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427640" y="1484280"/>
          <a:ext cx="4581360" cy="329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484280"/>
                    <a:ext cx="458136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79280" y="1700280"/>
            <a:ext cx="417672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SW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8000" y="620640"/>
          <a:ext cx="4289400" cy="504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620640"/>
                    <a:ext cx="42894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4920" y="115920"/>
            <a:ext cx="91454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low Wave Sleep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REM/Paradoxical Slee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EEG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arge Amplitude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ow Amplitude (cf waking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low Waves ~ 1 Hz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(but theta rhythm in hippocampus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USCL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educed tone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otal relaxation (e.g. in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stural &amp; neck muscles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PINAL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me reduction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trong descending inhibi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REFLEX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of motoneuron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ROUSAL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to ‘significant’ stimuli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aised threshold (deep sleep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but often waking from REM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HASIC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uscle twitch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udden eye movements (REM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VENT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udden CNS discharg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REPORT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‘dreams’ 0-50%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‘dreams’ 80%-90%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ON WAKING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&amp; ‘thinking’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920" y="115920"/>
            <a:ext cx="91454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Slow Wave Sleep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REM/Paradoxical Slee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……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td…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REPORT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‘dreams’ 0-50%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‘dreams’ 80%-90%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ON WAKING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&amp; ‘thinking’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- but NB poor recall unless immediately after rapid arousa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% of  SLEEP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60% - 85%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~40%  infant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~20% most of lif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~15%  old ag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WHEN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nitially and in cycl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Not initially (except narcoleptics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~ 90 min cycl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836640"/>
            <a:ext cx="8351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Altered neuronal firing patterns &amp; increased synchron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3240" y="16344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anges in CNS Activit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1T12:00:17Z</dcterms:created>
  <dc:creator>tony</dc:creator>
  <dc:description/>
  <dc:language>en-US</dc:language>
  <cp:lastModifiedBy>argm</cp:lastModifiedBy>
  <cp:lastPrinted>2000-10-02T21:02:40Z</cp:lastPrinted>
  <dcterms:modified xsi:type="dcterms:W3CDTF">2004-12-02T09:56:20Z</dcterms:modified>
  <cp:revision>30</cp:revision>
  <dc:subject/>
  <dc:title>Maths in Medical Science</dc:title>
</cp:coreProperties>
</file>