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ED7D-FAFA-4334-8480-E2B506759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01D9-82B3-4FF7-AF30-AFCB4D69A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154E-840B-40F2-BB9F-9C39235FE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E1AD-E720-49D9-8D18-B90F54A5E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6581F-3CD1-45F6-B51E-82C36FD64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757A8-91EC-40C2-A2F5-CAD738F9E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89134-3F38-47D1-A206-E863ED5D1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C8D4B-03A6-47C2-9F4C-D7B42EAA4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E5071-4D8E-499D-8AF1-48C5C45DE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B382C-134F-4DBB-9BAB-9BC1FF20E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AF8E8-3559-4048-BA69-329BFC8E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796E-EAA1-4AE4-9EFD-FB7AAC082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11531-D0A0-4A1C-95FE-3C245A22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40DAA-2A48-4F22-AD82-E4CD845C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FE3E1-084D-442E-B11E-6DC6E0390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5626C-EE9B-4D21-ACD7-E3FD20884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DD776-59D1-4D28-B10A-95BBB4312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BB93-DE08-4482-840E-F2033C918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268D-1394-4F8D-A526-B3817FCD9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A2CC-7788-4709-8D8D-379561A4D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0ADF-8B3C-415D-A66A-59F4E8747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994D-AEFE-46A1-BB07-86C57FE7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9013-A3A8-4EF1-8856-0F34F24E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455B-EEE3-4BAE-8B20-173E0EFC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B6634-0DB6-442A-9344-046A44F050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2DD16-D6ED-4BFD-A62F-BAF77D07BC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hyperlink" Target="http://www.ucl.ac.uk/lapt/med" TargetMode="External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hyperlink" Target="http://www.ucl.ac.uk/lapt/med" TargetMode="External"/><Relationship Id="rId4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76000" y="189000"/>
            <a:ext cx="745164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Sleep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6948360" y="4005360"/>
          <a:ext cx="1768680" cy="232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48360" y="4005360"/>
                    <a:ext cx="1768680" cy="23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79280" y="4221000"/>
            <a:ext cx="5689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</a:rPr>
              <a:t>Slides available at: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66"/>
                </a:solidFill>
                <a:uFillTx/>
                <a:latin typeface="Arial"/>
                <a:hlinkClick r:id="rId3"/>
              </a:rPr>
              <a:t>www.ucl.ac.uk/lapt/med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0" y="184464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ony Gardner-Medwin,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Physiology room 33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ucgbarg@ucl.ac.uk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2190600" y="693720"/>
          <a:ext cx="5334120" cy="568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0600" y="693720"/>
                    <a:ext cx="5334120" cy="56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1833480" y="693720"/>
            <a:ext cx="1224000" cy="5035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AWAKE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SWS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REM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9280" y="18900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Single pyramidal tract neuron activity in monkey motor cortex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24000" y="836640"/>
            <a:ext cx="835164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10000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tered neuronal firing patterns &amp; increased     synchron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10000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Cutting off sensory inflow, e.g. at LG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3240" y="163440"/>
            <a:ext cx="396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Times New Roman"/>
              </a:rPr>
              <a:t>Changes in CNS Activity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547640" y="907920"/>
            <a:ext cx="4534200" cy="54961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335640" y="300816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Times New Roman"/>
              </a:rPr>
              <a:t>SW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262560" y="142416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Times New Roman"/>
              </a:rPr>
              <a:t>Awak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07280" y="473544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Times New Roman"/>
              </a:rPr>
              <a:t>Awak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9280" y="0"/>
            <a:ext cx="813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Responses from cat LGN  (lateral geniculate nucleus) to 0.1 Hz visual stimulation.   Brainstem sectioned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24000" y="836640"/>
            <a:ext cx="835164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10000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tered neuronal firing patterns &amp; increased     synchron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10000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utting off sensory inflow, e.g. at LG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10000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Cutting off motor outflow by descending inhibition (NB brainstem lesions and 5HT (serotonin) depleters can prevent this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10000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Different “connectivity” of brain,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lvl="1" marL="952560" indent="-495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Arial"/>
              </a:rPr>
              <a:t>e.g.   “PGO” waves  </a:t>
            </a:r>
            <a:r>
              <a:rPr b="1" lang="en-GB" sz="2200" spc="-1" strike="noStrike">
                <a:solidFill>
                  <a:srgbClr val="010000"/>
                </a:solidFill>
                <a:latin typeface="Arial"/>
              </a:rPr>
              <a:t>(Pons – Geniculate – Occiptal cortex)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952560" indent="-495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010000"/>
                </a:solidFill>
                <a:latin typeface="Arial"/>
              </a:rPr>
              <a:t>- visual cortex gets signals from the brainstem instead of from the eyes during REM sleep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3240" y="163440"/>
            <a:ext cx="396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Times New Roman"/>
              </a:rPr>
              <a:t>Changes in CNS Activity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14360" y="1552680"/>
            <a:ext cx="8315280" cy="37526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24000" y="209520"/>
            <a:ext cx="87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Times New Roman"/>
              </a:rPr>
              <a:t>Activity in cat optic radiation (LGN projection to visual cortex)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Times New Roman"/>
              </a:rPr>
              <a:t>Awake and in paradoxical (REM) sleep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1962000" y="647640"/>
          <a:ext cx="522000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2000" y="647640"/>
                    <a:ext cx="522000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1116000" y="5157720"/>
            <a:ext cx="18003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Times New Roman"/>
              </a:rPr>
              <a:t>Visual cortex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659640" y="1484280"/>
            <a:ext cx="1512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Times New Roman"/>
              </a:rPr>
              <a:t>Optic chiasm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5280" y="2133720"/>
            <a:ext cx="1728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Times New Roman"/>
              </a:rPr>
              <a:t>Optic radia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780000" y="306864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LGN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96720" y="476280"/>
            <a:ext cx="7920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Decreased sleep latency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Microsleep episodes (&amp; can be EEG slow waves)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Poor performance in long boring tasks (?=2) but short term performance usually normal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Irritability, bizarre statements, paranoia (? ~ cf. schizophrenia)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Increased % of SWS on recovery night (though only &lt;~30% of lost sleep is recovered)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In animals can -&gt; death after ~ 2 weeks, associated with metabolic and immune abnormalities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2200" y="115920"/>
            <a:ext cx="458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10000"/>
                </a:solidFill>
                <a:latin typeface="Times New Roman"/>
              </a:rPr>
              <a:t>Effects of Total Sleep Depriva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66560" y="3716280"/>
            <a:ext cx="383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10000"/>
                </a:solidFill>
                <a:latin typeface="Times New Roman"/>
              </a:rPr>
              <a:t>Effects of REM Depriva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9640" y="4125960"/>
            <a:ext cx="792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1 - 4 above, similar to total sleep deprivation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Becomes difficult to arouse or shift from REM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(5) is opposite: Increased REM on recovery night, and decreased latency to REM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Possible improvement of affect in endogenous depression and bipolar disorder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1835280" y="1773360"/>
          <a:ext cx="4771800" cy="321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773360"/>
                    <a:ext cx="4771800" cy="32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181440" y="4508640"/>
            <a:ext cx="5459760" cy="19234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Nuclei of certain known chemical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neuro-modulatory systems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1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AcetylCholine: Tegmentum [PGO]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1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Noradrenaline: Locus Coeruleus [Arousal]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1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5HT (serotonin): Raphe [Arousal, SWS]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65600" y="3881520"/>
            <a:ext cx="193680" cy="195120"/>
          </a:xfrm>
          <a:prstGeom prst="ellipse">
            <a:avLst/>
          </a:prstGeom>
          <a:solidFill>
            <a:srgbClr val="ccecff"/>
          </a:solidFill>
          <a:ln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21240" y="3592440"/>
            <a:ext cx="193680" cy="195480"/>
          </a:xfrm>
          <a:prstGeom prst="ellipse">
            <a:avLst/>
          </a:prstGeom>
          <a:solidFill>
            <a:srgbClr val="ccecff"/>
          </a:solidFill>
          <a:ln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49600" y="3808440"/>
            <a:ext cx="193680" cy="195120"/>
          </a:xfrm>
          <a:prstGeom prst="ellipse">
            <a:avLst/>
          </a:prstGeom>
          <a:solidFill>
            <a:srgbClr val="ccecff"/>
          </a:solidFill>
          <a:ln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067280" y="4005360"/>
            <a:ext cx="433440" cy="576000"/>
          </a:xfrm>
          <a:prstGeom prst="line">
            <a:avLst/>
          </a:prstGeom>
          <a:ln w="255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69800" y="404640"/>
            <a:ext cx="54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10000"/>
                </a:solidFill>
                <a:latin typeface="Times New Roman"/>
              </a:rPr>
              <a:t>Arousal and Neuro-modulatory System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42920" y="3573360"/>
            <a:ext cx="1728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Thalamus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9280" y="1413000"/>
            <a:ext cx="2592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Diffuse projection from RETICULAR ACTIVATING SYSTEM (R.A.S.)      -&gt; arousal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300720" y="1773360"/>
            <a:ext cx="237672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‘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Specific’ sensory signals to thalamus and cortex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300720" y="3213000"/>
            <a:ext cx="2592360" cy="192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‘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Non-specific’ collaterals of sensory axons go to RETICULAR ACTIVATING SYSTEM (R.A.S.)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"/>
          <p:cNvGrpSpPr/>
          <p:nvPr/>
        </p:nvGrpSpPr>
        <p:grpSpPr>
          <a:xfrm>
            <a:off x="1905120" y="2438280"/>
            <a:ext cx="3227400" cy="2743200"/>
            <a:chOff x="1905120" y="2438280"/>
            <a:chExt cx="3227400" cy="2743200"/>
          </a:xfrm>
        </p:grpSpPr>
        <p:pic>
          <p:nvPicPr>
            <p:cNvPr id="190" name="" descr=""/>
            <p:cNvPicPr/>
            <p:nvPr/>
          </p:nvPicPr>
          <p:blipFill>
            <a:blip r:embed="rId1"/>
            <a:stretch/>
          </p:blipFill>
          <p:spPr>
            <a:xfrm>
              <a:off x="2349720" y="2438280"/>
              <a:ext cx="2782800" cy="256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1905120" y="2590920"/>
              <a:ext cx="1752840" cy="259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268360" y="907920"/>
            <a:ext cx="4824720" cy="29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Clinical Proble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Characteristic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Changes in C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epriv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Contro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26920" y="3716280"/>
            <a:ext cx="64008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Good textbook: Kandel &amp; Schwartz – Principles of Neural Science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10000"/>
                </a:solidFill>
                <a:latin typeface="Arial"/>
              </a:rPr>
              <a:t>[  But they nearly all are adequate ]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1280" y="33336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Times New Roman"/>
              </a:rPr>
              <a:t>SUMMAR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76000" y="189000"/>
            <a:ext cx="745164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Sleep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948360" y="4005360"/>
          <a:ext cx="1768680" cy="232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48360" y="4005360"/>
                    <a:ext cx="1768680" cy="23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324000" y="3933720"/>
            <a:ext cx="56894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66"/>
                </a:solidFill>
                <a:uFillTx/>
                <a:latin typeface="Arial"/>
                <a:hlinkClick r:id="rId3"/>
              </a:rPr>
              <a:t>www.ucl.ac.uk/lapt/med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Please use the </a:t>
            </a:r>
            <a:r>
              <a:rPr b="0" lang="en-GB" sz="2400" spc="-1" strike="noStrike" u="sng">
                <a:solidFill>
                  <a:srgbClr val="010000"/>
                </a:solidFill>
                <a:uFillTx/>
                <a:latin typeface="Arial"/>
              </a:rPr>
              <a:t>Web Discussion Forum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for problems/querie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0" y="184464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ony Gardner-Medwin,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Physiology room 33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ucgbarg@ucl.ac.uk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733320" y="876240"/>
            <a:ext cx="76773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692360" y="2421000"/>
            <a:ext cx="5832360" cy="37926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24000" y="836640"/>
            <a:ext cx="85690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10000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Sleep is not 1 state, but 2 radically different state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10000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The brain is not resting, but is active (in altered ways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10000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The brain is (arguably) conscious, but very poor at remembering what it was experiencing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0000" y="214200"/>
            <a:ext cx="27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Times New Roman"/>
              </a:rPr>
              <a:t>Three conclusions :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492720" y="1359000"/>
            <a:ext cx="172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INSOMNI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&amp; poor slee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19280" y="3249720"/>
            <a:ext cx="191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Problems with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waking tasks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10720" y="3807000"/>
            <a:ext cx="1960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Psychological/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Psychiatric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problems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91280" y="3733920"/>
            <a:ext cx="720720" cy="288720"/>
          </a:xfrm>
          <a:prstGeom prst="line">
            <a:avLst/>
          </a:prstGeom>
          <a:ln w="44280">
            <a:solidFill>
              <a:srgbClr val="0099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84720" y="2151000"/>
            <a:ext cx="0" cy="1008000"/>
          </a:xfrm>
          <a:prstGeom prst="line">
            <a:avLst/>
          </a:prstGeom>
          <a:ln w="44280">
            <a:solidFill>
              <a:srgbClr val="0099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03640" y="2151000"/>
            <a:ext cx="1297080" cy="1584360"/>
          </a:xfrm>
          <a:prstGeom prst="line">
            <a:avLst/>
          </a:prstGeom>
          <a:ln w="44280">
            <a:solidFill>
              <a:srgbClr val="009999"/>
            </a:solidFill>
            <a:prstDash val="sysDot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5292360" y="1143000"/>
            <a:ext cx="3151800" cy="1513440"/>
            <a:chOff x="5292360" y="1143000"/>
            <a:chExt cx="3151800" cy="1513440"/>
          </a:xfrm>
        </p:grpSpPr>
        <p:sp>
          <p:nvSpPr>
            <p:cNvPr id="103" name=""/>
            <p:cNvSpPr/>
            <p:nvPr/>
          </p:nvSpPr>
          <p:spPr>
            <a:xfrm>
              <a:off x="6301800" y="2257560"/>
              <a:ext cx="182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9999"/>
                  </a:solidFill>
                  <a:latin typeface="Arial"/>
                </a:rPr>
                <a:t>Sleep apnoea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flipV="1">
              <a:off x="5292360" y="2006280"/>
              <a:ext cx="934920" cy="360360"/>
            </a:xfrm>
            <a:prstGeom prst="line">
              <a:avLst/>
            </a:prstGeom>
            <a:ln w="44280">
              <a:solidFill>
                <a:srgbClr val="009999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5363640" y="1430280"/>
              <a:ext cx="863640" cy="360360"/>
            </a:xfrm>
            <a:prstGeom prst="line">
              <a:avLst/>
            </a:prstGeom>
            <a:ln w="44280">
              <a:solidFill>
                <a:srgbClr val="009999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98920" y="1143000"/>
              <a:ext cx="214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9999"/>
                  </a:solidFill>
                  <a:latin typeface="Arial"/>
                </a:rPr>
                <a:t>Shiftwork, jetlag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 flipH="1" flipV="1">
            <a:off x="4716360" y="2151000"/>
            <a:ext cx="1441440" cy="1728720"/>
          </a:xfrm>
          <a:prstGeom prst="line">
            <a:avLst/>
          </a:prstGeom>
          <a:ln w="44280">
            <a:solidFill>
              <a:srgbClr val="0099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682920" y="1935000"/>
            <a:ext cx="2736720" cy="3277440"/>
            <a:chOff x="682920" y="1935000"/>
            <a:chExt cx="2736720" cy="3277440"/>
          </a:xfrm>
        </p:grpSpPr>
        <p:sp>
          <p:nvSpPr>
            <p:cNvPr id="109" name=""/>
            <p:cNvSpPr/>
            <p:nvPr/>
          </p:nvSpPr>
          <p:spPr>
            <a:xfrm>
              <a:off x="682920" y="2151000"/>
              <a:ext cx="243000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9999"/>
                  </a:solidFill>
                  <a:latin typeface="Arial"/>
                </a:rPr>
                <a:t>NARCOLEPSY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9999"/>
                  </a:solidFill>
                  <a:latin typeface="Arial"/>
                </a:rPr>
                <a:t>(sudden daytime 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9999"/>
                  </a:solidFill>
                  <a:latin typeface="Arial"/>
                </a:rPr>
                <a:t>sleepiness) &amp;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9999"/>
                  </a:solidFill>
                  <a:latin typeface="Arial"/>
                </a:rPr>
                <a:t>CATAPLEXY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9999"/>
                  </a:solidFill>
                  <a:latin typeface="Arial"/>
                </a:rPr>
                <a:t>(sudden paralysis)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042920" y="4508640"/>
              <a:ext cx="2089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9999"/>
                  </a:solidFill>
                  <a:latin typeface="Arial"/>
                </a:rPr>
                <a:t>HYPERSOMNIA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9999"/>
                  </a:solidFill>
                  <a:latin typeface="Arial"/>
                </a:rPr>
                <a:t>(night &amp; day)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556000" y="2943360"/>
              <a:ext cx="720720" cy="358560"/>
            </a:xfrm>
            <a:prstGeom prst="line">
              <a:avLst/>
            </a:prstGeom>
            <a:ln w="44280">
              <a:solidFill>
                <a:srgbClr val="009999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2771640" y="3951360"/>
              <a:ext cx="648000" cy="503280"/>
            </a:xfrm>
            <a:prstGeom prst="line">
              <a:avLst/>
            </a:prstGeom>
            <a:ln w="44280">
              <a:solidFill>
                <a:srgbClr val="009999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42920" y="1935000"/>
              <a:ext cx="576360" cy="358920"/>
            </a:xfrm>
            <a:prstGeom prst="line">
              <a:avLst/>
            </a:prstGeom>
            <a:ln w="44280">
              <a:solidFill>
                <a:srgbClr val="009999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534960" y="214200"/>
            <a:ext cx="656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Times New Roman"/>
              </a:rPr>
              <a:t>Principal Clinical Problems associated with sleep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484360" y="2708280"/>
            <a:ext cx="6624720" cy="3280320"/>
            <a:chOff x="2484360" y="2708280"/>
            <a:chExt cx="6624720" cy="3280320"/>
          </a:xfrm>
        </p:grpSpPr>
        <p:sp>
          <p:nvSpPr>
            <p:cNvPr id="116" name=""/>
            <p:cNvSpPr/>
            <p:nvPr/>
          </p:nvSpPr>
          <p:spPr>
            <a:xfrm>
              <a:off x="5291280" y="5300640"/>
              <a:ext cx="20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9999"/>
                  </a:solidFill>
                  <a:latin typeface="Arial"/>
                </a:rPr>
                <a:t>Risk of Death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484360" y="5589720"/>
              <a:ext cx="20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9999"/>
                  </a:solidFill>
                  <a:latin typeface="Arial"/>
                </a:rPr>
                <a:t>Sleep asthma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4427640" y="5589360"/>
              <a:ext cx="720720" cy="142920"/>
            </a:xfrm>
            <a:prstGeom prst="line">
              <a:avLst/>
            </a:prstGeom>
            <a:ln w="44280">
              <a:solidFill>
                <a:srgbClr val="009999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236000" y="2708280"/>
              <a:ext cx="1715760" cy="2665440"/>
            </a:xfrm>
            <a:custGeom>
              <a:avLst/>
              <a:gdLst/>
              <a:ahLst/>
              <a:rect l="l" t="t" r="r" b="b"/>
              <a:pathLst>
                <a:path w="1081" h="1679">
                  <a:moveTo>
                    <a:pt x="499" y="0"/>
                  </a:moveTo>
                  <a:cubicBezTo>
                    <a:pt x="790" y="336"/>
                    <a:pt x="1081" y="673"/>
                    <a:pt x="998" y="953"/>
                  </a:cubicBezTo>
                  <a:cubicBezTo>
                    <a:pt x="915" y="1233"/>
                    <a:pt x="457" y="1456"/>
                    <a:pt x="0" y="1679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596360" y="5157720"/>
              <a:ext cx="151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10000"/>
                  </a:solidFill>
                  <a:latin typeface="Times New Roman"/>
                </a:rPr>
                <a:t>?? Some cot deaths?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5940360" y="292428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10000"/>
                </a:solidFill>
                <a:latin typeface="Times New Roman"/>
              </a:rPr>
              <a:t>??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08000" y="836640"/>
            <a:ext cx="496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Electroencephalogram (EEG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Invasive recording of ‘field 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potentials’ summed from 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many cell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Single cell recording i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unanaesthetised animals 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(extracellular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Lesion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Stimula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Pharmacological interven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Psychophysics (sensory 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performance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PET, MRI yet to have much 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impac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859280" y="765000"/>
            <a:ext cx="4033800" cy="3361680"/>
            <a:chOff x="4859280" y="765000"/>
            <a:chExt cx="4033800" cy="3361680"/>
          </a:xfrm>
        </p:grpSpPr>
        <p:grpSp>
          <p:nvGrpSpPr>
            <p:cNvPr id="124" name=""/>
            <p:cNvGrpSpPr/>
            <p:nvPr/>
          </p:nvGrpSpPr>
          <p:grpSpPr>
            <a:xfrm>
              <a:off x="4859280" y="765000"/>
              <a:ext cx="2665440" cy="3168360"/>
              <a:chOff x="4859280" y="765000"/>
              <a:chExt cx="2665440" cy="3168360"/>
            </a:xfrm>
          </p:grpSpPr>
          <p:sp>
            <p:nvSpPr>
              <p:cNvPr id="125" name=""/>
              <p:cNvSpPr/>
              <p:nvPr/>
            </p:nvSpPr>
            <p:spPr>
              <a:xfrm>
                <a:off x="6373800" y="1125360"/>
                <a:ext cx="503280" cy="504720"/>
              </a:xfrm>
              <a:prstGeom prst="ellipse">
                <a:avLst/>
              </a:prstGeom>
              <a:solidFill>
                <a:srgbClr val="ccecff"/>
              </a:solidFill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9999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435640" y="1196640"/>
                <a:ext cx="503280" cy="504720"/>
              </a:xfrm>
              <a:prstGeom prst="ellipse">
                <a:avLst/>
              </a:prstGeom>
              <a:solidFill>
                <a:srgbClr val="ccecff"/>
              </a:solidFill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9999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938920" y="765000"/>
                <a:ext cx="433440" cy="792000"/>
              </a:xfrm>
              <a:prstGeom prst="ellipse">
                <a:avLst/>
              </a:prstGeom>
              <a:solidFill>
                <a:srgbClr val="ccecff"/>
              </a:solidFill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076720" y="1125360"/>
                <a:ext cx="2232000" cy="2808000"/>
              </a:xfrm>
              <a:prstGeom prst="ellipse">
                <a:avLst/>
              </a:prstGeom>
              <a:solidFill>
                <a:srgbClr val="ccecff"/>
              </a:solidFill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308720" y="2133360"/>
                <a:ext cx="216000" cy="792000"/>
              </a:xfrm>
              <a:prstGeom prst="ellipse">
                <a:avLst/>
              </a:prstGeom>
              <a:solidFill>
                <a:srgbClr val="ccecff"/>
              </a:solidFill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859280" y="2204640"/>
                <a:ext cx="216000" cy="792360"/>
              </a:xfrm>
              <a:prstGeom prst="ellipse">
                <a:avLst/>
              </a:prstGeom>
              <a:solidFill>
                <a:srgbClr val="ccecff"/>
              </a:solidFill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6300720" y="3069720"/>
              <a:ext cx="1440000" cy="360360"/>
            </a:xfrm>
            <a:custGeom>
              <a:avLst/>
              <a:gdLst/>
              <a:ahLst/>
              <a:rect l="l" t="t" r="r" b="b"/>
              <a:pathLst>
                <a:path w="907" h="227">
                  <a:moveTo>
                    <a:pt x="0" y="227"/>
                  </a:moveTo>
                  <a:cubicBezTo>
                    <a:pt x="151" y="155"/>
                    <a:pt x="302" y="83"/>
                    <a:pt x="453" y="45"/>
                  </a:cubicBezTo>
                  <a:cubicBezTo>
                    <a:pt x="604" y="7"/>
                    <a:pt x="824" y="7"/>
                    <a:pt x="907" y="0"/>
                  </a:cubicBezTo>
                </a:path>
              </a:pathLst>
            </a:custGeom>
            <a:noFill/>
            <a:ln w="12600">
              <a:solidFill>
                <a:srgbClr val="009999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72360" y="2277720"/>
              <a:ext cx="1439640" cy="360360"/>
            </a:xfrm>
            <a:custGeom>
              <a:avLst/>
              <a:gdLst/>
              <a:ahLst/>
              <a:rect l="l" t="t" r="r" b="b"/>
              <a:pathLst>
                <a:path w="907" h="227">
                  <a:moveTo>
                    <a:pt x="0" y="227"/>
                  </a:moveTo>
                  <a:cubicBezTo>
                    <a:pt x="151" y="155"/>
                    <a:pt x="302" y="83"/>
                    <a:pt x="453" y="45"/>
                  </a:cubicBezTo>
                  <a:cubicBezTo>
                    <a:pt x="604" y="7"/>
                    <a:pt x="824" y="7"/>
                    <a:pt x="907" y="0"/>
                  </a:cubicBezTo>
                </a:path>
              </a:pathLst>
            </a:custGeom>
            <a:noFill/>
            <a:ln w="12600">
              <a:solidFill>
                <a:srgbClr val="009999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00720" y="837720"/>
              <a:ext cx="1440000" cy="360360"/>
            </a:xfrm>
            <a:custGeom>
              <a:avLst/>
              <a:gdLst/>
              <a:ahLst/>
              <a:rect l="l" t="t" r="r" b="b"/>
              <a:pathLst>
                <a:path w="907" h="227">
                  <a:moveTo>
                    <a:pt x="0" y="227"/>
                  </a:moveTo>
                  <a:cubicBezTo>
                    <a:pt x="151" y="155"/>
                    <a:pt x="302" y="83"/>
                    <a:pt x="453" y="45"/>
                  </a:cubicBezTo>
                  <a:cubicBezTo>
                    <a:pt x="604" y="7"/>
                    <a:pt x="824" y="7"/>
                    <a:pt x="907" y="0"/>
                  </a:cubicBezTo>
                </a:path>
              </a:pathLst>
            </a:custGeom>
            <a:noFill/>
            <a:ln w="12600">
              <a:solidFill>
                <a:srgbClr val="009999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300720" y="1485720"/>
              <a:ext cx="1440000" cy="360360"/>
            </a:xfrm>
            <a:custGeom>
              <a:avLst/>
              <a:gdLst/>
              <a:ahLst/>
              <a:rect l="l" t="t" r="r" b="b"/>
              <a:pathLst>
                <a:path w="907" h="227">
                  <a:moveTo>
                    <a:pt x="0" y="227"/>
                  </a:moveTo>
                  <a:cubicBezTo>
                    <a:pt x="151" y="155"/>
                    <a:pt x="302" y="83"/>
                    <a:pt x="453" y="45"/>
                  </a:cubicBezTo>
                  <a:cubicBezTo>
                    <a:pt x="604" y="7"/>
                    <a:pt x="824" y="7"/>
                    <a:pt x="907" y="0"/>
                  </a:cubicBezTo>
                </a:path>
              </a:pathLst>
            </a:custGeom>
            <a:noFill/>
            <a:ln w="12600">
              <a:solidFill>
                <a:srgbClr val="009999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804000" y="3212640"/>
              <a:ext cx="936720" cy="217440"/>
            </a:xfrm>
            <a:custGeom>
              <a:avLst/>
              <a:gdLst/>
              <a:ahLst/>
              <a:rect l="l" t="t" r="r" b="b"/>
              <a:pathLst>
                <a:path w="907" h="227">
                  <a:moveTo>
                    <a:pt x="0" y="227"/>
                  </a:moveTo>
                  <a:cubicBezTo>
                    <a:pt x="151" y="155"/>
                    <a:pt x="302" y="83"/>
                    <a:pt x="453" y="45"/>
                  </a:cubicBezTo>
                  <a:cubicBezTo>
                    <a:pt x="604" y="7"/>
                    <a:pt x="824" y="7"/>
                    <a:pt x="907" y="0"/>
                  </a:cubicBezTo>
                </a:path>
              </a:pathLst>
            </a:custGeom>
            <a:noFill/>
            <a:ln w="12600">
              <a:solidFill>
                <a:srgbClr val="009999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04000" y="2422080"/>
              <a:ext cx="936720" cy="217440"/>
            </a:xfrm>
            <a:custGeom>
              <a:avLst/>
              <a:gdLst/>
              <a:ahLst/>
              <a:rect l="l" t="t" r="r" b="b"/>
              <a:pathLst>
                <a:path w="907" h="227">
                  <a:moveTo>
                    <a:pt x="0" y="227"/>
                  </a:moveTo>
                  <a:cubicBezTo>
                    <a:pt x="151" y="155"/>
                    <a:pt x="302" y="83"/>
                    <a:pt x="453" y="45"/>
                  </a:cubicBezTo>
                  <a:cubicBezTo>
                    <a:pt x="604" y="7"/>
                    <a:pt x="824" y="7"/>
                    <a:pt x="907" y="0"/>
                  </a:cubicBezTo>
                </a:path>
              </a:pathLst>
            </a:custGeom>
            <a:noFill/>
            <a:ln w="12600">
              <a:solidFill>
                <a:srgbClr val="009999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804000" y="1630080"/>
              <a:ext cx="936720" cy="217440"/>
            </a:xfrm>
            <a:custGeom>
              <a:avLst/>
              <a:gdLst/>
              <a:ahLst/>
              <a:rect l="l" t="t" r="r" b="b"/>
              <a:pathLst>
                <a:path w="907" h="227">
                  <a:moveTo>
                    <a:pt x="0" y="227"/>
                  </a:moveTo>
                  <a:cubicBezTo>
                    <a:pt x="151" y="155"/>
                    <a:pt x="302" y="83"/>
                    <a:pt x="453" y="45"/>
                  </a:cubicBezTo>
                  <a:cubicBezTo>
                    <a:pt x="604" y="7"/>
                    <a:pt x="824" y="7"/>
                    <a:pt x="907" y="0"/>
                  </a:cubicBezTo>
                </a:path>
              </a:pathLst>
            </a:custGeom>
            <a:noFill/>
            <a:ln w="12600">
              <a:solidFill>
                <a:srgbClr val="009999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04000" y="1196640"/>
              <a:ext cx="936720" cy="217440"/>
            </a:xfrm>
            <a:custGeom>
              <a:avLst/>
              <a:gdLst/>
              <a:ahLst/>
              <a:rect l="l" t="t" r="r" b="b"/>
              <a:pathLst>
                <a:path w="907" h="227">
                  <a:moveTo>
                    <a:pt x="0" y="227"/>
                  </a:moveTo>
                  <a:cubicBezTo>
                    <a:pt x="151" y="155"/>
                    <a:pt x="302" y="83"/>
                    <a:pt x="453" y="45"/>
                  </a:cubicBezTo>
                  <a:cubicBezTo>
                    <a:pt x="604" y="7"/>
                    <a:pt x="824" y="7"/>
                    <a:pt x="907" y="0"/>
                  </a:cubicBezTo>
                </a:path>
              </a:pathLst>
            </a:custGeom>
            <a:noFill/>
            <a:ln w="12600">
              <a:solidFill>
                <a:srgbClr val="009999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740720" y="837720"/>
              <a:ext cx="1152360" cy="32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9999"/>
                  </a:solidFill>
                  <a:latin typeface="Arial"/>
                </a:rPr>
                <a:t>EOG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9999"/>
                  </a:solidFill>
                  <a:latin typeface="Arial"/>
                </a:rPr>
                <a:t>Frontal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9999"/>
                  </a:solidFill>
                  <a:latin typeface="Arial"/>
                </a:rPr>
                <a:t>Parietal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9999"/>
                  </a:solidFill>
                  <a:latin typeface="Arial"/>
                </a:rPr>
                <a:t>Occipital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9999"/>
                  </a:solidFill>
                  <a:latin typeface="Arial"/>
                </a:rPr>
                <a:t>EEG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684360" y="115920"/>
            <a:ext cx="573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10000"/>
                </a:solidFill>
                <a:latin typeface="Times New Roman"/>
              </a:rPr>
              <a:t>Techniques for studying the sleeping brai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108000" y="620640"/>
          <a:ext cx="428940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620640"/>
                    <a:ext cx="428940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4427640" y="1484280"/>
          <a:ext cx="4581360" cy="329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7640" y="1484280"/>
                    <a:ext cx="4581360" cy="329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179280" y="1700280"/>
            <a:ext cx="4176720" cy="245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SWS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08000" y="620640"/>
          <a:ext cx="4289400" cy="504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000" y="620640"/>
                    <a:ext cx="428940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4920" y="115920"/>
            <a:ext cx="914544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Slow Wave Sleep 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REM/Paradoxical Sleep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EEG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Large Amplitude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Low Amplitude (cf waking)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Slow Waves ~ 1 Hz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i="1" lang="en-GB" sz="2000" spc="-1" strike="noStrike">
                <a:solidFill>
                  <a:srgbClr val="003399"/>
                </a:solidFill>
                <a:latin typeface="Arial"/>
              </a:rPr>
              <a:t>(but theta rhythm in hippocampus)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MUSCLES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Reduced tone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Total relaxation (e.g. in 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postural &amp; neck muscles)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SPINAL 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Some reduction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Strong descending inhibition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REFLEXES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of motoneurons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AROUSAL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to ‘significant’ stimuli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Raised threshold (deep sleep)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but often waking from REM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PHASIC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Muscle twitches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Sudden eye movements (REM)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EVENTS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Sudden CNS discharges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REPORTS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‘dreams’ 0-50%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‘dreams’ 80%-90%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ON WAKING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&amp; ‘thinking’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4920" y="115920"/>
            <a:ext cx="914544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Slow Wave Sleep 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REM/Paradoxical Sleep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……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ctd…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REPORTS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‘dreams’ 0-50%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‘dreams’ 80%-90%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ON WAKING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&amp; ‘thinking’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i="1" lang="en-GB" sz="2000" spc="-1" strike="noStrike">
                <a:solidFill>
                  <a:srgbClr val="003399"/>
                </a:solidFill>
                <a:latin typeface="Arial"/>
              </a:rPr>
              <a:t>- but NB poor recall unless immediately after rapid arousal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% of  SLEEP</a:t>
            </a: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60% - 85%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~40%  infants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~20% most of life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~15%  old age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WHEN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Initially and in cycles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Not initially (except narcoleptics)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~ 90 min cycle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24000" y="836640"/>
            <a:ext cx="835164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10000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Altered neuronal firing patterns &amp; increased synchron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3240" y="163440"/>
            <a:ext cx="396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Times New Roman"/>
              </a:rPr>
              <a:t>Changes in CNS Activity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1T12:00:17Z</dcterms:created>
  <dc:creator>tony</dc:creator>
  <dc:description/>
  <dc:language>en-US</dc:language>
  <cp:lastModifiedBy>argm</cp:lastModifiedBy>
  <cp:lastPrinted>2000-10-02T21:02:40Z</cp:lastPrinted>
  <dcterms:modified xsi:type="dcterms:W3CDTF">2004-12-02T09:56:20Z</dcterms:modified>
  <cp:revision>30</cp:revision>
  <dc:subject/>
  <dc:title>Maths in Medical Science</dc:title>
</cp:coreProperties>
</file>