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6C9-25BA-48F5-9128-6A0C9F79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CCB-C999-4F5A-802A-18CE9AFC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B39C-1D41-4132-A3B3-B5E0A1AA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A8E-20E4-40B8-91A0-84CEE593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D73B-F768-415F-8FA0-AAD37C55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1508-7DD4-4E7C-861B-6DDCD317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2909-F191-4D92-9656-F31BF1B7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CEB5-D6F8-4047-9845-42831176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17B2-B85C-4DED-9198-5A107CA3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D1A5-9E6B-4679-965F-1D564298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38B5-4D4E-483E-9004-40DED2EF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799-75F1-4FBD-9AAD-4E84DEDF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04B4-9114-4D37-8BD0-7A6F4093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78E5-268F-4976-99AC-0121C96F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AE51-8D38-43C3-8A16-40047594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9015-2EE1-4904-BB9A-9392789D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03FC-7DBC-4E2C-91AC-D0019CD7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F97-6C53-41E5-A471-B8E2E7AF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7EE1-A73D-461A-AA29-E1042F66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82F-F70D-4427-8381-C40495C5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DB9-7B9B-47A5-972A-EDA01BAF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46C-BB70-480C-979E-BA0BD3E2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E61-F789-4DF5-BB8B-F07DF13A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92D-7DEE-4FE7-B62C-B3107E14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94D3-8C1B-4799-8B7C-8ADFB5C53D7F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A91E-A1AE-4185-9C85-14CCDC27E395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leep and sleep disorder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Features of REM sleep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increased recall of dreams if wo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increased complexity of dre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increased sympathetic activ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transient runs of conjugate eye mov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maximal loss of muscle t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increased heart 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increased systolic blood pres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increased respiratory 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increased cerebral blood f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occasional myoclonic jer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penile erection or increased vaginal blood f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increased protein synthesis (in rat brain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uroanatomy of slee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kefuln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icular 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lamic Nuclei (intra laminar &amp; midl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thala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pothala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W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phe Nuclei of Brain stem (sleep promo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lamic Nuclei (non specif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pothala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urophysiology of slee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eurotransmitters of wakefulness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etylCholine (cortex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adrenaline (cortex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pt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tam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ticotrophin releasing horm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yrotrophin releasing horm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soactive intestinal polypept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H &amp; TR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eurotransmitters of SW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HT ( acting to reduce sensory output to               inhibit motor activity 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pha-melanocyte secreting horm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atostat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he monoaminergic model of the sleep-wake cyc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·  nREM sleep is associated with serotonergic neuronal activity, originating in the raphe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·  REM sleep is associated with noradrenergic neuronal activity, originating in the locus coerul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he cellular model of the sleep-wake cyc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ontine gigantocellular tegmental field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nucleus reticularis pontis caudalis)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etylcholine – is responsible for causing the onset of REM sleep; these are known as the ‘on cells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se cells are inhibited by the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orsal raphe nuclei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5-HT) and the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c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eruleu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NA); known as the ‘off cells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LEEP – WAKE CYC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ing sleep : All decr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ticosteroids-catecholamine- reflexes- cardiac output peripheral BP gastric acid ,metabolic ,heart, respiratory rates ,cerebral blood flow  &amp; brain temprature 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H &amp; Prolact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secre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ing REM : Thermoregulation stops (No shivering or sweating)=POIKILOTHERMIC COND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ar paralysis of all mus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Classification of sleep disorders</a:t>
            </a:r>
            <a:br>
              <a:rPr sz="40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Dysomnias</a:t>
            </a: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MS - disorders of initiating and maintaining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Psychophysiological insomnia - transient and per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DIMS associated with psychiatric dis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DIMS associated with drug and alcohol ab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Other condi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) restless leg syndr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-  </a:t>
            </a: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DOES - disorders of excessive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somnolence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Psychophysiological DOES - transient and persis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DOES associated with psychiatric disor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DOES associated with drug and alcohol ab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) Sleep apn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)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rcolep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) Idiopathic CNS Hypersom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) Other medical condi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ysfunction associated with sleep, the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leep stages, and partial arousals</a:t>
            </a:r>
            <a:br>
              <a:rPr sz="32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(the Parasomnias)</a:t>
            </a:r>
            <a:br>
              <a:rPr sz="32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) Sleep wal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) Night terr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Sleep related enure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) Dream anxiety attacks (nightmar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) Sleep-related epilep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) Brux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) Head banging (a.k.a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jacatio capitis nocturn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) Body roc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) Sleep par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) Painful nocturnal penile er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39640" y="0"/>
            <a:ext cx="8604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orders of the sleep-wake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transient - jet lag or shift wor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persistent - people who frequently change their cycle e.g. business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eep is an   ACTIVE process. It is a reversible state of unresponsiveness to stimuli of the outside world and to responses within the brain which underlie percep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431640"/>
            <a:ext cx="8540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Insomnia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 % lifetime preval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common i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·  fem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·  the elder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·  unemploy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·  separ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·  lower socioeconomic cl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Neurological ca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sychiatric Ill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40 % have a concurrent psychiatric disor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tless Leg Syndrom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ep sensation of creeping inside the calves sitting or lying down ,not pain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feres with sleep and falling a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ak middle 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%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pop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cessive daytime sleepin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tiolog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ufficient night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hological cau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tructive sleep apn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colep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ug eff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eine – Levin synd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bstructive sleep apne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%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population – males –third are obese- late middle 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tiology: Airways obstructed by fatty tissues leading to cessation of respiration many times per n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P : LOUD SNORING (95%) DAYTIME SLEEPINESS(90%) unrefreshed sleep morning headache&amp; confusion, enur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Narcoleps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·  characterized by excessive sleepiness associated with REM sleep phenomena su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aplex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) sudden temporary episodes of paralysis with muscle tone, precipit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y strong emo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) occurs in most ca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Sleep par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) a transient and generalized inability to move or speak during th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ition between sleep and wakefulne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) typically occur while falling aslee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) the paralysis is flaccid, and usually comple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) episodes usually last only a few seconds, and less than one min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Hypnagogic hallucin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) occur while falling aslee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Kleine – Levin syndrom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common (100 cases) affect young men              ( onset in early adolescence ), self limiting , remission occurs spontaneously before 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od of hypersomnia ( one or several weeks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ternating with periods of normal sleep         -Marked by withdrawal from social activit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o bed at first opportunity , apathy ,confusion irritability, loss of sex inhibition, delusions , or hallucina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arasomnias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1- Abnormality of REM sleep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Nightma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·  an awakening from REM sleep to full            consciousness with detailed dream reca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·  usually occur in the 1st third of nocturnal sl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·  caus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·  frightening experiences during the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·  PTS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·  fe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·  psychotropic dru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·  alcohol detox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9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Abnormality of nREM sleep</a:t>
            </a:r>
            <a:br>
              <a:rPr sz="4000"/>
            </a:b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1- Night terror disorde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773360"/>
            <a:ext cx="854064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 sometimes famil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 begins and ends in childh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 child awakes terrified and may scream, and usually appears confu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 occurs in stage 3-4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 usually occur in the 1st third of nocturnal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 there is little or no dream rec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leep walking (somnambulism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an automatism occurring during deep non-REM sleep (stages 3 and 4), usually 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early part of the n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affects 1 % of the pop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M&gt;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associated with enure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most common between the ages of 5 and 12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15 % of this age group sleepwalk at least o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may be famil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possibly due to an abnormality of deep sleep – subject goes from deep sleep 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keful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rcadian Rhythm sleep disord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cadian means following 24 Hours rhyth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cemaker of this rhythm is the Suprachiasmatic Nucleus ( SC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S OF DISORD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ient : jet lag or shift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istent : in some jo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leep Architect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rmal sleep has 2 essential phase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-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n rapid eye movement sleep (NRE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ges – strong reduction of                       physiological function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api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y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ve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lee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.                    highly active brain with physiological          levels similar to awake st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effects of drugs on slee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0" y="2517840"/>
            <a:ext cx="914400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coh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phasic effec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first half of night : decrease sleep onset latency ( promotes sleep initiation ) ,   increase deep sleep , decrease REM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second half : rebound increase in REM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nic use : disruption of all stages of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drawal : decrease total sleep time &amp; nREM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Sleep and psychiatric illn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196640"/>
            <a:ext cx="85406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pr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reduced stage 3 and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reduced REM late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REM occurs earlier in n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2.schizophre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reduced slow wave sl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reduced R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nxi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increased stage 1 and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reduced effecieny of sl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anic dis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increased sleep late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lcoho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increased del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increased REM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increased alpha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lzheimer’s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increased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frag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reduced sleep effici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leep and Ag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we get old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more difficulty in initiating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waken more of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take more  time to fall back to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fall asleep frequently during the 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ying sleep is by using polysomnography in Sleep La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Tahoma"/>
              </a:rPr>
              <a:t>THANK  Y0U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620640"/>
            <a:ext cx="854064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disturbance of sleep continu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more time awa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increased sleep fragm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early morning wake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disturbance in the sleep architec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decreased slow wave slee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disturbance in REM slee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shortened REM lat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more REM activity (higher % in first ½ of the nigh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higher REM den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sleep depriv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esp. deprivation of REM sleep) has a beneficial effect on mood in depressed pati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antidepressan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estroy REM sleep - there is a rebound of REM sleep on  discontin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EG shows the following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rtl="1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waken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 Alpha waves (9 to 10 Hz ) = Alpha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rtl="1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RE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lee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S  (Synchronized) sleep       (75 - 80%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rtl="1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 Law amplitude Theta waves (3 to 7Hz ) with vertex sharp waves = initiation to   sleep(5%)                 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:Sleep spindles + triphasic k complex    = Light sleep (50%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ow Wave Sleep (SWS) = Deep sleep                              ( stages 3 &amp; 4 )  (15-2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tag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:  Delta waves  represent 20%- 50%   -(½- 1 Hz  with amplitude greater than 75 mV )   = High voltage activity.                           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tag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4 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Delta waves more than 50%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stages 3 &amp;4(deep sleep) nocturnal enuresis sleep walking &amp; night terrors may occ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f stage 4 occurs in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ird of the nigh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M sleep D (Desynchronized ) sl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 amplitude mixed frequencies (Theta &amp;Beta waves) Sawtooth waves – rolling of eyes – Law amplitu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f REM sleep occurs in the last third of night.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pisode occurs after a latency of 90 minutes and is the shortest (less than 10 minutes) later REM lasts from 15 to 40 minutes (4 to 5 episod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330200" y="228600"/>
            <a:ext cx="680112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86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reduced recall of dreaming if wo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reduced complexity of dre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increased parasympathetic activ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upward ocular deviation with few or no eye mov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abolition of tendon reflex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decreased heart 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decreased systolic blood pres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decreased respiratory 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decreased cerebral blood f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penis not usually er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Features of non-REM slee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8:06:54Z</dcterms:created>
  <dc:creator>Dr. A. Latif</dc:creator>
  <dc:description/>
  <dc:language>en-US</dc:language>
  <cp:lastModifiedBy>DR Ashrafabdou</cp:lastModifiedBy>
  <dcterms:modified xsi:type="dcterms:W3CDTF">2012-02-22T17:57:16Z</dcterms:modified>
  <cp:revision>114</cp:revision>
  <dc:subject/>
  <dc:title>Sleep and sleep disorders</dc:title>
</cp:coreProperties>
</file>