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A51D-6543-4F17-B0EF-F14C23CBE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E2A7-03FE-46FC-B91C-E9BCF208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DE24-7434-4E74-9D6E-321B6D86D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E5A4-5C00-4BB4-A562-021CCF093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1A1D-F69D-4F9E-B30E-B5884B0FC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6845-2655-4565-B88D-94198D31F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8F4B-9D09-41B6-A478-D011A552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C2AB-96DD-42DB-9A8F-D088CF91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3390-B7BA-4AFE-BDD2-0F2844361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DB9A-D86B-4E8E-B721-C00A0E79E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F888-EC42-4FD8-9244-950258870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A521-760C-42F7-8F1B-27CE8E3AC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015B-BA7A-4436-836A-4F9F2BA3E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0B42-4C84-4224-80CE-A10AD4E3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42A9-6493-46C2-87CD-AD7D96A9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B181-8FEB-42BB-9175-6F354FA4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A595-3B88-4D6C-85B3-545DDB33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B0F4-B4D8-4BFF-9265-073EA4FD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A024876D-00F4-47D2-9C17-9EECF21DACE4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31FEC239-6123-4E6C-99D9-1A540D65D476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A8C66D26-65EF-4FE9-A172-506BD87E35C9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4"/>
          <p:cNvGrpSpPr/>
          <p:nvPr/>
        </p:nvGrpSpPr>
        <p:grpSpPr>
          <a:xfrm>
            <a:off x="3071880" y="1676520"/>
            <a:ext cx="6375240" cy="4572000"/>
            <a:chOff x="3071880" y="1676520"/>
            <a:chExt cx="6375240" cy="4572000"/>
          </a:xfrm>
        </p:grpSpPr>
        <p:pic>
          <p:nvPicPr>
            <p:cNvPr id="147" name="Picture 17" descr=""/>
            <p:cNvPicPr/>
            <p:nvPr/>
          </p:nvPicPr>
          <p:blipFill>
            <a:blip r:embed="rId1"/>
            <a:stretch/>
          </p:blipFill>
          <p:spPr>
            <a:xfrm>
              <a:off x="3164400" y="1676520"/>
              <a:ext cx="62827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3"/>
            <p:cNvSpPr/>
            <p:nvPr/>
          </p:nvSpPr>
          <p:spPr>
            <a:xfrm>
              <a:off x="3071880" y="1676520"/>
              <a:ext cx="445608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79440" y="2209680"/>
            <a:ext cx="647712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Chapter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ahoma"/>
              </a:rPr>
              <a:t>New Perspectives(viewpoints)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Marketing in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Tahoma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Tahoma"/>
              </a:rPr>
              <a:t>Service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455760" y="4419720"/>
            <a:ext cx="1904760" cy="1778040"/>
            <a:chOff x="455760" y="4419720"/>
            <a:chExt cx="1904760" cy="1778040"/>
          </a:xfrm>
        </p:grpSpPr>
        <p:pic>
          <p:nvPicPr>
            <p:cNvPr id="151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1972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33412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33412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Marketing 7e, Global Ed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Line 38"/>
          <p:cNvSpPr/>
          <p:nvPr/>
        </p:nvSpPr>
        <p:spPr>
          <a:xfrm flipH="1">
            <a:off x="893520" y="2971800"/>
            <a:ext cx="19080" cy="1663560"/>
          </a:xfrm>
          <a:prstGeom prst="line">
            <a:avLst/>
          </a:prstGeom>
          <a:ln w="158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0" y="1422360"/>
            <a:ext cx="9834480" cy="4064040"/>
            <a:chOff x="0" y="1422360"/>
            <a:chExt cx="9834480" cy="4064040"/>
          </a:xfrm>
        </p:grpSpPr>
        <p:pic>
          <p:nvPicPr>
            <p:cNvPr id="199" name="Group 3" descr=""/>
            <p:cNvPicPr/>
            <p:nvPr/>
          </p:nvPicPr>
          <p:blipFill>
            <a:blip r:embed="rId1"/>
            <a:stretch/>
          </p:blipFill>
          <p:spPr>
            <a:xfrm>
              <a:off x="48600" y="1422360"/>
              <a:ext cx="9785880" cy="15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39"/>
            <p:cNvSpPr/>
            <p:nvPr/>
          </p:nvSpPr>
          <p:spPr>
            <a:xfrm>
              <a:off x="0" y="336960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46"/>
            <p:cNvGrpSpPr/>
            <p:nvPr/>
          </p:nvGrpSpPr>
          <p:grpSpPr>
            <a:xfrm>
              <a:off x="2587680" y="3965400"/>
              <a:ext cx="4722120" cy="1521000"/>
              <a:chOff x="2587680" y="3965400"/>
              <a:chExt cx="4722120" cy="1521000"/>
            </a:xfrm>
          </p:grpSpPr>
          <p:sp>
            <p:nvSpPr>
              <p:cNvPr id="202" name="AutoShape 20"/>
              <p:cNvSpPr/>
              <p:nvPr/>
            </p:nvSpPr>
            <p:spPr>
              <a:xfrm>
                <a:off x="2587680" y="3965400"/>
                <a:ext cx="4722120" cy="152100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 Box 45"/>
              <p:cNvSpPr/>
              <p:nvPr/>
            </p:nvSpPr>
            <p:spPr>
              <a:xfrm>
                <a:off x="2738880" y="4090320"/>
                <a:ext cx="4454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ff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Changes in regul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3f75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f75"/>
                    </a:solidFill>
                    <a:latin typeface="Arial"/>
                    <a:ea typeface="Arial"/>
                  </a:rPr>
                  <a:t>Privatiz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f273a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273af"/>
                    </a:solidFill>
                    <a:latin typeface="Arial"/>
                    <a:ea typeface="Arial"/>
                  </a:rPr>
                  <a:t>New rules to protect customers, employees, and the environment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1ab39f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b39f"/>
                    </a:solidFill>
                    <a:latin typeface="Arial"/>
                    <a:ea typeface="Arial"/>
                  </a:rPr>
                  <a:t>New agreement on trade in 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Line 39"/>
          <p:cNvSpPr/>
          <p:nvPr/>
        </p:nvSpPr>
        <p:spPr>
          <a:xfrm>
            <a:off x="893880" y="4635360"/>
            <a:ext cx="1581120" cy="0"/>
          </a:xfrm>
          <a:prstGeom prst="line">
            <a:avLst/>
          </a:prstGeom>
          <a:ln w="158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34"/>
          <p:cNvSpPr/>
          <p:nvPr/>
        </p:nvSpPr>
        <p:spPr>
          <a:xfrm>
            <a:off x="2970360" y="2133720"/>
            <a:ext cx="0" cy="914400"/>
          </a:xfrm>
          <a:prstGeom prst="line">
            <a:avLst/>
          </a:prstGeom>
          <a:ln w="158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0" y="1422360"/>
            <a:ext cx="9834480" cy="4521240"/>
            <a:chOff x="0" y="1422360"/>
            <a:chExt cx="9834480" cy="4521240"/>
          </a:xfrm>
        </p:grpSpPr>
        <p:pic>
          <p:nvPicPr>
            <p:cNvPr id="208" name="Group 3" descr=""/>
            <p:cNvPicPr/>
            <p:nvPr/>
          </p:nvPicPr>
          <p:blipFill>
            <a:blip r:embed="rId1"/>
            <a:stretch/>
          </p:blipFill>
          <p:spPr>
            <a:xfrm>
              <a:off x="1943640" y="1422360"/>
              <a:ext cx="7890840" cy="158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39"/>
            <p:cNvSpPr/>
            <p:nvPr/>
          </p:nvSpPr>
          <p:spPr>
            <a:xfrm>
              <a:off x="0" y="336996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46"/>
            <p:cNvGrpSpPr/>
            <p:nvPr/>
          </p:nvGrpSpPr>
          <p:grpSpPr>
            <a:xfrm>
              <a:off x="2587680" y="3053160"/>
              <a:ext cx="4797720" cy="2890440"/>
              <a:chOff x="2587680" y="3053160"/>
              <a:chExt cx="4797720" cy="2890440"/>
            </a:xfrm>
          </p:grpSpPr>
          <p:sp>
            <p:nvSpPr>
              <p:cNvPr id="211" name="AutoShape 20"/>
              <p:cNvSpPr/>
              <p:nvPr/>
            </p:nvSpPr>
            <p:spPr>
              <a:xfrm>
                <a:off x="2587680" y="3053160"/>
                <a:ext cx="4797720" cy="289044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45"/>
              <p:cNvSpPr/>
              <p:nvPr/>
            </p:nvSpPr>
            <p:spPr>
              <a:xfrm>
                <a:off x="2738880" y="4090680"/>
                <a:ext cx="44542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Rectangle 26"/>
          <p:cNvSpPr/>
          <p:nvPr/>
        </p:nvSpPr>
        <p:spPr>
          <a:xfrm>
            <a:off x="2741760" y="3200400"/>
            <a:ext cx="457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ea157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157a"/>
                </a:solidFill>
                <a:latin typeface="Arial"/>
                <a:ea typeface="Arial"/>
              </a:rPr>
              <a:t>Rising consumer 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2a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2a5"/>
                </a:solidFill>
                <a:latin typeface="Arial"/>
                <a:ea typeface="Arial"/>
              </a:rPr>
              <a:t>More affluence (weal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13867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8677"/>
                </a:solidFill>
                <a:latin typeface="Arial"/>
                <a:ea typeface="Arial"/>
              </a:rPr>
              <a:t>More people short of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7e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eea"/>
                </a:solidFill>
                <a:latin typeface="Arial"/>
                <a:ea typeface="Arial"/>
              </a:rPr>
              <a:t>Rising consumer ownership of high tech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3f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f75"/>
                </a:solidFill>
                <a:latin typeface="Arial"/>
                <a:ea typeface="Arial"/>
              </a:rPr>
              <a:t>Easier access to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19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2f"/>
                </a:solidFill>
                <a:latin typeface="Arial"/>
                <a:ea typeface="Arial"/>
              </a:rPr>
              <a:t>Immi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55440" y="2286000"/>
            <a:ext cx="1940040" cy="73656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65240" y="2362320"/>
            <a:ext cx="1692000" cy="580680"/>
          </a:xfrm>
          <a:prstGeom prst="rect">
            <a:avLst/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Line 34"/>
          <p:cNvSpPr/>
          <p:nvPr/>
        </p:nvSpPr>
        <p:spPr>
          <a:xfrm>
            <a:off x="4951440" y="2133720"/>
            <a:ext cx="0" cy="914400"/>
          </a:xfrm>
          <a:prstGeom prst="line">
            <a:avLst/>
          </a:prstGeom>
          <a:ln w="158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Group 5"/>
          <p:cNvGrpSpPr/>
          <p:nvPr/>
        </p:nvGrpSpPr>
        <p:grpSpPr>
          <a:xfrm>
            <a:off x="0" y="1422360"/>
            <a:ext cx="9834480" cy="4064040"/>
            <a:chOff x="0" y="1422360"/>
            <a:chExt cx="9834480" cy="4064040"/>
          </a:xfrm>
        </p:grpSpPr>
        <p:pic>
          <p:nvPicPr>
            <p:cNvPr id="219" name="Group 3" descr=""/>
            <p:cNvPicPr/>
            <p:nvPr/>
          </p:nvPicPr>
          <p:blipFill>
            <a:blip r:embed="rId1"/>
            <a:stretch/>
          </p:blipFill>
          <p:spPr>
            <a:xfrm>
              <a:off x="1943640" y="1422360"/>
              <a:ext cx="7890840" cy="15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Line 39"/>
            <p:cNvSpPr/>
            <p:nvPr/>
          </p:nvSpPr>
          <p:spPr>
            <a:xfrm>
              <a:off x="0" y="336960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46"/>
            <p:cNvGrpSpPr/>
            <p:nvPr/>
          </p:nvGrpSpPr>
          <p:grpSpPr>
            <a:xfrm>
              <a:off x="2587680" y="3052800"/>
              <a:ext cx="4722120" cy="2433600"/>
              <a:chOff x="2587680" y="3052800"/>
              <a:chExt cx="4722120" cy="2433600"/>
            </a:xfrm>
          </p:grpSpPr>
          <p:sp>
            <p:nvSpPr>
              <p:cNvPr id="222" name="AutoShape 20"/>
              <p:cNvSpPr/>
              <p:nvPr/>
            </p:nvSpPr>
            <p:spPr>
              <a:xfrm>
                <a:off x="2587680" y="3052800"/>
                <a:ext cx="4722120" cy="243360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45"/>
              <p:cNvSpPr/>
              <p:nvPr/>
            </p:nvSpPr>
            <p:spPr>
              <a:xfrm>
                <a:off x="2738880" y="4090320"/>
                <a:ext cx="44542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Rectangle 26"/>
          <p:cNvSpPr/>
          <p:nvPr/>
        </p:nvSpPr>
        <p:spPr>
          <a:xfrm>
            <a:off x="2741760" y="3213000"/>
            <a:ext cx="4572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sh to increase shareholder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phasis(stress) on productivity and cost sav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ufacturers add value through service and sel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strategic alliances and outsour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cus on quality and customer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wth of franch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55440" y="2286000"/>
            <a:ext cx="1940040" cy="73656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65240" y="2362320"/>
            <a:ext cx="1692000" cy="580680"/>
          </a:xfrm>
          <a:prstGeom prst="rect">
            <a:avLst/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Line 34"/>
          <p:cNvSpPr/>
          <p:nvPr/>
        </p:nvSpPr>
        <p:spPr>
          <a:xfrm>
            <a:off x="6856560" y="2133720"/>
            <a:ext cx="0" cy="914400"/>
          </a:xfrm>
          <a:prstGeom prst="line">
            <a:avLst/>
          </a:prstGeom>
          <a:ln w="1584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0" y="1422360"/>
            <a:ext cx="9834480" cy="3530520"/>
            <a:chOff x="0" y="1422360"/>
            <a:chExt cx="9834480" cy="3530520"/>
          </a:xfrm>
        </p:grpSpPr>
        <p:pic>
          <p:nvPicPr>
            <p:cNvPr id="230" name="Group 3" descr=""/>
            <p:cNvPicPr/>
            <p:nvPr/>
          </p:nvPicPr>
          <p:blipFill>
            <a:blip r:embed="rId1"/>
            <a:stretch/>
          </p:blipFill>
          <p:spPr>
            <a:xfrm>
              <a:off x="1943640" y="1422360"/>
              <a:ext cx="789084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Line 39"/>
            <p:cNvSpPr/>
            <p:nvPr/>
          </p:nvSpPr>
          <p:spPr>
            <a:xfrm>
              <a:off x="0" y="336924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46"/>
            <p:cNvGrpSpPr/>
            <p:nvPr/>
          </p:nvGrpSpPr>
          <p:grpSpPr>
            <a:xfrm>
              <a:off x="2587680" y="3052440"/>
              <a:ext cx="4722120" cy="1900440"/>
              <a:chOff x="2587680" y="3052440"/>
              <a:chExt cx="4722120" cy="1900440"/>
            </a:xfrm>
          </p:grpSpPr>
          <p:sp>
            <p:nvSpPr>
              <p:cNvPr id="233" name="AutoShape 20"/>
              <p:cNvSpPr/>
              <p:nvPr/>
            </p:nvSpPr>
            <p:spPr>
              <a:xfrm>
                <a:off x="2587680" y="3052440"/>
                <a:ext cx="4722120" cy="190044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45"/>
              <p:cNvSpPr/>
              <p:nvPr/>
            </p:nvSpPr>
            <p:spPr>
              <a:xfrm>
                <a:off x="2738880" y="4089600"/>
                <a:ext cx="44542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Rectangle 26"/>
          <p:cNvSpPr/>
          <p:nvPr/>
        </p:nvSpPr>
        <p:spPr>
          <a:xfrm>
            <a:off x="2741760" y="32130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wth of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eater band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ct mobile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er, more powerful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gitization of text, graphics, audio,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5440" y="2286000"/>
            <a:ext cx="1940040" cy="73656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65240" y="2362320"/>
            <a:ext cx="1692000" cy="580680"/>
          </a:xfrm>
          <a:prstGeom prst="rect">
            <a:avLst/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2"/>
          <p:cNvSpPr/>
          <p:nvPr/>
        </p:nvSpPr>
        <p:spPr>
          <a:xfrm flipV="1">
            <a:off x="8677440" y="2971440"/>
            <a:ext cx="7920" cy="10666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476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Factors Stimulating Transformation of the Service Economy 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5"/>
          <p:cNvGrpSpPr/>
          <p:nvPr/>
        </p:nvGrpSpPr>
        <p:grpSpPr>
          <a:xfrm>
            <a:off x="0" y="1422360"/>
            <a:ext cx="9834480" cy="3530520"/>
            <a:chOff x="0" y="1422360"/>
            <a:chExt cx="9834480" cy="3530520"/>
          </a:xfrm>
        </p:grpSpPr>
        <p:pic>
          <p:nvPicPr>
            <p:cNvPr id="241" name="Group 3" descr=""/>
            <p:cNvPicPr/>
            <p:nvPr/>
          </p:nvPicPr>
          <p:blipFill>
            <a:blip r:embed="rId1"/>
            <a:stretch/>
          </p:blipFill>
          <p:spPr>
            <a:xfrm>
              <a:off x="1943640" y="1422360"/>
              <a:ext cx="789084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Line 39"/>
            <p:cNvSpPr/>
            <p:nvPr/>
          </p:nvSpPr>
          <p:spPr>
            <a:xfrm>
              <a:off x="0" y="3369240"/>
              <a:ext cx="7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46"/>
            <p:cNvGrpSpPr/>
            <p:nvPr/>
          </p:nvGrpSpPr>
          <p:grpSpPr>
            <a:xfrm>
              <a:off x="2512080" y="3052440"/>
              <a:ext cx="4797720" cy="1900440"/>
              <a:chOff x="2512080" y="3052440"/>
              <a:chExt cx="4797720" cy="1900440"/>
            </a:xfrm>
          </p:grpSpPr>
          <p:sp>
            <p:nvSpPr>
              <p:cNvPr id="244" name="AutoShape 20"/>
              <p:cNvSpPr/>
              <p:nvPr/>
            </p:nvSpPr>
            <p:spPr>
              <a:xfrm>
                <a:off x="2512080" y="3052440"/>
                <a:ext cx="4797720" cy="190044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45"/>
              <p:cNvSpPr/>
              <p:nvPr/>
            </p:nvSpPr>
            <p:spPr>
              <a:xfrm>
                <a:off x="2738880" y="4089600"/>
                <a:ext cx="44542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Rectangle 26"/>
          <p:cNvSpPr/>
          <p:nvPr/>
        </p:nvSpPr>
        <p:spPr>
          <a:xfrm>
            <a:off x="2741760" y="321300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re companies operating on transnational(international)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international 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ational mergers and alli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fshoring”(far from) of customer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eign competitors invade domestic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55440" y="2286000"/>
            <a:ext cx="1940040" cy="736560"/>
          </a:xfrm>
          <a:prstGeom prst="roundRect">
            <a:avLst>
              <a:gd name="adj" fmla="val 16667"/>
            </a:avLst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5240" y="2362320"/>
            <a:ext cx="1692000" cy="580680"/>
          </a:xfrm>
          <a:prstGeom prst="rect">
            <a:avLst/>
          </a:prstGeom>
          <a:solidFill>
            <a:srgbClr val="61b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 flipH="1" flipV="1">
            <a:off x="7313760" y="4038480"/>
            <a:ext cx="1358640" cy="12960"/>
          </a:xfrm>
          <a:prstGeom prst="line">
            <a:avLst/>
          </a:prstGeom>
          <a:ln w="255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What are Ser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Servic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historical view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781200" indent="-381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mith (1776): Services are different from goods because they a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erishable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13c7d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13c7d"/>
              </a:solidFill>
              <a:latin typeface="Arial"/>
            </a:endParaRPr>
          </a:p>
          <a:p>
            <a:pPr lvl="1" marL="781200" indent="-381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ay (1803): As services a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mmaterial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sumptio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annot be separated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from produc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 fresh perspective: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Benefits without Ownership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781200" indent="-381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ntal of goods: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2" marL="91116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(a) Payment made for using or accessing something – usually for a defined period of time – instead of buying it outright and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2" marL="91116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(b) Allows participation in network systems that individuals and organizations could not afford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781200" indent="0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6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Servic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Diagram 3" descr=""/>
          <p:cNvPicPr/>
          <p:nvPr/>
        </p:nvPicPr>
        <p:blipFill>
          <a:blip r:embed="rId1"/>
          <a:stretch/>
        </p:blipFill>
        <p:spPr>
          <a:xfrm>
            <a:off x="712800" y="2664000"/>
            <a:ext cx="8480520" cy="359064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4"/>
          <p:cNvSpPr/>
          <p:nvPr/>
        </p:nvSpPr>
        <p:spPr>
          <a:xfrm>
            <a:off x="760320" y="1565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Five broad categories within non-ownership framework of which two or more may be 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 of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s 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r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conomic activiti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fered by one party to another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st commonly employ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ime-based performan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bring about desired resul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 exchange for their money, time, and effort, service customers expect to obtain value from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cess to goods, labor, facilities, environments, professional skills, networks, and systems;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normally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o not take ownership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 any of the physical elements involved.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2" marL="1214280" indent="0"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i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ue Creation is Dominated by Intangible El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7520" y="1295280"/>
            <a:ext cx="200844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sical Elements</a:t>
            </a: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39760" y="5972040"/>
            <a:ext cx="82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442800" y="2133720"/>
            <a:ext cx="12960" cy="388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8913960" y="5972040"/>
            <a:ext cx="784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 flipV="1">
            <a:off x="836640" y="6159240"/>
            <a:ext cx="802800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9"/>
          <p:cNvSpPr/>
          <p:nvPr/>
        </p:nvSpPr>
        <p:spPr>
          <a:xfrm>
            <a:off x="0" y="6324480"/>
            <a:ext cx="9599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Source;  Adapted from Lynn Sho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65"/>
          <p:cNvGrpSpPr/>
          <p:nvPr/>
        </p:nvGrpSpPr>
        <p:grpSpPr>
          <a:xfrm>
            <a:off x="227160" y="1832040"/>
            <a:ext cx="9626400" cy="4278600"/>
            <a:chOff x="227160" y="1832040"/>
            <a:chExt cx="9626400" cy="4278600"/>
          </a:xfrm>
        </p:grpSpPr>
        <p:grpSp>
          <p:nvGrpSpPr>
            <p:cNvPr id="266" name="Group 46"/>
            <p:cNvGrpSpPr/>
            <p:nvPr/>
          </p:nvGrpSpPr>
          <p:grpSpPr>
            <a:xfrm>
              <a:off x="227160" y="2212920"/>
              <a:ext cx="9169560" cy="3232080"/>
              <a:chOff x="227160" y="2212920"/>
              <a:chExt cx="9169560" cy="3232080"/>
            </a:xfrm>
          </p:grpSpPr>
          <p:grpSp>
            <p:nvGrpSpPr>
              <p:cNvPr id="267" name="Group 44"/>
              <p:cNvGrpSpPr/>
              <p:nvPr/>
            </p:nvGrpSpPr>
            <p:grpSpPr>
              <a:xfrm>
                <a:off x="227160" y="2212920"/>
                <a:ext cx="4751280" cy="2244600"/>
                <a:chOff x="227160" y="2212920"/>
                <a:chExt cx="4751280" cy="2244600"/>
              </a:xfrm>
            </p:grpSpPr>
            <p:sp>
              <p:nvSpPr>
                <p:cNvPr id="268" name="Text Box 27"/>
                <p:cNvSpPr/>
                <p:nvPr/>
              </p:nvSpPr>
              <p:spPr>
                <a:xfrm>
                  <a:off x="330120" y="2212920"/>
                  <a:ext cx="10861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lt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Text Box 28"/>
                <p:cNvSpPr/>
                <p:nvPr/>
              </p:nvSpPr>
              <p:spPr>
                <a:xfrm>
                  <a:off x="227160" y="2482200"/>
                  <a:ext cx="20077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tergent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Text Box 29"/>
                <p:cNvSpPr/>
                <p:nvPr/>
              </p:nvSpPr>
              <p:spPr>
                <a:xfrm>
                  <a:off x="864720" y="2710800"/>
                  <a:ext cx="145764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D Playe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Text Box 30"/>
                <p:cNvSpPr/>
                <p:nvPr/>
              </p:nvSpPr>
              <p:spPr>
                <a:xfrm>
                  <a:off x="1738080" y="2974320"/>
                  <a:ext cx="118260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in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Text Box 31"/>
                <p:cNvSpPr/>
                <p:nvPr/>
              </p:nvSpPr>
              <p:spPr>
                <a:xfrm>
                  <a:off x="1796400" y="3244320"/>
                  <a:ext cx="158148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olf Club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Text Box 32"/>
                <p:cNvSpPr/>
                <p:nvPr/>
              </p:nvSpPr>
              <p:spPr>
                <a:xfrm>
                  <a:off x="2472120" y="3511080"/>
                  <a:ext cx="12103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New Ca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Text Box 33"/>
                <p:cNvSpPr/>
                <p:nvPr/>
              </p:nvSpPr>
              <p:spPr>
                <a:xfrm>
                  <a:off x="2208960" y="3736440"/>
                  <a:ext cx="20077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ailored clothing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Text Box 34"/>
                <p:cNvSpPr/>
                <p:nvPr/>
              </p:nvSpPr>
              <p:spPr>
                <a:xfrm>
                  <a:off x="1938960" y="4044240"/>
                  <a:ext cx="303948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ast-Food Restaurant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45"/>
              <p:cNvGrpSpPr/>
              <p:nvPr/>
            </p:nvGrpSpPr>
            <p:grpSpPr>
              <a:xfrm>
                <a:off x="5131800" y="3663360"/>
                <a:ext cx="2311560" cy="717840"/>
                <a:chOff x="5131800" y="3663360"/>
                <a:chExt cx="2311560" cy="717840"/>
              </a:xfrm>
            </p:grpSpPr>
            <p:sp>
              <p:nvSpPr>
                <p:cNvPr id="277" name="Text Box 36"/>
                <p:cNvSpPr/>
                <p:nvPr/>
              </p:nvSpPr>
              <p:spPr>
                <a:xfrm>
                  <a:off x="5131800" y="3663360"/>
                  <a:ext cx="200772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lumbing Repai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 Box 37"/>
                <p:cNvSpPr/>
                <p:nvPr/>
              </p:nvSpPr>
              <p:spPr>
                <a:xfrm>
                  <a:off x="5436000" y="3967920"/>
                  <a:ext cx="2007360" cy="41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40000"/>
                    </a:lnSpc>
                    <a:spcBef>
                      <a:spcPts val="9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ealth Club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Text Box 38"/>
              <p:cNvSpPr/>
              <p:nvPr/>
            </p:nvSpPr>
            <p:spPr>
              <a:xfrm>
                <a:off x="5893560" y="4196880"/>
                <a:ext cx="20077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irline Flight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40"/>
              <p:cNvSpPr/>
              <p:nvPr/>
            </p:nvSpPr>
            <p:spPr>
              <a:xfrm>
                <a:off x="6219720" y="4501440"/>
                <a:ext cx="317700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andscape Maintenanc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41"/>
              <p:cNvSpPr/>
              <p:nvPr/>
            </p:nvSpPr>
            <p:spPr>
              <a:xfrm>
                <a:off x="6780600" y="4803120"/>
                <a:ext cx="200772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ulting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42"/>
              <p:cNvSpPr/>
              <p:nvPr/>
            </p:nvSpPr>
            <p:spPr>
              <a:xfrm>
                <a:off x="7340760" y="5031720"/>
                <a:ext cx="2008080" cy="41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ife Insuranc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Text Box 43"/>
            <p:cNvSpPr/>
            <p:nvPr/>
          </p:nvSpPr>
          <p:spPr>
            <a:xfrm>
              <a:off x="7845480" y="5336640"/>
              <a:ext cx="20080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nternet Bank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47"/>
            <p:cNvGrpSpPr/>
            <p:nvPr/>
          </p:nvGrpSpPr>
          <p:grpSpPr>
            <a:xfrm>
              <a:off x="1016280" y="1832040"/>
              <a:ext cx="7234200" cy="4278600"/>
              <a:chOff x="1016280" y="1832040"/>
              <a:chExt cx="7234200" cy="4278600"/>
            </a:xfrm>
          </p:grpSpPr>
          <p:sp>
            <p:nvSpPr>
              <p:cNvPr id="285" name="Rectangle 48"/>
              <p:cNvSpPr/>
              <p:nvPr/>
            </p:nvSpPr>
            <p:spPr>
              <a:xfrm rot="1744800">
                <a:off x="612000" y="3759480"/>
                <a:ext cx="8042400" cy="423000"/>
              </a:xfrm>
              <a:prstGeom prst="rect">
                <a:avLst/>
              </a:prstGeom>
              <a:solidFill>
                <a:srgbClr val="b010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49"/>
              <p:cNvSpPr/>
              <p:nvPr/>
            </p:nvSpPr>
            <p:spPr>
              <a:xfrm rot="1744800">
                <a:off x="1742040" y="230616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50"/>
              <p:cNvSpPr/>
              <p:nvPr/>
            </p:nvSpPr>
            <p:spPr>
              <a:xfrm rot="1744800">
                <a:off x="2167920" y="254304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51"/>
              <p:cNvSpPr/>
              <p:nvPr/>
            </p:nvSpPr>
            <p:spPr>
              <a:xfrm rot="1744800">
                <a:off x="2593800" y="277992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52"/>
              <p:cNvSpPr/>
              <p:nvPr/>
            </p:nvSpPr>
            <p:spPr>
              <a:xfrm rot="1744800">
                <a:off x="3445920" y="325368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53"/>
              <p:cNvSpPr/>
              <p:nvPr/>
            </p:nvSpPr>
            <p:spPr>
              <a:xfrm rot="1744800">
                <a:off x="3020040" y="301680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54"/>
              <p:cNvSpPr/>
              <p:nvPr/>
            </p:nvSpPr>
            <p:spPr>
              <a:xfrm rot="1744800">
                <a:off x="3871800" y="349056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55"/>
              <p:cNvSpPr/>
              <p:nvPr/>
            </p:nvSpPr>
            <p:spPr>
              <a:xfrm rot="1744800">
                <a:off x="4723920" y="396468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56"/>
              <p:cNvSpPr/>
              <p:nvPr/>
            </p:nvSpPr>
            <p:spPr>
              <a:xfrm rot="1744800">
                <a:off x="5149800" y="420156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Oval 57"/>
              <p:cNvSpPr/>
              <p:nvPr/>
            </p:nvSpPr>
            <p:spPr>
              <a:xfrm rot="1744800">
                <a:off x="4298040" y="372744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58"/>
              <p:cNvSpPr/>
              <p:nvPr/>
            </p:nvSpPr>
            <p:spPr>
              <a:xfrm rot="1744800">
                <a:off x="5576040" y="443844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Oval 59"/>
              <p:cNvSpPr/>
              <p:nvPr/>
            </p:nvSpPr>
            <p:spPr>
              <a:xfrm rot="1744800">
                <a:off x="7705800" y="562284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Oval 60"/>
              <p:cNvSpPr/>
              <p:nvPr/>
            </p:nvSpPr>
            <p:spPr>
              <a:xfrm rot="1744800">
                <a:off x="6001920" y="467532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61"/>
              <p:cNvSpPr/>
              <p:nvPr/>
            </p:nvSpPr>
            <p:spPr>
              <a:xfrm rot="1744800">
                <a:off x="6854040" y="514908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62"/>
              <p:cNvSpPr/>
              <p:nvPr/>
            </p:nvSpPr>
            <p:spPr>
              <a:xfrm rot="1744800">
                <a:off x="6427800" y="491220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63"/>
              <p:cNvSpPr/>
              <p:nvPr/>
            </p:nvSpPr>
            <p:spPr>
              <a:xfrm rot="1744800">
                <a:off x="7279920" y="538596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64"/>
              <p:cNvSpPr/>
              <p:nvPr/>
            </p:nvSpPr>
            <p:spPr>
              <a:xfrm rot="1744800">
                <a:off x="1315800" y="2069280"/>
                <a:ext cx="243720" cy="252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2" name="TextBox 66"/>
          <p:cNvSpPr/>
          <p:nvPr/>
        </p:nvSpPr>
        <p:spPr>
          <a:xfrm>
            <a:off x="3732120" y="6172200"/>
            <a:ext cx="23623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angible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7680" y="1590840"/>
            <a:ext cx="9407520" cy="4495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hy Study Services?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hat are Services?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rketing Challenges Posed(modeled) by Serv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xtended Marketing Mix Required for Serv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tegration (mixing) of Marketing with Other Management Func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veloping Effective Service Marketing Strategi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roducts vs. Customer Service &amp; After-Sales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 firm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 market offerings are divided into core product elements and supplementary service elemen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ed to distinguish between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rketing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s – when service is the core produ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rketing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through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– when good service increases the value of a core physical goo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nufacturing firms are reformulating and enhancing existing added-value services to market them as stand-alone core produc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– A Process Perspec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fferences exist amongst services depending on what is being process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assification of services into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eople process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ossession process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ental stimulus process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Information process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 Categories of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3" descr="PPT44"/>
          <p:cNvPicPr/>
          <p:nvPr/>
        </p:nvPicPr>
        <p:blipFill>
          <a:blip r:embed="rId1"/>
          <a:stretch/>
        </p:blipFill>
        <p:spPr>
          <a:xfrm>
            <a:off x="912960" y="1752480"/>
            <a:ext cx="779436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3120" y="2209680"/>
            <a:ext cx="9068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Customers mu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0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physically enter the servic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0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cooperate actively with the servic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Managers should think about process and output from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th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customer’s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0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to identify benefits created and non-financial costs: Time, mental and phys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PPT45"/>
          <p:cNvPicPr/>
          <p:nvPr/>
        </p:nvPicPr>
        <p:blipFill>
          <a:blip r:embed="rId1"/>
          <a:stretch/>
        </p:blipFill>
        <p:spPr>
          <a:xfrm>
            <a:off x="5637240" y="1371600"/>
            <a:ext cx="4125960" cy="1951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ession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303120" y="2209680"/>
            <a:ext cx="9068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Involvement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Less physical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Production and consumption ar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se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6" descr="PPT45"/>
          <p:cNvPicPr/>
          <p:nvPr/>
        </p:nvPicPr>
        <p:blipFill>
          <a:blip r:embed="rId1"/>
          <a:stretch/>
        </p:blipFill>
        <p:spPr>
          <a:xfrm>
            <a:off x="5408640" y="1447920"/>
            <a:ext cx="4125960" cy="1950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ntal Stimulus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227160" y="2209680"/>
            <a:ext cx="90676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Ethical standards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15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13c7d"/>
                </a:solidFill>
                <a:latin typeface="Arial"/>
                <a:ea typeface="Arial"/>
              </a:rPr>
              <a:t>Customers might be manipulated(operat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Physical presence of recipients no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Core content of services is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 information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PPT45"/>
          <p:cNvPicPr/>
          <p:nvPr/>
        </p:nvPicPr>
        <p:blipFill>
          <a:blip r:embed="rId1"/>
          <a:stretch/>
        </p:blipFill>
        <p:spPr>
          <a:xfrm>
            <a:off x="5408640" y="1447920"/>
            <a:ext cx="4125960" cy="1950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303120" y="2209680"/>
            <a:ext cx="906804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013c7d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Most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intangible form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of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013c7d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May be transform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2880">
              <a:lnSpc>
                <a:spcPct val="100000"/>
              </a:lnSpc>
              <a:spcBef>
                <a:spcPts val="20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Into enduring(durable) forms of service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1280">
              <a:lnSpc>
                <a:spcPct val="100000"/>
              </a:lnSpc>
              <a:spcBef>
                <a:spcPts val="2401"/>
              </a:spcBef>
              <a:buClr>
                <a:srgbClr val="013c7d"/>
              </a:buClr>
              <a:buFont typeface="Webdings" charset="2"/>
              <a:buChar char=""/>
              <a:tabLst>
                <a:tab algn="l" pos="34128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Line between information processing and mental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Arial"/>
              </a:rPr>
              <a:t>  stimulus processing may be un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PPT45"/>
          <p:cNvPicPr/>
          <p:nvPr/>
        </p:nvPicPr>
        <p:blipFill>
          <a:blip r:embed="rId1"/>
          <a:stretch/>
        </p:blipFill>
        <p:spPr>
          <a:xfrm>
            <a:off x="5776920" y="1447920"/>
            <a:ext cx="4125960" cy="1950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Extended Marketing Mix fo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Requir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Extended Marketing Mi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an be viewed a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 strategy and competition thrust pursued by top managem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 set of functional activities performed by line managers (low level managers).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 customer-driven orientation(direction) for the entire organiz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is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nly function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o bring revenues into a business; the rest functions are cost cent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“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7 Ps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” of services marketing are needed to create practical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rategies for meeting customer needs profitab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7Ps of Services Marke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raditional Marketing Mix Applied to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duct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4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lace and Time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5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ice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6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motion and Education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7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xtended Marketing Mix for Services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cess (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Chapter 8 &amp; 9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hysical Environment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10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eople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Chapter 11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Why Study Ser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Integration (mixing) of Marketing with Other Managemen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to be Integrated with Other Management Function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 algn="ctr">
              <a:spcAft>
                <a:spcPts val="2100"/>
              </a:spcAft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ree management functions play central and interrelated roles in meeting needs of service custom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Aft>
                <a:spcPts val="2100"/>
              </a:spcAft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Aft>
                <a:spcPts val="1576"/>
              </a:spcAft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Aft>
                <a:spcPts val="1576"/>
              </a:spcAft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Aft>
                <a:spcPts val="1576"/>
              </a:spcAft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</p:txBody>
      </p:sp>
      <p:grpSp>
        <p:nvGrpSpPr>
          <p:cNvPr id="329" name="Group 39"/>
          <p:cNvGrpSpPr/>
          <p:nvPr/>
        </p:nvGrpSpPr>
        <p:grpSpPr>
          <a:xfrm>
            <a:off x="1446120" y="2590920"/>
            <a:ext cx="7207200" cy="3499920"/>
            <a:chOff x="1446120" y="2590920"/>
            <a:chExt cx="7207200" cy="3499920"/>
          </a:xfrm>
        </p:grpSpPr>
        <p:sp>
          <p:nvSpPr>
            <p:cNvPr id="330" name="Oval 40"/>
            <p:cNvSpPr/>
            <p:nvPr/>
          </p:nvSpPr>
          <p:spPr>
            <a:xfrm>
              <a:off x="3386520" y="2590920"/>
              <a:ext cx="3330720" cy="2768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a15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41"/>
            <p:cNvSpPr/>
            <p:nvPr/>
          </p:nvSpPr>
          <p:spPr>
            <a:xfrm>
              <a:off x="4287240" y="3945960"/>
              <a:ext cx="15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2"/>
            <p:cNvSpPr/>
            <p:nvPr/>
          </p:nvSpPr>
          <p:spPr>
            <a:xfrm>
              <a:off x="1446120" y="3003120"/>
              <a:ext cx="2495880" cy="731880"/>
            </a:xfrm>
            <a:prstGeom prst="rect">
              <a:avLst/>
            </a:prstGeom>
            <a:solidFill>
              <a:srgbClr val="fed46c"/>
            </a:solidFill>
            <a:ln w="25560">
              <a:solidFill>
                <a:srgbClr val="b2e3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6089400" y="3062160"/>
              <a:ext cx="2563920" cy="731880"/>
            </a:xfrm>
            <a:prstGeom prst="rect">
              <a:avLst/>
            </a:prstGeom>
            <a:solidFill>
              <a:srgbClr val="fed46c"/>
            </a:solidFill>
            <a:ln w="25560">
              <a:solidFill>
                <a:srgbClr val="b2e3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ing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44"/>
            <p:cNvSpPr/>
            <p:nvPr/>
          </p:nvSpPr>
          <p:spPr>
            <a:xfrm>
              <a:off x="3525120" y="5358960"/>
              <a:ext cx="2906280" cy="731880"/>
            </a:xfrm>
            <a:prstGeom prst="rect">
              <a:avLst/>
            </a:prstGeom>
            <a:solidFill>
              <a:srgbClr val="fed46c"/>
            </a:solidFill>
            <a:ln w="25560">
              <a:solidFill>
                <a:srgbClr val="b2e3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man Resources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7"/>
            <p:cNvSpPr/>
            <p:nvPr/>
          </p:nvSpPr>
          <p:spPr>
            <a:xfrm>
              <a:off x="4718880" y="5303880"/>
              <a:ext cx="155520" cy="7704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8"/>
            <p:cNvSpPr/>
            <p:nvPr/>
          </p:nvSpPr>
          <p:spPr>
            <a:xfrm>
              <a:off x="3350160" y="3677040"/>
              <a:ext cx="87840" cy="13248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1"/>
            <p:cNvSpPr/>
            <p:nvPr/>
          </p:nvSpPr>
          <p:spPr>
            <a:xfrm>
              <a:off x="6704280" y="3753360"/>
              <a:ext cx="83520" cy="13248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52"/>
            <p:cNvSpPr/>
            <p:nvPr/>
          </p:nvSpPr>
          <p:spPr>
            <a:xfrm>
              <a:off x="5326560" y="5257080"/>
              <a:ext cx="157320" cy="7344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5"/>
            <p:cNvSpPr/>
            <p:nvPr/>
          </p:nvSpPr>
          <p:spPr>
            <a:xfrm>
              <a:off x="3802320" y="2944440"/>
              <a:ext cx="138240" cy="12024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6"/>
            <p:cNvSpPr/>
            <p:nvPr/>
          </p:nvSpPr>
          <p:spPr>
            <a:xfrm>
              <a:off x="6262560" y="3003120"/>
              <a:ext cx="137160" cy="117720"/>
            </a:xfrm>
            <a:prstGeom prst="pie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7"/>
            <p:cNvSpPr/>
            <p:nvPr/>
          </p:nvSpPr>
          <p:spPr>
            <a:xfrm>
              <a:off x="4980240" y="4476240"/>
              <a:ext cx="32760" cy="83340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8"/>
            <p:cNvSpPr/>
            <p:nvPr/>
          </p:nvSpPr>
          <p:spPr>
            <a:xfrm>
              <a:off x="4961520" y="4351320"/>
              <a:ext cx="87840" cy="12492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9"/>
            <p:cNvSpPr/>
            <p:nvPr/>
          </p:nvSpPr>
          <p:spPr>
            <a:xfrm>
              <a:off x="3940920" y="3474720"/>
              <a:ext cx="620640" cy="35964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60"/>
            <p:cNvSpPr/>
            <p:nvPr/>
          </p:nvSpPr>
          <p:spPr>
            <a:xfrm>
              <a:off x="4498200" y="3777840"/>
              <a:ext cx="147240" cy="10296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1"/>
            <p:cNvSpPr/>
            <p:nvPr/>
          </p:nvSpPr>
          <p:spPr>
            <a:xfrm>
              <a:off x="5465520" y="3474720"/>
              <a:ext cx="621720" cy="35964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2"/>
            <p:cNvSpPr/>
            <p:nvPr/>
          </p:nvSpPr>
          <p:spPr>
            <a:xfrm>
              <a:off x="5377320" y="3777840"/>
              <a:ext cx="146880" cy="102960"/>
            </a:xfrm>
            <a:prstGeom prst="pie">
              <a:avLst/>
            </a:prstGeom>
            <a:solidFill>
              <a:srgbClr val="7fd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Study Service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s dominate most economies and are growing rapidly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s account for more tha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60% of GDP worldwid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lmost all economies have a substantial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worth</a:t>
            </a:r>
            <a:r>
              <a:rPr b="1" i="1" lang="en-US" sz="2000" spc="-1" strike="noStrike">
                <a:solidFill>
                  <a:srgbClr val="013c7d"/>
                </a:solidFill>
                <a:latin typeface="Arial"/>
              </a:rPr>
              <a:t>)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secto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st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ew employment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s provided by servic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rongest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rowth area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or market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Dominate the Global Econom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 algn="ctr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ibution of Service Industries to GDP Global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162" name="Object 38" descr=""/>
          <p:cNvPicPr/>
          <p:nvPr/>
        </p:nvPicPr>
        <p:blipFill>
          <a:blip r:embed="rId1"/>
          <a:stretch/>
        </p:blipFill>
        <p:spPr>
          <a:xfrm>
            <a:off x="988920" y="21337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2"/>
          <p:cNvSpPr/>
          <p:nvPr/>
        </p:nvSpPr>
        <p:spPr>
          <a:xfrm>
            <a:off x="76320" y="6249960"/>
            <a:ext cx="944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Source: The World Factbook 2008, Central Intelligence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6780240" y="4191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Services 6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1598760" y="4952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Agriculture 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8"/>
          <p:cNvSpPr/>
          <p:nvPr/>
        </p:nvSpPr>
        <p:spPr>
          <a:xfrm>
            <a:off x="1065240" y="2644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7d"/>
                </a:solidFill>
                <a:latin typeface="Arial"/>
                <a:ea typeface="Arial"/>
              </a:rPr>
              <a:t>Manufacturing 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oup 12" descr=""/>
          <p:cNvPicPr/>
          <p:nvPr/>
        </p:nvPicPr>
        <p:blipFill>
          <a:blip r:embed="rId1"/>
          <a:stretch/>
        </p:blipFill>
        <p:spPr>
          <a:xfrm>
            <a:off x="285840" y="1438200"/>
            <a:ext cx="9096120" cy="4896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imated Size of Service Secto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elected Count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74520" y="6319800"/>
            <a:ext cx="960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Source: The World Factbook 2008, Central Intelligence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Study Servic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2760" y="175212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5760" indent="-45576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ost new jobs are generated by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04760" indent="-512640">
              <a:spcBef>
                <a:spcPts val="1800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astest growth expected in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knowledge-based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dustri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04760" indent="-512640">
              <a:spcBef>
                <a:spcPts val="1800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ignificant training and educational qualifications required,                           but employees will b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ore highly compensate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04760" indent="0">
              <a:spcBef>
                <a:spcPts val="1800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Study Services?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owerful forces are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ransforming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service marke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Government policies, social changes, business trends,          advances in IT, internationaliz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rces that reshap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man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uppl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he competitive landscape (site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ustomers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choices, power, and decision making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formation of th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Econom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Group 41"/>
          <p:cNvGrpSpPr/>
          <p:nvPr/>
        </p:nvGrpSpPr>
        <p:grpSpPr>
          <a:xfrm>
            <a:off x="61920" y="1406520"/>
            <a:ext cx="9779040" cy="5130720"/>
            <a:chOff x="61920" y="1406520"/>
            <a:chExt cx="9779040" cy="5130720"/>
          </a:xfrm>
        </p:grpSpPr>
        <p:pic>
          <p:nvPicPr>
            <p:cNvPr id="176" name="Group 3" descr=""/>
            <p:cNvPicPr/>
            <p:nvPr/>
          </p:nvPicPr>
          <p:blipFill>
            <a:blip r:embed="rId1"/>
            <a:stretch/>
          </p:blipFill>
          <p:spPr>
            <a:xfrm>
              <a:off x="61920" y="1406520"/>
              <a:ext cx="9779040" cy="15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Group 22" descr=""/>
            <p:cNvPicPr/>
            <p:nvPr/>
          </p:nvPicPr>
          <p:blipFill>
            <a:blip r:embed="rId2"/>
            <a:stretch/>
          </p:blipFill>
          <p:spPr>
            <a:xfrm>
              <a:off x="1048320" y="3889800"/>
              <a:ext cx="798300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Group 25" descr=""/>
            <p:cNvPicPr/>
            <p:nvPr/>
          </p:nvPicPr>
          <p:blipFill>
            <a:blip r:embed="rId3"/>
            <a:stretch/>
          </p:blipFill>
          <p:spPr>
            <a:xfrm>
              <a:off x="1036080" y="4650480"/>
              <a:ext cx="7983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Group 48" descr=""/>
            <p:cNvPicPr/>
            <p:nvPr/>
          </p:nvPicPr>
          <p:blipFill>
            <a:blip r:embed="rId4"/>
            <a:stretch/>
          </p:blipFill>
          <p:spPr>
            <a:xfrm>
              <a:off x="1023840" y="5374800"/>
              <a:ext cx="7983000" cy="11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31"/>
            <p:cNvSpPr/>
            <p:nvPr/>
          </p:nvSpPr>
          <p:spPr>
            <a:xfrm>
              <a:off x="4656240" y="3744000"/>
              <a:ext cx="14040" cy="177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>
              <a:off x="4656240" y="4466880"/>
              <a:ext cx="14040" cy="177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>
              <a:off x="4656240" y="5189760"/>
              <a:ext cx="14040" cy="177480"/>
            </a:xfrm>
            <a:prstGeom prst="line">
              <a:avLst/>
            </a:prstGeom>
            <a:ln w="381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>
              <a:off x="2939040" y="2209680"/>
              <a:ext cx="0" cy="50688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5"/>
            <p:cNvSpPr/>
            <p:nvPr/>
          </p:nvSpPr>
          <p:spPr>
            <a:xfrm>
              <a:off x="4959360" y="2209680"/>
              <a:ext cx="0" cy="50688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6"/>
            <p:cNvSpPr/>
            <p:nvPr/>
          </p:nvSpPr>
          <p:spPr>
            <a:xfrm>
              <a:off x="6938280" y="2197080"/>
              <a:ext cx="0" cy="50688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37"/>
            <p:cNvGrpSpPr/>
            <p:nvPr/>
          </p:nvGrpSpPr>
          <p:grpSpPr>
            <a:xfrm>
              <a:off x="906120" y="2983320"/>
              <a:ext cx="1578960" cy="367560"/>
              <a:chOff x="906120" y="2983320"/>
              <a:chExt cx="1578960" cy="367560"/>
            </a:xfrm>
          </p:grpSpPr>
          <p:sp>
            <p:nvSpPr>
              <p:cNvPr id="187" name="Line 38"/>
              <p:cNvSpPr/>
              <p:nvPr/>
            </p:nvSpPr>
            <p:spPr>
              <a:xfrm>
                <a:off x="906120" y="2983320"/>
                <a:ext cx="0" cy="367560"/>
              </a:xfrm>
              <a:prstGeom prst="line">
                <a:avLst/>
              </a:prstGeom>
              <a:ln w="158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9"/>
              <p:cNvSpPr/>
              <p:nvPr/>
            </p:nvSpPr>
            <p:spPr>
              <a:xfrm>
                <a:off x="906120" y="3350880"/>
                <a:ext cx="1578960" cy="0"/>
              </a:xfrm>
              <a:prstGeom prst="line">
                <a:avLst/>
              </a:prstGeom>
              <a:ln w="1584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40"/>
            <p:cNvSpPr/>
            <p:nvPr/>
          </p:nvSpPr>
          <p:spPr>
            <a:xfrm flipV="1">
              <a:off x="8874360" y="2982960"/>
              <a:ext cx="0" cy="36756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41"/>
            <p:cNvSpPr/>
            <p:nvPr/>
          </p:nvSpPr>
          <p:spPr>
            <a:xfrm flipH="1">
              <a:off x="7294680" y="3350880"/>
              <a:ext cx="1579320" cy="0"/>
            </a:xfrm>
            <a:prstGeom prst="line">
              <a:avLst/>
            </a:prstGeom>
            <a:ln w="1584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46"/>
            <p:cNvGrpSpPr/>
            <p:nvPr/>
          </p:nvGrpSpPr>
          <p:grpSpPr>
            <a:xfrm>
              <a:off x="2555280" y="2739240"/>
              <a:ext cx="4698000" cy="966600"/>
              <a:chOff x="2555280" y="2739240"/>
              <a:chExt cx="4698000" cy="966600"/>
            </a:xfrm>
          </p:grpSpPr>
          <p:sp>
            <p:nvSpPr>
              <p:cNvPr id="192" name="AutoShape 20"/>
              <p:cNvSpPr/>
              <p:nvPr/>
            </p:nvSpPr>
            <p:spPr>
              <a:xfrm>
                <a:off x="2555280" y="2739240"/>
                <a:ext cx="4698000" cy="966600"/>
              </a:xfrm>
              <a:prstGeom prst="roundRect">
                <a:avLst>
                  <a:gd name="adj" fmla="val 16667"/>
                </a:avLst>
              </a:prstGeom>
              <a:solidFill>
                <a:srgbClr val="fed4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45"/>
              <p:cNvSpPr/>
              <p:nvPr/>
            </p:nvSpPr>
            <p:spPr>
              <a:xfrm>
                <a:off x="2639160" y="2805840"/>
                <a:ext cx="44510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w markets and product categor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crease in demand for serv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28600" indent="-2286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re intense(strong) competi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30"/>
          <p:cNvSpPr/>
          <p:nvPr/>
        </p:nvSpPr>
        <p:spPr>
          <a:xfrm>
            <a:off x="1065240" y="5486400"/>
            <a:ext cx="19810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6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ccess hinges (axes) 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208240" y="6324480"/>
            <a:ext cx="594360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ed focus on services marketing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5:00:43Z</dcterms:created>
  <dc:creator>VALR</dc:creator>
  <dc:description/>
  <dc:language>en-US</dc:language>
  <cp:lastModifiedBy>aldarrab</cp:lastModifiedBy>
  <cp:lastPrinted>2002-07-07T10:21:06Z</cp:lastPrinted>
  <dcterms:modified xsi:type="dcterms:W3CDTF">2015-07-25T10:28:06Z</dcterms:modified>
  <cp:revision>678</cp:revision>
  <dc:subject/>
  <dc:title>No Slide Title</dc:title>
</cp:coreProperties>
</file>