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902825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-1733760" y="2376360"/>
            <a:ext cx="74610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05920"/>
            <a:ext cx="5434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AAF0-3DDE-4C7A-86EB-3363E94B0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FAD9-F582-4A2B-A2FB-6FE72B404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7F46-A2EF-429B-ABFA-F1DFAFE7D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CDAB-45E5-483E-A155-85A6E25A6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CBE4-B26B-4268-9F83-6C003C9F3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4026-4898-48EC-8F1D-0A40B257A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FC21-6884-41CB-8178-3250FD45C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CAB7-3F52-4901-B3C9-FDAC4B0E3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9E56-FB3B-4CC2-918C-2581966FE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89EB-6376-4792-93EE-C5E929BAC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B289-38D7-4F30-A4C3-9DE36FE9C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3B50-FAB9-4CC4-AD5B-86F072EA0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42F6-09EF-43FF-B3BA-0C7DD94F8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A998-A8D5-41F0-8A9A-45883EE85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5674-814A-4A50-B30F-02F75EA58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CA63-1106-4F27-A547-FB70505B9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B5D1-A96B-4180-967F-8C543B9CF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6E8F-FE2D-40BC-9507-7D7ECB2D8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1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9"/>
          <p:cNvSpPr/>
          <p:nvPr/>
        </p:nvSpPr>
        <p:spPr>
          <a:xfrm>
            <a:off x="0" y="0"/>
            <a:ext cx="990432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60320" y="582480"/>
            <a:ext cx="5924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1 – Page </a:t>
            </a:r>
            <a:fld id="{C411790D-B7BB-4F09-8EF3-3922D3444ADE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"/>
          <p:cNvSpPr/>
          <p:nvPr/>
        </p:nvSpPr>
        <p:spPr>
          <a:xfrm>
            <a:off x="0" y="0"/>
            <a:ext cx="990288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1 – Page </a:t>
            </a:r>
            <a:fld id="{0F4CAA83-E41A-4455-ACF7-73B4EA663025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1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9"/>
          <p:cNvSpPr/>
          <p:nvPr/>
        </p:nvSpPr>
        <p:spPr>
          <a:xfrm>
            <a:off x="0" y="0"/>
            <a:ext cx="990432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60320" y="582480"/>
            <a:ext cx="5924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1 – Page </a:t>
            </a:r>
            <a:fld id="{3E24047D-B83B-4A53-8C77-604A5E0C98EE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68200" y="1600200"/>
            <a:ext cx="9407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marL="457200" indent="-45720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4"/>
          <p:cNvGrpSpPr/>
          <p:nvPr/>
        </p:nvGrpSpPr>
        <p:grpSpPr>
          <a:xfrm>
            <a:off x="3071880" y="1676520"/>
            <a:ext cx="6375240" cy="4572000"/>
            <a:chOff x="3071880" y="1676520"/>
            <a:chExt cx="6375240" cy="4572000"/>
          </a:xfrm>
        </p:grpSpPr>
        <p:pic>
          <p:nvPicPr>
            <p:cNvPr id="147" name="Picture 17" descr=""/>
            <p:cNvPicPr/>
            <p:nvPr/>
          </p:nvPicPr>
          <p:blipFill>
            <a:blip r:embed="rId1"/>
            <a:stretch/>
          </p:blipFill>
          <p:spPr>
            <a:xfrm>
              <a:off x="3164400" y="1676520"/>
              <a:ext cx="62827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3"/>
            <p:cNvSpPr/>
            <p:nvPr/>
          </p:nvSpPr>
          <p:spPr>
            <a:xfrm>
              <a:off x="3071880" y="1676520"/>
              <a:ext cx="445608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379440" y="2209680"/>
            <a:ext cx="647712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Tahoma"/>
              </a:rPr>
              <a:t>Chapter 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Tahoma"/>
              </a:rPr>
              <a:t> 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Tahoma"/>
              </a:rPr>
              <a:t>New Perspectives(viewpoints) 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Tahoma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Tahoma"/>
              </a:rPr>
              <a:t>	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Tahoma"/>
              </a:rPr>
              <a:t>Marketing in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Tahoma"/>
              </a:rPr>
              <a:t>	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Tahoma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Tahoma"/>
              </a:rPr>
              <a:t>Service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"/>
          <p:cNvGrpSpPr/>
          <p:nvPr/>
        </p:nvGrpSpPr>
        <p:grpSpPr>
          <a:xfrm>
            <a:off x="455760" y="4419720"/>
            <a:ext cx="1904760" cy="1778040"/>
            <a:chOff x="455760" y="4419720"/>
            <a:chExt cx="1904760" cy="1778040"/>
          </a:xfrm>
        </p:grpSpPr>
        <p:pic>
          <p:nvPicPr>
            <p:cNvPr id="151" name="Picture 2" descr=""/>
            <p:cNvPicPr/>
            <p:nvPr/>
          </p:nvPicPr>
          <p:blipFill>
            <a:blip r:embed="rId2"/>
            <a:stretch/>
          </p:blipFill>
          <p:spPr>
            <a:xfrm>
              <a:off x="455760" y="4419720"/>
              <a:ext cx="914400" cy="8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" descr=""/>
            <p:cNvPicPr/>
            <p:nvPr/>
          </p:nvPicPr>
          <p:blipFill>
            <a:blip r:embed="rId3"/>
            <a:stretch/>
          </p:blipFill>
          <p:spPr>
            <a:xfrm>
              <a:off x="455760" y="5334120"/>
              <a:ext cx="91440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5" descr=""/>
            <p:cNvPicPr/>
            <p:nvPr/>
          </p:nvPicPr>
          <p:blipFill>
            <a:blip r:embed="rId4"/>
            <a:stretch/>
          </p:blipFill>
          <p:spPr>
            <a:xfrm>
              <a:off x="1446120" y="5334120"/>
              <a:ext cx="91440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s Marketing 7e, Global Ed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38"/>
          <p:cNvSpPr/>
          <p:nvPr/>
        </p:nvSpPr>
        <p:spPr>
          <a:xfrm flipH="1">
            <a:off x="893520" y="2971800"/>
            <a:ext cx="19080" cy="1663560"/>
          </a:xfrm>
          <a:prstGeom prst="line">
            <a:avLst/>
          </a:prstGeom>
          <a:ln w="158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6800" y="2286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Factors Stimulating Transformation of the Service Economy 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0" y="1422360"/>
            <a:ext cx="9834480" cy="4064040"/>
            <a:chOff x="0" y="1422360"/>
            <a:chExt cx="9834480" cy="4064040"/>
          </a:xfrm>
        </p:grpSpPr>
        <p:pic>
          <p:nvPicPr>
            <p:cNvPr id="199" name="Group 3" descr=""/>
            <p:cNvPicPr/>
            <p:nvPr/>
          </p:nvPicPr>
          <p:blipFill>
            <a:blip r:embed="rId1"/>
            <a:stretch/>
          </p:blipFill>
          <p:spPr>
            <a:xfrm>
              <a:off x="48600" y="1422360"/>
              <a:ext cx="9785880" cy="15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Line 39"/>
            <p:cNvSpPr/>
            <p:nvPr/>
          </p:nvSpPr>
          <p:spPr>
            <a:xfrm>
              <a:off x="0" y="3369600"/>
              <a:ext cx="720" cy="0"/>
            </a:xfrm>
            <a:prstGeom prst="line">
              <a:avLst/>
            </a:prstGeom>
            <a:ln w="158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46"/>
            <p:cNvGrpSpPr/>
            <p:nvPr/>
          </p:nvGrpSpPr>
          <p:grpSpPr>
            <a:xfrm>
              <a:off x="2587680" y="3965400"/>
              <a:ext cx="4722120" cy="1521000"/>
              <a:chOff x="2587680" y="3965400"/>
              <a:chExt cx="4722120" cy="1521000"/>
            </a:xfrm>
          </p:grpSpPr>
          <p:sp>
            <p:nvSpPr>
              <p:cNvPr id="202" name="AutoShape 20"/>
              <p:cNvSpPr/>
              <p:nvPr/>
            </p:nvSpPr>
            <p:spPr>
              <a:xfrm>
                <a:off x="2587680" y="3965400"/>
                <a:ext cx="4722120" cy="1521000"/>
              </a:xfrm>
              <a:prstGeom prst="roundRect">
                <a:avLst>
                  <a:gd name="adj" fmla="val 16667"/>
                </a:avLst>
              </a:prstGeom>
              <a:solidFill>
                <a:srgbClr val="fed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45"/>
              <p:cNvSpPr/>
              <p:nvPr/>
            </p:nvSpPr>
            <p:spPr>
              <a:xfrm>
                <a:off x="2738880" y="4090320"/>
                <a:ext cx="4454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buClr>
                    <a:srgbClr val="ff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Changes in regul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003f75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f75"/>
                    </a:solidFill>
                    <a:latin typeface="Arial"/>
                    <a:ea typeface="Arial"/>
                  </a:rPr>
                  <a:t>Privatiz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f273af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273af"/>
                    </a:solidFill>
                    <a:latin typeface="Arial"/>
                    <a:ea typeface="Arial"/>
                  </a:rPr>
                  <a:t>New rules to protect customers, employees, and the environmen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1ab39f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b39f"/>
                    </a:solidFill>
                    <a:latin typeface="Arial"/>
                    <a:ea typeface="Arial"/>
                  </a:rPr>
                  <a:t>New agreement on trade in servi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Line 39"/>
          <p:cNvSpPr/>
          <p:nvPr/>
        </p:nvSpPr>
        <p:spPr>
          <a:xfrm>
            <a:off x="893880" y="4635360"/>
            <a:ext cx="1581120" cy="0"/>
          </a:xfrm>
          <a:prstGeom prst="line">
            <a:avLst/>
          </a:prstGeom>
          <a:ln w="1584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34"/>
          <p:cNvSpPr/>
          <p:nvPr/>
        </p:nvSpPr>
        <p:spPr>
          <a:xfrm>
            <a:off x="2970360" y="2133720"/>
            <a:ext cx="0" cy="914400"/>
          </a:xfrm>
          <a:prstGeom prst="line">
            <a:avLst/>
          </a:prstGeom>
          <a:ln w="1584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6800" y="2286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Factors Stimulating Transformation of the Service Economy 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0" y="1422360"/>
            <a:ext cx="9834480" cy="4521240"/>
            <a:chOff x="0" y="1422360"/>
            <a:chExt cx="9834480" cy="4521240"/>
          </a:xfrm>
        </p:grpSpPr>
        <p:pic>
          <p:nvPicPr>
            <p:cNvPr id="208" name="Group 3" descr=""/>
            <p:cNvPicPr/>
            <p:nvPr/>
          </p:nvPicPr>
          <p:blipFill>
            <a:blip r:embed="rId1"/>
            <a:stretch/>
          </p:blipFill>
          <p:spPr>
            <a:xfrm>
              <a:off x="1943640" y="1422360"/>
              <a:ext cx="7890840" cy="158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39"/>
            <p:cNvSpPr/>
            <p:nvPr/>
          </p:nvSpPr>
          <p:spPr>
            <a:xfrm>
              <a:off x="0" y="3369960"/>
              <a:ext cx="720" cy="0"/>
            </a:xfrm>
            <a:prstGeom prst="line">
              <a:avLst/>
            </a:prstGeom>
            <a:ln w="158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46"/>
            <p:cNvGrpSpPr/>
            <p:nvPr/>
          </p:nvGrpSpPr>
          <p:grpSpPr>
            <a:xfrm>
              <a:off x="2587680" y="3053160"/>
              <a:ext cx="4797720" cy="2890440"/>
              <a:chOff x="2587680" y="3053160"/>
              <a:chExt cx="4797720" cy="2890440"/>
            </a:xfrm>
          </p:grpSpPr>
          <p:sp>
            <p:nvSpPr>
              <p:cNvPr id="211" name="AutoShape 20"/>
              <p:cNvSpPr/>
              <p:nvPr/>
            </p:nvSpPr>
            <p:spPr>
              <a:xfrm>
                <a:off x="2587680" y="3053160"/>
                <a:ext cx="4797720" cy="2890440"/>
              </a:xfrm>
              <a:prstGeom prst="roundRect">
                <a:avLst>
                  <a:gd name="adj" fmla="val 16667"/>
                </a:avLst>
              </a:prstGeom>
              <a:solidFill>
                <a:srgbClr val="fed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45"/>
              <p:cNvSpPr/>
              <p:nvPr/>
            </p:nvSpPr>
            <p:spPr>
              <a:xfrm>
                <a:off x="2738880" y="4090680"/>
                <a:ext cx="445428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Rectangle 26"/>
          <p:cNvSpPr/>
          <p:nvPr/>
        </p:nvSpPr>
        <p:spPr>
          <a:xfrm>
            <a:off x="2741760" y="3200400"/>
            <a:ext cx="457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ea157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157a"/>
                </a:solidFill>
                <a:latin typeface="Arial"/>
                <a:ea typeface="Arial"/>
              </a:rPr>
              <a:t>Rising consumer expec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82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2a5"/>
                </a:solidFill>
                <a:latin typeface="Arial"/>
                <a:ea typeface="Arial"/>
              </a:rPr>
              <a:t>More affluence (weal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1386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8677"/>
                </a:solidFill>
                <a:latin typeface="Arial"/>
                <a:ea typeface="Arial"/>
              </a:rPr>
              <a:t>More people short of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7e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eea"/>
                </a:solidFill>
                <a:latin typeface="Arial"/>
                <a:ea typeface="Arial"/>
              </a:rPr>
              <a:t>Rising consumer ownership of high tech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3f7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f75"/>
                </a:solidFill>
                <a:latin typeface="Arial"/>
                <a:ea typeface="Arial"/>
              </a:rPr>
              <a:t>Easier access to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19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2f"/>
                </a:solidFill>
                <a:latin typeface="Arial"/>
                <a:ea typeface="Arial"/>
              </a:rPr>
              <a:t>Im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55440" y="2286000"/>
            <a:ext cx="1940040" cy="736560"/>
          </a:xfrm>
          <a:prstGeom prst="roundRect">
            <a:avLst>
              <a:gd name="adj" fmla="val 16667"/>
            </a:avLst>
          </a:prstGeom>
          <a:solidFill>
            <a:srgbClr val="61b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65240" y="2362320"/>
            <a:ext cx="1692000" cy="580680"/>
          </a:xfrm>
          <a:prstGeom prst="rect">
            <a:avLst/>
          </a:prstGeom>
          <a:solidFill>
            <a:srgbClr val="61b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34"/>
          <p:cNvSpPr/>
          <p:nvPr/>
        </p:nvSpPr>
        <p:spPr>
          <a:xfrm>
            <a:off x="4951440" y="2133720"/>
            <a:ext cx="0" cy="914400"/>
          </a:xfrm>
          <a:prstGeom prst="line">
            <a:avLst/>
          </a:prstGeom>
          <a:ln w="1584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6800" y="2286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Factors Stimulating Transformation of the Service Economy 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0" y="1422360"/>
            <a:ext cx="9834480" cy="4064040"/>
            <a:chOff x="0" y="1422360"/>
            <a:chExt cx="9834480" cy="4064040"/>
          </a:xfrm>
        </p:grpSpPr>
        <p:pic>
          <p:nvPicPr>
            <p:cNvPr id="219" name="Group 3" descr=""/>
            <p:cNvPicPr/>
            <p:nvPr/>
          </p:nvPicPr>
          <p:blipFill>
            <a:blip r:embed="rId1"/>
            <a:stretch/>
          </p:blipFill>
          <p:spPr>
            <a:xfrm>
              <a:off x="1943640" y="1422360"/>
              <a:ext cx="7890840" cy="15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Line 39"/>
            <p:cNvSpPr/>
            <p:nvPr/>
          </p:nvSpPr>
          <p:spPr>
            <a:xfrm>
              <a:off x="0" y="3369600"/>
              <a:ext cx="720" cy="0"/>
            </a:xfrm>
            <a:prstGeom prst="line">
              <a:avLst/>
            </a:prstGeom>
            <a:ln w="158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46"/>
            <p:cNvGrpSpPr/>
            <p:nvPr/>
          </p:nvGrpSpPr>
          <p:grpSpPr>
            <a:xfrm>
              <a:off x="2587680" y="3052800"/>
              <a:ext cx="4722120" cy="2433600"/>
              <a:chOff x="2587680" y="3052800"/>
              <a:chExt cx="4722120" cy="2433600"/>
            </a:xfrm>
          </p:grpSpPr>
          <p:sp>
            <p:nvSpPr>
              <p:cNvPr id="222" name="AutoShape 20"/>
              <p:cNvSpPr/>
              <p:nvPr/>
            </p:nvSpPr>
            <p:spPr>
              <a:xfrm>
                <a:off x="2587680" y="3052800"/>
                <a:ext cx="4722120" cy="2433600"/>
              </a:xfrm>
              <a:prstGeom prst="roundRect">
                <a:avLst>
                  <a:gd name="adj" fmla="val 16667"/>
                </a:avLst>
              </a:prstGeom>
              <a:solidFill>
                <a:srgbClr val="fed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45"/>
              <p:cNvSpPr/>
              <p:nvPr/>
            </p:nvSpPr>
            <p:spPr>
              <a:xfrm>
                <a:off x="2738880" y="4090320"/>
                <a:ext cx="445428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Rectangle 26"/>
          <p:cNvSpPr/>
          <p:nvPr/>
        </p:nvSpPr>
        <p:spPr>
          <a:xfrm>
            <a:off x="2741760" y="3213000"/>
            <a:ext cx="4572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sh to increase shareholder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mphasis(stress) on productivity and cost sav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ufacturers add value through service and sell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re strategic alliances and outsou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cus on quality and customer satisf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owth of franchi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55440" y="2286000"/>
            <a:ext cx="1940040" cy="736560"/>
          </a:xfrm>
          <a:prstGeom prst="roundRect">
            <a:avLst>
              <a:gd name="adj" fmla="val 16667"/>
            </a:avLst>
          </a:prstGeom>
          <a:solidFill>
            <a:srgbClr val="61b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65240" y="2362320"/>
            <a:ext cx="1692000" cy="580680"/>
          </a:xfrm>
          <a:prstGeom prst="rect">
            <a:avLst/>
          </a:prstGeom>
          <a:solidFill>
            <a:srgbClr val="61b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34"/>
          <p:cNvSpPr/>
          <p:nvPr/>
        </p:nvSpPr>
        <p:spPr>
          <a:xfrm>
            <a:off x="6856560" y="2133720"/>
            <a:ext cx="0" cy="914400"/>
          </a:xfrm>
          <a:prstGeom prst="line">
            <a:avLst/>
          </a:prstGeom>
          <a:ln w="1584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6800" y="2286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Factors Stimulating Transformation of the Service Economy 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0" y="1422360"/>
            <a:ext cx="9834480" cy="3530520"/>
            <a:chOff x="0" y="1422360"/>
            <a:chExt cx="9834480" cy="3530520"/>
          </a:xfrm>
        </p:grpSpPr>
        <p:pic>
          <p:nvPicPr>
            <p:cNvPr id="230" name="Group 3" descr=""/>
            <p:cNvPicPr/>
            <p:nvPr/>
          </p:nvPicPr>
          <p:blipFill>
            <a:blip r:embed="rId1"/>
            <a:stretch/>
          </p:blipFill>
          <p:spPr>
            <a:xfrm>
              <a:off x="1943640" y="1422360"/>
              <a:ext cx="7890840" cy="15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Line 39"/>
            <p:cNvSpPr/>
            <p:nvPr/>
          </p:nvSpPr>
          <p:spPr>
            <a:xfrm>
              <a:off x="0" y="3369240"/>
              <a:ext cx="720" cy="0"/>
            </a:xfrm>
            <a:prstGeom prst="line">
              <a:avLst/>
            </a:prstGeom>
            <a:ln w="158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46"/>
            <p:cNvGrpSpPr/>
            <p:nvPr/>
          </p:nvGrpSpPr>
          <p:grpSpPr>
            <a:xfrm>
              <a:off x="2587680" y="3052440"/>
              <a:ext cx="4722120" cy="1900440"/>
              <a:chOff x="2587680" y="3052440"/>
              <a:chExt cx="4722120" cy="1900440"/>
            </a:xfrm>
          </p:grpSpPr>
          <p:sp>
            <p:nvSpPr>
              <p:cNvPr id="233" name="AutoShape 20"/>
              <p:cNvSpPr/>
              <p:nvPr/>
            </p:nvSpPr>
            <p:spPr>
              <a:xfrm>
                <a:off x="2587680" y="3052440"/>
                <a:ext cx="4722120" cy="1900440"/>
              </a:xfrm>
              <a:prstGeom prst="roundRect">
                <a:avLst>
                  <a:gd name="adj" fmla="val 16667"/>
                </a:avLst>
              </a:prstGeom>
              <a:solidFill>
                <a:srgbClr val="fed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45"/>
              <p:cNvSpPr/>
              <p:nvPr/>
            </p:nvSpPr>
            <p:spPr>
              <a:xfrm>
                <a:off x="2738880" y="4089600"/>
                <a:ext cx="445428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Rectangle 26"/>
          <p:cNvSpPr/>
          <p:nvPr/>
        </p:nvSpPr>
        <p:spPr>
          <a:xfrm>
            <a:off x="2741760" y="32130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owth of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eater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ct mobile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reless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er, more powerful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gitization of text, graphics, audio,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55440" y="2286000"/>
            <a:ext cx="1940040" cy="736560"/>
          </a:xfrm>
          <a:prstGeom prst="roundRect">
            <a:avLst>
              <a:gd name="adj" fmla="val 16667"/>
            </a:avLst>
          </a:prstGeom>
          <a:solidFill>
            <a:srgbClr val="61b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165240" y="2362320"/>
            <a:ext cx="1692000" cy="580680"/>
          </a:xfrm>
          <a:prstGeom prst="rect">
            <a:avLst/>
          </a:prstGeom>
          <a:solidFill>
            <a:srgbClr val="61b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Line 22"/>
          <p:cNvSpPr/>
          <p:nvPr/>
        </p:nvSpPr>
        <p:spPr>
          <a:xfrm flipV="1">
            <a:off x="8677440" y="2971440"/>
            <a:ext cx="7920" cy="10666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6800" y="2286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Factors Stimulating Transformation of the Service Economy 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5"/>
          <p:cNvGrpSpPr/>
          <p:nvPr/>
        </p:nvGrpSpPr>
        <p:grpSpPr>
          <a:xfrm>
            <a:off x="0" y="1422360"/>
            <a:ext cx="9834480" cy="3530520"/>
            <a:chOff x="0" y="1422360"/>
            <a:chExt cx="9834480" cy="3530520"/>
          </a:xfrm>
        </p:grpSpPr>
        <p:pic>
          <p:nvPicPr>
            <p:cNvPr id="241" name="Group 3" descr=""/>
            <p:cNvPicPr/>
            <p:nvPr/>
          </p:nvPicPr>
          <p:blipFill>
            <a:blip r:embed="rId1"/>
            <a:stretch/>
          </p:blipFill>
          <p:spPr>
            <a:xfrm>
              <a:off x="1943640" y="1422360"/>
              <a:ext cx="7890840" cy="15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Line 39"/>
            <p:cNvSpPr/>
            <p:nvPr/>
          </p:nvSpPr>
          <p:spPr>
            <a:xfrm>
              <a:off x="0" y="3369240"/>
              <a:ext cx="720" cy="0"/>
            </a:xfrm>
            <a:prstGeom prst="line">
              <a:avLst/>
            </a:prstGeom>
            <a:ln w="158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46"/>
            <p:cNvGrpSpPr/>
            <p:nvPr/>
          </p:nvGrpSpPr>
          <p:grpSpPr>
            <a:xfrm>
              <a:off x="2512080" y="3052440"/>
              <a:ext cx="4797720" cy="1900440"/>
              <a:chOff x="2512080" y="3052440"/>
              <a:chExt cx="4797720" cy="1900440"/>
            </a:xfrm>
          </p:grpSpPr>
          <p:sp>
            <p:nvSpPr>
              <p:cNvPr id="244" name="AutoShape 20"/>
              <p:cNvSpPr/>
              <p:nvPr/>
            </p:nvSpPr>
            <p:spPr>
              <a:xfrm>
                <a:off x="2512080" y="3052440"/>
                <a:ext cx="4797720" cy="1900440"/>
              </a:xfrm>
              <a:prstGeom prst="roundRect">
                <a:avLst>
                  <a:gd name="adj" fmla="val 16667"/>
                </a:avLst>
              </a:prstGeom>
              <a:solidFill>
                <a:srgbClr val="fed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45"/>
              <p:cNvSpPr/>
              <p:nvPr/>
            </p:nvSpPr>
            <p:spPr>
              <a:xfrm>
                <a:off x="2738880" y="4089600"/>
                <a:ext cx="445428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Rectangle 26"/>
          <p:cNvSpPr/>
          <p:nvPr/>
        </p:nvSpPr>
        <p:spPr>
          <a:xfrm>
            <a:off x="2741760" y="3213000"/>
            <a:ext cx="45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re companies operating on transnational(international) ba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d international tra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national mergers and alli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fshoring”(far from) of customer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eign competitors invade domestic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55440" y="2286000"/>
            <a:ext cx="1940040" cy="736560"/>
          </a:xfrm>
          <a:prstGeom prst="roundRect">
            <a:avLst>
              <a:gd name="adj" fmla="val 16667"/>
            </a:avLst>
          </a:prstGeom>
          <a:solidFill>
            <a:srgbClr val="61b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5240" y="2362320"/>
            <a:ext cx="1692000" cy="580680"/>
          </a:xfrm>
          <a:prstGeom prst="rect">
            <a:avLst/>
          </a:prstGeom>
          <a:solidFill>
            <a:srgbClr val="61b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3"/>
          <p:cNvSpPr/>
          <p:nvPr/>
        </p:nvSpPr>
        <p:spPr>
          <a:xfrm flipH="1" flipV="1">
            <a:off x="7313760" y="4038480"/>
            <a:ext cx="1358640" cy="12960"/>
          </a:xfrm>
          <a:prstGeom prst="line">
            <a:avLst/>
          </a:prstGeom>
          <a:ln w="255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What are Servi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re Services?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e historical view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781200" indent="-3812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mith (1776): Services are different from goods because they ar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perishable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13c7d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13c7d"/>
              </a:solidFill>
              <a:latin typeface="Arial"/>
            </a:endParaRPr>
          </a:p>
          <a:p>
            <a:pPr lvl="1" marL="781200" indent="-3812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ay (1803): As services ar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mmaterial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onsumption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annot be separated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 from production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A fresh perspective: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Benefits without Ownership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781200" indent="-3812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Rental of goods: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2" marL="911160" indent="0">
              <a:spcBef>
                <a:spcPts val="1199"/>
              </a:spcBef>
              <a:buNone/>
              <a:tabLst>
                <a:tab algn="l" pos="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i="1" lang="en-US" sz="1800" spc="-1" strike="noStrike">
                <a:solidFill>
                  <a:srgbClr val="013c7d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13c7d"/>
                </a:solidFill>
                <a:latin typeface="Arial"/>
              </a:rPr>
              <a:t>(a) Payment made for using or accessing something – usually for a defined period of time – instead of buying it outright and</a:t>
            </a:r>
            <a:endParaRPr b="1" i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2" marL="911160" indent="0">
              <a:spcBef>
                <a:spcPts val="1199"/>
              </a:spcBef>
              <a:buNone/>
              <a:tabLst>
                <a:tab algn="l" pos="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i="1" lang="en-US" sz="1800" spc="-1" strike="noStrike">
                <a:solidFill>
                  <a:srgbClr val="013c7d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13c7d"/>
                </a:solidFill>
                <a:latin typeface="Arial"/>
              </a:rPr>
              <a:t>(b) Allows participation in network systems that individuals and organizations could not afford</a:t>
            </a:r>
            <a:endParaRPr b="1" i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1" marL="781200" indent="0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16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re Services?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Diagram 3" descr=""/>
          <p:cNvPicPr/>
          <p:nvPr/>
        </p:nvPicPr>
        <p:blipFill>
          <a:blip r:embed="rId1"/>
          <a:stretch/>
        </p:blipFill>
        <p:spPr>
          <a:xfrm>
            <a:off x="712800" y="2664000"/>
            <a:ext cx="8480520" cy="359064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4"/>
          <p:cNvSpPr/>
          <p:nvPr/>
        </p:nvSpPr>
        <p:spPr>
          <a:xfrm>
            <a:off x="760320" y="1565280"/>
            <a:ext cx="8382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Five broad categories within non-ownership framework of which two or more may be comb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ion of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s 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r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conomic activities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offered by one party to another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ost commonly employ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ime-based performances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o bring about desired result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In exchange for their money, time, and effort, service customers expect to obtain value from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ccess to goods, labor, facilities, environments, professional skills, networks, and systems;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normally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o not take ownership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of any of the physical elements involved.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2" marL="1214280" indent="0">
              <a:buNone/>
              <a:tabLst>
                <a:tab algn="l" pos="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i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ue Creation is Dominated by Intangible El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47520" y="1295280"/>
            <a:ext cx="200844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ysical Elements</a:t>
            </a:r>
            <a:r>
              <a:rPr b="1" lang="en-US" sz="14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39760" y="5972040"/>
            <a:ext cx="825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442800" y="2133720"/>
            <a:ext cx="12960" cy="388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8913960" y="5972040"/>
            <a:ext cx="784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"/>
          <p:cNvSpPr/>
          <p:nvPr/>
        </p:nvSpPr>
        <p:spPr>
          <a:xfrm flipV="1">
            <a:off x="836640" y="6159240"/>
            <a:ext cx="8028000" cy="1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9"/>
          <p:cNvSpPr/>
          <p:nvPr/>
        </p:nvSpPr>
        <p:spPr>
          <a:xfrm>
            <a:off x="0" y="6324480"/>
            <a:ext cx="9599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  <a:ea typeface="Arial"/>
              </a:rPr>
              <a:t>Source;  Adapted from Lynn Sho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65"/>
          <p:cNvGrpSpPr/>
          <p:nvPr/>
        </p:nvGrpSpPr>
        <p:grpSpPr>
          <a:xfrm>
            <a:off x="227160" y="1832040"/>
            <a:ext cx="9626400" cy="4278600"/>
            <a:chOff x="227160" y="1832040"/>
            <a:chExt cx="9626400" cy="4278600"/>
          </a:xfrm>
        </p:grpSpPr>
        <p:grpSp>
          <p:nvGrpSpPr>
            <p:cNvPr id="266" name="Group 46"/>
            <p:cNvGrpSpPr/>
            <p:nvPr/>
          </p:nvGrpSpPr>
          <p:grpSpPr>
            <a:xfrm>
              <a:off x="227160" y="2212920"/>
              <a:ext cx="9169560" cy="3232080"/>
              <a:chOff x="227160" y="2212920"/>
              <a:chExt cx="9169560" cy="3232080"/>
            </a:xfrm>
          </p:grpSpPr>
          <p:grpSp>
            <p:nvGrpSpPr>
              <p:cNvPr id="267" name="Group 44"/>
              <p:cNvGrpSpPr/>
              <p:nvPr/>
            </p:nvGrpSpPr>
            <p:grpSpPr>
              <a:xfrm>
                <a:off x="227160" y="2212920"/>
                <a:ext cx="4751280" cy="2244600"/>
                <a:chOff x="227160" y="2212920"/>
                <a:chExt cx="4751280" cy="2244600"/>
              </a:xfrm>
            </p:grpSpPr>
            <p:sp>
              <p:nvSpPr>
                <p:cNvPr id="268" name="Text Box 27"/>
                <p:cNvSpPr/>
                <p:nvPr/>
              </p:nvSpPr>
              <p:spPr>
                <a:xfrm>
                  <a:off x="330120" y="2212920"/>
                  <a:ext cx="108612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4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alt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Text Box 28"/>
                <p:cNvSpPr/>
                <p:nvPr/>
              </p:nvSpPr>
              <p:spPr>
                <a:xfrm>
                  <a:off x="227160" y="2482200"/>
                  <a:ext cx="200772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4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tergents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Text Box 29"/>
                <p:cNvSpPr/>
                <p:nvPr/>
              </p:nvSpPr>
              <p:spPr>
                <a:xfrm>
                  <a:off x="864720" y="2710800"/>
                  <a:ext cx="145764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4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D Player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Text Box 30"/>
                <p:cNvSpPr/>
                <p:nvPr/>
              </p:nvSpPr>
              <p:spPr>
                <a:xfrm>
                  <a:off x="1738080" y="2974320"/>
                  <a:ext cx="118260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4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ine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Text Box 31"/>
                <p:cNvSpPr/>
                <p:nvPr/>
              </p:nvSpPr>
              <p:spPr>
                <a:xfrm>
                  <a:off x="1796400" y="3244320"/>
                  <a:ext cx="158148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4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olf Clubs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Text Box 32"/>
                <p:cNvSpPr/>
                <p:nvPr/>
              </p:nvSpPr>
              <p:spPr>
                <a:xfrm>
                  <a:off x="2472120" y="3511080"/>
                  <a:ext cx="121032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4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ew Car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Text Box 33"/>
                <p:cNvSpPr/>
                <p:nvPr/>
              </p:nvSpPr>
              <p:spPr>
                <a:xfrm>
                  <a:off x="2208960" y="3736440"/>
                  <a:ext cx="200772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4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ailored clothing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Text Box 34"/>
                <p:cNvSpPr/>
                <p:nvPr/>
              </p:nvSpPr>
              <p:spPr>
                <a:xfrm>
                  <a:off x="1938960" y="4044240"/>
                  <a:ext cx="303948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4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ast-Food Restaurant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45"/>
              <p:cNvGrpSpPr/>
              <p:nvPr/>
            </p:nvGrpSpPr>
            <p:grpSpPr>
              <a:xfrm>
                <a:off x="5131800" y="3663360"/>
                <a:ext cx="2311560" cy="717840"/>
                <a:chOff x="5131800" y="3663360"/>
                <a:chExt cx="2311560" cy="717840"/>
              </a:xfrm>
            </p:grpSpPr>
            <p:sp>
              <p:nvSpPr>
                <p:cNvPr id="277" name="Text Box 36"/>
                <p:cNvSpPr/>
                <p:nvPr/>
              </p:nvSpPr>
              <p:spPr>
                <a:xfrm>
                  <a:off x="5131800" y="3663360"/>
                  <a:ext cx="200772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4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lumbing Repair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Text Box 37"/>
                <p:cNvSpPr/>
                <p:nvPr/>
              </p:nvSpPr>
              <p:spPr>
                <a:xfrm>
                  <a:off x="5436000" y="3967920"/>
                  <a:ext cx="200736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4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ealth Club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Text Box 38"/>
              <p:cNvSpPr/>
              <p:nvPr/>
            </p:nvSpPr>
            <p:spPr>
              <a:xfrm>
                <a:off x="5893560" y="4196880"/>
                <a:ext cx="2007720" cy="4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4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irline Flight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40"/>
              <p:cNvSpPr/>
              <p:nvPr/>
            </p:nvSpPr>
            <p:spPr>
              <a:xfrm>
                <a:off x="6219720" y="4501440"/>
                <a:ext cx="3177000" cy="4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4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andscape Maintenanc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41"/>
              <p:cNvSpPr/>
              <p:nvPr/>
            </p:nvSpPr>
            <p:spPr>
              <a:xfrm>
                <a:off x="6780600" y="4803120"/>
                <a:ext cx="2007720" cy="4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4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sulting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42"/>
              <p:cNvSpPr/>
              <p:nvPr/>
            </p:nvSpPr>
            <p:spPr>
              <a:xfrm>
                <a:off x="7340760" y="5031720"/>
                <a:ext cx="2008080" cy="4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4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fe Insuranc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Text Box 43"/>
            <p:cNvSpPr/>
            <p:nvPr/>
          </p:nvSpPr>
          <p:spPr>
            <a:xfrm>
              <a:off x="7845480" y="5336640"/>
              <a:ext cx="20080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ternet Bank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47"/>
            <p:cNvGrpSpPr/>
            <p:nvPr/>
          </p:nvGrpSpPr>
          <p:grpSpPr>
            <a:xfrm>
              <a:off x="1016280" y="1832040"/>
              <a:ext cx="7234200" cy="4278600"/>
              <a:chOff x="1016280" y="1832040"/>
              <a:chExt cx="7234200" cy="4278600"/>
            </a:xfrm>
          </p:grpSpPr>
          <p:sp>
            <p:nvSpPr>
              <p:cNvPr id="285" name="Rectangle 48"/>
              <p:cNvSpPr/>
              <p:nvPr/>
            </p:nvSpPr>
            <p:spPr>
              <a:xfrm rot="1744800">
                <a:off x="612000" y="3759480"/>
                <a:ext cx="8042400" cy="423000"/>
              </a:xfrm>
              <a:prstGeom prst="rect">
                <a:avLst/>
              </a:prstGeom>
              <a:solidFill>
                <a:srgbClr val="b01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49"/>
              <p:cNvSpPr/>
              <p:nvPr/>
            </p:nvSpPr>
            <p:spPr>
              <a:xfrm rot="1744800">
                <a:off x="1742040" y="230616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50"/>
              <p:cNvSpPr/>
              <p:nvPr/>
            </p:nvSpPr>
            <p:spPr>
              <a:xfrm rot="1744800">
                <a:off x="2167920" y="254304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 rot="1744800">
                <a:off x="2593800" y="277992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 rot="1744800">
                <a:off x="3445920" y="325368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 rot="1744800">
                <a:off x="3020040" y="301680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 rot="1744800">
                <a:off x="3871800" y="349056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 rot="1744800">
                <a:off x="4723920" y="396468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 rot="1744800">
                <a:off x="5149800" y="420156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 rot="1744800">
                <a:off x="4298040" y="372744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 rot="1744800">
                <a:off x="5576040" y="443844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 rot="1744800">
                <a:off x="7705800" y="562284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 rot="1744800">
                <a:off x="6001920" y="467532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 rot="1744800">
                <a:off x="6854040" y="514908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 rot="1744800">
                <a:off x="6427800" y="491220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63"/>
              <p:cNvSpPr/>
              <p:nvPr/>
            </p:nvSpPr>
            <p:spPr>
              <a:xfrm rot="1744800">
                <a:off x="7279920" y="538596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 rot="1744800">
                <a:off x="1315800" y="206928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TextBox 66"/>
          <p:cNvSpPr/>
          <p:nvPr/>
        </p:nvSpPr>
        <p:spPr>
          <a:xfrm>
            <a:off x="3732120" y="6172200"/>
            <a:ext cx="2362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angible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view of Chapter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7680" y="1590840"/>
            <a:ext cx="9407520" cy="4495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lnSpc>
                <a:spcPct val="150000"/>
              </a:lnSpc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Why Study Services?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What are Services?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arketing Challenges Posed(modeled) by Servic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xtended Marketing Mix Required for Servic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ntegration (mixing) of Marketing with Other Management Function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Developing Effective Service Marketing Strategi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Products vs. Customer Service &amp; After-Sales Serv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A firm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 market offerings are divided into core product elements and supplementary service elemen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Need to distinguish between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arketing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of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ervices – when service is the core produc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arketing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through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ervice – when good service increases the value of a core physical good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anufacturing firms are reformulating and enhancing existing added-value services to market them as stand-alone core produc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– A Process Perspe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Differences exist amongst services depending on what is being processed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assification of services into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ff6600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People processing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ff6600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Possession processing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ff6600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ental stimulus processing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ff6600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nformation processing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 Categories of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3" descr="PPT44"/>
          <p:cNvPicPr/>
          <p:nvPr/>
        </p:nvPicPr>
        <p:blipFill>
          <a:blip r:embed="rId1"/>
          <a:stretch/>
        </p:blipFill>
        <p:spPr>
          <a:xfrm>
            <a:off x="912960" y="1752480"/>
            <a:ext cx="779436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Proces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3120" y="2209680"/>
            <a:ext cx="9068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indent="34128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Customers mu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2880">
              <a:lnSpc>
                <a:spcPct val="100000"/>
              </a:lnSpc>
              <a:spcBef>
                <a:spcPts val="20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  <a:ea typeface="Arial"/>
              </a:rPr>
              <a:t>physically enter the service fa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2880">
              <a:lnSpc>
                <a:spcPct val="100000"/>
              </a:lnSpc>
              <a:spcBef>
                <a:spcPts val="20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  <a:ea typeface="Arial"/>
              </a:rPr>
              <a:t>cooperate actively with the servic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128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Managers should think about process and output from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th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customer’s perspe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2880">
              <a:lnSpc>
                <a:spcPct val="100000"/>
              </a:lnSpc>
              <a:spcBef>
                <a:spcPts val="20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  <a:ea typeface="Arial"/>
              </a:rPr>
              <a:t>to identify benefits created and non-financial costs: Time, mental and physical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" descr="PPT45"/>
          <p:cNvPicPr/>
          <p:nvPr/>
        </p:nvPicPr>
        <p:blipFill>
          <a:blip r:embed="rId1"/>
          <a:stretch/>
        </p:blipFill>
        <p:spPr>
          <a:xfrm>
            <a:off x="5637240" y="1371600"/>
            <a:ext cx="4125960" cy="1951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ession Proces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303120" y="2209680"/>
            <a:ext cx="9068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indent="34128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Involvement is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128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Less physic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128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Production and consumption ar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6" descr="PPT45"/>
          <p:cNvPicPr/>
          <p:nvPr/>
        </p:nvPicPr>
        <p:blipFill>
          <a:blip r:embed="rId1"/>
          <a:stretch/>
        </p:blipFill>
        <p:spPr>
          <a:xfrm>
            <a:off x="5408640" y="1447920"/>
            <a:ext cx="4125960" cy="1950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al Stimulus Proces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227160" y="2209680"/>
            <a:ext cx="906768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indent="34128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Ethical standards requi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2880">
              <a:lnSpc>
                <a:spcPct val="100000"/>
              </a:lnSpc>
              <a:spcBef>
                <a:spcPts val="15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13c7d"/>
                </a:solidFill>
                <a:latin typeface="Arial"/>
                <a:ea typeface="Arial"/>
              </a:rPr>
              <a:t>Customers might be manipulated(oper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4128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Physical presence of recipients not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128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Core content of services is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 information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28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6" descr="PPT45"/>
          <p:cNvPicPr/>
          <p:nvPr/>
        </p:nvPicPr>
        <p:blipFill>
          <a:blip r:embed="rId1"/>
          <a:stretch/>
        </p:blipFill>
        <p:spPr>
          <a:xfrm>
            <a:off x="5408640" y="1447920"/>
            <a:ext cx="4125960" cy="1950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Proces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303120" y="2209680"/>
            <a:ext cx="9068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indent="341280">
              <a:lnSpc>
                <a:spcPct val="100000"/>
              </a:lnSpc>
              <a:spcBef>
                <a:spcPts val="2401"/>
              </a:spcBef>
              <a:buClr>
                <a:srgbClr val="013c7d"/>
              </a:buClr>
              <a:buFont typeface="Webdings" charset="2"/>
              <a:buChar char="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Most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intangible form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of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1280">
              <a:lnSpc>
                <a:spcPct val="100000"/>
              </a:lnSpc>
              <a:spcBef>
                <a:spcPts val="2401"/>
              </a:spcBef>
              <a:buClr>
                <a:srgbClr val="013c7d"/>
              </a:buClr>
              <a:buFont typeface="Webdings" charset="2"/>
              <a:buChar char="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May be transform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2880">
              <a:lnSpc>
                <a:spcPct val="100000"/>
              </a:lnSpc>
              <a:spcBef>
                <a:spcPts val="20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  <a:ea typeface="Arial"/>
              </a:rPr>
              <a:t>Into enduring(durable) forms of service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1280">
              <a:lnSpc>
                <a:spcPct val="100000"/>
              </a:lnSpc>
              <a:spcBef>
                <a:spcPts val="2401"/>
              </a:spcBef>
              <a:buClr>
                <a:srgbClr val="013c7d"/>
              </a:buClr>
              <a:buFont typeface="Webdings" charset="2"/>
              <a:buChar char="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Line between information processing and mental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stimulus processing may be un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PPT45"/>
          <p:cNvPicPr/>
          <p:nvPr/>
        </p:nvPicPr>
        <p:blipFill>
          <a:blip r:embed="rId1"/>
          <a:stretch/>
        </p:blipFill>
        <p:spPr>
          <a:xfrm>
            <a:off x="5776920" y="1447920"/>
            <a:ext cx="4125960" cy="1950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Extended Marketing Mix for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s Requir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 Extended Marketing Mi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arketing can be viewed as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 strategy and competition thrust pursued by top managemen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 set of functional activities performed by line managers (low level managers).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 customer-driven orientation(direction) for the entire organization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arketing is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nly function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o bring revenues into a business; the rest functions are cost center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7 Ps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” of services marketing are needed to create practical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trategies for meeting customer needs profitabl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7Ps of Services Marke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raditional Marketing Mix Applied to Servic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roduct </a:t>
            </a:r>
            <a:r>
              <a:rPr b="1" i="1" lang="en-US" sz="2000" spc="-1" strike="noStrike">
                <a:solidFill>
                  <a:srgbClr val="013c7d"/>
                </a:solidFill>
                <a:latin typeface="Arial"/>
              </a:rPr>
              <a:t>(Chapter 4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lace and Time </a:t>
            </a:r>
            <a:r>
              <a:rPr b="1" i="1" lang="en-US" sz="2000" spc="-1" strike="noStrike">
                <a:solidFill>
                  <a:srgbClr val="013c7d"/>
                </a:solidFill>
                <a:latin typeface="Arial"/>
              </a:rPr>
              <a:t>(Chapter 5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rice </a:t>
            </a:r>
            <a:r>
              <a:rPr b="1" i="1" lang="en-US" sz="2000" spc="-1" strike="noStrike">
                <a:solidFill>
                  <a:srgbClr val="013c7d"/>
                </a:solidFill>
                <a:latin typeface="Arial"/>
              </a:rPr>
              <a:t>(Chapter 6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romotion and Education </a:t>
            </a:r>
            <a:r>
              <a:rPr b="1" i="1" lang="en-US" sz="2000" spc="-1" strike="noStrike">
                <a:solidFill>
                  <a:srgbClr val="013c7d"/>
                </a:solidFill>
                <a:latin typeface="Arial"/>
              </a:rPr>
              <a:t>(Chapter 7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Extended Marketing Mix for Services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rocess (</a:t>
            </a:r>
            <a:r>
              <a:rPr b="1" i="1" lang="en-US" sz="2000" spc="-1" strike="noStrike">
                <a:solidFill>
                  <a:srgbClr val="013c7d"/>
                </a:solidFill>
                <a:latin typeface="Arial"/>
              </a:rPr>
              <a:t>Chapter 8 &amp; 9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hysical Environment </a:t>
            </a:r>
            <a:r>
              <a:rPr b="1" i="1" lang="en-US" sz="2000" spc="-1" strike="noStrike">
                <a:solidFill>
                  <a:srgbClr val="013c7d"/>
                </a:solidFill>
                <a:latin typeface="Arial"/>
              </a:rPr>
              <a:t>(Chapter 10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eople </a:t>
            </a:r>
            <a:r>
              <a:rPr b="1" i="1" lang="en-US" sz="2000" spc="-1" strike="noStrike">
                <a:solidFill>
                  <a:srgbClr val="013c7d"/>
                </a:solidFill>
                <a:latin typeface="Arial"/>
              </a:rPr>
              <a:t>(Chapter 11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Why Study Servi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Integration (mixing) of Marketing with Other Managemen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to be Integrated with Other Management Function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0" algn="ctr">
              <a:spcAft>
                <a:spcPts val="2100"/>
              </a:spcAft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ree management functions play central and interrelated roles in meeting needs of service customer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Aft>
                <a:spcPts val="2100"/>
              </a:spcAft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Aft>
                <a:spcPts val="1576"/>
              </a:spcAft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Aft>
                <a:spcPts val="1576"/>
              </a:spcAft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Aft>
                <a:spcPts val="1576"/>
              </a:spcAft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</p:txBody>
      </p:sp>
      <p:grpSp>
        <p:nvGrpSpPr>
          <p:cNvPr id="329" name="Group 39"/>
          <p:cNvGrpSpPr/>
          <p:nvPr/>
        </p:nvGrpSpPr>
        <p:grpSpPr>
          <a:xfrm>
            <a:off x="1446120" y="2590920"/>
            <a:ext cx="7207200" cy="3499920"/>
            <a:chOff x="1446120" y="2590920"/>
            <a:chExt cx="7207200" cy="3499920"/>
          </a:xfrm>
        </p:grpSpPr>
        <p:sp>
          <p:nvSpPr>
            <p:cNvPr id="330" name="Oval 40"/>
            <p:cNvSpPr/>
            <p:nvPr/>
          </p:nvSpPr>
          <p:spPr>
            <a:xfrm>
              <a:off x="3386520" y="2590920"/>
              <a:ext cx="3330720" cy="2768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a15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41"/>
            <p:cNvSpPr/>
            <p:nvPr/>
          </p:nvSpPr>
          <p:spPr>
            <a:xfrm>
              <a:off x="4287240" y="3945960"/>
              <a:ext cx="159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stom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42"/>
            <p:cNvSpPr/>
            <p:nvPr/>
          </p:nvSpPr>
          <p:spPr>
            <a:xfrm>
              <a:off x="1446120" y="3003120"/>
              <a:ext cx="2495880" cy="731880"/>
            </a:xfrm>
            <a:prstGeom prst="rect">
              <a:avLst/>
            </a:prstGeom>
            <a:solidFill>
              <a:srgbClr val="fed46c"/>
            </a:solidFill>
            <a:ln w="25560">
              <a:solidFill>
                <a:srgbClr val="b2e3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43"/>
            <p:cNvSpPr/>
            <p:nvPr/>
          </p:nvSpPr>
          <p:spPr>
            <a:xfrm>
              <a:off x="6089400" y="3062160"/>
              <a:ext cx="2563920" cy="731880"/>
            </a:xfrm>
            <a:prstGeom prst="rect">
              <a:avLst/>
            </a:prstGeom>
            <a:solidFill>
              <a:srgbClr val="fed46c"/>
            </a:solidFill>
            <a:ln w="25560">
              <a:solidFill>
                <a:srgbClr val="b2e3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keting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44"/>
            <p:cNvSpPr/>
            <p:nvPr/>
          </p:nvSpPr>
          <p:spPr>
            <a:xfrm>
              <a:off x="3525120" y="5358960"/>
              <a:ext cx="2906280" cy="731880"/>
            </a:xfrm>
            <a:prstGeom prst="rect">
              <a:avLst/>
            </a:prstGeom>
            <a:solidFill>
              <a:srgbClr val="fed46c"/>
            </a:solidFill>
            <a:ln w="25560">
              <a:solidFill>
                <a:srgbClr val="b2e3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man Resources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7"/>
            <p:cNvSpPr/>
            <p:nvPr/>
          </p:nvSpPr>
          <p:spPr>
            <a:xfrm>
              <a:off x="4718880" y="5303880"/>
              <a:ext cx="155520" cy="77040"/>
            </a:xfrm>
            <a:prstGeom prst="pi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8"/>
            <p:cNvSpPr/>
            <p:nvPr/>
          </p:nvSpPr>
          <p:spPr>
            <a:xfrm>
              <a:off x="3350160" y="3677040"/>
              <a:ext cx="87840" cy="132480"/>
            </a:xfrm>
            <a:prstGeom prst="pi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1"/>
            <p:cNvSpPr/>
            <p:nvPr/>
          </p:nvSpPr>
          <p:spPr>
            <a:xfrm>
              <a:off x="6704280" y="3753360"/>
              <a:ext cx="83520" cy="132480"/>
            </a:xfrm>
            <a:prstGeom prst="pi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52"/>
            <p:cNvSpPr/>
            <p:nvPr/>
          </p:nvSpPr>
          <p:spPr>
            <a:xfrm>
              <a:off x="5326560" y="5257080"/>
              <a:ext cx="157320" cy="73440"/>
            </a:xfrm>
            <a:prstGeom prst="pi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5"/>
            <p:cNvSpPr/>
            <p:nvPr/>
          </p:nvSpPr>
          <p:spPr>
            <a:xfrm>
              <a:off x="3802320" y="2944440"/>
              <a:ext cx="138240" cy="120240"/>
            </a:xfrm>
            <a:prstGeom prst="pi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6"/>
            <p:cNvSpPr/>
            <p:nvPr/>
          </p:nvSpPr>
          <p:spPr>
            <a:xfrm>
              <a:off x="6262560" y="3003120"/>
              <a:ext cx="137160" cy="117720"/>
            </a:xfrm>
            <a:prstGeom prst="pi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7"/>
            <p:cNvSpPr/>
            <p:nvPr/>
          </p:nvSpPr>
          <p:spPr>
            <a:xfrm>
              <a:off x="4980240" y="4476240"/>
              <a:ext cx="32760" cy="833400"/>
            </a:xfrm>
            <a:prstGeom prst="pie">
              <a:avLst/>
            </a:prstGeom>
            <a:solidFill>
              <a:srgbClr val="7f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8"/>
            <p:cNvSpPr/>
            <p:nvPr/>
          </p:nvSpPr>
          <p:spPr>
            <a:xfrm>
              <a:off x="4961520" y="4351320"/>
              <a:ext cx="87840" cy="124920"/>
            </a:xfrm>
            <a:prstGeom prst="pie">
              <a:avLst/>
            </a:prstGeom>
            <a:solidFill>
              <a:srgbClr val="7f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9"/>
            <p:cNvSpPr/>
            <p:nvPr/>
          </p:nvSpPr>
          <p:spPr>
            <a:xfrm>
              <a:off x="3940920" y="3474720"/>
              <a:ext cx="620640" cy="359640"/>
            </a:xfrm>
            <a:prstGeom prst="pie">
              <a:avLst/>
            </a:prstGeom>
            <a:solidFill>
              <a:srgbClr val="7f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60"/>
            <p:cNvSpPr/>
            <p:nvPr/>
          </p:nvSpPr>
          <p:spPr>
            <a:xfrm>
              <a:off x="4498200" y="3777840"/>
              <a:ext cx="147240" cy="102960"/>
            </a:xfrm>
            <a:prstGeom prst="pie">
              <a:avLst/>
            </a:prstGeom>
            <a:solidFill>
              <a:srgbClr val="7f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1"/>
            <p:cNvSpPr/>
            <p:nvPr/>
          </p:nvSpPr>
          <p:spPr>
            <a:xfrm>
              <a:off x="5465520" y="3474720"/>
              <a:ext cx="621720" cy="359640"/>
            </a:xfrm>
            <a:prstGeom prst="pie">
              <a:avLst/>
            </a:prstGeom>
            <a:solidFill>
              <a:srgbClr val="7f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2"/>
            <p:cNvSpPr/>
            <p:nvPr/>
          </p:nvSpPr>
          <p:spPr>
            <a:xfrm>
              <a:off x="5377320" y="3777840"/>
              <a:ext cx="146880" cy="102960"/>
            </a:xfrm>
            <a:prstGeom prst="pie">
              <a:avLst/>
            </a:prstGeom>
            <a:solidFill>
              <a:srgbClr val="7f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Study Service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s dominate most economies and are growing rapidly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ervices account for more than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0% of GDP worldwid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lmost all economies have a substantial</a:t>
            </a:r>
            <a:r>
              <a:rPr b="1" lang="ar-SA" sz="2000" spc="-1" strike="noStrike">
                <a:solidFill>
                  <a:srgbClr val="013c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13c7d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13c7d"/>
                </a:solidFill>
                <a:latin typeface="Arial"/>
              </a:rPr>
              <a:t>worth</a:t>
            </a:r>
            <a:r>
              <a:rPr b="1" i="1" lang="en-US" sz="2000" spc="-1" strike="noStrike">
                <a:solidFill>
                  <a:srgbClr val="013c7d"/>
                </a:solidFill>
                <a:latin typeface="Arial"/>
              </a:rPr>
              <a:t>)</a:t>
            </a:r>
            <a:r>
              <a:rPr b="1" lang="ar-SA" sz="2000" spc="-1" strike="noStrike">
                <a:solidFill>
                  <a:srgbClr val="013c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ervice sector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ost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new employment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s provided by services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trongest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rowth area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for marketing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buNone/>
              <a:tabLst>
                <a:tab algn="l" pos="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s Dominate the Global Econom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0" algn="ctr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tribution of Service Industries to GDP Globall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pic>
        <p:nvPicPr>
          <p:cNvPr id="162" name="Object 38" descr=""/>
          <p:cNvPicPr/>
          <p:nvPr/>
        </p:nvPicPr>
        <p:blipFill>
          <a:blip r:embed="rId1"/>
          <a:stretch/>
        </p:blipFill>
        <p:spPr>
          <a:xfrm>
            <a:off x="988920" y="213372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2"/>
          <p:cNvSpPr/>
          <p:nvPr/>
        </p:nvSpPr>
        <p:spPr>
          <a:xfrm>
            <a:off x="76320" y="6249960"/>
            <a:ext cx="944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Source: The World Factbook 2008, Central Intelligence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6780240" y="4191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7d"/>
                </a:solidFill>
                <a:latin typeface="Arial"/>
                <a:ea typeface="Arial"/>
              </a:rPr>
              <a:t>Services 6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159876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7d"/>
                </a:solidFill>
                <a:latin typeface="Arial"/>
                <a:ea typeface="Arial"/>
              </a:rPr>
              <a:t>Agriculture 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1065240" y="2644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7d"/>
                </a:solidFill>
                <a:latin typeface="Arial"/>
                <a:ea typeface="Arial"/>
              </a:rPr>
              <a:t>Manufacturing 3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roup 12" descr=""/>
          <p:cNvPicPr/>
          <p:nvPr/>
        </p:nvPicPr>
        <p:blipFill>
          <a:blip r:embed="rId1"/>
          <a:stretch/>
        </p:blipFill>
        <p:spPr>
          <a:xfrm>
            <a:off x="285840" y="1438200"/>
            <a:ext cx="9096120" cy="4896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imated Size of Service Sector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Selected Count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74520" y="6319800"/>
            <a:ext cx="960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Source: The World Factbook 2008, Central Intelligence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Study Services?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2760" y="175212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5760" indent="-45576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ost new jobs are generated by servic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04760" indent="-512640">
              <a:spcBef>
                <a:spcPts val="1800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Fastest growth expected in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knowledge-based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ndustri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04760" indent="-512640">
              <a:spcBef>
                <a:spcPts val="1800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ignificant training and educational qualifications required,                           but employees will b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ore highly compensated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04760" indent="0">
              <a:spcBef>
                <a:spcPts val="1800"/>
              </a:spcBef>
              <a:buNone/>
              <a:tabLst>
                <a:tab algn="l" pos="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Study Services?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owerful forces ar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ransforming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 service marke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Government policies, social changes, business trends,          advances in IT, internationalization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rces that reshape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Demand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uppl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he competitive landscape (site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ustomers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 choices, power, and decision making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formation of th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Econom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41"/>
          <p:cNvGrpSpPr/>
          <p:nvPr/>
        </p:nvGrpSpPr>
        <p:grpSpPr>
          <a:xfrm>
            <a:off x="61920" y="1406520"/>
            <a:ext cx="9779040" cy="5130720"/>
            <a:chOff x="61920" y="1406520"/>
            <a:chExt cx="9779040" cy="5130720"/>
          </a:xfrm>
        </p:grpSpPr>
        <p:pic>
          <p:nvPicPr>
            <p:cNvPr id="176" name="Group 3" descr=""/>
            <p:cNvPicPr/>
            <p:nvPr/>
          </p:nvPicPr>
          <p:blipFill>
            <a:blip r:embed="rId1"/>
            <a:stretch/>
          </p:blipFill>
          <p:spPr>
            <a:xfrm>
              <a:off x="61920" y="1406520"/>
              <a:ext cx="9779040" cy="158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Group 22" descr=""/>
            <p:cNvPicPr/>
            <p:nvPr/>
          </p:nvPicPr>
          <p:blipFill>
            <a:blip r:embed="rId2"/>
            <a:stretch/>
          </p:blipFill>
          <p:spPr>
            <a:xfrm>
              <a:off x="1048320" y="3889800"/>
              <a:ext cx="798300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Group 25" descr=""/>
            <p:cNvPicPr/>
            <p:nvPr/>
          </p:nvPicPr>
          <p:blipFill>
            <a:blip r:embed="rId3"/>
            <a:stretch/>
          </p:blipFill>
          <p:spPr>
            <a:xfrm>
              <a:off x="1036080" y="4650480"/>
              <a:ext cx="798300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Group 48" descr=""/>
            <p:cNvPicPr/>
            <p:nvPr/>
          </p:nvPicPr>
          <p:blipFill>
            <a:blip r:embed="rId4"/>
            <a:stretch/>
          </p:blipFill>
          <p:spPr>
            <a:xfrm>
              <a:off x="1023840" y="5374800"/>
              <a:ext cx="7983000" cy="11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31"/>
            <p:cNvSpPr/>
            <p:nvPr/>
          </p:nvSpPr>
          <p:spPr>
            <a:xfrm>
              <a:off x="4656240" y="3744000"/>
              <a:ext cx="14040" cy="1774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>
              <a:off x="4656240" y="4466880"/>
              <a:ext cx="14040" cy="1774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3"/>
            <p:cNvSpPr/>
            <p:nvPr/>
          </p:nvSpPr>
          <p:spPr>
            <a:xfrm>
              <a:off x="4656240" y="5189760"/>
              <a:ext cx="14040" cy="1774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4"/>
            <p:cNvSpPr/>
            <p:nvPr/>
          </p:nvSpPr>
          <p:spPr>
            <a:xfrm>
              <a:off x="2939040" y="2209680"/>
              <a:ext cx="0" cy="506880"/>
            </a:xfrm>
            <a:prstGeom prst="line">
              <a:avLst/>
            </a:prstGeom>
            <a:ln w="158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5"/>
            <p:cNvSpPr/>
            <p:nvPr/>
          </p:nvSpPr>
          <p:spPr>
            <a:xfrm>
              <a:off x="4959360" y="2209680"/>
              <a:ext cx="0" cy="506880"/>
            </a:xfrm>
            <a:prstGeom prst="line">
              <a:avLst/>
            </a:prstGeom>
            <a:ln w="158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6"/>
            <p:cNvSpPr/>
            <p:nvPr/>
          </p:nvSpPr>
          <p:spPr>
            <a:xfrm>
              <a:off x="6938280" y="2197080"/>
              <a:ext cx="0" cy="506880"/>
            </a:xfrm>
            <a:prstGeom prst="line">
              <a:avLst/>
            </a:prstGeom>
            <a:ln w="158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37"/>
            <p:cNvGrpSpPr/>
            <p:nvPr/>
          </p:nvGrpSpPr>
          <p:grpSpPr>
            <a:xfrm>
              <a:off x="906120" y="2983320"/>
              <a:ext cx="1578960" cy="367560"/>
              <a:chOff x="906120" y="2983320"/>
              <a:chExt cx="1578960" cy="367560"/>
            </a:xfrm>
          </p:grpSpPr>
          <p:sp>
            <p:nvSpPr>
              <p:cNvPr id="187" name="Line 38"/>
              <p:cNvSpPr/>
              <p:nvPr/>
            </p:nvSpPr>
            <p:spPr>
              <a:xfrm>
                <a:off x="906120" y="2983320"/>
                <a:ext cx="0" cy="367560"/>
              </a:xfrm>
              <a:prstGeom prst="line">
                <a:avLst/>
              </a:prstGeom>
              <a:ln w="158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39"/>
              <p:cNvSpPr/>
              <p:nvPr/>
            </p:nvSpPr>
            <p:spPr>
              <a:xfrm>
                <a:off x="906120" y="3350880"/>
                <a:ext cx="1578960" cy="0"/>
              </a:xfrm>
              <a:prstGeom prst="line">
                <a:avLst/>
              </a:prstGeom>
              <a:ln w="15840">
                <a:solidFill>
                  <a:srgbClr val="cc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Line 40"/>
            <p:cNvSpPr/>
            <p:nvPr/>
          </p:nvSpPr>
          <p:spPr>
            <a:xfrm flipV="1">
              <a:off x="8874360" y="2982960"/>
              <a:ext cx="0" cy="367560"/>
            </a:xfrm>
            <a:prstGeom prst="line">
              <a:avLst/>
            </a:prstGeom>
            <a:ln w="158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41"/>
            <p:cNvSpPr/>
            <p:nvPr/>
          </p:nvSpPr>
          <p:spPr>
            <a:xfrm flipH="1">
              <a:off x="7294680" y="3350880"/>
              <a:ext cx="1579320" cy="0"/>
            </a:xfrm>
            <a:prstGeom prst="line">
              <a:avLst/>
            </a:prstGeom>
            <a:ln w="158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46"/>
            <p:cNvGrpSpPr/>
            <p:nvPr/>
          </p:nvGrpSpPr>
          <p:grpSpPr>
            <a:xfrm>
              <a:off x="2555280" y="2739240"/>
              <a:ext cx="4698000" cy="966600"/>
              <a:chOff x="2555280" y="2739240"/>
              <a:chExt cx="4698000" cy="966600"/>
            </a:xfrm>
          </p:grpSpPr>
          <p:sp>
            <p:nvSpPr>
              <p:cNvPr id="192" name="AutoShape 20"/>
              <p:cNvSpPr/>
              <p:nvPr/>
            </p:nvSpPr>
            <p:spPr>
              <a:xfrm>
                <a:off x="2555280" y="2739240"/>
                <a:ext cx="4698000" cy="966600"/>
              </a:xfrm>
              <a:prstGeom prst="roundRect">
                <a:avLst>
                  <a:gd name="adj" fmla="val 16667"/>
                </a:avLst>
              </a:prstGeom>
              <a:solidFill>
                <a:srgbClr val="fed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45"/>
              <p:cNvSpPr/>
              <p:nvPr/>
            </p:nvSpPr>
            <p:spPr>
              <a:xfrm>
                <a:off x="2639160" y="2805840"/>
                <a:ext cx="44510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w markets and product categori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crease in demand for servi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re intense(strong) competi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Text Box 30"/>
          <p:cNvSpPr/>
          <p:nvPr/>
        </p:nvSpPr>
        <p:spPr>
          <a:xfrm>
            <a:off x="1065240" y="5486400"/>
            <a:ext cx="19810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ccess hinges (axes) 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2208240" y="6324480"/>
            <a:ext cx="594360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d focus on services marketing and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5:00:43Z</dcterms:created>
  <dc:creator>VALR</dc:creator>
  <dc:description/>
  <dc:language>en-US</dc:language>
  <cp:lastModifiedBy>aldarrab</cp:lastModifiedBy>
  <cp:lastPrinted>2002-07-07T10:21:06Z</cp:lastPrinted>
  <dcterms:modified xsi:type="dcterms:W3CDTF">2015-07-25T10:28:06Z</dcterms:modified>
  <cp:revision>678</cp:revision>
  <dc:subject/>
  <dc:title>No Slide Title</dc:title>
</cp:coreProperties>
</file>