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8.wmf" ContentType="image/x-wmf"/>
  <Override PartName="/ppt/media/image11.wmf" ContentType="image/x-wmf"/>
  <Override PartName="/ppt/media/image17.jpeg" ContentType="image/jpeg"/>
  <Override PartName="/ppt/media/image3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902825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-1733760" y="2376360"/>
            <a:ext cx="74610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05920"/>
            <a:ext cx="5434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E990-0702-4DBF-864A-16973F796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4670-AF4F-49C8-A8DE-D7F4BAC3D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9F72-E19D-4ECE-BC49-64FCDA0C1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82D6-5B09-4CF8-8AC7-E24319818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05E7-79DA-48F5-9CFA-6C88A7F6F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AFB0-6E61-43BD-9BA9-D410DAD5C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2A0A-A9F6-43D9-BB0F-333DAC5E3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CD06-BA70-478C-92F1-494358C35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A82E-68AF-4DB1-88E7-A7A4281E7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6F1A-B9B1-4FB6-9DC9-96F35BF16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9557-8AED-409A-8282-B402C8851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EE99-F881-4084-A51E-1596B2475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5B9C-0DE6-4DEF-A208-A18C5DBCA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6175-81CD-4F34-B9C2-931740815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A915-B387-47C6-9992-5C8A3FCAF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6935-37B7-4862-856D-FDDE45976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E149-0AA6-4048-8E90-A340AC5AE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43FC-198C-4E1A-92A7-1F5908492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F85F-7B08-4C4B-8FA4-5343EA6C1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725400" y="749160"/>
            <a:ext cx="5345280" cy="3702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05040" y="4707000"/>
            <a:ext cx="49845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83EB-F526-4595-94AB-EAD4FBB74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14CE-EDAA-41E9-8A65-E72FFF307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998F-8760-46C6-8986-AE254EF5A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7D54-EF41-4D45-BF54-6D13E8CFD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A4C9-2050-4535-9887-B51AAB234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ADF8-677D-497C-83C8-9BFAAF296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7F83-E8AA-42FC-9187-C046F58E8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97F9-3463-42FD-A20C-A9EE2C9F5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DCAE-F443-4035-B6FE-E1FC7C480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891F-36B7-477A-BD93-B57A37842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473C-8DD1-4CF2-8BED-4FEE3CAC8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1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9"/>
          <p:cNvSpPr/>
          <p:nvPr/>
        </p:nvSpPr>
        <p:spPr>
          <a:xfrm>
            <a:off x="0" y="0"/>
            <a:ext cx="990432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60320" y="582480"/>
            <a:ext cx="5924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4 – Page </a:t>
            </a:r>
            <a:fld id="{44AA0478-2CA8-4663-AE65-02CD34076E70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2"/>
          <p:cNvSpPr/>
          <p:nvPr/>
        </p:nvSpPr>
        <p:spPr>
          <a:xfrm>
            <a:off x="0" y="0"/>
            <a:ext cx="990288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1 – Page </a:t>
            </a:r>
            <a:fld id="{E36CF06B-7D2D-48D9-9622-1CDAFEC50FD6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1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9"/>
          <p:cNvSpPr/>
          <p:nvPr/>
        </p:nvSpPr>
        <p:spPr>
          <a:xfrm>
            <a:off x="0" y="0"/>
            <a:ext cx="990432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60320" y="582480"/>
            <a:ext cx="5924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4 – Page </a:t>
            </a:r>
            <a:fld id="{8CCD5FB0-5D99-4F73-88FF-05BA6230963C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68200" y="1600200"/>
            <a:ext cx="9407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noAutofit/>
          </a:bodyPr>
          <a:p>
            <a:pPr marL="457200" indent="-45720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3122640" y="1676520"/>
            <a:ext cx="6238800" cy="44956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3046320" y="1676520"/>
            <a:ext cx="5942160" cy="449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82520" y="2049480"/>
            <a:ext cx="69786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Chapter 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Develo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  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ervice Products: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     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Core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 and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Supplementary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  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4"/>
          <p:cNvGrpSpPr/>
          <p:nvPr/>
        </p:nvGrpSpPr>
        <p:grpSpPr>
          <a:xfrm>
            <a:off x="455760" y="4495680"/>
            <a:ext cx="1904760" cy="1778040"/>
            <a:chOff x="455760" y="4495680"/>
            <a:chExt cx="1904760" cy="1778040"/>
          </a:xfrm>
        </p:grpSpPr>
        <p:pic>
          <p:nvPicPr>
            <p:cNvPr id="150" name="Picture 2" descr=""/>
            <p:cNvPicPr/>
            <p:nvPr/>
          </p:nvPicPr>
          <p:blipFill>
            <a:blip r:embed="rId2"/>
            <a:stretch/>
          </p:blipFill>
          <p:spPr>
            <a:xfrm>
              <a:off x="455760" y="4495680"/>
              <a:ext cx="914400" cy="81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4" descr=""/>
            <p:cNvPicPr/>
            <p:nvPr/>
          </p:nvPicPr>
          <p:blipFill>
            <a:blip r:embed="rId3"/>
            <a:stretch/>
          </p:blipFill>
          <p:spPr>
            <a:xfrm>
              <a:off x="455760" y="5410080"/>
              <a:ext cx="91440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5" descr=""/>
            <p:cNvPicPr/>
            <p:nvPr/>
          </p:nvPicPr>
          <p:blipFill>
            <a:blip r:embed="rId4"/>
            <a:stretch/>
          </p:blipFill>
          <p:spPr>
            <a:xfrm>
              <a:off x="1446120" y="5410080"/>
              <a:ext cx="91440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67"/>
          <p:cNvSpPr/>
          <p:nvPr/>
        </p:nvSpPr>
        <p:spPr>
          <a:xfrm>
            <a:off x="228600" y="228600"/>
            <a:ext cx="6627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s Marketing 7e, Global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lower of Serv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06804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ere are two types of supplementary servic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Facilitating: either needed for service delivery, or help in the use of the core product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nhancing: add extra value for the customer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In a well-managed service organization, the petals and core are fresh and well-formed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  <a:ea typeface="PMingLiU"/>
              </a:rPr>
              <a:t>Market positioning strategy helps to determine which supplementary services should be included 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lower of Serv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772920" y="1676520"/>
            <a:ext cx="8488440" cy="4236840"/>
            <a:chOff x="772920" y="1676520"/>
            <a:chExt cx="8488440" cy="4236840"/>
          </a:xfrm>
        </p:grpSpPr>
        <p:sp>
          <p:nvSpPr>
            <p:cNvPr id="204" name="Rectangle 2"/>
            <p:cNvSpPr/>
            <p:nvPr/>
          </p:nvSpPr>
          <p:spPr>
            <a:xfrm>
              <a:off x="856800" y="1676520"/>
              <a:ext cx="8404560" cy="4192560"/>
            </a:xfrm>
            <a:prstGeom prst="rect">
              <a:avLst/>
            </a:prstGeom>
            <a:solidFill>
              <a:srgbClr val="ffff99">
                <a:alpha val="6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4"/>
            <p:cNvSpPr/>
            <p:nvPr/>
          </p:nvSpPr>
          <p:spPr>
            <a:xfrm>
              <a:off x="4231440" y="2029320"/>
              <a:ext cx="120456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5"/>
            <p:cNvSpPr/>
            <p:nvPr/>
          </p:nvSpPr>
          <p:spPr>
            <a:xfrm>
              <a:off x="6042960" y="2752200"/>
              <a:ext cx="128556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6"/>
            <p:cNvSpPr/>
            <p:nvPr/>
          </p:nvSpPr>
          <p:spPr>
            <a:xfrm>
              <a:off x="6412320" y="3475080"/>
              <a:ext cx="138240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282000" y="4329000"/>
              <a:ext cx="110484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4211640" y="5051880"/>
              <a:ext cx="125640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2318760" y="4329000"/>
              <a:ext cx="113688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2030760" y="3475080"/>
              <a:ext cx="75528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2349360" y="2752200"/>
              <a:ext cx="960840" cy="3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2"/>
            <p:cNvSpPr/>
            <p:nvPr/>
          </p:nvSpPr>
          <p:spPr>
            <a:xfrm>
              <a:off x="4541040" y="2422440"/>
              <a:ext cx="546840" cy="1053720"/>
            </a:xfrm>
            <a:prstGeom prst="pi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b7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3"/>
            <p:cNvSpPr/>
            <p:nvPr/>
          </p:nvSpPr>
          <p:spPr>
            <a:xfrm>
              <a:off x="4541040" y="2422440"/>
              <a:ext cx="556200" cy="106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4"/>
            <p:cNvSpPr/>
            <p:nvPr/>
          </p:nvSpPr>
          <p:spPr>
            <a:xfrm>
              <a:off x="4873680" y="3684240"/>
              <a:ext cx="996120" cy="837360"/>
            </a:xfrm>
            <a:prstGeom prst="pi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b7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5"/>
            <p:cNvSpPr/>
            <p:nvPr/>
          </p:nvSpPr>
          <p:spPr>
            <a:xfrm>
              <a:off x="4873680" y="3684240"/>
              <a:ext cx="1005120" cy="845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6"/>
            <p:cNvSpPr/>
            <p:nvPr/>
          </p:nvSpPr>
          <p:spPr>
            <a:xfrm>
              <a:off x="4878360" y="2739960"/>
              <a:ext cx="1014480" cy="821160"/>
            </a:xfrm>
            <a:prstGeom prst="pi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b7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7"/>
            <p:cNvSpPr/>
            <p:nvPr/>
          </p:nvSpPr>
          <p:spPr>
            <a:xfrm>
              <a:off x="4878360" y="2739960"/>
              <a:ext cx="1023480" cy="82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8"/>
            <p:cNvSpPr/>
            <p:nvPr/>
          </p:nvSpPr>
          <p:spPr>
            <a:xfrm>
              <a:off x="4527360" y="3762360"/>
              <a:ext cx="543960" cy="1053720"/>
            </a:xfrm>
            <a:prstGeom prst="pi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b7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9"/>
            <p:cNvSpPr/>
            <p:nvPr/>
          </p:nvSpPr>
          <p:spPr>
            <a:xfrm>
              <a:off x="4527360" y="3762360"/>
              <a:ext cx="552960" cy="106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0"/>
            <p:cNvSpPr/>
            <p:nvPr/>
          </p:nvSpPr>
          <p:spPr>
            <a:xfrm>
              <a:off x="4979520" y="3405240"/>
              <a:ext cx="1276560" cy="448920"/>
            </a:xfrm>
            <a:prstGeom prst="pi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b7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1"/>
            <p:cNvSpPr/>
            <p:nvPr/>
          </p:nvSpPr>
          <p:spPr>
            <a:xfrm>
              <a:off x="4979520" y="3405240"/>
              <a:ext cx="1287360" cy="456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"/>
            <p:cNvSpPr/>
            <p:nvPr/>
          </p:nvSpPr>
          <p:spPr>
            <a:xfrm>
              <a:off x="3377880" y="3398400"/>
              <a:ext cx="1278000" cy="450000"/>
            </a:xfrm>
            <a:prstGeom prst="pi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b7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3"/>
            <p:cNvSpPr/>
            <p:nvPr/>
          </p:nvSpPr>
          <p:spPr>
            <a:xfrm>
              <a:off x="3377880" y="3398400"/>
              <a:ext cx="1288800" cy="458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4"/>
            <p:cNvSpPr/>
            <p:nvPr/>
          </p:nvSpPr>
          <p:spPr>
            <a:xfrm>
              <a:off x="3759480" y="2735640"/>
              <a:ext cx="996120" cy="837360"/>
            </a:xfrm>
            <a:prstGeom prst="pi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b7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5"/>
            <p:cNvSpPr/>
            <p:nvPr/>
          </p:nvSpPr>
          <p:spPr>
            <a:xfrm>
              <a:off x="3759480" y="2735640"/>
              <a:ext cx="1006920" cy="8456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6"/>
            <p:cNvSpPr/>
            <p:nvPr/>
          </p:nvSpPr>
          <p:spPr>
            <a:xfrm>
              <a:off x="3730320" y="3692520"/>
              <a:ext cx="1013040" cy="821160"/>
            </a:xfrm>
            <a:prstGeom prst="pi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b7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3730320" y="3692520"/>
              <a:ext cx="1023480" cy="8294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4516560" y="3354480"/>
              <a:ext cx="617400" cy="507600"/>
            </a:xfrm>
            <a:prstGeom prst="pie">
              <a:avLst/>
            </a:prstGeom>
            <a:gradFill rotWithShape="0">
              <a:gsLst>
                <a:gs pos="0">
                  <a:srgbClr val="442900"/>
                </a:gs>
                <a:gs pos="100000">
                  <a:srgbClr val="4c2e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4516560" y="3354480"/>
              <a:ext cx="626760" cy="515880"/>
            </a:xfrm>
            <a:prstGeom prst="pi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30"/>
            <p:cNvSpPr/>
            <p:nvPr/>
          </p:nvSpPr>
          <p:spPr>
            <a:xfrm>
              <a:off x="4470120" y="3439440"/>
              <a:ext cx="70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31"/>
            <p:cNvSpPr/>
            <p:nvPr/>
          </p:nvSpPr>
          <p:spPr>
            <a:xfrm>
              <a:off x="3976560" y="2039040"/>
              <a:ext cx="1580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b4"/>
                  </a:solidFill>
                  <a:latin typeface="Arial"/>
                  <a:ea typeface="Arial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32"/>
            <p:cNvSpPr/>
            <p:nvPr/>
          </p:nvSpPr>
          <p:spPr>
            <a:xfrm>
              <a:off x="5956560" y="2668680"/>
              <a:ext cx="1737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  <a:ea typeface="Arial"/>
                </a:rPr>
                <a:t>Consul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33"/>
            <p:cNvSpPr/>
            <p:nvPr/>
          </p:nvSpPr>
          <p:spPr>
            <a:xfrm>
              <a:off x="6344640" y="3457080"/>
              <a:ext cx="1780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b4"/>
                  </a:solidFill>
                  <a:latin typeface="Arial"/>
                  <a:ea typeface="Arial"/>
                </a:rPr>
                <a:t>Order-Tak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34"/>
            <p:cNvSpPr/>
            <p:nvPr/>
          </p:nvSpPr>
          <p:spPr>
            <a:xfrm>
              <a:off x="6143400" y="4311360"/>
              <a:ext cx="1482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  <a:ea typeface="Arial"/>
                </a:rPr>
                <a:t>Hospita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5"/>
            <p:cNvSpPr/>
            <p:nvPr/>
          </p:nvSpPr>
          <p:spPr>
            <a:xfrm>
              <a:off x="2343600" y="2668680"/>
              <a:ext cx="124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b4"/>
                  </a:solidFill>
                  <a:latin typeface="Arial"/>
                  <a:ea typeface="Arial"/>
                </a:rPr>
                <a:t>Pay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36"/>
            <p:cNvSpPr/>
            <p:nvPr/>
          </p:nvSpPr>
          <p:spPr>
            <a:xfrm>
              <a:off x="2149560" y="3457080"/>
              <a:ext cx="957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b4"/>
                  </a:solidFill>
                  <a:latin typeface="Arial"/>
                  <a:ea typeface="Arial"/>
                </a:rPr>
                <a:t>Bill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37"/>
            <p:cNvSpPr/>
            <p:nvPr/>
          </p:nvSpPr>
          <p:spPr>
            <a:xfrm>
              <a:off x="2149920" y="4311360"/>
              <a:ext cx="1539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  <a:ea typeface="Arial"/>
                </a:rPr>
                <a:t>Excep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8"/>
            <p:cNvSpPr/>
            <p:nvPr/>
          </p:nvSpPr>
          <p:spPr>
            <a:xfrm>
              <a:off x="3929760" y="4941000"/>
              <a:ext cx="1681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  <a:ea typeface="Arial"/>
                </a:rPr>
                <a:t>Safekeep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40"/>
            <p:cNvSpPr/>
            <p:nvPr/>
          </p:nvSpPr>
          <p:spPr>
            <a:xfrm>
              <a:off x="772920" y="5276160"/>
              <a:ext cx="271152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1600" spc="-1" strike="noStrike">
                  <a:solidFill>
                    <a:srgbClr val="800000"/>
                  </a:solidFill>
                  <a:latin typeface="Arial"/>
                  <a:ea typeface="Arial"/>
                </a:rPr>
                <a:t>Enhancing ele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00"/>
                  </a:solidFill>
                  <a:latin typeface="Arial"/>
                  <a:ea typeface="Arial"/>
                </a:rPr>
                <a:t>            </a:t>
              </a:r>
              <a:r>
                <a:rPr b="0" lang="en-US" sz="1600" spc="-1" strike="noStrike">
                  <a:solidFill>
                    <a:srgbClr val="000090"/>
                  </a:solidFill>
                  <a:latin typeface="Arial"/>
                  <a:ea typeface="Arial"/>
                </a:rPr>
                <a:t>Facilitating ele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41"/>
            <p:cNvSpPr/>
            <p:nvPr/>
          </p:nvSpPr>
          <p:spPr>
            <a:xfrm>
              <a:off x="1026720" y="5190120"/>
              <a:ext cx="143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</a:t>
              </a:r>
              <a:r>
                <a:rPr b="1" i="1" lang="en-US" sz="1400" spc="-1" strike="noStrike">
                  <a:solidFill>
                    <a:srgbClr val="500093"/>
                  </a:solidFill>
                  <a:latin typeface="Arial"/>
                  <a:ea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cilitating Services –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4799160" cy="5257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5180040" y="1600200"/>
            <a:ext cx="4495680" cy="46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ions to service s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hedules/service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in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n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itions of sale/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ification of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irmation of reserv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maries of accoun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pts and tick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cilitating Services – Order-Tak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4875120" cy="52452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5"/>
          <p:cNvSpPr/>
          <p:nvPr/>
        </p:nvSpPr>
        <p:spPr>
          <a:xfrm>
            <a:off x="5408640" y="1523880"/>
            <a:ext cx="449424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ships in clubs/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scription servic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e.g., utilit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requisite based servic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e.g., financial credit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ge enroll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rder E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-site order fulfill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l/telephone/e-mail/web or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servations and Check-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ats/tables/ro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hicles or equipment ren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fessional appoint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cilitating Services – Bil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5116680" cy="5257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5"/>
          <p:cNvSpPr/>
          <p:nvPr/>
        </p:nvSpPr>
        <p:spPr>
          <a:xfrm>
            <a:off x="5103720" y="1371600"/>
            <a:ext cx="4583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iodic statements of accoun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oices for individual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bal statements of amount d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-billing (computed b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stom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chine display of amount d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cilitating Services – Pay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4494240" cy="53341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5"/>
          <p:cNvSpPr/>
          <p:nvPr/>
        </p:nvSpPr>
        <p:spPr>
          <a:xfrm>
            <a:off x="4875120" y="1314360"/>
            <a:ext cx="5027760" cy="55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lf-Serv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sert card, cash or token into mach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ectronic funds transf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il a chec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er credit card number onl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irect to Payee or Intermediar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sh handling or change giv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eck handl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edit/charge/debit card handl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upon redemp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utomatic Deduction from Financial Deposi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utomated systems (e.g., machine-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adable tickets that operat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ry gat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uman systems (e.g., toll collector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hancing Services – Consul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4951440" cy="53341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5"/>
          <p:cNvSpPr/>
          <p:nvPr/>
        </p:nvSpPr>
        <p:spPr>
          <a:xfrm>
            <a:off x="5256360" y="1371600"/>
            <a:ext cx="4228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stomized ad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al couns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toring/training in product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ment or technical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ul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hancing Services – Hospital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4722840" cy="530712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5"/>
          <p:cNvSpPr/>
          <p:nvPr/>
        </p:nvSpPr>
        <p:spPr>
          <a:xfrm>
            <a:off x="4875120" y="1447920"/>
            <a:ext cx="342900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ee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od and bever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ilets and washro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iting facilities and amen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unges, waiting areas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a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ather prot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azines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tertainment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spap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hancing Services – Safekeep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4189320" cy="52912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4189320" y="1371600"/>
            <a:ext cx="624852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ring for Possessions Customer Br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th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 care, pet 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king for vehicles, valet par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at ro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ggage hand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rage 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fe deposit box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ity person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hancing Services – Safekeeping (con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4762440" cy="5257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5"/>
          <p:cNvSpPr/>
          <p:nvPr/>
        </p:nvSpPr>
        <p:spPr>
          <a:xfrm>
            <a:off x="4799160" y="1447920"/>
            <a:ext cx="4646520" cy="42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ring for Goods Purchased (o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nted) by Cust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ck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portation and deli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pection and diagno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ea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u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ventive mainte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air and reno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view of Chapter 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Planning and Creating Servic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e Flower of Servic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Branding Service Products and Experienc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New Service Developmen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hancing Services – Excep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4417920" cy="5257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4417920" y="1371600"/>
            <a:ext cx="640080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al Requests in Advance of Service Deli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ren’s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etary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l or disability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igious observa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ndling Special Commun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a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i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gg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hancing Services – Exceptions (con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0" y="1295280"/>
            <a:ext cx="4722840" cy="5257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5"/>
          <p:cNvSpPr/>
          <p:nvPr/>
        </p:nvSpPr>
        <p:spPr>
          <a:xfrm>
            <a:off x="4799160" y="1371600"/>
            <a:ext cx="41907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ranties and guarant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lving difficulties that arise from u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lving difficulties caused by accident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ice fail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sting customers who hav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ffered an accident or 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l emerg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stit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unds and compens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e repair of defective go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agerial Implic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Core products do not have to have supplementary elements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  <a:ea typeface="PMingLiU"/>
              </a:rPr>
              <a:t>Nature of product helps determine supplementary services offered to enhance value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  <a:ea typeface="PMingLiU"/>
              </a:rPr>
              <a:t>People-processing and high contact services have more supplementary services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  <a:ea typeface="PMingLiU"/>
              </a:rPr>
              <a:t>Different levels of service can add extra supplementary services for each upgrade in service level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Low-cost, no-frills basis firms needs fewer supplementary elements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Branding Servi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Products and 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6800" y="2286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Products, Product Lines, and Bran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i="1" lang="en-US" sz="2200" spc="-1" strike="noStrike">
                <a:solidFill>
                  <a:srgbClr val="013c7d"/>
                </a:solidFill>
                <a:latin typeface="Arial"/>
                <a:ea typeface="PMingLiU"/>
              </a:rPr>
              <a:t>Service Product</a:t>
            </a:r>
            <a:r>
              <a:rPr b="1" lang="en-US" sz="2200" spc="-1" strike="noStrike">
                <a:solidFill>
                  <a:srgbClr val="013c7d"/>
                </a:solidFill>
                <a:latin typeface="Arial"/>
                <a:ea typeface="PMingLiU"/>
              </a:rPr>
              <a:t>: A defined and consistent 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  <a:ea typeface="PMingLiU"/>
              </a:rPr>
              <a:t>“bundle of output” 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  <a:ea typeface="PMingLiU"/>
              </a:rPr>
              <a:t>Supported by supplementary services (assembly of elements that are built around the core product)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  <a:ea typeface="PMingLiU"/>
              </a:rPr>
              <a:t>Differentiated by bundle of output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i="1" lang="en-US" sz="2200" spc="-1" strike="noStrike">
                <a:solidFill>
                  <a:srgbClr val="013c7d"/>
                </a:solidFill>
                <a:latin typeface="Arial"/>
              </a:rPr>
              <a:t>Product Line</a:t>
            </a: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ost service organizations offer a 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line of products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rather than just a single product.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There are three broad alternatives for product lines: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Single brand to cover all products and services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A separate, stand-alone brand for each offering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Some combination of these two extremes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trum of Branding Alternativ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4"/>
          <p:cNvSpPr/>
          <p:nvPr/>
        </p:nvSpPr>
        <p:spPr>
          <a:xfrm>
            <a:off x="0" y="6308640"/>
            <a:ext cx="95997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Source: Derived from Aaker and Joachimstha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9" descr="PPT46"/>
          <p:cNvPicPr/>
          <p:nvPr/>
        </p:nvPicPr>
        <p:blipFill>
          <a:blip r:embed="rId1"/>
          <a:stretch/>
        </p:blipFill>
        <p:spPr>
          <a:xfrm>
            <a:off x="988920" y="2209680"/>
            <a:ext cx="8001000" cy="3132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tish Airways Subbran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2760" y="1600200"/>
            <a:ext cx="9372600" cy="457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0720" indent="0" algn="ctr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114948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British Airways offers seven distinct air travel product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82" name="Rounded Rectangle 3"/>
          <p:cNvSpPr/>
          <p:nvPr/>
        </p:nvSpPr>
        <p:spPr>
          <a:xfrm>
            <a:off x="303120" y="2286000"/>
            <a:ext cx="4724640" cy="4191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ounded Rectangle 4"/>
          <p:cNvSpPr/>
          <p:nvPr/>
        </p:nvSpPr>
        <p:spPr>
          <a:xfrm>
            <a:off x="5256360" y="2286000"/>
            <a:ext cx="4343400" cy="4191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5"/>
          <p:cNvSpPr/>
          <p:nvPr/>
        </p:nvSpPr>
        <p:spPr>
          <a:xfrm>
            <a:off x="1078560" y="2286000"/>
            <a:ext cx="32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continental Offe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6"/>
          <p:cNvSpPr/>
          <p:nvPr/>
        </p:nvSpPr>
        <p:spPr>
          <a:xfrm>
            <a:off x="5865840" y="22860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ra-European Offe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7"/>
          <p:cNvSpPr/>
          <p:nvPr/>
        </p:nvSpPr>
        <p:spPr>
          <a:xfrm>
            <a:off x="455760" y="2895480"/>
            <a:ext cx="1828800" cy="1676520"/>
          </a:xfrm>
          <a:prstGeom prst="ellipse">
            <a:avLst/>
          </a:prstGeom>
          <a:gradFill rotWithShape="0">
            <a:gsLst>
              <a:gs pos="0">
                <a:srgbClr val="ffe379"/>
              </a:gs>
              <a:gs pos="100000">
                <a:srgbClr val="fff6d8"/>
              </a:gs>
            </a:gsLst>
            <a:lin ang="16200000"/>
          </a:gradFill>
          <a:ln w="9360">
            <a:solidFill>
              <a:srgbClr val="feb60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 (Deluxe Serv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2970360" y="2971800"/>
            <a:ext cx="1752480" cy="1523880"/>
          </a:xfrm>
          <a:prstGeom prst="ellipse">
            <a:avLst/>
          </a:prstGeom>
          <a:gradFill rotWithShape="0">
            <a:gsLst>
              <a:gs pos="0">
                <a:srgbClr val="ff83b0"/>
              </a:gs>
              <a:gs pos="100000">
                <a:srgbClr val="ffdbe7"/>
              </a:gs>
            </a:gsLst>
            <a:lin ang="16200000"/>
          </a:gradFill>
          <a:ln w="9360">
            <a:solidFill>
              <a:srgbClr val="ea0f7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ub World (Business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9"/>
          <p:cNvSpPr/>
          <p:nvPr/>
        </p:nvSpPr>
        <p:spPr>
          <a:xfrm>
            <a:off x="531720" y="4724280"/>
            <a:ext cx="1905120" cy="1676520"/>
          </a:xfrm>
          <a:prstGeom prst="ellipse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ld Traveller Plus (Premier econom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3046320" y="4724280"/>
            <a:ext cx="1676520" cy="1524240"/>
          </a:xfrm>
          <a:prstGeom prst="ellipse">
            <a:avLst/>
          </a:prstGeom>
          <a:gradFill rotWithShape="0">
            <a:gsLst>
              <a:gs pos="0">
                <a:srgbClr val="bcff95"/>
              </a:gs>
              <a:gs pos="100000">
                <a:srgbClr val="ecffe1"/>
              </a:gs>
            </a:gsLst>
            <a:lin ang="16200000"/>
          </a:gradFill>
          <a:ln w="9360">
            <a:solidFill>
              <a:srgbClr val="7cd03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ld Traveller (Econom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1"/>
          <p:cNvSpPr/>
          <p:nvPr/>
        </p:nvSpPr>
        <p:spPr>
          <a:xfrm>
            <a:off x="5713560" y="3048120"/>
            <a:ext cx="1904760" cy="1676160"/>
          </a:xfrm>
          <a:prstGeom prst="ellipse">
            <a:avLst/>
          </a:prstGeom>
          <a:gradFill rotWithShape="0">
            <a:gsLst>
              <a:gs pos="0">
                <a:srgbClr val="ffe379"/>
              </a:gs>
              <a:gs pos="100000">
                <a:srgbClr val="fff6d8"/>
              </a:gs>
            </a:gsLst>
            <a:lin ang="16200000"/>
          </a:gradFill>
          <a:ln w="9360">
            <a:solidFill>
              <a:srgbClr val="feb60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ub Europe (Business Clas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6399360" y="4800600"/>
            <a:ext cx="1828800" cy="1523880"/>
          </a:xfrm>
          <a:prstGeom prst="ellipse">
            <a:avLst/>
          </a:prstGeom>
          <a:gradFill rotWithShape="0">
            <a:gsLst>
              <a:gs pos="0">
                <a:srgbClr val="ff83b0"/>
              </a:gs>
              <a:gs pos="100000">
                <a:srgbClr val="ffdbe7"/>
              </a:gs>
            </a:gsLst>
            <a:lin ang="16200000"/>
          </a:gradFill>
          <a:ln w="9360">
            <a:solidFill>
              <a:srgbClr val="ea0f7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uro-Traveller (Econom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3"/>
          <p:cNvSpPr/>
          <p:nvPr/>
        </p:nvSpPr>
        <p:spPr>
          <a:xfrm>
            <a:off x="7770960" y="3809880"/>
            <a:ext cx="1600200" cy="1295640"/>
          </a:xfrm>
          <a:prstGeom prst="ellipse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ut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fering a Branded Experi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0" algn="ctr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Branding can be employed at corporate and product level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orporate brand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asily recognized,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Holds meaning to customers,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tands for a particular way of doing busines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spcAft>
                <a:spcPts val="601"/>
              </a:spcAft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Product brand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Helps firm communicate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distinctive experiences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nd benefits associated with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a specific service concept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ving Towards a Branded Experi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Diagram 4" descr=""/>
          <p:cNvPicPr/>
          <p:nvPr/>
        </p:nvPicPr>
        <p:blipFill>
          <a:blip r:embed="rId1"/>
          <a:stretch/>
        </p:blipFill>
        <p:spPr>
          <a:xfrm>
            <a:off x="1627200" y="1749600"/>
            <a:ext cx="6699240" cy="4406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fering A Branded Experi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46120" y="2209680"/>
            <a:ext cx="697392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The brand promise or value proposition is not a tag line, an icon, or a color or a graphic element, although all of these may contribut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It is, instead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the heart and soul of the b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3c7d"/>
                </a:solidFill>
                <a:latin typeface="Arial"/>
                <a:ea typeface="PMingLiU"/>
              </a:rPr>
              <a:t>	</a:t>
            </a:r>
            <a:r>
              <a:rPr b="1" lang="en-US" sz="1200" spc="-1" strike="noStrike">
                <a:solidFill>
                  <a:srgbClr val="013c7d"/>
                </a:solidFill>
                <a:latin typeface="Arial"/>
                <a:ea typeface="PMingLiU"/>
              </a:rPr>
              <a:t>	</a:t>
            </a:r>
            <a:r>
              <a:rPr b="1" lang="en-US" sz="1200" spc="-1" strike="noStrike">
                <a:solidFill>
                  <a:srgbClr val="013c7d"/>
                </a:solidFill>
                <a:latin typeface="Arial"/>
                <a:ea typeface="PMingLiU"/>
              </a:rPr>
              <a:t>	</a:t>
            </a:r>
            <a:r>
              <a:rPr b="1" lang="en-US" sz="1200" spc="-1" strike="noStrike">
                <a:solidFill>
                  <a:srgbClr val="013c7d"/>
                </a:solidFill>
                <a:latin typeface="Arial"/>
                <a:ea typeface="PMingLiU"/>
              </a:rPr>
              <a:t>	</a:t>
            </a:r>
            <a:r>
              <a:rPr b="1" lang="en-US" sz="1200" spc="-1" strike="noStrike">
                <a:solidFill>
                  <a:srgbClr val="013c7d"/>
                </a:solidFill>
                <a:latin typeface="Arial"/>
                <a:ea typeface="PMingLiU"/>
              </a:rPr>
              <a:t>	</a:t>
            </a:r>
            <a:r>
              <a:rPr b="1" lang="en-US" sz="1200" spc="-1" strike="noStrike">
                <a:solidFill>
                  <a:srgbClr val="013c7d"/>
                </a:solidFill>
                <a:latin typeface="Arial"/>
                <a:ea typeface="PMingLiU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Don Schul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Planning and Crea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Service 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New Servic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Hierarchy of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 Service Categori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Diagram 4" descr=""/>
          <p:cNvPicPr/>
          <p:nvPr/>
        </p:nvPicPr>
        <p:blipFill>
          <a:blip r:embed="rId1"/>
          <a:stretch/>
        </p:blipFill>
        <p:spPr>
          <a:xfrm>
            <a:off x="-55440" y="1414440"/>
            <a:ext cx="10193040" cy="51325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engineering Service Proce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 processes affect customers and also cost, speed, and productivity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Reengineering – analyzing and redesigning processes to achieve faster and better performanc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Examination of processes can lead to creation of alternative delivery methods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dd or eliminate supplementary servic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Re-sequence delivery of service element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Offer self-service option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6800" y="228600"/>
            <a:ext cx="6019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Goods as a Source of New Service Ide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Goods and services may become competitive substitutes if they offer the same key benefit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Provides an alternative to owning the physical good that can attain the desired outcom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Any new good may create need for after-sales services now and be a source of future revenue stream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6800" y="22860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ing Services as Substitutes for Physical Go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Group 14"/>
          <p:cNvGrpSpPr/>
          <p:nvPr/>
        </p:nvGrpSpPr>
        <p:grpSpPr>
          <a:xfrm>
            <a:off x="577800" y="1752480"/>
            <a:ext cx="8767800" cy="4336560"/>
            <a:chOff x="577800" y="1752480"/>
            <a:chExt cx="8767800" cy="4336560"/>
          </a:xfrm>
        </p:grpSpPr>
        <p:sp>
          <p:nvSpPr>
            <p:cNvPr id="308" name="Rectangle 4"/>
            <p:cNvSpPr/>
            <p:nvPr/>
          </p:nvSpPr>
          <p:spPr>
            <a:xfrm>
              <a:off x="2708280" y="4352760"/>
              <a:ext cx="3316320" cy="436320"/>
            </a:xfrm>
            <a:prstGeom prst="rect">
              <a:avLst/>
            </a:prstGeom>
            <a:solidFill>
              <a:srgbClr val="00a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5"/>
            <p:cNvSpPr/>
            <p:nvPr/>
          </p:nvSpPr>
          <p:spPr>
            <a:xfrm>
              <a:off x="6024600" y="2209680"/>
              <a:ext cx="3321000" cy="436320"/>
            </a:xfrm>
            <a:prstGeom prst="rect">
              <a:avLst/>
            </a:prstGeom>
            <a:solidFill>
              <a:srgbClr val="feb8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6"/>
            <p:cNvSpPr/>
            <p:nvPr/>
          </p:nvSpPr>
          <p:spPr>
            <a:xfrm>
              <a:off x="2707920" y="2209320"/>
              <a:ext cx="3318120" cy="437040"/>
            </a:xfrm>
            <a:prstGeom prst="rect">
              <a:avLst/>
            </a:prstGeom>
            <a:solidFill>
              <a:srgbClr val="ea1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7"/>
            <p:cNvSpPr/>
            <p:nvPr/>
          </p:nvSpPr>
          <p:spPr>
            <a:xfrm>
              <a:off x="5978520" y="4352760"/>
              <a:ext cx="3316320" cy="437040"/>
            </a:xfrm>
            <a:prstGeom prst="rect">
              <a:avLst/>
            </a:prstGeom>
            <a:solidFill>
              <a:srgbClr val="4e5b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8"/>
            <p:cNvSpPr/>
            <p:nvPr/>
          </p:nvSpPr>
          <p:spPr>
            <a:xfrm>
              <a:off x="2824560" y="2703240"/>
              <a:ext cx="3051360" cy="90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290520">
                <a:lnSpc>
                  <a:spcPct val="14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rive Own C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indent="290520">
                <a:lnSpc>
                  <a:spcPct val="14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 Own Compu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9"/>
            <p:cNvSpPr/>
            <p:nvPr/>
          </p:nvSpPr>
          <p:spPr>
            <a:xfrm>
              <a:off x="6135840" y="2676240"/>
              <a:ext cx="2907000" cy="18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290520">
                <a:lnSpc>
                  <a:spcPct val="14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t a Car and Drive 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indent="290520">
                <a:lnSpc>
                  <a:spcPct val="14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t Use of Compu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0"/>
            <p:cNvSpPr/>
            <p:nvPr/>
          </p:nvSpPr>
          <p:spPr>
            <a:xfrm>
              <a:off x="2807640" y="4816080"/>
              <a:ext cx="3204360" cy="90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290520">
                <a:lnSpc>
                  <a:spcPct val="14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re a Chauffeur to Driv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indent="290520">
                <a:lnSpc>
                  <a:spcPct val="14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re a Typist to Typ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1"/>
            <p:cNvSpPr/>
            <p:nvPr/>
          </p:nvSpPr>
          <p:spPr>
            <a:xfrm>
              <a:off x="6141240" y="4846320"/>
              <a:ext cx="3182040" cy="12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290520">
                <a:lnSpc>
                  <a:spcPct val="14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re a Taxi or Limousin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indent="290520">
                <a:lnSpc>
                  <a:spcPct val="140000"/>
                </a:lnSpc>
                <a:spcBef>
                  <a:spcPts val="10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d Work out to 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retarial 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12"/>
            <p:cNvSpPr/>
            <p:nvPr/>
          </p:nvSpPr>
          <p:spPr>
            <a:xfrm>
              <a:off x="2721600" y="1752480"/>
              <a:ext cx="3285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Own a Physical Go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3"/>
            <p:cNvSpPr/>
            <p:nvPr/>
          </p:nvSpPr>
          <p:spPr>
            <a:xfrm>
              <a:off x="6029280" y="1752480"/>
              <a:ext cx="3285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Rent Use of Physical Go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4"/>
            <p:cNvSpPr/>
            <p:nvPr/>
          </p:nvSpPr>
          <p:spPr>
            <a:xfrm>
              <a:off x="577800" y="2113560"/>
              <a:ext cx="199584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Perform Work Onese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5"/>
            <p:cNvSpPr/>
            <p:nvPr/>
          </p:nvSpPr>
          <p:spPr>
            <a:xfrm>
              <a:off x="601560" y="4323600"/>
              <a:ext cx="2013120" cy="86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  <a:ea typeface="Arial"/>
                </a:rPr>
                <a:t>Hire Someone  to Do 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hieving Success in Developing New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s are not immune to high failure rates that plague new manufactured product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In developing new services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ore product is often of secondary importance, many innovations are in supplementary services or service delivery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bility to maintain quality of the total service offering is key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ccompanying marketing support activities are vital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arket knowledge is of utmost importanc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ccess Factors i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 Service Develop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arket synergy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Good fit between new product and firm’s imag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dvantage in meeting customers’ need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trong support from firm during and after launch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Understands customer purchase decision behavior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Organizational factor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trong inter-functional cooperation and coordination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Internal marketing to educate staff on new product and its importanc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ccess Factors i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 Service Develop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2760" y="205704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arket research factor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cientific studies conducted early in development proces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roduct concept well defined before undertaking field studi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  <p:pic>
        <p:nvPicPr>
          <p:cNvPr id="326" name="Picture 6" descr="fig04_12.jpg"/>
          <p:cNvPicPr/>
          <p:nvPr/>
        </p:nvPicPr>
        <p:blipFill>
          <a:blip r:embed="rId1"/>
          <a:stretch/>
        </p:blipFill>
        <p:spPr>
          <a:xfrm>
            <a:off x="5103720" y="2133720"/>
            <a:ext cx="4367160" cy="3065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reating services involve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Designing the core product, supplementary services, and their delivery process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lower of service includes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ore product 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and two types of supplementary services: facilitating and enhancing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ff6600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Facilitating services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include information, order taking, billing, and payment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ff6600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nhancing services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include consultation, hospitality, safekeeping, and exception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spcBef>
                <a:spcPts val="1199"/>
              </a:spcBef>
              <a:buNone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pectrum of branding alternatives exists for servic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6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Branded hous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6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ubbrand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6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ndorsed brand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6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House of brand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spcBef>
                <a:spcPts val="601"/>
              </a:spcBef>
              <a:buNone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o develop new services, we can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6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Reengineer service process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6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Use physical goods as a source of new service idea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6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Use research to design new servic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6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Understand how to achieve success in new service development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spcBef>
                <a:spcPts val="1199"/>
              </a:spcBef>
              <a:buNone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Produc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A service product comprises of all elements of service performance, both tangible and intangible, that create value for customers. 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Service products consist of: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Core Product </a:t>
            </a:r>
            <a:r>
              <a:rPr b="1" lang="en-US" sz="2200" spc="-1" strike="noStrike">
                <a:solidFill>
                  <a:srgbClr val="ff6600"/>
                </a:solidFill>
                <a:latin typeface="Wingdings"/>
                <a:ea typeface="Wingdings"/>
              </a:rPr>
              <a:t></a:t>
            </a: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 central component that supplies the principal, problem-solving benefits customers seek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Supplementary Services </a:t>
            </a:r>
            <a:r>
              <a:rPr b="1" lang="en-US" sz="2200" spc="-1" strike="noStrike">
                <a:solidFill>
                  <a:srgbClr val="ff6600"/>
                </a:solidFill>
                <a:latin typeface="Wingdings"/>
                <a:ea typeface="Wingdings"/>
              </a:rPr>
              <a:t></a:t>
            </a: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 augments the core product, facilitating its use and enhancing its value and appeal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Delivery Processes </a:t>
            </a:r>
            <a:r>
              <a:rPr b="1" lang="en-US" sz="2200" spc="-1" strike="noStrike">
                <a:solidFill>
                  <a:srgbClr val="ff6600"/>
                </a:solidFill>
                <a:latin typeface="Wingdings"/>
                <a:ea typeface="Wingdings"/>
              </a:rPr>
              <a:t>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used to deliver both the core product and each of the supplementary services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spcBef>
                <a:spcPts val="1199"/>
              </a:spcBef>
              <a:buNone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igning a Service Concep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2760" y="167616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 concept design must address the following issues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How the different service components are delivered to the customer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The nature of the customer’s role in those process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How long delivery last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The recommended level and style of service to be offered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cumenting Delivery Sequenc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ust address sequence in which customers will use each core and supplementary servic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Determine approximate length of time required for each step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Information should reflect good understanding of customers, especially their: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need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habit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xpectation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248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gration of Core Product, Supplementary Elements, and Delivery Proc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Group 8"/>
          <p:cNvGrpSpPr/>
          <p:nvPr/>
        </p:nvGrpSpPr>
        <p:grpSpPr>
          <a:xfrm>
            <a:off x="988920" y="1752480"/>
            <a:ext cx="8001000" cy="4419360"/>
            <a:chOff x="988920" y="1752480"/>
            <a:chExt cx="8001000" cy="4419360"/>
          </a:xfrm>
        </p:grpSpPr>
        <p:pic>
          <p:nvPicPr>
            <p:cNvPr id="165" name="Picture 6" descr="PPT36"/>
            <p:cNvPicPr/>
            <p:nvPr/>
          </p:nvPicPr>
          <p:blipFill>
            <a:blip r:embed="rId1"/>
            <a:stretch/>
          </p:blipFill>
          <p:spPr>
            <a:xfrm>
              <a:off x="988920" y="1752480"/>
              <a:ext cx="8001000" cy="433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7"/>
            <p:cNvSpPr/>
            <p:nvPr/>
          </p:nvSpPr>
          <p:spPr>
            <a:xfrm>
              <a:off x="6415560" y="5673240"/>
              <a:ext cx="2435040" cy="49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mporal Dimension to Augmented Produ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495360" y="2133720"/>
            <a:ext cx="330120" cy="2514600"/>
          </a:xfrm>
          <a:prstGeom prst="rect">
            <a:avLst/>
          </a:prstGeom>
          <a:solidFill>
            <a:srgbClr val="ffff66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77800" y="2209680"/>
            <a:ext cx="82440" cy="152640"/>
          </a:xfrm>
          <a:prstGeom prst="rect">
            <a:avLst/>
          </a:prstGeom>
          <a:solidFill>
            <a:srgbClr val="0066cc">
              <a:alpha val="52000"/>
            </a:srgbClr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5415120"/>
            <a:ext cx="1592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Before Vis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"/>
          <p:cNvSpPr/>
          <p:nvPr/>
        </p:nvSpPr>
        <p:spPr>
          <a:xfrm flipV="1">
            <a:off x="660240" y="472392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7880" y="1736640"/>
            <a:ext cx="12009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Re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1981080" y="2133720"/>
            <a:ext cx="7426440" cy="2514600"/>
          </a:xfrm>
          <a:prstGeom prst="rect">
            <a:avLst/>
          </a:prstGeom>
          <a:solidFill>
            <a:srgbClr val="ffff66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135240" y="3048120"/>
            <a:ext cx="330120" cy="609480"/>
          </a:xfrm>
          <a:prstGeom prst="rect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6"/>
          <p:cNvSpPr/>
          <p:nvPr/>
        </p:nvSpPr>
        <p:spPr>
          <a:xfrm>
            <a:off x="9242280" y="2438280"/>
            <a:ext cx="82800" cy="15264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7"/>
          <p:cNvSpPr/>
          <p:nvPr/>
        </p:nvSpPr>
        <p:spPr>
          <a:xfrm>
            <a:off x="3630600" y="4267080"/>
            <a:ext cx="412920" cy="15264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2970360" y="3733920"/>
            <a:ext cx="164880" cy="152280"/>
          </a:xfrm>
          <a:prstGeom prst="rect">
            <a:avLst/>
          </a:prstGeom>
          <a:solidFill>
            <a:srgbClr val="0066cc">
              <a:alpha val="99000"/>
            </a:srgbClr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9"/>
          <p:cNvSpPr/>
          <p:nvPr/>
        </p:nvSpPr>
        <p:spPr>
          <a:xfrm>
            <a:off x="2722680" y="2590920"/>
            <a:ext cx="82440" cy="152280"/>
          </a:xfrm>
          <a:prstGeom prst="rect">
            <a:avLst/>
          </a:prstGeom>
          <a:solidFill>
            <a:srgbClr val="0066cc">
              <a:alpha val="99000"/>
            </a:srgbClr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2557440" y="2438280"/>
            <a:ext cx="82440" cy="152640"/>
          </a:xfrm>
          <a:prstGeom prst="rect">
            <a:avLst/>
          </a:prstGeom>
          <a:solidFill>
            <a:srgbClr val="0066cc">
              <a:alpha val="96000"/>
            </a:srgbClr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4373640" y="4114800"/>
            <a:ext cx="577800" cy="15228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8169120" y="3962520"/>
            <a:ext cx="412920" cy="15228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8664480" y="2819520"/>
            <a:ext cx="165240" cy="15228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4"/>
          <p:cNvSpPr/>
          <p:nvPr/>
        </p:nvSpPr>
        <p:spPr>
          <a:xfrm>
            <a:off x="9077400" y="2590920"/>
            <a:ext cx="82440" cy="15228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5"/>
          <p:cNvSpPr/>
          <p:nvPr/>
        </p:nvSpPr>
        <p:spPr>
          <a:xfrm>
            <a:off x="1983240" y="2190600"/>
            <a:ext cx="8352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Par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8465040" y="2220840"/>
            <a:ext cx="8974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  </a:t>
            </a: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Get c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7"/>
          <p:cNvSpPr/>
          <p:nvPr/>
        </p:nvSpPr>
        <p:spPr>
          <a:xfrm>
            <a:off x="2848680" y="2552760"/>
            <a:ext cx="923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Check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8"/>
          <p:cNvSpPr/>
          <p:nvPr/>
        </p:nvSpPr>
        <p:spPr>
          <a:xfrm>
            <a:off x="2251440" y="3681360"/>
            <a:ext cx="7074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Po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9"/>
          <p:cNvSpPr/>
          <p:nvPr/>
        </p:nvSpPr>
        <p:spPr>
          <a:xfrm>
            <a:off x="2365200" y="3048120"/>
            <a:ext cx="90180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Use Ro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0"/>
          <p:cNvSpPr/>
          <p:nvPr/>
        </p:nvSpPr>
        <p:spPr>
          <a:xfrm>
            <a:off x="3494880" y="4016520"/>
            <a:ext cx="5778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M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1"/>
          <p:cNvSpPr/>
          <p:nvPr/>
        </p:nvSpPr>
        <p:spPr>
          <a:xfrm>
            <a:off x="4262760" y="3859200"/>
            <a:ext cx="7758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Pay T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2"/>
          <p:cNvSpPr/>
          <p:nvPr/>
        </p:nvSpPr>
        <p:spPr>
          <a:xfrm>
            <a:off x="7678080" y="4138560"/>
            <a:ext cx="1350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Room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3"/>
          <p:cNvSpPr/>
          <p:nvPr/>
        </p:nvSpPr>
        <p:spPr>
          <a:xfrm>
            <a:off x="7702560" y="2766960"/>
            <a:ext cx="10018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4"/>
          <p:cNvSpPr/>
          <p:nvPr/>
        </p:nvSpPr>
        <p:spPr>
          <a:xfrm>
            <a:off x="7983720" y="2538360"/>
            <a:ext cx="10411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Arial"/>
              </a:rPr>
              <a:t>Check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5"/>
          <p:cNvSpPr/>
          <p:nvPr/>
        </p:nvSpPr>
        <p:spPr>
          <a:xfrm>
            <a:off x="2063880" y="5257800"/>
            <a:ext cx="72612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6"/>
          <p:cNvSpPr/>
          <p:nvPr/>
        </p:nvSpPr>
        <p:spPr>
          <a:xfrm>
            <a:off x="4135320" y="5286240"/>
            <a:ext cx="34718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Time Frame of an Overnight Hotel St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(real-time service u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7"/>
          <p:cNvSpPr/>
          <p:nvPr/>
        </p:nvSpPr>
        <p:spPr>
          <a:xfrm>
            <a:off x="4125960" y="3048120"/>
            <a:ext cx="4868640" cy="609480"/>
          </a:xfrm>
          <a:prstGeom prst="rect">
            <a:avLst/>
          </a:prstGeom>
          <a:solidFill>
            <a:srgbClr val="a50021">
              <a:alpha val="99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f1f1"/>
                </a:solidFill>
                <a:latin typeface="Arial"/>
                <a:ea typeface="Arial"/>
              </a:rPr>
              <a:t>USE GUESTROOM OVERN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8"/>
          <p:cNvSpPr/>
          <p:nvPr/>
        </p:nvSpPr>
        <p:spPr>
          <a:xfrm>
            <a:off x="3376080" y="2754360"/>
            <a:ext cx="834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9"/>
          <p:cNvSpPr/>
          <p:nvPr/>
        </p:nvSpPr>
        <p:spPr>
          <a:xfrm>
            <a:off x="3197160" y="2814480"/>
            <a:ext cx="165240" cy="15264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The Flower of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8:50:59Z</dcterms:created>
  <dc:creator>VALR</dc:creator>
  <dc:description/>
  <dc:language>en-US</dc:language>
  <cp:lastModifiedBy>aldarrab</cp:lastModifiedBy>
  <cp:lastPrinted>2002-07-07T10:21:06Z</cp:lastPrinted>
  <dcterms:modified xsi:type="dcterms:W3CDTF">2015-07-25T10:27:16Z</dcterms:modified>
  <cp:revision>697</cp:revision>
  <dc:subject/>
  <dc:title>No Slide Title</dc:title>
</cp:coreProperties>
</file>