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E6A6-5709-44FC-B94E-6E9EAD01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6108-C7EE-4D7B-AF7D-AF6110A1F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89CC-5F68-4251-BAF0-6E80C948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963-3B4F-4F88-B2DE-EFBF3A82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B2B1-CFA8-4F78-BAE6-30083C29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100C-C173-43DE-89F1-FA5BDC96F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BCBB-CDA4-4D95-AE76-6CD6B46A9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E2AD-EF10-46FA-942D-89812127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2F49-822F-40C3-A3EA-D623D753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05C1-B3ED-4CD0-8A60-EDCDC0AB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6CA1-1C43-4BB5-8F44-00D61EFE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79CF-ABA3-4907-9329-32A218A5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98EA-55D2-4D7C-AA48-53EA62DB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4145-BF41-49F8-9058-5772F14F6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6594-2929-4C8A-94DC-E1FCF9DD9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0276-A433-4321-A4B2-C3A152A38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B48-5517-4DDF-8EA7-F6035227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00F-BF1F-448B-A393-5986DD5B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4D01-39EC-42C1-8ED5-A4D36DBE3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85CA-09F4-4AAC-8F83-C43C4E6E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F8D9-6AC1-4D0A-9D7A-49492770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4768-A017-4AB3-A420-8885FFF66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5 – Page </a:t>
            </a:r>
            <a:fld id="{87A05A0C-5F28-4D9D-842A-70689AEFAAE3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F7425A50-EAF0-4142-BE66-AB26534E65CC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5 – Page </a:t>
            </a:r>
            <a:fld id="{1E8942E4-0853-42BE-A882-B5376FAA30A4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4037040" y="1828800"/>
            <a:ext cx="5486400" cy="4343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732120" y="1828800"/>
            <a:ext cx="5640480" cy="4343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66680" y="2443320"/>
            <a:ext cx="668988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5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Distributing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Through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hysic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Electronic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Chann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Options for Service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should services be distributed? Distribution Options for Serving Custo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visit service sit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 Theater and Barber shop when customer has to be physically pres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viders go to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 House Panting and Mobile Car was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re expensive and time-consuming for service provid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transaction is conducted remote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 Credit card company and TV St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nel Preferences Vary Among Custom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For complex(multifaceted) and high- perceived(supposed) risk services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, people tend to rely(trust) on personal channels (e.g. mortgage dealing they will use face to face)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Individuals with greater confidence and knowledge about a service/channel tend(have a habit of)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use impersonal(easy to use) and self-service channel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Customers with social motives(reasons)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end to use personal channel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61b6ff"/>
                </a:solidFill>
                <a:latin typeface="Arial"/>
              </a:rPr>
              <a:t>Convenience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 is a key driver of channel cho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4eab"/>
                </a:solidFill>
                <a:latin typeface="Arial"/>
                <a:ea typeface="Arial"/>
              </a:rPr>
              <a:t>Place and Tim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Decisions of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Cost, productivity, and access to labor are key determinants to locating a service facili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Location constraints(limitations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Operational requirement (e.g., airport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Geographic factor (e.g.,ski resort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Need for economies of scale (e.g., hospital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Decisions of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Ministor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Creating many small service factories to maximize geographic coverage (like ATM Machines, small Franchise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Locating in Multipurpose Facilit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4eab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4eab"/>
                </a:solidFill>
                <a:latin typeface="Arial"/>
              </a:rPr>
              <a:t>Proximity(nearness) to where customers live or work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392400">
              <a:spcBef>
                <a:spcPts val="675"/>
              </a:spcBef>
              <a:buClr>
                <a:srgbClr val="014eab"/>
              </a:buClr>
              <a:buFont typeface="Times New Roman"/>
              <a:buChar char="-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4eab"/>
                </a:solidFill>
                <a:latin typeface="Arial"/>
              </a:rPr>
              <a:t>Service Stations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16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of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51080" y="1828440"/>
            <a:ext cx="472428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raditionally, schedules were restrict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availability limited to daytime, 40-50 hours a week 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oda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or flexible, responsive service operations: 24/7 service, 24 hours a day, 7 days a week, all around the worl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205" name="Picture 4" descr="fig05_07.jpg"/>
          <p:cNvPicPr/>
          <p:nvPr/>
        </p:nvPicPr>
        <p:blipFill>
          <a:blip r:embed="rId1"/>
          <a:stretch/>
        </p:blipFill>
        <p:spPr>
          <a:xfrm>
            <a:off x="227160" y="2362320"/>
            <a:ext cx="453384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Delivering Services in Cyber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Delivery Innovations Facilitated by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echnological Innov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velopment of “smart” mobile telephones and PDAs, and presence of Wi-Fi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Voice-recognition technolog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ebsites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mart car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- Store detailed information about customer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2" marL="1214280" indent="0">
              <a:buNone/>
              <a:tabLst>
                <a:tab algn="l" pos="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1800" spc="-1" strike="noStrike">
                <a:solidFill>
                  <a:srgbClr val="013c7d"/>
                </a:solidFill>
                <a:latin typeface="Arial"/>
              </a:rPr>
              <a:t>- Act as electronic purse containing digital money</a:t>
            </a:r>
            <a:endParaRPr b="1" i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lectronic channels can be offered together with physical channels, or replace physical channel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-Commerce: Move to Cybersp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What are the factors that encourage you to use virtual stores?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venie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ase of searc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roader selec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otential for better pr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24-hour service with prompt (quick)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2760" y="144756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tribution in a Services Contex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ptions for Service Deliver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lace and Time Decis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livering Services in Cyberspa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Role of Intermediari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Challenge of Distribution in Large Domestic Marke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tributing Services Internationall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ole of Intermediaries</a:t>
            </a:r>
            <a:r>
              <a:rPr b="1" lang="en-US" sz="2800" spc="-1" strike="noStrike">
                <a:solidFill>
                  <a:srgbClr val="013c7d"/>
                </a:solidFill>
                <a:latin typeface="Arial"/>
                <a:ea typeface="Arial"/>
              </a:rPr>
              <a:t>(Medi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nchis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: An authorization granted by a government or company to an individual or group enabling them to carry out specified commercial activities, for example acting as an agent for a company's products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"Toyota granted the group a franchise“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    “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Mobily, STC &amp; Zain telecome granted the group a franchise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nchis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Franchisor provides training, equipment, and support marketing activities.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GB" sz="2400" spc="-1" strike="noStrike">
                <a:solidFill>
                  <a:srgbClr val="013c7d"/>
                </a:solidFill>
                <a:latin typeface="Arial"/>
              </a:rPr>
              <a:t>Franchisees invest time and finance, and follow copy and media guidelines of franchisor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dvantages: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pand delivery of effective service concept without a high level of monetary invest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13c7d"/>
                </a:solidFill>
                <a:latin typeface="Arial"/>
              </a:rPr>
              <a:t>ranchisees are motivated to ensure good customer service and high-quality service oper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nch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advantages of franchis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ss of control over delivery system and how customers experience actual servic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ffective quality control is difficul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nflict between franchisees may arise especially as they gain experie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Challenge of Distribution in Large Domestic Mar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allenge of Distribution in Large Domestic Mark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istributing services (i.e.,physical logistics) faces challenges due to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istances involved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ultiple time zo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ulticulturalism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ifferences in laws and tax rat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Distribution 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: The way in which something is shared out among                                       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a group or spread over an area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Distribution in a Services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ribution in a Services Contex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1360" y="15235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In a services context, we often don’t move physical product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Experiences, performances, and solutions are not being physically shipped and stored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More and more informational transactions are conducted through electronic and not physical channel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ying the Flow Model of Distribution to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three interrelated elements of distribution ar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formation and promotion flow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get customer interested in buying the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gotiation flow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sell the right to use a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duct flow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develop a network of local sit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inguishing(unique) between Distribution of Supplementary and Cor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400" y="152352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ost core services require physical lo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ny supplementary services are informational; can be distributed widely and cost-effectively via other mea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elephone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terne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920" y="39600"/>
            <a:ext cx="749448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and Physical Process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Augmented(increased) Service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Group 37"/>
          <p:cNvGrpSpPr/>
          <p:nvPr/>
        </p:nvGrpSpPr>
        <p:grpSpPr>
          <a:xfrm>
            <a:off x="1065240" y="1600200"/>
            <a:ext cx="8381520" cy="4572000"/>
            <a:chOff x="1065240" y="1600200"/>
            <a:chExt cx="8381520" cy="4572000"/>
          </a:xfrm>
        </p:grpSpPr>
        <p:pic>
          <p:nvPicPr>
            <p:cNvPr id="167" name="Picture 35" descr="PPT71"/>
            <p:cNvPicPr/>
            <p:nvPr/>
          </p:nvPicPr>
          <p:blipFill>
            <a:blip r:embed="rId1"/>
            <a:stretch/>
          </p:blipFill>
          <p:spPr>
            <a:xfrm>
              <a:off x="1065240" y="1600200"/>
              <a:ext cx="773208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36"/>
            <p:cNvSpPr/>
            <p:nvPr/>
          </p:nvSpPr>
          <p:spPr>
            <a:xfrm>
              <a:off x="8318880" y="5031360"/>
              <a:ext cx="1127880" cy="53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Websites for Service Delive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Group 24"/>
          <p:cNvGrpSpPr/>
          <p:nvPr/>
        </p:nvGrpSpPr>
        <p:grpSpPr>
          <a:xfrm>
            <a:off x="149400" y="1371600"/>
            <a:ext cx="9753480" cy="4873320"/>
            <a:chOff x="149400" y="1371600"/>
            <a:chExt cx="9753480" cy="4873320"/>
          </a:xfrm>
        </p:grpSpPr>
        <p:sp>
          <p:nvSpPr>
            <p:cNvPr id="171" name="Rectangle 19"/>
            <p:cNvSpPr/>
            <p:nvPr/>
          </p:nvSpPr>
          <p:spPr>
            <a:xfrm>
              <a:off x="6732720" y="3230280"/>
              <a:ext cx="31701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der-Tak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4789"/>
                  </a:solidFill>
                  <a:latin typeface="Arial"/>
                  <a:ea typeface="Arial"/>
                </a:rPr>
                <a:t>Make/confirm reserv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4789"/>
                  </a:solidFill>
                  <a:latin typeface="Arial"/>
                  <a:ea typeface="Arial"/>
                </a:rPr>
                <a:t>Submit 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4789"/>
                  </a:solidFill>
                  <a:latin typeface="Arial"/>
                  <a:ea typeface="Arial"/>
                </a:rPr>
                <a:t>Order goods, check statu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23"/>
            <p:cNvGrpSpPr/>
            <p:nvPr/>
          </p:nvGrpSpPr>
          <p:grpSpPr>
            <a:xfrm>
              <a:off x="149400" y="1371600"/>
              <a:ext cx="9093600" cy="4873320"/>
              <a:chOff x="149400" y="1371600"/>
              <a:chExt cx="9093600" cy="487332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3085920" y="5334120"/>
                <a:ext cx="310320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afekeep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Track package movemen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Check repair stat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5"/>
              <p:cNvSpPr/>
              <p:nvPr/>
            </p:nvSpPr>
            <p:spPr>
              <a:xfrm>
                <a:off x="149400" y="5507640"/>
                <a:ext cx="3186720" cy="69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 Proces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Physical Process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Group 6"/>
              <p:cNvGrpSpPr/>
              <p:nvPr/>
            </p:nvGrpSpPr>
            <p:grpSpPr>
              <a:xfrm>
                <a:off x="3201120" y="2313000"/>
                <a:ext cx="3018600" cy="2979720"/>
                <a:chOff x="3201120" y="2313000"/>
                <a:chExt cx="3018600" cy="2979720"/>
              </a:xfrm>
            </p:grpSpPr>
            <p:sp>
              <p:nvSpPr>
                <p:cNvPr id="176" name="Freeform 7"/>
                <p:cNvSpPr/>
                <p:nvPr/>
              </p:nvSpPr>
              <p:spPr>
                <a:xfrm>
                  <a:off x="4404240" y="2313000"/>
                  <a:ext cx="576000" cy="128736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8"/>
                <p:cNvSpPr/>
                <p:nvPr/>
              </p:nvSpPr>
              <p:spPr>
                <a:xfrm>
                  <a:off x="4748040" y="3887640"/>
                  <a:ext cx="1050480" cy="102420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9"/>
                <p:cNvSpPr/>
                <p:nvPr/>
              </p:nvSpPr>
              <p:spPr>
                <a:xfrm>
                  <a:off x="4753440" y="2705040"/>
                  <a:ext cx="1068840" cy="100188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0"/>
                <p:cNvSpPr/>
                <p:nvPr/>
              </p:nvSpPr>
              <p:spPr>
                <a:xfrm>
                  <a:off x="4388760" y="4006800"/>
                  <a:ext cx="584280" cy="128592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1"/>
                <p:cNvSpPr/>
                <p:nvPr/>
              </p:nvSpPr>
              <p:spPr>
                <a:xfrm>
                  <a:off x="4875480" y="3505320"/>
                  <a:ext cx="1344240" cy="55692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2"/>
                <p:cNvSpPr/>
                <p:nvPr/>
              </p:nvSpPr>
              <p:spPr>
                <a:xfrm>
                  <a:off x="3201120" y="3510000"/>
                  <a:ext cx="1347840" cy="55548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3"/>
                <p:cNvSpPr/>
                <p:nvPr/>
              </p:nvSpPr>
              <p:spPr>
                <a:xfrm>
                  <a:off x="3596400" y="2697120"/>
                  <a:ext cx="1050120" cy="10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4"/>
                <p:cNvSpPr/>
                <p:nvPr/>
              </p:nvSpPr>
              <p:spPr>
                <a:xfrm>
                  <a:off x="3565080" y="3902040"/>
                  <a:ext cx="1069200" cy="1000080"/>
                </a:xfrm>
                <a:prstGeom prst="pie">
                  <a:avLst/>
                </a:prstGeom>
                <a:gradFill rotWithShape="0">
                  <a:gsLst>
                    <a:gs pos="0">
                      <a:srgbClr val="a50000"/>
                    </a:gs>
                    <a:gs pos="100000">
                      <a:srgbClr val="b80000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5"/>
                <p:cNvSpPr/>
                <p:nvPr/>
              </p:nvSpPr>
              <p:spPr>
                <a:xfrm>
                  <a:off x="4378320" y="3473280"/>
                  <a:ext cx="649800" cy="611280"/>
                </a:xfrm>
                <a:prstGeom prst="pie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6"/>
                <p:cNvSpPr/>
                <p:nvPr/>
              </p:nvSpPr>
              <p:spPr>
                <a:xfrm>
                  <a:off x="4378320" y="3462480"/>
                  <a:ext cx="660240" cy="631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4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17"/>
                <p:cNvSpPr/>
                <p:nvPr/>
              </p:nvSpPr>
              <p:spPr>
                <a:xfrm>
                  <a:off x="4373280" y="3610080"/>
                  <a:ext cx="813240" cy="33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1400"/>
                      </a:solidFill>
                      <a:latin typeface="Arial"/>
                      <a:ea typeface="Arial"/>
                    </a:rPr>
                    <a:t>Co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Rectangle 18"/>
              <p:cNvSpPr/>
              <p:nvPr/>
            </p:nvSpPr>
            <p:spPr>
              <a:xfrm>
                <a:off x="6239520" y="2209680"/>
                <a:ext cx="300348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sulta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Conduct e-mail dialo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Use expert syst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0"/>
              <p:cNvSpPr/>
              <p:nvPr/>
            </p:nvSpPr>
            <p:spPr>
              <a:xfrm>
                <a:off x="6063840" y="4664160"/>
                <a:ext cx="2271240" cy="69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Hospitalit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cord preferen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1"/>
              <p:cNvSpPr/>
              <p:nvPr/>
            </p:nvSpPr>
            <p:spPr>
              <a:xfrm>
                <a:off x="329760" y="3228840"/>
                <a:ext cx="247572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ill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ceive bi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Make auction bi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Check account statu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2"/>
              <p:cNvSpPr/>
              <p:nvPr/>
            </p:nvSpPr>
            <p:spPr>
              <a:xfrm>
                <a:off x="412200" y="4524480"/>
                <a:ext cx="297108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Exception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Make special request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solve problem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23"/>
              <p:cNvSpPr/>
              <p:nvPr/>
            </p:nvSpPr>
            <p:spPr>
              <a:xfrm>
                <a:off x="1154880" y="2238120"/>
                <a:ext cx="214560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yme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Pay by bank car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Direct deb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24"/>
              <p:cNvSpPr/>
              <p:nvPr/>
            </p:nvSpPr>
            <p:spPr>
              <a:xfrm>
                <a:off x="2640600" y="1371600"/>
                <a:ext cx="4043880" cy="9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Read brochure/FAQ; get schedules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4789"/>
                    </a:solidFill>
                    <a:latin typeface="Arial"/>
                    <a:ea typeface="Arial"/>
                  </a:rPr>
                  <a:t>directions; check pric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7:28:23Z</dcterms:created>
  <dc:creator>VALR</dc:creator>
  <dc:description/>
  <dc:language>en-US</dc:language>
  <cp:lastModifiedBy>aldarrab</cp:lastModifiedBy>
  <cp:lastPrinted>2002-07-07T10:21:06Z</cp:lastPrinted>
  <dcterms:modified xsi:type="dcterms:W3CDTF">2015-07-25T10:26:54Z</dcterms:modified>
  <cp:revision>727</cp:revision>
  <dc:subject/>
  <dc:title>No Slide Title</dc:title>
</cp:coreProperties>
</file>