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D36-1ACF-44AE-BFDF-F63128CB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593D-89A4-4757-86BE-30B0142B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B5ED-7A18-41E8-9DBF-6142E0B2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5884-85EC-485C-AA0A-7C62C0FCE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7400-3058-4E60-B29B-C9DBD274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7EA-DB4D-47D3-8917-CDCE2421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1A3E-FD8A-4FEB-843A-13DADAF3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4C0A-F233-45C0-A717-720403F9A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7407-A9C1-442E-95BE-071744EB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1EF5-ACF9-4F99-8016-F951C6C6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8724-587C-4445-8336-CAF281BB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E6DE-F565-48D7-BB82-E1E415DC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487D-C54E-431E-B78F-EFEAD2B0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1413-D342-4A46-9F28-B4065B89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24C0-6AE9-418A-B627-3E8F5A11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582-9D5A-4522-98E0-0039B89C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E12-3111-4DF7-86F7-F9409D6FA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5186-1238-45C7-9E37-D02652889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73E-1FCE-4212-8D21-7CB8C7BE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D97-68F3-4A08-9666-4FF349C4E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D8D3-4D95-45AB-B833-185EBB38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23A6-F97E-41BA-A65B-496134DE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5 – Page </a:t>
            </a:r>
            <a:fld id="{C1FD3BB2-1093-43D2-A693-6C8AC2455B45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25B4325D-20A3-4945-B6D2-FC73BEDE29FC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5 – Page </a:t>
            </a:r>
            <a:fld id="{978FFBD2-8909-47AC-85D9-7466991B4EA4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037040" y="1828800"/>
            <a:ext cx="548640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732120" y="1828800"/>
            <a:ext cx="5640480" cy="43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66680" y="2443320"/>
            <a:ext cx="668988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Distributing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Through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hys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Electronic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Chann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0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Options for Service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should services be distributed? Distribution Options for Serving Custom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visit service sit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 Theater and Barber shop when customer has to be physically pres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viders go to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 House Panting and Mobile Car was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re expensive and time-consuming for service provid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transaction is conducted remote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 Credit card company and TV St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nel Preferences Vary Among Custom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For complex(multifaceted) and high- perceived(supposed) risk services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, people tend to rely(trust) on personal channels (e.g. mortgage dealing they will use face to face)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Individuals with greater confidence and knowledge about a service/channel tend(have a habit of)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use impersonal(easy to use) and self-service channel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Customers with social motives(reasons)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end to use personal channel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Convenience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is a key driver of channel cho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4eab"/>
                </a:solidFill>
                <a:latin typeface="Arial"/>
                <a:ea typeface="Arial"/>
              </a:rPr>
              <a:t>Place and Tim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 Decisions of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Cost, productivity, and access to labor are key determinants to locating a service facili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Location constraints(limitations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Operational requirement (e.g., airport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Geographic factor (e.g.,ski resort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Need for economies of scale (e.g., hospital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 Decisions of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Ministor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Creating many small service factories to maximize geographic coverage (like ATM Machines, small Franchise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Locating in Multipurpose Facilit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Proximity(nearness) to where customers live or work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392400">
              <a:spcBef>
                <a:spcPts val="675"/>
              </a:spcBef>
              <a:buClr>
                <a:srgbClr val="014eab"/>
              </a:buClr>
              <a:buFont typeface="Times New Roman"/>
              <a:buChar char="-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4eab"/>
                </a:solidFill>
                <a:latin typeface="Arial"/>
              </a:rPr>
              <a:t>Service Stations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6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of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1080" y="18284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raditionally, schedules were restrict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availability limited to daytime, 40-50 hours a week 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oda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or flexible, responsive service operations: 24/7 service, 24 hours a day, 7 days a week, all around the worl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205" name="Picture 4" descr="fig05_07.jpg"/>
          <p:cNvPicPr/>
          <p:nvPr/>
        </p:nvPicPr>
        <p:blipFill>
          <a:blip r:embed="rId1"/>
          <a:stretch/>
        </p:blipFill>
        <p:spPr>
          <a:xfrm>
            <a:off x="227160" y="2362320"/>
            <a:ext cx="45338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Delivering Services in Cyber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Delivery Innovations Facilitated by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echnological Innov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velopment of “smart” mobile telephones and PDAs, and presence of Wi-Fi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Voice-recognition technolog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ebsit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mart car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- Store detailed information about customer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- Act as electronic purse containing digital money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lectronic channels can be offered together with physical channels, or replace physical channel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-Commerce: Move to Cybersp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What are the factors that encourage you to use virtual stores?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venie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ase of searc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roader sele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otential for better pr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24-hour service with prompt (quick)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2760" y="144756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tribution in a Services Contex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ptions for Service Deliver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lace and Time Decis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livering Services in Cyberspa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Role of Intermediar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Challenge of Distribution in Large Domestic Marke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tributing Services International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ole of Intermediaries</a:t>
            </a:r>
            <a:r>
              <a:rPr b="1" lang="en-US" sz="2800" spc="-1" strike="noStrike">
                <a:solidFill>
                  <a:srgbClr val="013c7d"/>
                </a:solidFill>
                <a:latin typeface="Arial"/>
                <a:ea typeface="Arial"/>
              </a:rPr>
              <a:t>(Medi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nchis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: An authorization granted by a government or company to an individual or group enabling them to carry out specified commercial activities, for example acting as an agent for a company's products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"Toyota granted the group a franchise“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    “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Mobily, STC &amp; Zain telecome granted the group a franchise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nchis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Franchisor provides training, equipment, and support marketing activities.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Franchisees invest time and finance, and follow copy and media guidelines of franchisor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dvantages: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pand delivery of effective service concept without a high level of monetary invest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ranchisees are motivated to ensure good customer service and high-quality service oper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nch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advantages of franchis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ss of control over delivery system and how customers experience actual servic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ffective quality control is difficul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flict between franchisees may arise especially as they gain experie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Challenge of Distribution in Large Domestic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allenge of Distribution in Large Domestic Mark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tributing services (i.e.,physical logistics) faces challenges due to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istances involved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ultiple time zo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ulticulturalism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ifferences in laws and tax rat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Distribution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: The way in which something is shared out among                                       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a group or spread over an area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Distribution in a Services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ribution in a Services Conte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1360" y="15235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In a services context, we often don’t move physical product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Experiences, performances, and solutions are not being physically shipped and stored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More and more informational transactions are conducted through electronic and not physical channel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ying the Flow Model of Distribution to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three interrelated elements of distribution ar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formation and promotion flow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get customer interested in buying the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gotiation flow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sell the right to use a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duct flow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develop a network of local sit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inguishing(unique) between Distribution of Supplementary and Cor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400" y="152352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ost core services require physical lo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ny supplementary services are informational; can be distributed widely and cost-effectively via other mea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elephon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terne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920" y="39600"/>
            <a:ext cx="749448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and Physical Process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Augmented(increased) Service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37"/>
          <p:cNvGrpSpPr/>
          <p:nvPr/>
        </p:nvGrpSpPr>
        <p:grpSpPr>
          <a:xfrm>
            <a:off x="1065240" y="1600200"/>
            <a:ext cx="8381520" cy="4572000"/>
            <a:chOff x="1065240" y="1600200"/>
            <a:chExt cx="8381520" cy="4572000"/>
          </a:xfrm>
        </p:grpSpPr>
        <p:pic>
          <p:nvPicPr>
            <p:cNvPr id="167" name="Picture 35" descr="PPT71"/>
            <p:cNvPicPr/>
            <p:nvPr/>
          </p:nvPicPr>
          <p:blipFill>
            <a:blip r:embed="rId1"/>
            <a:stretch/>
          </p:blipFill>
          <p:spPr>
            <a:xfrm>
              <a:off x="1065240" y="1600200"/>
              <a:ext cx="7732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36"/>
            <p:cNvSpPr/>
            <p:nvPr/>
          </p:nvSpPr>
          <p:spPr>
            <a:xfrm>
              <a:off x="8318880" y="5031360"/>
              <a:ext cx="1127880" cy="53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Websites for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24"/>
          <p:cNvGrpSpPr/>
          <p:nvPr/>
        </p:nvGrpSpPr>
        <p:grpSpPr>
          <a:xfrm>
            <a:off x="149400" y="1371600"/>
            <a:ext cx="9753480" cy="4873320"/>
            <a:chOff x="149400" y="1371600"/>
            <a:chExt cx="9753480" cy="4873320"/>
          </a:xfrm>
        </p:grpSpPr>
        <p:sp>
          <p:nvSpPr>
            <p:cNvPr id="171" name="Rectangle 19"/>
            <p:cNvSpPr/>
            <p:nvPr/>
          </p:nvSpPr>
          <p:spPr>
            <a:xfrm>
              <a:off x="6732720" y="3230280"/>
              <a:ext cx="31701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der-Tak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4789"/>
                  </a:solidFill>
                  <a:latin typeface="Arial"/>
                  <a:ea typeface="Arial"/>
                </a:rPr>
                <a:t>Make/confirm re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4789"/>
                  </a:solidFill>
                  <a:latin typeface="Arial"/>
                  <a:ea typeface="Arial"/>
                </a:rPr>
                <a:t>Submit 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4789"/>
                  </a:solidFill>
                  <a:latin typeface="Arial"/>
                  <a:ea typeface="Arial"/>
                </a:rPr>
                <a:t>Order goods, check statu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23"/>
            <p:cNvGrpSpPr/>
            <p:nvPr/>
          </p:nvGrpSpPr>
          <p:grpSpPr>
            <a:xfrm>
              <a:off x="149400" y="1371600"/>
              <a:ext cx="9093600" cy="4873320"/>
              <a:chOff x="149400" y="1371600"/>
              <a:chExt cx="9093600" cy="4873320"/>
            </a:xfrm>
          </p:grpSpPr>
          <p:sp>
            <p:nvSpPr>
              <p:cNvPr id="173" name="Rectangle 4"/>
              <p:cNvSpPr/>
              <p:nvPr/>
            </p:nvSpPr>
            <p:spPr>
              <a:xfrm>
                <a:off x="3085920" y="5334120"/>
                <a:ext cx="310320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afekeep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Track package movemen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Check repair stat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"/>
              <p:cNvSpPr/>
              <p:nvPr/>
            </p:nvSpPr>
            <p:spPr>
              <a:xfrm>
                <a:off x="149400" y="5507640"/>
                <a:ext cx="318672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 Pro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Physical Process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6"/>
              <p:cNvGrpSpPr/>
              <p:nvPr/>
            </p:nvGrpSpPr>
            <p:grpSpPr>
              <a:xfrm>
                <a:off x="3201120" y="2313000"/>
                <a:ext cx="3018600" cy="2979720"/>
                <a:chOff x="3201120" y="2313000"/>
                <a:chExt cx="3018600" cy="2979720"/>
              </a:xfrm>
            </p:grpSpPr>
            <p:sp>
              <p:nvSpPr>
                <p:cNvPr id="176" name="Freeform 7"/>
                <p:cNvSpPr/>
                <p:nvPr/>
              </p:nvSpPr>
              <p:spPr>
                <a:xfrm>
                  <a:off x="4404240" y="2313000"/>
                  <a:ext cx="576000" cy="128736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8"/>
                <p:cNvSpPr/>
                <p:nvPr/>
              </p:nvSpPr>
              <p:spPr>
                <a:xfrm>
                  <a:off x="4748040" y="3887640"/>
                  <a:ext cx="1050480" cy="102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9"/>
                <p:cNvSpPr/>
                <p:nvPr/>
              </p:nvSpPr>
              <p:spPr>
                <a:xfrm>
                  <a:off x="4753440" y="2705040"/>
                  <a:ext cx="1068840" cy="100188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0"/>
                <p:cNvSpPr/>
                <p:nvPr/>
              </p:nvSpPr>
              <p:spPr>
                <a:xfrm>
                  <a:off x="4388760" y="4006800"/>
                  <a:ext cx="584280" cy="128592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1"/>
                <p:cNvSpPr/>
                <p:nvPr/>
              </p:nvSpPr>
              <p:spPr>
                <a:xfrm>
                  <a:off x="4875480" y="3505320"/>
                  <a:ext cx="1344240" cy="55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2"/>
                <p:cNvSpPr/>
                <p:nvPr/>
              </p:nvSpPr>
              <p:spPr>
                <a:xfrm>
                  <a:off x="3201120" y="3510000"/>
                  <a:ext cx="1347840" cy="55548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3"/>
                <p:cNvSpPr/>
                <p:nvPr/>
              </p:nvSpPr>
              <p:spPr>
                <a:xfrm>
                  <a:off x="3596400" y="2697120"/>
                  <a:ext cx="1050120" cy="102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3565080" y="3902040"/>
                  <a:ext cx="1069200" cy="100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5"/>
                <p:cNvSpPr/>
                <p:nvPr/>
              </p:nvSpPr>
              <p:spPr>
                <a:xfrm>
                  <a:off x="4378320" y="3473280"/>
                  <a:ext cx="649800" cy="6112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6"/>
                <p:cNvSpPr/>
                <p:nvPr/>
              </p:nvSpPr>
              <p:spPr>
                <a:xfrm>
                  <a:off x="4378320" y="3462480"/>
                  <a:ext cx="660240" cy="631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7"/>
                <p:cNvSpPr/>
                <p:nvPr/>
              </p:nvSpPr>
              <p:spPr>
                <a:xfrm>
                  <a:off x="4373280" y="3610080"/>
                  <a:ext cx="81324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1400"/>
                      </a:solidFill>
                      <a:latin typeface="Arial"/>
                      <a:ea typeface="Arial"/>
                    </a:rPr>
                    <a:t>Co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18"/>
              <p:cNvSpPr/>
              <p:nvPr/>
            </p:nvSpPr>
            <p:spPr>
              <a:xfrm>
                <a:off x="6239520" y="2209680"/>
                <a:ext cx="300348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ltati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Conduct e-mail dialo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Use expert syste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0"/>
              <p:cNvSpPr/>
              <p:nvPr/>
            </p:nvSpPr>
            <p:spPr>
              <a:xfrm>
                <a:off x="6063840" y="4664160"/>
                <a:ext cx="22712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Hospitalit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cord prefer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21"/>
              <p:cNvSpPr/>
              <p:nvPr/>
            </p:nvSpPr>
            <p:spPr>
              <a:xfrm>
                <a:off x="329760" y="3228840"/>
                <a:ext cx="247572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ll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ceive bi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Make auction b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Check account stat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2"/>
              <p:cNvSpPr/>
              <p:nvPr/>
            </p:nvSpPr>
            <p:spPr>
              <a:xfrm>
                <a:off x="412200" y="4524480"/>
                <a:ext cx="297108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Exception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Make special reques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solve proble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23"/>
              <p:cNvSpPr/>
              <p:nvPr/>
            </p:nvSpPr>
            <p:spPr>
              <a:xfrm>
                <a:off x="1154880" y="2238120"/>
                <a:ext cx="214560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me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Pay by bank ca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Direct deb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4"/>
              <p:cNvSpPr/>
              <p:nvPr/>
            </p:nvSpPr>
            <p:spPr>
              <a:xfrm>
                <a:off x="2640600" y="1371600"/>
                <a:ext cx="404388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ad brochure/FAQ; get schedules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directions; check pr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28:23Z</dcterms:created>
  <dc:creator>VALR</dc:creator>
  <dc:description/>
  <dc:language>en-US</dc:language>
  <cp:lastModifiedBy>aldarrab</cp:lastModifiedBy>
  <cp:lastPrinted>2002-07-07T10:21:06Z</cp:lastPrinted>
  <dcterms:modified xsi:type="dcterms:W3CDTF">2015-07-25T10:26:54Z</dcterms:modified>
  <cp:revision>727</cp:revision>
  <dc:subject/>
  <dc:title>No Slide Title</dc:title>
</cp:coreProperties>
</file>