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902825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-1733760" y="2376360"/>
            <a:ext cx="74610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05920"/>
            <a:ext cx="543420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A1A9-F90E-416E-A451-1866EF52D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2880" y="4707000"/>
            <a:ext cx="49878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98C9-B850-42A1-931D-8A66731DA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C7D0-7450-46CD-A5C1-9C91E187B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2704-FA80-4888-B935-A5E33324E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D946-43F7-449B-B057-B7D44C4A6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7B45-DD3B-42F4-9B2C-8F47393C6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D93C-2D8D-4BF5-8C2B-23BD1BABB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5B5C-2E09-41F4-B8DF-597638884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29E2-2AB8-4603-8E2D-A994905D8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691A-D576-4ECB-8F8D-7DAAFCA7B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DBB9-5408-4D99-A7AE-68A5722F9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8105-05C8-4D5B-BDFB-55850D3FB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BF52-1EEF-418B-83C5-6EE4777BE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D75D-44B8-4725-AC25-F3E8097B4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5DB4-DC41-4DAA-B480-F89966AC3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A975-F593-43F3-8F88-B05E52C62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76BA-6D1C-4271-924F-92ACCC505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4B2A-4A43-4D6C-9DE4-B76A1A445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76B2-09A3-4943-9535-4FE488ED3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A235-671C-4B04-9933-079C08C34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AD7C-0DFA-4BF5-90CA-A68BF7816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F396-3B87-4A54-A659-D654CC7D9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DF75-D7C1-4C3E-9CCB-201C6A83F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7966-B3EA-414B-845A-CC3FE4D47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-1733400" y="2376360"/>
            <a:ext cx="7461000" cy="516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89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9120" y="1828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7908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89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9120" y="42570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63993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13120" y="42570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908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120" y="1828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9080" y="42570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1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9"/>
          <p:cNvSpPr/>
          <p:nvPr/>
        </p:nvSpPr>
        <p:spPr>
          <a:xfrm>
            <a:off x="0" y="0"/>
            <a:ext cx="990432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60320" y="582480"/>
            <a:ext cx="5924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7 – Page </a:t>
            </a:r>
            <a:fld id="{2793819D-34C5-4AEB-BADB-1FA5A11AA387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2"/>
          <p:cNvSpPr/>
          <p:nvPr/>
        </p:nvSpPr>
        <p:spPr>
          <a:xfrm>
            <a:off x="0" y="0"/>
            <a:ext cx="990288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1 – Page </a:t>
            </a:r>
            <a:fld id="{66DDB7BB-B6A1-4184-9AD3-2DDC200C9ED7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1"/>
          <p:cNvSpPr/>
          <p:nvPr/>
        </p:nvSpPr>
        <p:spPr>
          <a:xfrm>
            <a:off x="-1440" y="6629400"/>
            <a:ext cx="9904320" cy="228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-1440" y="6629400"/>
            <a:ext cx="7616520" cy="228600"/>
          </a:xfrm>
          <a:prstGeom prst="rect">
            <a:avLst/>
          </a:prstGeom>
          <a:gradFill rotWithShape="0">
            <a:gsLst>
              <a:gs pos="0">
                <a:srgbClr val="0152ab">
                  <a:alpha val="6901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9"/>
          <p:cNvSpPr/>
          <p:nvPr/>
        </p:nvSpPr>
        <p:spPr>
          <a:xfrm>
            <a:off x="0" y="0"/>
            <a:ext cx="9904320" cy="1295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gradFill rotWithShape="0">
            <a:gsLst>
              <a:gs pos="0">
                <a:srgbClr val="0152ab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60320" y="582480"/>
            <a:ext cx="5924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7"/>
          <p:cNvSpPr/>
          <p:nvPr/>
        </p:nvSpPr>
        <p:spPr>
          <a:xfrm>
            <a:off x="0" y="6629400"/>
            <a:ext cx="990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3"/>
          <p:cNvSpPr/>
          <p:nvPr/>
        </p:nvSpPr>
        <p:spPr>
          <a:xfrm>
            <a:off x="0" y="6629400"/>
            <a:ext cx="23605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lide © 2010 by Lovelock &amp; Wir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4"/>
          <p:cNvSpPr/>
          <p:nvPr/>
        </p:nvSpPr>
        <p:spPr>
          <a:xfrm>
            <a:off x="3884760" y="6629400"/>
            <a:ext cx="2438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Services Marketing 7/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5"/>
          <p:cNvSpPr/>
          <p:nvPr/>
        </p:nvSpPr>
        <p:spPr>
          <a:xfrm>
            <a:off x="8304120" y="66420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Chapter 7 – Page </a:t>
            </a:r>
            <a:fld id="{961F71AC-62CD-402F-ACB9-91E73AF9B411}" type="slidenum">
              <a:rPr b="0" lang="en-GB" sz="1000" spc="-1" strike="noStrike">
                <a:solidFill>
                  <a:srgbClr val="ffc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0"/>
            <a:ext cx="7616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68200" y="1600200"/>
            <a:ext cx="9407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480" bIns="42480" anchor="t">
            <a:noAutofit/>
          </a:bodyPr>
          <a:p>
            <a:pPr marL="457200" indent="-45720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158256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37908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7000"/>
          </a:bodyPr>
          <a:p>
            <a:pPr marL="443160" indent="-443160">
              <a:spcBef>
                <a:spcPts val="24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51560" indent="-497160">
              <a:spcBef>
                <a:spcPts val="2401"/>
              </a:spcBef>
              <a:buClr>
                <a:srgbClr val="013c7d"/>
              </a:buClr>
              <a:buFont typeface="Wingdings" charset="2"/>
              <a:buChar char="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2" marL="1177560" indent="380520">
              <a:spcBef>
                <a:spcPts val="2401"/>
              </a:spcBef>
              <a:buClr>
                <a:srgbClr val="013c7d"/>
              </a:buClr>
              <a:buFont typeface="Univers Extended"/>
              <a:buChar char="•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3" marL="2083320" indent="-414000">
              <a:spcBef>
                <a:spcPts val="2401"/>
              </a:spcBef>
              <a:buClr>
                <a:srgbClr val="ff9900"/>
              </a:buClr>
              <a:buFont typeface="Wingdings" charset="2"/>
              <a:buChar char="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4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5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6" marL="5007240" indent="-15840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3884760" y="1752480"/>
            <a:ext cx="5628960" cy="4419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3"/>
          <p:cNvSpPr/>
          <p:nvPr/>
        </p:nvSpPr>
        <p:spPr>
          <a:xfrm>
            <a:off x="9572760" y="1371600"/>
            <a:ext cx="3301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9572760" y="1447920"/>
            <a:ext cx="3301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3884760" y="1752480"/>
            <a:ext cx="5715000" cy="441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9655200" y="1371600"/>
            <a:ext cx="2476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0" y="2362320"/>
            <a:ext cx="457056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Chapter 7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Promoting 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Services 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and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Educating</a:t>
            </a:r>
            <a:br>
              <a:rPr sz="3600"/>
            </a:b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13c7d"/>
                </a:solidFill>
                <a:latin typeface="Arial"/>
                <a:ea typeface="Arial"/>
              </a:rPr>
              <a:t>Custo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7"/>
          <p:cNvGrpSpPr/>
          <p:nvPr/>
        </p:nvGrpSpPr>
        <p:grpSpPr>
          <a:xfrm>
            <a:off x="455760" y="4495680"/>
            <a:ext cx="1904760" cy="1778040"/>
            <a:chOff x="455760" y="4495680"/>
            <a:chExt cx="1904760" cy="1778040"/>
          </a:xfrm>
        </p:grpSpPr>
        <p:pic>
          <p:nvPicPr>
            <p:cNvPr id="153" name="Picture 2" descr=""/>
            <p:cNvPicPr/>
            <p:nvPr/>
          </p:nvPicPr>
          <p:blipFill>
            <a:blip r:embed="rId2"/>
            <a:stretch/>
          </p:blipFill>
          <p:spPr>
            <a:xfrm>
              <a:off x="455760" y="4495680"/>
              <a:ext cx="914400" cy="81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4" descr=""/>
            <p:cNvPicPr/>
            <p:nvPr/>
          </p:nvPicPr>
          <p:blipFill>
            <a:blip r:embed="rId3"/>
            <a:stretch/>
          </p:blipFill>
          <p:spPr>
            <a:xfrm>
              <a:off x="455760" y="5410080"/>
              <a:ext cx="91440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5" descr=""/>
            <p:cNvPicPr/>
            <p:nvPr/>
          </p:nvPicPr>
          <p:blipFill>
            <a:blip r:embed="rId4"/>
            <a:stretch/>
          </p:blipFill>
          <p:spPr>
            <a:xfrm>
              <a:off x="1446120" y="5410080"/>
              <a:ext cx="91440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Rectangle 67"/>
          <p:cNvSpPr/>
          <p:nvPr/>
        </p:nvSpPr>
        <p:spPr>
          <a:xfrm>
            <a:off x="228600" y="228600"/>
            <a:ext cx="6627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s Marketing 7e, Global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hecklist: The “5 Ws” Model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ho is our target audience?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hat do we need to communicate and achieve?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Ho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 should we communicate this?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here should we communicate this?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hen do communications need to take place?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Educational and Promotional Objectives in Service Settings 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reate memorable images of specific companies and their brand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Build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awareness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 and interest for unfamiliar servi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ompare service favorably with competitors’ offering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Build preference by communicating strengths and benefi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Reduce uncertainty or perceived risk by providing useful info and advi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716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ucational and Promotional Objectives(purposes) in Service Sett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Provide reassurance (e.g., promote service guarantees)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Encourage trial by offering promotional incentiv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amiliarize customers with service processes before us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each customers how to use a service to best advantag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Recognize and reward valued customers and employe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The Marketing Communications M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keting Communications Mix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103" descr="PPT3D"/>
          <p:cNvPicPr/>
          <p:nvPr/>
        </p:nvPicPr>
        <p:blipFill>
          <a:blip r:embed="rId1"/>
          <a:stretch/>
        </p:blipFill>
        <p:spPr>
          <a:xfrm>
            <a:off x="298440" y="1427040"/>
            <a:ext cx="9381960" cy="5059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itional Marketing Chann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3120" y="1401840"/>
          <a:ext cx="9372600" cy="5322960"/>
        </p:xfrm>
        <a:graphic>
          <a:graphicData uri="http://schemas.openxmlformats.org/drawingml/2006/table">
            <a:tbl>
              <a:tblPr/>
              <a:tblGrid>
                <a:gridCol w="3733920"/>
                <a:gridCol w="5029200"/>
                <a:gridCol w="60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nels (network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m (goal or purpo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ertising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activity or profession of producing advertisements for commercial products or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 awareness, inform, convey message, and rem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relations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fessional maintenance of a favorable public image by a company or other organiza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s reputation and credibility to secure an image favorable to conduct bus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 as mail, e-mail&amp; text messag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 personalized messages to highly targeted micro-segments; use permission marketing where customers “raise their hands” and agree to learn more about a company and its produ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itional Marketing Chann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79440" y="1447920"/>
          <a:ext cx="9296280" cy="4601880"/>
        </p:xfrm>
        <a:graphic>
          <a:graphicData uri="http://schemas.openxmlformats.org/drawingml/2006/table">
            <a:tbl>
              <a:tblPr/>
              <a:tblGrid>
                <a:gridCol w="5410080"/>
                <a:gridCol w="3581640"/>
                <a:gridCol w="304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1226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Promotion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ion attached to an incentive that is specific to a period of time, price, or customer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9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e attention and speed up introduction and acceptance of new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Selling: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e-to-face selling in which a seller attempts to encourage a buyer to make a purchas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e customers and promote preferences for particular brand or produ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e Sh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rade fair is an exhibition organized so that companies in a specific industry can showcase and demonstrate their latest products, service, study activities of competitors and examine recent market trends and opportuniti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te extensive media coverage with many prospective buy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ive Advertising on Internet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ner Adverti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Banner Advertising: Placing advertising banners and buttons on portals such as Yahoo and other firms’ websites to draw online traffic to own sit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Easy for advertisers to measure how many visits to its own website are generated by click-through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ive Advertising on Internet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arch Engine Advertis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arch Engine Advertising: search engines let advertisers know exactly what consumer wants through their keyword search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200" spc="-1" strike="noStrike">
                <a:solidFill>
                  <a:srgbClr val="013c7d"/>
                </a:solidFill>
                <a:latin typeface="Arial"/>
              </a:rPr>
              <a:t>Advertising options:</a:t>
            </a: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Pay for targeted placement of ads to relevant keyword searches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Sponsor a short text message with a click-through link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1800" spc="-1" strike="noStrike">
                <a:solidFill>
                  <a:srgbClr val="013c7d"/>
                </a:solidFill>
                <a:latin typeface="Arial"/>
              </a:rPr>
              <a:t>Buy top rankings in the display of search results</a:t>
            </a:r>
            <a:endParaRPr b="1" lang="en-US" sz="1800" spc="-1" strike="noStrike">
              <a:solidFill>
                <a:srgbClr val="013c7d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  <a:p>
            <a:pPr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2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ssages Transmitted through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Delivery Chann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Diagram 4" descr=""/>
          <p:cNvPicPr/>
          <p:nvPr/>
        </p:nvPicPr>
        <p:blipFill>
          <a:blip r:embed="rId1"/>
          <a:stretch/>
        </p:blipFill>
        <p:spPr>
          <a:xfrm>
            <a:off x="665280" y="1639800"/>
            <a:ext cx="8575560" cy="4797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view of Chapter 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Role of Marketing Communication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hallenges of Services Communication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arketing Communications Planning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he Marketing Communications Mix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Role of Corporate Design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Integrating Marketing Communication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ssages Originating from Outside the Organiz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Word of Mouth (WOM)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Recommendations from other customers viewed as more credibl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trategies to stimulate</a:t>
            </a:r>
            <a:r>
              <a:rPr b="1" lang="en-US" sz="1600" spc="-1" strike="noStrike">
                <a:solidFill>
                  <a:srgbClr val="013c7d"/>
                </a:solidFill>
                <a:latin typeface="Arial"/>
              </a:rPr>
              <a:t>(encourage)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 positive WOM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reating exciting promotions that get people talking about firm’s great servic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Offering promotions that encourage customers to encourage other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Developing recommendation incentive schem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Referencing other purchasers and knowledgeable individual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resenting and publicizing testimonials(references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ssages Originating from Outside the Organiza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Blogs – A new type of online WOM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witter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edia Coverag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Compares, contrasts service offerings from competing organization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dvice on “best buys”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ical Issues in Commun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Poor internal communications between operations and marketing personnel concerning level of service performan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Deliberately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(intentionally)</a:t>
            </a: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 blown up promises to secure sal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Deceiving (lying, misleading) promotion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Unwanted interference by aggressive marketers into people’s personal live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Role of Corporat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ategies for Corporate Desig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any service firms employ a unified and distinctive(unique) visual appearance for all tangible element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.g., Logos, uniforms, physical faciliti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4eab"/>
                </a:solidFill>
                <a:latin typeface="Arial"/>
              </a:rPr>
              <a:t>Provide a recognizable theme linking all the firm’s operations use of physical eviden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.g., FedEx, Saudi Arabian Airlines, Luxuries Hotel Staff etc. 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ategies for Corporate Desig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Use of trademarked symbol as primary logo, with name secondary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cDonald’s “Golden Arches”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spcBef>
                <a:spcPts val="1199"/>
              </a:spcBef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08240" y="3048120"/>
            <a:ext cx="373392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ategies for Corporate Design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International companies need to select designs carefully to avoid conveying a culturally inappropriate messag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Easily recognizable corporate symbols important for international marketers in markets where: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Local language is not written in Roman Script 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ignificant portion of population is illiterat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0"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arketing communications adds value through its conten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Overcome problems of intangibility – use metaphors to communicate value proposition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ommunication planning involves knowing (5Ws)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arketing communications originate from within the organization through production and marketing channel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9000"/>
          </a:bodyPr>
          <a:p>
            <a:pPr marL="452520" indent="-45252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ervice delivery channels includ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ervice outlet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Front-line employe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elf-service delivery point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2520" indent="-45252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Marketing communications originating from outside  organization includ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Word of mouth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Blog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Twitter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edia coverag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2520" indent="-45252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orporate design strategies are part and parcel of communication mix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Promo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Promotion: Activity that supports or encourages a cause, project, or aim.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Or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3c7d"/>
                </a:solidFill>
                <a:latin typeface="Arial"/>
              </a:rPr>
              <a:t>The publicizing of a product, organization, or project so as to    increase sales or public awareness.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Role of Marketing Commun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 Roles of Marketing Communi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0720" indent="-450720">
              <a:lnSpc>
                <a:spcPct val="80000"/>
              </a:lnSpc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Position and differentiate service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Help customer evaluate offerings and highlight differences that matter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Promote contribution of personnel and backstage operation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Add value through communication content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acilitate customer involvement in production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0720" indent="-450720">
              <a:lnSpc>
                <a:spcPct val="80000"/>
              </a:lnSpc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timulate or dampen</a:t>
            </a:r>
            <a:r>
              <a:rPr b="1" lang="ar-SA" sz="2000" spc="-1" strike="noStrike">
                <a:solidFill>
                  <a:srgbClr val="013c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demand to match capacit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747720" indent="0">
              <a:lnSpc>
                <a:spcPct val="80000"/>
              </a:lnSpc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0720" indent="0">
              <a:spcBef>
                <a:spcPts val="2999"/>
              </a:spcBef>
              <a:buNone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 Customers to Evaluate               Service Offer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ustomers may have difficulty distinguishing one firm from another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Provide tangible clues related to service performanc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ome performance qualities lend themselves better to advertising than other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.g., Airlin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irm’s expertise is hidden in low-contact services(i.e internet banking, internet based services).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Need to show equipment, procedures, employee activities that take place backstage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ote Contributions of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Personnel(worker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 fontScale="99000"/>
          </a:bodyPr>
          <a:p>
            <a:pPr marL="452520" indent="-45252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Frontline personnel are central to service delivery in high-contact services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(i.e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 star hotel, good restaurant, Airlines etc.)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ake the service more tangible and personalized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2520" indent="-45252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how customers work performed behind the scenes to ensure good delivery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To enhance trust, highlight expertise and commitment of employee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Advertisements must be realistic </a:t>
            </a: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Messages help set customers’ expectations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-507240">
              <a:spcBef>
                <a:spcPts val="1199"/>
              </a:spcBef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Service personnel should be informed about the content of new advertising campaigns or brochures before launch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lvl="1" marL="1073160" indent="0">
              <a:buNone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716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cilitate Customer Involvement in P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2760" y="15998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480" bIns="42480" anchor="t">
            <a:normAutofit/>
          </a:bodyPr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Customers are actively involved in service production; they need training to perform well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how service delivery in action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Television and videos engage viewer 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lvl="1" marL="1084320" indent="-512640">
              <a:buClr>
                <a:srgbClr val="013c7d"/>
              </a:buClr>
              <a:buFont typeface="Wingdings" charset="2"/>
              <a:buChar char=""/>
              <a:tabLst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000" spc="-1" strike="noStrike">
                <a:solidFill>
                  <a:srgbClr val="013c7d"/>
                </a:solidFill>
                <a:latin typeface="Arial"/>
              </a:rPr>
              <a:t>e.g., Dentists showing patients videos of surgical procedures before surgery</a:t>
            </a:r>
            <a:endParaRPr b="1" lang="en-US" sz="2000" spc="-1" strike="noStrike">
              <a:solidFill>
                <a:srgbClr val="013c7d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ff6600"/>
              </a:buClr>
              <a:buFont typeface="Webdings" charset="2"/>
              <a:buChar char=""/>
              <a:tabLst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1" lang="en-US" sz="2400" spc="-1" strike="noStrike">
                <a:solidFill>
                  <a:srgbClr val="013c7d"/>
                </a:solidFill>
                <a:latin typeface="Arial"/>
              </a:rPr>
              <a:t>Streaming videos on web and podcasts are new channels to reach active customers</a:t>
            </a: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  <a:p>
            <a:pPr marL="457200" indent="0">
              <a:spcBef>
                <a:spcPts val="2999"/>
              </a:spcBef>
              <a:buNone/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endParaRPr b="1" lang="en-US" sz="2400" spc="-1" strike="noStrike">
              <a:solidFill>
                <a:srgbClr val="013c7d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716040" y="2514600"/>
            <a:ext cx="8416800" cy="19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3c7d"/>
                </a:solidFill>
                <a:latin typeface="Arial"/>
                <a:ea typeface="Arial"/>
              </a:rPr>
              <a:t>Marketing Communications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8:23:30Z</dcterms:created>
  <dc:creator>VALR</dc:creator>
  <dc:description/>
  <dc:language>en-US</dc:language>
  <cp:lastModifiedBy>aldarrab</cp:lastModifiedBy>
  <cp:lastPrinted>2002-07-07T10:21:06Z</cp:lastPrinted>
  <dcterms:modified xsi:type="dcterms:W3CDTF">2015-07-25T10:25:07Z</dcterms:modified>
  <cp:revision>785</cp:revision>
  <dc:subject/>
  <dc:title>No Slide Title</dc:title>
</cp:coreProperties>
</file>