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902825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-1733760" y="2376360"/>
            <a:ext cx="74610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05920"/>
            <a:ext cx="5434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6F94-322D-4713-AF0B-17ECA41C6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878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7661-F25E-4AFF-BAB3-74E96C1CA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67FD-6A82-4A53-B6D6-C25CDAE40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3372-0EA4-45E7-A8B5-FCD25DF88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E995-13FD-49F8-8C7D-647F6A5E4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E35C-33E3-4A9B-985D-6ABF3606D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8537-0CB3-4FE3-AC29-068F5004F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5D3A-7CC9-4327-9A05-DCCAC7D2D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BA54-0EA7-40A9-BA2E-8A1B9BC2E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BA99-0ECC-4B5B-8907-6D93CBE0C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A757-B15E-4810-B469-14DD778A5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DF45-FA0D-4763-B6C7-B71B43B7F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2F31-5EAD-4F27-BF1A-2AC9A1B82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A8F6-B716-466B-9032-5567BD988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AEE7-76D0-4520-8A62-CFFFC2C57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13CB-04F1-448E-8021-42BC3E57A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821E-DC8A-464E-BB08-015B2DB85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F544-F606-4E0D-897A-B8F6F66ED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0C60-125F-4ECD-BEC8-EC1F5186D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9FA2-680E-4CF9-A58B-65CE35C89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5241-270F-430D-999D-FEC62B747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8DED-09F4-441C-9229-A2B63DFE6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3881-D974-435E-95D0-8A0E0BF89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DE93-8610-4F72-AEF5-6BDAC7287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1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9"/>
          <p:cNvSpPr/>
          <p:nvPr/>
        </p:nvSpPr>
        <p:spPr>
          <a:xfrm>
            <a:off x="0" y="0"/>
            <a:ext cx="990432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60320" y="582480"/>
            <a:ext cx="5924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7 – Page </a:t>
            </a:r>
            <a:fld id="{70A24877-3F57-4A5B-8890-4B3B38919465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"/>
          <p:cNvSpPr/>
          <p:nvPr/>
        </p:nvSpPr>
        <p:spPr>
          <a:xfrm>
            <a:off x="0" y="0"/>
            <a:ext cx="990288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1 – Page </a:t>
            </a:r>
            <a:fld id="{43AEBAA6-9738-473C-B33D-0B4044CC9B52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1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9"/>
          <p:cNvSpPr/>
          <p:nvPr/>
        </p:nvSpPr>
        <p:spPr>
          <a:xfrm>
            <a:off x="0" y="0"/>
            <a:ext cx="990432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60320" y="582480"/>
            <a:ext cx="5924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7 – Page </a:t>
            </a:r>
            <a:fld id="{D26A9445-9AC8-487C-981E-C7451B966DF3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68200" y="1600200"/>
            <a:ext cx="9407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noAutofit/>
          </a:bodyPr>
          <a:p>
            <a:pPr marL="457200" indent="-45720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3884760" y="1752480"/>
            <a:ext cx="5628960" cy="4419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3"/>
          <p:cNvSpPr/>
          <p:nvPr/>
        </p:nvSpPr>
        <p:spPr>
          <a:xfrm>
            <a:off x="9572760" y="1371600"/>
            <a:ext cx="3301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9572760" y="1447920"/>
            <a:ext cx="3301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3884760" y="1752480"/>
            <a:ext cx="5715000" cy="441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9655200" y="1371600"/>
            <a:ext cx="2476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0" y="2362320"/>
            <a:ext cx="457056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Chapter 7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Promoting 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Services 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and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Educating</a:t>
            </a:r>
            <a:br>
              <a:rPr sz="3600"/>
            </a:b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Custo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7"/>
          <p:cNvGrpSpPr/>
          <p:nvPr/>
        </p:nvGrpSpPr>
        <p:grpSpPr>
          <a:xfrm>
            <a:off x="455760" y="4495680"/>
            <a:ext cx="1904760" cy="1778040"/>
            <a:chOff x="455760" y="4495680"/>
            <a:chExt cx="1904760" cy="1778040"/>
          </a:xfrm>
        </p:grpSpPr>
        <p:pic>
          <p:nvPicPr>
            <p:cNvPr id="153" name="Picture 2" descr=""/>
            <p:cNvPicPr/>
            <p:nvPr/>
          </p:nvPicPr>
          <p:blipFill>
            <a:blip r:embed="rId2"/>
            <a:stretch/>
          </p:blipFill>
          <p:spPr>
            <a:xfrm>
              <a:off x="455760" y="4495680"/>
              <a:ext cx="914400" cy="81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4" descr=""/>
            <p:cNvPicPr/>
            <p:nvPr/>
          </p:nvPicPr>
          <p:blipFill>
            <a:blip r:embed="rId3"/>
            <a:stretch/>
          </p:blipFill>
          <p:spPr>
            <a:xfrm>
              <a:off x="455760" y="5410080"/>
              <a:ext cx="91440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5" descr=""/>
            <p:cNvPicPr/>
            <p:nvPr/>
          </p:nvPicPr>
          <p:blipFill>
            <a:blip r:embed="rId4"/>
            <a:stretch/>
          </p:blipFill>
          <p:spPr>
            <a:xfrm>
              <a:off x="1446120" y="5410080"/>
              <a:ext cx="91440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Rectangle 67"/>
          <p:cNvSpPr/>
          <p:nvPr/>
        </p:nvSpPr>
        <p:spPr>
          <a:xfrm>
            <a:off x="228600" y="228600"/>
            <a:ext cx="6627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s Marketing 7e, Global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hecklist: The “5 Ws” Model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ho is our target audience?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hat do we need to communicate and achieve?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Ho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 should we communicate this?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here should we communicate this?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hen do communications need to take place?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Educational and Promotional Objectives in Service Settings 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reate memorable images of specific companies and their brand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Build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wareness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 and interest for unfamiliar servi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ompare service favorably with competitors’ offering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Build preference by communicating strengths and benefi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Reduce uncertainty or perceived risk by providing useful info and advi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716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ucational and Promotional Objectives(purposes) in Service Sett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Provide reassurance (e.g., promote service guarantees)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Encourage trial by offering promotional incentiv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amiliarize customers with service processes before us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each customers how to use a service to best advantag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Recognize and reward valued customers and employe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The Marketing Communications 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Communications Mix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103" descr="PPT3D"/>
          <p:cNvPicPr/>
          <p:nvPr/>
        </p:nvPicPr>
        <p:blipFill>
          <a:blip r:embed="rId1"/>
          <a:stretch/>
        </p:blipFill>
        <p:spPr>
          <a:xfrm>
            <a:off x="298440" y="1427040"/>
            <a:ext cx="9381960" cy="5059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itional Marketing Chann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3120" y="1401840"/>
          <a:ext cx="9372600" cy="5322960"/>
        </p:xfrm>
        <a:graphic>
          <a:graphicData uri="http://schemas.openxmlformats.org/drawingml/2006/table">
            <a:tbl>
              <a:tblPr/>
              <a:tblGrid>
                <a:gridCol w="3733920"/>
                <a:gridCol w="5029200"/>
                <a:gridCol w="60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nels (network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m (goal or purpo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ing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ctivity or profession of producing advertisements for commercial products or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 awareness, inform, convey message, and rem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relations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fessional maintenance of a favorable public image by a company or other organiz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s reputation and credibility to secure an image favorable to conduct bus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 as mail, e-mail&amp; text messag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 personalized messages to highly targeted micro-segments; use permission marketing where customers “raise their hands” and agree to learn more about a company and its produ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itional Marketing Chann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79440" y="1447920"/>
          <a:ext cx="9296280" cy="4601880"/>
        </p:xfrm>
        <a:graphic>
          <a:graphicData uri="http://schemas.openxmlformats.org/drawingml/2006/table">
            <a:tbl>
              <a:tblPr/>
              <a:tblGrid>
                <a:gridCol w="5410080"/>
                <a:gridCol w="3581640"/>
                <a:gridCol w="304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1226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Promotion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on attached to an incentive that is specific to a period of time, price, or customer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e attention and speed up introduction and acceptance of new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Selling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e-to-face selling in which a seller attempts to encourage a buyer to make a purchas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e customers and promote preferences for particular brand or produ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e Sh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rade fair is an exhibition organized so that companies in a specific industry can showcase and demonstrate their latest products, service, study activities of competitors and examine recent market trends and opportuniti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te extensive media coverage with many prospective buy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ive Advertising on Internet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ner Adverti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Banner Advertising: Placing advertising banners and buttons on portals such as Yahoo and other firms’ websites to draw online traffic to own sit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Easy for advertisers to measure how many visits to its own website are generated by click-through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ive Advertising on Internet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rch Engine Advertis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arch Engine Advertising: search engines let advertisers know exactly what consumer wants through their keyword search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Advertising options: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Pay for targeted placement of ads to relevant keyword searches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Sponsor a short text message with a click-through link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Buy top rankings in the display of search results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ssages Transmitted through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Delivery Chann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Diagram 4" descr=""/>
          <p:cNvPicPr/>
          <p:nvPr/>
        </p:nvPicPr>
        <p:blipFill>
          <a:blip r:embed="rId1"/>
          <a:stretch/>
        </p:blipFill>
        <p:spPr>
          <a:xfrm>
            <a:off x="665280" y="1639800"/>
            <a:ext cx="8575560" cy="4797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view of Chapter 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Role of Marketing Communication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hallenges of Services Communication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arketing Communications Planning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e Marketing Communications Mix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Role of Corporate Design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Integrating Marketing Communication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ssages Originating from Outside the Organiz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Word of Mouth (WOM)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Recommendations from other customers viewed as more credibl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trategies to stimulate</a:t>
            </a:r>
            <a:r>
              <a:rPr b="1" lang="en-US" sz="1600" spc="-1" strike="noStrike">
                <a:solidFill>
                  <a:srgbClr val="013c7d"/>
                </a:solidFill>
                <a:latin typeface="Arial"/>
              </a:rPr>
              <a:t>(encourage)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 positive WOM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reating exciting promotions that get people talking about firm’s great servic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Offering promotions that encourage customers to encourage other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Developing recommendation incentive schem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Referencing other purchasers and knowledgeable individual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resenting and publicizing testimonials(references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ssages Originating from Outside the Organiz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Blogs – A new type of online WOM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witter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edia Coverag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ompares, contrasts service offerings from competing organization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dvice on “best buys”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ical Issues in Commun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Poor internal communications between operations and marketing personnel concerning level of service performan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Deliberately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(intentionally)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 blown up promises to secure sal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Deceiving (lying, misleading) promotion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Unwanted interference by aggressive marketers into people’s personal liv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Role of Corporat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ategies for Corporate Desig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any service firms employ a unified and distinctive(unique) visual appearance for all tangible elemen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.g., Logos, uniforms, physical faciliti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4eab"/>
                </a:solidFill>
                <a:latin typeface="Arial"/>
              </a:rPr>
              <a:t>Provide a recognizable theme linking all the firm’s operations use of physical eviden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.g., FedEx, Saudi Arabian Airlines, Luxuries Hotel Staff etc. 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ategies for Corporate Desig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Use of trademarked symbol as primary logo, with name secondary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cDonald’s “Golden Arches”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08240" y="3048120"/>
            <a:ext cx="373392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ategies for Corporate Design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International companies need to select designs carefully to avoid conveying a culturally inappropriate messag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Easily recognizable corporate symbols important for international marketers in markets where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Local language is not written in Roman Script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ignificant portion of population is illiterat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arketing communications adds value through its conten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Overcome problems of intangibility – use metaphors to communicate value proposition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ommunication planning involves knowing (5Ws)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arketing communications originate from within the organization through production and marketing channel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9000"/>
          </a:bodyPr>
          <a:p>
            <a:pPr marL="452520" indent="-45252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delivery channels includ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ervice outlet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Front-line employe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elf-service delivery point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2520" indent="-45252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arketing communications originating from outside  organization includ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Word of mouth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Blog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Twitter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edia coverag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2520" indent="-45252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orporate design strategies are part and parcel of communication mix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Promo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Promotion: Activity that supports or encourages a cause, project, or aim.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Or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The publicizing of a product, organization, or project so as to    increase sales or public awareness.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Role of Marketing Commun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 Roles of Marketing Communi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0720" indent="-450720">
              <a:lnSpc>
                <a:spcPct val="80000"/>
              </a:lnSpc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Position and differentiate servi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Help customer evaluate offerings and highlight differences that matter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Promote contribution of personnel and backstage operation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Add value through communication conten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acilitate customer involvement in production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timulate or dampen</a:t>
            </a:r>
            <a:r>
              <a:rPr b="1" lang="ar-SA" sz="2000" spc="-1" strike="noStrike">
                <a:solidFill>
                  <a:srgbClr val="013c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demand to match capacit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747720" indent="0">
              <a:lnSpc>
                <a:spcPct val="80000"/>
              </a:lnSpc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072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 Customers to Evaluate               Service Offer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ustomers may have difficulty distinguishing one firm from another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rovide tangible clues related to service performanc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ome performance qualities lend themselves better to advertising than other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.g., Airlin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rm’s expertise is hidden in low-contact services(i.e internet banking, internet based services).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Need to show equipment, procedures, employee activities that take place backstag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 Contributions of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Personnel(worker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9000"/>
          </a:bodyPr>
          <a:p>
            <a:pPr marL="452520" indent="-45252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rontline personnel are central to service delivery in high-contact services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(i.e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 star hotel, good restaurant, Airlines etc.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ake the service more tangible and personalized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2520" indent="-45252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how customers work performed behind the scenes to ensure good deliver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To enhance trust, highlight expertise and commitment of employe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dvertisements must be realistic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essages help set customers’ expectation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ervice personnel should be informed about the content of new advertising campaigns or brochures before launch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0"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cilitate Customer Involvement in P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ustomers are actively involved in service production; they need training to perform wel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how service delivery in action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elevision and videos engage viewer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.g., Dentists showing patients videos of surgical procedures before surger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treaming videos on web and podcasts are new channels to reach active customer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Marketing Communications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8:23:30Z</dcterms:created>
  <dc:creator>VALR</dc:creator>
  <dc:description/>
  <dc:language>en-US</dc:language>
  <cp:lastModifiedBy>aldarrab</cp:lastModifiedBy>
  <cp:lastPrinted>2002-07-07T10:21:06Z</cp:lastPrinted>
  <dcterms:modified xsi:type="dcterms:W3CDTF">2015-07-25T10:25:07Z</dcterms:modified>
  <cp:revision>785</cp:revision>
  <dc:subject/>
  <dc:title>No Slide Title</dc:title>
</cp:coreProperties>
</file>