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902825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-1733760" y="2376360"/>
            <a:ext cx="74610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05920"/>
            <a:ext cx="5434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DB7D-BC3D-4103-8D80-2C946BAB9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F67E-DF6E-4FC3-A47B-E482308A1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0A5D-80CE-4887-B2AD-A540EE097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FF15-AB79-44A3-A5AC-0A0697F74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8BF0-3C0C-4F25-AEBE-1224FCC89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6DE1-2D38-4EBA-AFB2-7536192C1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367F-B319-43ED-A8FB-F60AE6483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5936-1F56-4E9F-AA8E-C6CF2211D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3B42-0949-44B5-9CA6-AD17FB60B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19F8-71A7-4A04-856F-9EEE47EFC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F5FA-D472-4769-BB45-82BF14EE4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CB39-072C-418F-B662-43EC5B44E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E179-73E2-4695-816E-4632FCF66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8998-23E9-4DD5-9FF4-1C9612C42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F175-4FC8-4818-883B-9B78F016D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564F-A2F9-4E17-A345-18DD88BF4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88D3-03A1-4B33-802D-6852C38C1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A573-89C5-4549-9C8C-730D7A233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720F-1944-4C0E-A735-1B6F505C5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A65B-956A-4D84-B234-60681C8DF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8– Page </a:t>
            </a:r>
            <a:fld id="{7B7EF03E-EFD9-43C0-BC47-B1C7FE7401CB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90288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 – Page </a:t>
            </a:r>
            <a:fld id="{711222FC-03EB-4689-B819-53A4A6B3CFFB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8– Page </a:t>
            </a:r>
            <a:fld id="{CE694711-2DF5-4001-9989-6D087D4F6A8D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68200" y="1600200"/>
            <a:ext cx="9407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marL="457200" indent="-45720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198960" y="1600200"/>
            <a:ext cx="6352920" cy="4648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9"/>
          <p:cNvSpPr/>
          <p:nvPr/>
        </p:nvSpPr>
        <p:spPr>
          <a:xfrm>
            <a:off x="3198960" y="1600200"/>
            <a:ext cx="6324480" cy="464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65240" y="2362320"/>
            <a:ext cx="5859360" cy="14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Chapter 8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Designing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and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Man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Service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455760" y="4495680"/>
            <a:ext cx="1904760" cy="1778040"/>
            <a:chOff x="455760" y="4495680"/>
            <a:chExt cx="1904760" cy="1778040"/>
          </a:xfrm>
        </p:grpSpPr>
        <p:pic>
          <p:nvPicPr>
            <p:cNvPr id="150" name="Picture 2" descr=""/>
            <p:cNvPicPr/>
            <p:nvPr/>
          </p:nvPicPr>
          <p:blipFill>
            <a:blip r:embed="rId2"/>
            <a:stretch/>
          </p:blipFill>
          <p:spPr>
            <a:xfrm>
              <a:off x="455760" y="4495680"/>
              <a:ext cx="9144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" descr=""/>
            <p:cNvPicPr/>
            <p:nvPr/>
          </p:nvPicPr>
          <p:blipFill>
            <a:blip r:embed="rId3"/>
            <a:stretch/>
          </p:blipFill>
          <p:spPr>
            <a:xfrm>
              <a:off x="455760" y="5410080"/>
              <a:ext cx="9144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"/>
            <p:cNvPicPr/>
            <p:nvPr/>
          </p:nvPicPr>
          <p:blipFill>
            <a:blip r:embed="rId4"/>
            <a:stretch/>
          </p:blipFill>
          <p:spPr>
            <a:xfrm>
              <a:off x="1446120" y="5410080"/>
              <a:ext cx="91440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67"/>
          <p:cNvSpPr/>
          <p:nvPr/>
        </p:nvSpPr>
        <p:spPr>
          <a:xfrm>
            <a:off x="228600" y="228600"/>
            <a:ext cx="662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s Marketing 7e, Global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ing Reliability of Processes Through Fail-Proof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dentify fail poin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nalysis of reasons for failure reveals opportunities for failure-proofing to reduce/eliminate future erro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Need fail-safe methods for both employees and custome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ting Service Standards and Targe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providers set standards for each step sufficiently high to satisfy and even delight customers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nclude time limits, script and prescriptions for appropriate style and manne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ust be expressed in ways that permit objective measurement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erformance targets – specific process and team performance targets for which staff are responsible for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ting Service Standards and Targe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7944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First impression is important 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Affects customer’s evaluations of quality during later stages of service delivery as customer perceptions of service experiences tend to be cumulative 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For low-contact service, a single failure committed front stage is relatively more serious than in a high-contact service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ting Standards and Targets for Customer Service Proc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46"/>
          <p:cNvGrpSpPr/>
          <p:nvPr/>
        </p:nvGrpSpPr>
        <p:grpSpPr>
          <a:xfrm>
            <a:off x="836640" y="1219320"/>
            <a:ext cx="8458200" cy="5129280"/>
            <a:chOff x="836640" y="1219320"/>
            <a:chExt cx="8458200" cy="5129280"/>
          </a:xfrm>
        </p:grpSpPr>
        <p:pic>
          <p:nvPicPr>
            <p:cNvPr id="180" name="Diagram 5" descr=""/>
            <p:cNvPicPr/>
            <p:nvPr/>
          </p:nvPicPr>
          <p:blipFill>
            <a:blip r:embed="rId1"/>
            <a:stretch/>
          </p:blipFill>
          <p:spPr>
            <a:xfrm>
              <a:off x="836640" y="1219320"/>
              <a:ext cx="831852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6"/>
            <p:cNvSpPr/>
            <p:nvPr/>
          </p:nvSpPr>
          <p:spPr>
            <a:xfrm>
              <a:off x="856080" y="2975760"/>
              <a:ext cx="1859040" cy="3372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ive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liab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ete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ib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urtes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edibi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denti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stening to the custo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7"/>
            <p:cNvGrpSpPr/>
            <p:nvPr/>
          </p:nvGrpSpPr>
          <p:grpSpPr>
            <a:xfrm>
              <a:off x="3688200" y="2899800"/>
              <a:ext cx="357480" cy="275400"/>
              <a:chOff x="3688200" y="2899800"/>
              <a:chExt cx="357480" cy="275400"/>
            </a:xfrm>
          </p:grpSpPr>
          <p:sp>
            <p:nvSpPr>
              <p:cNvPr id="183" name="Right Arrow 8"/>
              <p:cNvSpPr/>
              <p:nvPr/>
            </p:nvSpPr>
            <p:spPr>
              <a:xfrm rot="5400000">
                <a:off x="3729240" y="2858760"/>
                <a:ext cx="275400" cy="35748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solidFill>
                <a:srgbClr val="feb8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ight Arrow 4"/>
              <p:cNvSpPr/>
              <p:nvPr/>
            </p:nvSpPr>
            <p:spPr>
              <a:xfrm rot="5400000">
                <a:off x="3725640" y="2888640"/>
                <a:ext cx="19332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0"/>
            <p:cNvGrpSpPr/>
            <p:nvPr/>
          </p:nvGrpSpPr>
          <p:grpSpPr>
            <a:xfrm>
              <a:off x="5743080" y="2899800"/>
              <a:ext cx="483840" cy="304200"/>
              <a:chOff x="5743080" y="2899800"/>
              <a:chExt cx="483840" cy="304200"/>
            </a:xfrm>
          </p:grpSpPr>
          <p:sp>
            <p:nvSpPr>
              <p:cNvPr id="186" name="Right Arrow 11"/>
              <p:cNvSpPr/>
              <p:nvPr/>
            </p:nvSpPr>
            <p:spPr>
              <a:xfrm rot="5400000">
                <a:off x="5896080" y="2873160"/>
                <a:ext cx="304200" cy="35748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solidFill>
                <a:srgbClr val="00a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ight Arrow 4"/>
              <p:cNvSpPr/>
              <p:nvPr/>
            </p:nvSpPr>
            <p:spPr>
              <a:xfrm rot="5400000">
                <a:off x="5753880" y="2917440"/>
                <a:ext cx="193320" cy="21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8" name="Group 13" descr=""/>
            <p:cNvPicPr/>
            <p:nvPr/>
          </p:nvPicPr>
          <p:blipFill>
            <a:blip r:embed="rId2"/>
            <a:stretch/>
          </p:blipFill>
          <p:spPr>
            <a:xfrm>
              <a:off x="8067600" y="2893680"/>
              <a:ext cx="37044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Box 16"/>
            <p:cNvSpPr/>
            <p:nvPr/>
          </p:nvSpPr>
          <p:spPr>
            <a:xfrm>
              <a:off x="3052440" y="3204000"/>
              <a:ext cx="1689840" cy="988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eb8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ing time to approve appl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3742200" y="4193640"/>
              <a:ext cx="357480" cy="275400"/>
              <a:chOff x="3742200" y="4193640"/>
              <a:chExt cx="357480" cy="275400"/>
            </a:xfrm>
          </p:grpSpPr>
          <p:sp>
            <p:nvSpPr>
              <p:cNvPr id="191" name="Right Arrow 18"/>
              <p:cNvSpPr/>
              <p:nvPr/>
            </p:nvSpPr>
            <p:spPr>
              <a:xfrm rot="5400000">
                <a:off x="3783240" y="4152600"/>
                <a:ext cx="275400" cy="35748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solidFill>
                <a:srgbClr val="feb8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ight Arrow 4"/>
              <p:cNvSpPr/>
              <p:nvPr/>
            </p:nvSpPr>
            <p:spPr>
              <a:xfrm rot="5400000">
                <a:off x="3841560" y="4182480"/>
                <a:ext cx="193320" cy="21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22"/>
            <p:cNvGrpSpPr/>
            <p:nvPr/>
          </p:nvGrpSpPr>
          <p:grpSpPr>
            <a:xfrm>
              <a:off x="2714760" y="4726440"/>
              <a:ext cx="2196360" cy="1065600"/>
              <a:chOff x="2714760" y="4726440"/>
              <a:chExt cx="2196360" cy="1065600"/>
            </a:xfrm>
          </p:grpSpPr>
          <p:sp>
            <p:nvSpPr>
              <p:cNvPr id="194" name="Oval 20"/>
              <p:cNvSpPr/>
              <p:nvPr/>
            </p:nvSpPr>
            <p:spPr>
              <a:xfrm>
                <a:off x="2714760" y="4726440"/>
                <a:ext cx="2196360" cy="106560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21"/>
              <p:cNvSpPr/>
              <p:nvPr/>
            </p:nvSpPr>
            <p:spPr>
              <a:xfrm>
                <a:off x="2799000" y="4802400"/>
                <a:ext cx="2027520" cy="9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eates a Base to Measure Customer Satisf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Box 23"/>
            <p:cNvSpPr/>
            <p:nvPr/>
          </p:nvSpPr>
          <p:spPr>
            <a:xfrm>
              <a:off x="4957920" y="3432600"/>
              <a:ext cx="194292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4 h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24"/>
            <p:cNvGrpSpPr/>
            <p:nvPr/>
          </p:nvGrpSpPr>
          <p:grpSpPr>
            <a:xfrm>
              <a:off x="5743080" y="4193640"/>
              <a:ext cx="429840" cy="275400"/>
              <a:chOff x="5743080" y="4193640"/>
              <a:chExt cx="429840" cy="275400"/>
            </a:xfrm>
          </p:grpSpPr>
          <p:sp>
            <p:nvSpPr>
              <p:cNvPr id="198" name="Right Arrow 25"/>
              <p:cNvSpPr/>
              <p:nvPr/>
            </p:nvSpPr>
            <p:spPr>
              <a:xfrm rot="5400000">
                <a:off x="5856480" y="4152600"/>
                <a:ext cx="275400" cy="35712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solidFill>
                <a:srgbClr val="00a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ight Arrow 4"/>
              <p:cNvSpPr/>
              <p:nvPr/>
            </p:nvSpPr>
            <p:spPr>
              <a:xfrm rot="5400000">
                <a:off x="5753880" y="4182840"/>
                <a:ext cx="193320" cy="21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Group 27" descr=""/>
            <p:cNvPicPr/>
            <p:nvPr/>
          </p:nvPicPr>
          <p:blipFill>
            <a:blip r:embed="rId3"/>
            <a:stretch/>
          </p:blipFill>
          <p:spPr>
            <a:xfrm>
              <a:off x="4950360" y="4720320"/>
              <a:ext cx="2211840" cy="107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Box 30"/>
            <p:cNvSpPr/>
            <p:nvPr/>
          </p:nvSpPr>
          <p:spPr>
            <a:xfrm>
              <a:off x="7236360" y="3356280"/>
              <a:ext cx="1942920" cy="98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 of all applications in 24 h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ight Arrow 32"/>
            <p:cNvSpPr/>
            <p:nvPr/>
          </p:nvSpPr>
          <p:spPr>
            <a:xfrm rot="5400000">
              <a:off x="8112240" y="4152600"/>
              <a:ext cx="275760" cy="35748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435f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Group 34" descr=""/>
            <p:cNvPicPr/>
            <p:nvPr/>
          </p:nvPicPr>
          <p:blipFill>
            <a:blip r:embed="rId4"/>
            <a:stretch/>
          </p:blipFill>
          <p:spPr>
            <a:xfrm>
              <a:off x="7229160" y="4720320"/>
              <a:ext cx="2065680" cy="1083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Group 37"/>
            <p:cNvGrpSpPr/>
            <p:nvPr/>
          </p:nvGrpSpPr>
          <p:grpSpPr>
            <a:xfrm>
              <a:off x="2714760" y="3508560"/>
              <a:ext cx="305640" cy="322200"/>
              <a:chOff x="2714760" y="3508560"/>
              <a:chExt cx="305640" cy="322200"/>
            </a:xfrm>
          </p:grpSpPr>
          <p:sp>
            <p:nvSpPr>
              <p:cNvPr id="205" name="Right Arrow 38"/>
              <p:cNvSpPr/>
              <p:nvPr/>
            </p:nvSpPr>
            <p:spPr>
              <a:xfrm>
                <a:off x="2714760" y="3508560"/>
                <a:ext cx="305640" cy="32220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ight Arrow 4"/>
              <p:cNvSpPr/>
              <p:nvPr/>
            </p:nvSpPr>
            <p:spPr>
              <a:xfrm>
                <a:off x="2714760" y="3573360"/>
                <a:ext cx="213840" cy="1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40"/>
            <p:cNvGrpSpPr/>
            <p:nvPr/>
          </p:nvGrpSpPr>
          <p:grpSpPr>
            <a:xfrm>
              <a:off x="4742280" y="3508560"/>
              <a:ext cx="305640" cy="322200"/>
              <a:chOff x="4742280" y="3508560"/>
              <a:chExt cx="305640" cy="322200"/>
            </a:xfrm>
          </p:grpSpPr>
          <p:sp>
            <p:nvSpPr>
              <p:cNvPr id="208" name="Right Arrow 41"/>
              <p:cNvSpPr/>
              <p:nvPr/>
            </p:nvSpPr>
            <p:spPr>
              <a:xfrm>
                <a:off x="4742280" y="3508560"/>
                <a:ext cx="305640" cy="32220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solidFill>
                <a:srgbClr val="feb8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ight Arrow 4"/>
              <p:cNvSpPr/>
              <p:nvPr/>
            </p:nvSpPr>
            <p:spPr>
              <a:xfrm>
                <a:off x="4742280" y="3573360"/>
                <a:ext cx="213840" cy="1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43"/>
            <p:cNvGrpSpPr/>
            <p:nvPr/>
          </p:nvGrpSpPr>
          <p:grpSpPr>
            <a:xfrm>
              <a:off x="6705000" y="3584520"/>
              <a:ext cx="305640" cy="322200"/>
              <a:chOff x="6705000" y="3584520"/>
              <a:chExt cx="305640" cy="322200"/>
            </a:xfrm>
          </p:grpSpPr>
          <p:sp>
            <p:nvSpPr>
              <p:cNvPr id="211" name="Right Arrow 44"/>
              <p:cNvSpPr/>
              <p:nvPr/>
            </p:nvSpPr>
            <p:spPr>
              <a:xfrm>
                <a:off x="6705000" y="3584520"/>
                <a:ext cx="305640" cy="322200"/>
              </a:xfrm>
              <a:prstGeom prst="rightArrow">
                <a:avLst>
                  <a:gd name="adj1" fmla="val 60000"/>
                  <a:gd name="adj2" fmla="val 50000"/>
                </a:avLst>
              </a:prstGeom>
              <a:solidFill>
                <a:srgbClr val="00a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ight Arrow 4"/>
              <p:cNvSpPr/>
              <p:nvPr/>
            </p:nvSpPr>
            <p:spPr>
              <a:xfrm>
                <a:off x="6769800" y="3630600"/>
                <a:ext cx="213840" cy="1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Rectangle 48"/>
          <p:cNvSpPr/>
          <p:nvPr/>
        </p:nvSpPr>
        <p:spPr>
          <a:xfrm>
            <a:off x="5256360" y="3200400"/>
            <a:ext cx="1447560" cy="990720"/>
          </a:xfrm>
          <a:prstGeom prst="rect">
            <a:avLst/>
          </a:prstGeom>
          <a:noFill/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9"/>
          <p:cNvSpPr/>
          <p:nvPr/>
        </p:nvSpPr>
        <p:spPr>
          <a:xfrm>
            <a:off x="7237440" y="3200400"/>
            <a:ext cx="1905120" cy="990720"/>
          </a:xfrm>
          <a:prstGeom prst="rect">
            <a:avLst/>
          </a:prstGeom>
          <a:noFill/>
          <a:ln w="255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Redesigning Servic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Redesign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evitalizes(refreshes) process that has become outdated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hanges in external environment make existing practices outdated and require redesign of fundamental process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usting</a:t>
            </a: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(expire)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 occurs internall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571680" indent="0">
              <a:spcBef>
                <a:spcPts val="11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Redesig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edesign aims to achieve these performance measures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Reduced number of service failur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nhanced(improved) productivit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ncreased customer satisfac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 Redesign: Approaches and              Potential Benefi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Diagram 5" descr=""/>
          <p:cNvPicPr/>
          <p:nvPr/>
        </p:nvPicPr>
        <p:blipFill>
          <a:blip r:embed="rId1"/>
          <a:stretch/>
        </p:blipFill>
        <p:spPr>
          <a:xfrm>
            <a:off x="523800" y="1805040"/>
            <a:ext cx="8778960" cy="4516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 Redesign: Approaches and              Potential Benefi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Diagram 3" descr=""/>
          <p:cNvPicPr/>
          <p:nvPr/>
        </p:nvPicPr>
        <p:blipFill>
          <a:blip r:embed="rId1"/>
          <a:stretch/>
        </p:blipFill>
        <p:spPr>
          <a:xfrm>
            <a:off x="560520" y="1596960"/>
            <a:ext cx="8596080" cy="4365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The Customer as Co-Produ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view of Chapter 8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lowcharting Customer Service Process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lueprinting Services to Create Valued Experiences and Productive Operat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Process Redesign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Customer as Co-Producer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lf-Service Technologi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s of Customer Particip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Diagram 4" descr=""/>
          <p:cNvPicPr/>
          <p:nvPr/>
        </p:nvPicPr>
        <p:blipFill>
          <a:blip r:embed="rId1"/>
          <a:stretch/>
        </p:blipFill>
        <p:spPr>
          <a:xfrm>
            <a:off x="176040" y="1579680"/>
            <a:ext cx="9510840" cy="4741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stomers as Partial (incomplete) Employe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ustomers can influence</a:t>
            </a: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(effect)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 productivity and quality of service processes and outpu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ustomers not only bring expectations and needs but also need to have relevant service production competenci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r the relationship to last, both parties need to cooperate with each other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Self-Service Tech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f-Service Technologies (SST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efinition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lf-Service Technologies (SSTs) are technological interfaces allowing customers to produce services independent of involvement of direct service employee. Self service technologies are replacing many face-to-face service interactions with the intention to make service transactions more accurate, convenient and faster. For example, automatic Teller Machines, Self pumping at gas stations, Self-ticket purchasing on the internet and Self-check-out at hotels etc.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STs ar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he ultimate form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of customer involvement where customers undertake specific activities using facilities or systems provided by service supplie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Customer’s time and effort replace those of employees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f-Service Technologies (SST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companies and government organizations seek to divert customers from employee contact to Internet-based self-servi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34" name="Text Placeholder 2"/>
          <p:cNvSpPr/>
          <p:nvPr/>
        </p:nvSpPr>
        <p:spPr>
          <a:xfrm>
            <a:off x="5332320" y="2895480"/>
            <a:ext cx="4343400" cy="358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51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xiety(worry) and stress experienced by customers who are uncomfortable with using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51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see service encounters as social experiences and prefer to deal with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303120" y="2895480"/>
            <a:ext cx="4419720" cy="358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51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and Cost sav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51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51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nience of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51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ater control over service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4320" indent="-51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perceived level of custom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spects Of SSTs Please Or Annoy(upset) Customer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Placeholder 2"/>
          <p:cNvSpPr/>
          <p:nvPr/>
        </p:nvSpPr>
        <p:spPr>
          <a:xfrm>
            <a:off x="303120" y="51814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Key weakness:Few firms incorporate service recovery systems such that customers are still forced to make telephone calls or personal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01"/>
              </a:spcAft>
              <a:tabLst>
                <a:tab algn="l" pos="0"/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0320" y="1828800"/>
          <a:ext cx="8610840" cy="2940120"/>
        </p:xfrm>
        <a:graphic>
          <a:graphicData uri="http://schemas.openxmlformats.org/drawingml/2006/table">
            <a:tbl>
              <a:tblPr/>
              <a:tblGrid>
                <a:gridCol w="4305240"/>
                <a:gridCol w="430560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 love SSTs whe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ople hate SSTs whe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T machines are conveniently located and accessible 24/7– often as close as the nearest computer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ing detailed information and completing transactions can be done faster than through face-to-face or telephone conta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Ts fail – system is down, PIN numbers not accepted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s themselves mess up–forgetting passwords; failing to provide information as requested; simply hitting wrong butt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tting SSTs to Test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king a Few Simple Ques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oes the SST work reliably?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Firms must ensure that SSTs are dependable and user-friendly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s the SST better than interpersonal alternatives?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ustomers will stick to conventional methods if SST doesn’t create benefits for them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f it fails, what systems are in place to recover?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lways provide systems, structures, and technologies that will enable prompt service recovery when things fail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743040" y="1600200"/>
            <a:ext cx="8251560" cy="2438280"/>
          </a:xfrm>
          <a:prstGeom prst="wedgeRoundRectCallout">
            <a:avLst>
              <a:gd name="adj1" fmla="val 34648"/>
              <a:gd name="adj2" fmla="val 81509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1320840" y="1676520"/>
            <a:ext cx="7839000" cy="22860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ing Customer’s Reluctan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unwillingness)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han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creasing customer’s participation level in a service can be difficul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ing communications to be used to: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epare customer for chang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xplain the rationale(justifications) and benefit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What customers need to do differently in the futur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blueprinting can be used to design a service and create a satisfying experience for customers. Key components of the blueprint include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lueprinting a restaurant (or other service) can be a three-act performan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ologue and introductory scen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elivery of the core produc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nclusion of the drama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standards and targets are different and can be used to evaluate performan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process redesign reducesservice failure and enhancesproductivit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When the customer is a co-producer, issues to consider ar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Levels of customer participa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lf-service technologies (SST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sychological factors in customer co-produc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spects of SST that please or annoy customer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Flowcharting Customer Servic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wcharting Service Deliver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s to Clarify Product El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Technique for displaying the nature and sequence of the different steps in delivery service to customers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Offers way to understand total customer service experience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Shows how nature of customer involvement with service organizations varies by type of service: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People processing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Possession processing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MentalStimulusprocessing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Information processing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wcharts for People and PossessionProcessing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33" descr="PPTAB"/>
          <p:cNvPicPr/>
          <p:nvPr/>
        </p:nvPicPr>
        <p:blipFill>
          <a:blip r:embed="rId1"/>
          <a:stretch/>
        </p:blipFill>
        <p:spPr>
          <a:xfrm>
            <a:off x="227160" y="1447920"/>
            <a:ext cx="9296280" cy="2365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PPTAC"/>
          <p:cNvPicPr/>
          <p:nvPr/>
        </p:nvPicPr>
        <p:blipFill>
          <a:blip r:embed="rId2"/>
          <a:stretch/>
        </p:blipFill>
        <p:spPr>
          <a:xfrm>
            <a:off x="303120" y="4114800"/>
            <a:ext cx="9296640" cy="2411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wcharts for Mental Stimulus and Information Processing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Group 6"/>
          <p:cNvGrpSpPr/>
          <p:nvPr/>
        </p:nvGrpSpPr>
        <p:grpSpPr>
          <a:xfrm>
            <a:off x="303120" y="1541520"/>
            <a:ext cx="9296640" cy="2573280"/>
            <a:chOff x="303120" y="1541520"/>
            <a:chExt cx="9296640" cy="2573280"/>
          </a:xfrm>
        </p:grpSpPr>
        <p:pic>
          <p:nvPicPr>
            <p:cNvPr id="164" name="Picture 4" descr="PPTAD"/>
            <p:cNvPicPr/>
            <p:nvPr/>
          </p:nvPicPr>
          <p:blipFill>
            <a:blip r:embed="rId1"/>
            <a:stretch/>
          </p:blipFill>
          <p:spPr>
            <a:xfrm>
              <a:off x="303120" y="1541520"/>
              <a:ext cx="929664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5"/>
            <p:cNvSpPr/>
            <p:nvPr/>
          </p:nvSpPr>
          <p:spPr>
            <a:xfrm>
              <a:off x="7389720" y="3048120"/>
              <a:ext cx="2210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6" descr="PPTAE"/>
          <p:cNvPicPr/>
          <p:nvPr/>
        </p:nvPicPr>
        <p:blipFill>
          <a:blip r:embed="rId2"/>
          <a:stretch/>
        </p:blipFill>
        <p:spPr>
          <a:xfrm>
            <a:off x="303120" y="4343400"/>
            <a:ext cx="9296640" cy="2222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Blueprinting Services to Create Valued Experiences and Productiv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ing a Blueprint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lan or model)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eveloping a Blueprin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dentify key activities in creating and delivering servi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efine “big picture” before “drilling down” to obtain a higher level of detail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dvantages of Blueprinting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ifferentiate between “frontstage” and “backstage”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larify interactions and support by backstage activities and system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dentify potential fail points; take preventive measur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inpoint stages where customers</a:t>
            </a:r>
            <a:r>
              <a:rPr b="1" lang="ar-SA" sz="2000" spc="-1" strike="noStrike">
                <a:solidFill>
                  <a:srgbClr val="013c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mmonly have to wai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840" y="1522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ueprinting the Restaurant Experience: A Three-Act Performanc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2760" y="152352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ct 1: Prologue(introduction)  and Introductory Scen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spcAft>
                <a:spcPts val="601"/>
              </a:spcAft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ct 2: Delivery of Core Produc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</a:rPr>
              <a:t>Cocktails, seating, order food and drinks, tea servi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</a:rPr>
              <a:t>Potential fail points: Menu information complete? Menu intelligible? Everything on the menu actually available?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</a:rPr>
              <a:t>Mistakes in transmitting information a common cause of quality failur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</a:rPr>
              <a:t>Customers may not only evaluate quality of food and drink, but how promptly it is served or serving staff attitud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spcAft>
                <a:spcPts val="601"/>
              </a:spcAft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ct 3: The Drama Conclud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</a:rPr>
              <a:t>Remaining actions should move quickly and smoothly, with no surprises at the end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</a:rPr>
              <a:t>Customer expectations: accurate, intelligible and prompt bill, payment handled politely, guest are thanked for their patronage(support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8:22:17Z</dcterms:created>
  <dc:creator>VALR</dc:creator>
  <dc:description/>
  <dc:language>en-US</dc:language>
  <cp:lastModifiedBy>aldarrab</cp:lastModifiedBy>
  <cp:lastPrinted>2002-07-07T10:21:06Z</cp:lastPrinted>
  <dcterms:modified xsi:type="dcterms:W3CDTF">2015-07-25T10:25:43Z</dcterms:modified>
  <cp:revision>759</cp:revision>
  <dc:subject/>
  <dc:title>No Slide Title</dc:title>
</cp:coreProperties>
</file>