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C27-3592-47AA-9C23-0236A968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A27C-1CFD-493F-904A-49FF217DB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3B9-3BB1-4D66-8599-D0A0B49E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EDF-A5E6-42EE-A1AB-89D6B20B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D21E-5844-4FB5-991F-69B236FB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443-EFBE-44F4-A89B-C4E448B8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589-E4EE-419C-8AA7-C0D9B203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CAD-EFE0-4B77-AFAD-171E6BD6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949-68D8-4A76-AF05-6AB57A12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94F4-8DC1-4023-A675-6D9EF110F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A49-AF77-4436-846D-16A338298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1EF-E073-4722-AD43-A8C78B51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56E-3344-4605-A4DD-6F91DFB9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7773-661F-4E04-B201-0161EF98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D0B-2805-44C5-B0C3-4426FE3C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E4B-85BF-40D6-AB6E-BE9E1681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94C9-1059-4CEE-BE36-7DB8F1C2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844D-E153-4CA1-8FA3-706B607D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173-FCD2-4469-A4EA-AE0D203B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624-B7F0-49D5-8F5C-105A10F2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8– Page </a:t>
            </a:r>
            <a:fld id="{6CE900D5-60FD-4E42-BD7D-E8F0A15DF7D9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AB226E1A-4B7F-4DE4-B0D3-F042EAE513C1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8– Page </a:t>
            </a:r>
            <a:fld id="{C86B8454-705E-40D8-95E4-B8E5E7B680A6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198960" y="1600200"/>
            <a:ext cx="63529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9"/>
          <p:cNvSpPr/>
          <p:nvPr/>
        </p:nvSpPr>
        <p:spPr>
          <a:xfrm>
            <a:off x="3198960" y="1600200"/>
            <a:ext cx="632448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65240" y="2362320"/>
            <a:ext cx="585936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8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Design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Man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ing Reliability of Processes Through Fail-Proof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dentify fail poi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alysis of reasons for failure reveals opportunities for failure-proofing to reduce/eliminate future err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ed fail-safe methods for both employees and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ervice Standards and Targe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viders set standards for each step sufficiently high to satisfy and even delight customer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time limits, script and prescriptions for appropriate style and mann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st be expressed in ways that permit objective measurement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erformance targets – specific process and team performance targets for which staff are responsible fo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ervice Standards and Targe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944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First impression is important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ffects customer’s evaluations of quality during later stages of service delivery as customer perceptions of service experiences tend to be cumulative 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For low-contact service, a single failure committed front stage is relatively more serious than in a high-contact servic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tandards and Targets for Customer Service Proc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46"/>
          <p:cNvGrpSpPr/>
          <p:nvPr/>
        </p:nvGrpSpPr>
        <p:grpSpPr>
          <a:xfrm>
            <a:off x="836640" y="1219320"/>
            <a:ext cx="8458200" cy="5129280"/>
            <a:chOff x="836640" y="1219320"/>
            <a:chExt cx="8458200" cy="5129280"/>
          </a:xfrm>
        </p:grpSpPr>
        <p:pic>
          <p:nvPicPr>
            <p:cNvPr id="180" name="Diagram 5" descr=""/>
            <p:cNvPicPr/>
            <p:nvPr/>
          </p:nvPicPr>
          <p:blipFill>
            <a:blip r:embed="rId1"/>
            <a:stretch/>
          </p:blipFill>
          <p:spPr>
            <a:xfrm>
              <a:off x="836640" y="1219320"/>
              <a:ext cx="83185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6"/>
            <p:cNvSpPr/>
            <p:nvPr/>
          </p:nvSpPr>
          <p:spPr>
            <a:xfrm>
              <a:off x="856080" y="2975760"/>
              <a:ext cx="1859040" cy="3372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iv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i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t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rtes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ening to the 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7"/>
            <p:cNvGrpSpPr/>
            <p:nvPr/>
          </p:nvGrpSpPr>
          <p:grpSpPr>
            <a:xfrm>
              <a:off x="3688200" y="2899800"/>
              <a:ext cx="357480" cy="275400"/>
              <a:chOff x="3688200" y="2899800"/>
              <a:chExt cx="357480" cy="275400"/>
            </a:xfrm>
          </p:grpSpPr>
          <p:sp>
            <p:nvSpPr>
              <p:cNvPr id="183" name="Right Arrow 8"/>
              <p:cNvSpPr/>
              <p:nvPr/>
            </p:nvSpPr>
            <p:spPr>
              <a:xfrm rot="5400000">
                <a:off x="3729240" y="2858760"/>
                <a:ext cx="2754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ight Arrow 4"/>
              <p:cNvSpPr/>
              <p:nvPr/>
            </p:nvSpPr>
            <p:spPr>
              <a:xfrm rot="5400000">
                <a:off x="3725640" y="2888640"/>
                <a:ext cx="19332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0"/>
            <p:cNvGrpSpPr/>
            <p:nvPr/>
          </p:nvGrpSpPr>
          <p:grpSpPr>
            <a:xfrm>
              <a:off x="5743080" y="2899800"/>
              <a:ext cx="483840" cy="304200"/>
              <a:chOff x="5743080" y="2899800"/>
              <a:chExt cx="483840" cy="304200"/>
            </a:xfrm>
          </p:grpSpPr>
          <p:sp>
            <p:nvSpPr>
              <p:cNvPr id="186" name="Right Arrow 11"/>
              <p:cNvSpPr/>
              <p:nvPr/>
            </p:nvSpPr>
            <p:spPr>
              <a:xfrm rot="5400000">
                <a:off x="5896080" y="2873160"/>
                <a:ext cx="3042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ight Arrow 4"/>
              <p:cNvSpPr/>
              <p:nvPr/>
            </p:nvSpPr>
            <p:spPr>
              <a:xfrm rot="5400000">
                <a:off x="5753880" y="2917440"/>
                <a:ext cx="19332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Group 13" descr=""/>
            <p:cNvPicPr/>
            <p:nvPr/>
          </p:nvPicPr>
          <p:blipFill>
            <a:blip r:embed="rId2"/>
            <a:stretch/>
          </p:blipFill>
          <p:spPr>
            <a:xfrm>
              <a:off x="8067600" y="2893680"/>
              <a:ext cx="370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6"/>
            <p:cNvSpPr/>
            <p:nvPr/>
          </p:nvSpPr>
          <p:spPr>
            <a:xfrm>
              <a:off x="3052440" y="3204000"/>
              <a:ext cx="1689840" cy="98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b8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 time to approve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3742200" y="4193640"/>
              <a:ext cx="357480" cy="275400"/>
              <a:chOff x="3742200" y="4193640"/>
              <a:chExt cx="357480" cy="275400"/>
            </a:xfrm>
          </p:grpSpPr>
          <p:sp>
            <p:nvSpPr>
              <p:cNvPr id="191" name="Right Arrow 18"/>
              <p:cNvSpPr/>
              <p:nvPr/>
            </p:nvSpPr>
            <p:spPr>
              <a:xfrm rot="5400000">
                <a:off x="3783240" y="4152600"/>
                <a:ext cx="2754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ight Arrow 4"/>
              <p:cNvSpPr/>
              <p:nvPr/>
            </p:nvSpPr>
            <p:spPr>
              <a:xfrm rot="5400000">
                <a:off x="3841560" y="4182480"/>
                <a:ext cx="19332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2"/>
            <p:cNvGrpSpPr/>
            <p:nvPr/>
          </p:nvGrpSpPr>
          <p:grpSpPr>
            <a:xfrm>
              <a:off x="2714760" y="4726440"/>
              <a:ext cx="2196360" cy="1065600"/>
              <a:chOff x="2714760" y="4726440"/>
              <a:chExt cx="2196360" cy="1065600"/>
            </a:xfrm>
          </p:grpSpPr>
          <p:sp>
            <p:nvSpPr>
              <p:cNvPr id="194" name="Oval 20"/>
              <p:cNvSpPr/>
              <p:nvPr/>
            </p:nvSpPr>
            <p:spPr>
              <a:xfrm>
                <a:off x="2714760" y="4726440"/>
                <a:ext cx="2196360" cy="106560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21"/>
              <p:cNvSpPr/>
              <p:nvPr/>
            </p:nvSpPr>
            <p:spPr>
              <a:xfrm>
                <a:off x="2799000" y="4802400"/>
                <a:ext cx="2027520" cy="9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eates a Base to Measure Customer Satisf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23"/>
            <p:cNvSpPr/>
            <p:nvPr/>
          </p:nvSpPr>
          <p:spPr>
            <a:xfrm>
              <a:off x="4957920" y="3432600"/>
              <a:ext cx="19429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 h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24"/>
            <p:cNvGrpSpPr/>
            <p:nvPr/>
          </p:nvGrpSpPr>
          <p:grpSpPr>
            <a:xfrm>
              <a:off x="5743080" y="4193640"/>
              <a:ext cx="429840" cy="275400"/>
              <a:chOff x="5743080" y="4193640"/>
              <a:chExt cx="429840" cy="275400"/>
            </a:xfrm>
          </p:grpSpPr>
          <p:sp>
            <p:nvSpPr>
              <p:cNvPr id="198" name="Right Arrow 25"/>
              <p:cNvSpPr/>
              <p:nvPr/>
            </p:nvSpPr>
            <p:spPr>
              <a:xfrm rot="5400000">
                <a:off x="5856480" y="4152600"/>
                <a:ext cx="275400" cy="35712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ight Arrow 4"/>
              <p:cNvSpPr/>
              <p:nvPr/>
            </p:nvSpPr>
            <p:spPr>
              <a:xfrm rot="5400000">
                <a:off x="5753880" y="4182840"/>
                <a:ext cx="19332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Group 27" descr=""/>
            <p:cNvPicPr/>
            <p:nvPr/>
          </p:nvPicPr>
          <p:blipFill>
            <a:blip r:embed="rId3"/>
            <a:stretch/>
          </p:blipFill>
          <p:spPr>
            <a:xfrm>
              <a:off x="4950360" y="4720320"/>
              <a:ext cx="2211840" cy="10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30"/>
            <p:cNvSpPr/>
            <p:nvPr/>
          </p:nvSpPr>
          <p:spPr>
            <a:xfrm>
              <a:off x="7236360" y="3356280"/>
              <a:ext cx="1942920" cy="98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 of all applications in 24 h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ight Arrow 32"/>
            <p:cNvSpPr/>
            <p:nvPr/>
          </p:nvSpPr>
          <p:spPr>
            <a:xfrm rot="5400000">
              <a:off x="8112240" y="4152600"/>
              <a:ext cx="275760" cy="35748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43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Group 34" descr=""/>
            <p:cNvPicPr/>
            <p:nvPr/>
          </p:nvPicPr>
          <p:blipFill>
            <a:blip r:embed="rId4"/>
            <a:stretch/>
          </p:blipFill>
          <p:spPr>
            <a:xfrm>
              <a:off x="7229160" y="4720320"/>
              <a:ext cx="2065680" cy="108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37"/>
            <p:cNvGrpSpPr/>
            <p:nvPr/>
          </p:nvGrpSpPr>
          <p:grpSpPr>
            <a:xfrm>
              <a:off x="2714760" y="3508560"/>
              <a:ext cx="305640" cy="322200"/>
              <a:chOff x="2714760" y="3508560"/>
              <a:chExt cx="305640" cy="322200"/>
            </a:xfrm>
          </p:grpSpPr>
          <p:sp>
            <p:nvSpPr>
              <p:cNvPr id="205" name="Right Arrow 38"/>
              <p:cNvSpPr/>
              <p:nvPr/>
            </p:nvSpPr>
            <p:spPr>
              <a:xfrm>
                <a:off x="2714760" y="350856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ight Arrow 4"/>
              <p:cNvSpPr/>
              <p:nvPr/>
            </p:nvSpPr>
            <p:spPr>
              <a:xfrm>
                <a:off x="2714760" y="3573360"/>
                <a:ext cx="2138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4742280" y="3508560"/>
              <a:ext cx="305640" cy="322200"/>
              <a:chOff x="4742280" y="3508560"/>
              <a:chExt cx="305640" cy="322200"/>
            </a:xfrm>
          </p:grpSpPr>
          <p:sp>
            <p:nvSpPr>
              <p:cNvPr id="208" name="Right Arrow 41"/>
              <p:cNvSpPr/>
              <p:nvPr/>
            </p:nvSpPr>
            <p:spPr>
              <a:xfrm>
                <a:off x="4742280" y="350856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ight Arrow 4"/>
              <p:cNvSpPr/>
              <p:nvPr/>
            </p:nvSpPr>
            <p:spPr>
              <a:xfrm>
                <a:off x="4742280" y="3573360"/>
                <a:ext cx="2138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3"/>
            <p:cNvGrpSpPr/>
            <p:nvPr/>
          </p:nvGrpSpPr>
          <p:grpSpPr>
            <a:xfrm>
              <a:off x="6705000" y="3584520"/>
              <a:ext cx="305640" cy="322200"/>
              <a:chOff x="6705000" y="3584520"/>
              <a:chExt cx="305640" cy="322200"/>
            </a:xfrm>
          </p:grpSpPr>
          <p:sp>
            <p:nvSpPr>
              <p:cNvPr id="211" name="Right Arrow 44"/>
              <p:cNvSpPr/>
              <p:nvPr/>
            </p:nvSpPr>
            <p:spPr>
              <a:xfrm>
                <a:off x="6705000" y="358452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ight Arrow 4"/>
              <p:cNvSpPr/>
              <p:nvPr/>
            </p:nvSpPr>
            <p:spPr>
              <a:xfrm>
                <a:off x="6769800" y="3630600"/>
                <a:ext cx="21384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Rectangle 48"/>
          <p:cNvSpPr/>
          <p:nvPr/>
        </p:nvSpPr>
        <p:spPr>
          <a:xfrm>
            <a:off x="5256360" y="3200400"/>
            <a:ext cx="1447560" cy="990720"/>
          </a:xfrm>
          <a:prstGeom prst="rect">
            <a:avLst/>
          </a:pr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7237440" y="3200400"/>
            <a:ext cx="1905120" cy="990720"/>
          </a:xfrm>
          <a:prstGeom prst="rect">
            <a:avLst/>
          </a:prstGeom>
          <a:noFill/>
          <a:ln w="255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edesigning Servi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Redesign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vitalizes(refreshes) process that has become outdat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nges in external environment make existing practices outdated and require redesign of fundamental process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usting</a:t>
            </a: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(expire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occurs intern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571680" indent="0">
              <a:spcBef>
                <a:spcPts val="11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Redesig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design aims to achieve these performance measur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duced number of service failur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hanced(improved) productiv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reased customer satisfa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Redesign: Approaches and              Potential Benefi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Diagram 5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877896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Redesign: Approaches and              Potential Benefi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Diagram 3" descr=""/>
          <p:cNvPicPr/>
          <p:nvPr/>
        </p:nvPicPr>
        <p:blipFill>
          <a:blip r:embed="rId1"/>
          <a:stretch/>
        </p:blipFill>
        <p:spPr>
          <a:xfrm>
            <a:off x="560520" y="1596960"/>
            <a:ext cx="859608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Customer as Co-Pro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8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lowcharting Customer Service Process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ueprinting Services to Create Valued Experiences and Productive Oper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 Redesig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ustomer as Co-Produc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lf-Service Technolog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s of Customer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Diagram 4" descr=""/>
          <p:cNvPicPr/>
          <p:nvPr/>
        </p:nvPicPr>
        <p:blipFill>
          <a:blip r:embed="rId1"/>
          <a:stretch/>
        </p:blipFill>
        <p:spPr>
          <a:xfrm>
            <a:off x="176040" y="1579680"/>
            <a:ext cx="9510840" cy="4741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ers as Partial (incomplete)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can influence</a:t>
            </a: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(effect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productivity and quality of service processes and outpu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not only bring expectations and needs but also need to have relevant service production competenc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r the relationship to last, both parties need to cooperate with each oth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lf-Service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Service Technologies (SS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finition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Technologies (SSTs) are technological interfaces allowing customers to produce services independent of involvement of direct service employee. Self service technologies are replacing many face-to-face service interactions with the intention to make service transactions more accurate, convenient and faster. For example, automatic Teller Machines, Self pumping at gas stations, Self-ticket purchasing on the internet and Self-check-out at hotels etc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STs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ultimate form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 customer involvement where customers undertake specific activities using facilities or systems provided by service suppli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Customer’s time and effort replace those of employe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Service Technologies (SS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ompanies and government organizations seek to divert customers from employee contact to Internet-based self-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4" name="Text Placeholder 2"/>
          <p:cNvSpPr/>
          <p:nvPr/>
        </p:nvSpPr>
        <p:spPr>
          <a:xfrm>
            <a:off x="5332320" y="2895480"/>
            <a:ext cx="434340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xiety(worry) and stress experienced by customers who are uncomfortable with us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see service encounters as social experiences and prefer to deal with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03120" y="2895480"/>
            <a:ext cx="441972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and Cost sav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nience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er control over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erceived level of custom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spects Of SSTs Please Or Annoy(upset) Customer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Placeholder 2"/>
          <p:cNvSpPr/>
          <p:nvPr/>
        </p:nvSpPr>
        <p:spPr>
          <a:xfrm>
            <a:off x="303120" y="51814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Key weakness:Few firms incorporate service recovery systems such that customers are still forced to make telephone calls or personal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01"/>
              </a:spcAft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0320" y="1828800"/>
          <a:ext cx="8610840" cy="2940120"/>
        </p:xfrm>
        <a:graphic>
          <a:graphicData uri="http://schemas.openxmlformats.org/drawingml/2006/table">
            <a:tbl>
              <a:tblPr/>
              <a:tblGrid>
                <a:gridCol w="4305240"/>
                <a:gridCol w="43056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love SSTs wh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hate SSTs wh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 machines are conveniently located and accessible 24/7– often as close as the nearest comput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detailed information and completing transactions can be done faster than through face-to-face or telephone cont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 fail – system is down, PIN numbers not accepted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s themselves mess up–forgetting passwords; failing to provide information as requested; simply hitting wrong butt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ting SSTs to Test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ing a Few Simple Ques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oes the SST work reliably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irms must ensure that SSTs are dependable and user-friend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s the SST better than interpersonal alternatives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will stick to conventional methods if SST doesn’t create benefits for the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f it fails, what systems are in place to recover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ways provide systems, structures, and technologies that will enable prompt service recovery when things fai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743040" y="1600200"/>
            <a:ext cx="8251560" cy="2438280"/>
          </a:xfrm>
          <a:prstGeom prst="wedgeRoundRectCallout">
            <a:avLst>
              <a:gd name="adj1" fmla="val 34648"/>
              <a:gd name="adj2" fmla="val 8150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320840" y="1676520"/>
            <a:ext cx="7839000" cy="228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ing Customer’s Relucta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nwillingness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creasing customer’s participation level in a service can be difficul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to be used to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epare customer for chan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lain the rationale(justifications) and benefi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at customers need to do differently in the fut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blueprinting can be used to design a service and create a satisfying experience for customers. Key components of the blueprint includ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ueprinting a restaurant (or other service) can be a three-act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logue and introductory sce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livery of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clusion of the drama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standards and targets are different and can be used to evaluate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 redesign reducesservice failure and enhancesproductiv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hen the customer is a co-producer, issues to consider a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evels of customer particip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technologies (SST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sychological factors in customer co-produ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spects of SST that please or annoy custom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Flowcharting Customer Servi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ing Service Delive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to Clarify Product El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Technique for displaying the nature and sequence of the different steps in delivery service to customer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Offers way to understand total customer service experienc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Shows how nature of customer involvement with service organizations varies by type of service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eople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ossession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MentalStimulus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Information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s for People and PossessionProcessing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3" descr="PPTAB"/>
          <p:cNvPicPr/>
          <p:nvPr/>
        </p:nvPicPr>
        <p:blipFill>
          <a:blip r:embed="rId1"/>
          <a:stretch/>
        </p:blipFill>
        <p:spPr>
          <a:xfrm>
            <a:off x="227160" y="1447920"/>
            <a:ext cx="9296280" cy="236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PTAC"/>
          <p:cNvPicPr/>
          <p:nvPr/>
        </p:nvPicPr>
        <p:blipFill>
          <a:blip r:embed="rId2"/>
          <a:stretch/>
        </p:blipFill>
        <p:spPr>
          <a:xfrm>
            <a:off x="303120" y="4114800"/>
            <a:ext cx="929664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s for Mental Stimulus and Information Processing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303120" y="1541520"/>
            <a:ext cx="9296640" cy="2573280"/>
            <a:chOff x="303120" y="1541520"/>
            <a:chExt cx="9296640" cy="2573280"/>
          </a:xfrm>
        </p:grpSpPr>
        <p:pic>
          <p:nvPicPr>
            <p:cNvPr id="164" name="Picture 4" descr="PPTAD"/>
            <p:cNvPicPr/>
            <p:nvPr/>
          </p:nvPicPr>
          <p:blipFill>
            <a:blip r:embed="rId1"/>
            <a:stretch/>
          </p:blipFill>
          <p:spPr>
            <a:xfrm>
              <a:off x="303120" y="1541520"/>
              <a:ext cx="929664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5"/>
            <p:cNvSpPr/>
            <p:nvPr/>
          </p:nvSpPr>
          <p:spPr>
            <a:xfrm>
              <a:off x="7389720" y="3048120"/>
              <a:ext cx="2210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6" descr="PPTAE"/>
          <p:cNvPicPr/>
          <p:nvPr/>
        </p:nvPicPr>
        <p:blipFill>
          <a:blip r:embed="rId2"/>
          <a:stretch/>
        </p:blipFill>
        <p:spPr>
          <a:xfrm>
            <a:off x="303120" y="4343400"/>
            <a:ext cx="9296640" cy="2222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Blueprinting Services to Create Valued Experiences and Productiv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a Blueprin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 or model)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veloping a Bluepri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key activities in creating and delivering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fine “big picture” before “drilling down” to obtain a higher level of detai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vantages of Blueprint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fferentiate between “frontstage” and “backstage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larify interactions and support by backstage activities and system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potential fail points; take preventive measur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inpoint stages where customers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mmonly have to wai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840" y="1522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printing the Restaurant Experience: A Three-Act Perform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2760" y="1523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1: Prologue(introduction)  and Introductory Sce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2: Delivery of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ocktails, seating, order food and drinks, tea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Potential fail points: Menu information complete? Menu intelligible? Everything on the menu actually available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Mistakes in transmitting information a common cause of quality fail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ustomers may not only evaluate quality of food and drink, but how promptly it is served or serving staff attitud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3: The Drama Conclud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Remaining actions should move quickly and smoothly, with no surprises at the en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ustomer expectations: accurate, intelligible and prompt bill, payment handled politely, guest are thanked for their patronage(support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22:17Z</dcterms:created>
  <dc:creator>VALR</dc:creator>
  <dc:description/>
  <dc:language>en-US</dc:language>
  <cp:lastModifiedBy>aldarrab</cp:lastModifiedBy>
  <cp:lastPrinted>2002-07-07T10:21:06Z</cp:lastPrinted>
  <dcterms:modified xsi:type="dcterms:W3CDTF">2015-07-25T10:25:43Z</dcterms:modified>
  <cp:revision>759</cp:revision>
  <dc:subject/>
  <dc:title>No Slide Title</dc:title>
</cp:coreProperties>
</file>