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902825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-1733760" y="2376360"/>
            <a:ext cx="74610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05920"/>
            <a:ext cx="5434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1723-5540-4372-B636-10F177F82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878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2AFB-67D7-4F20-9F59-711559436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19D5-3AE9-439C-9E5B-2388D432A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2AB7-7DA4-4D86-AF01-9D948E347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CF98-C21B-4D57-8F04-843F55642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F757-99EA-483F-B07B-099A01004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3FE7-4123-49F0-9780-10B2857D7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28B5-AED7-4DCB-8ADC-BF8741E56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5E33-85F0-49F8-907A-D00B58D3F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540C-5114-4D24-AADF-A21105C18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B895-36F7-4F86-A87E-2A8B959B4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D0FC-962D-4A58-9DD4-AFBBE31A9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C71D-4885-43B4-837B-878F4A76B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10DB-B5E2-4390-AC83-FA4F16620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C28C-C6BB-453D-8F83-96726BBAD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60B3-8AE5-4DFA-AD49-1E42030F7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72EC-2CA3-4C11-8FBE-FEB9806B5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389F-B347-471F-95A5-EEACC1C9F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AEFC-302D-4E9F-B196-E49A63D4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5AB8-CCD9-42C5-9BA0-0D938506F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39BE-C716-4AB3-9D5B-F554A14F6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C64E-D3B7-4FEB-BFBA-3946F6E6A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1 – Page </a:t>
            </a:r>
            <a:fld id="{9DA9F254-7906-47EC-883F-B1A855994507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90288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 – Page </a:t>
            </a:r>
            <a:fld id="{E284B9CD-C590-47E6-B0F6-FD03759B1795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1 – Page </a:t>
            </a:r>
            <a:fld id="{D254DF17-E4FD-4298-BB0B-B61EC73D42F3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68200" y="1600200"/>
            <a:ext cx="9407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marL="457200" indent="-45720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503520" y="1832040"/>
            <a:ext cx="6077160" cy="4232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1898640" y="1447920"/>
            <a:ext cx="4291200" cy="510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3359160" y="1600200"/>
            <a:ext cx="3878280" cy="47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03120" y="2487600"/>
            <a:ext cx="5562720" cy="14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Chapter 11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   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Managing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People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ervice Advan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455760" y="4495680"/>
            <a:ext cx="1904760" cy="1778040"/>
            <a:chOff x="455760" y="4495680"/>
            <a:chExt cx="1904760" cy="1778040"/>
          </a:xfrm>
        </p:grpSpPr>
        <p:pic>
          <p:nvPicPr>
            <p:cNvPr id="151" name="Picture 2" descr=""/>
            <p:cNvPicPr/>
            <p:nvPr/>
          </p:nvPicPr>
          <p:blipFill>
            <a:blip r:embed="rId2"/>
            <a:stretch/>
          </p:blipFill>
          <p:spPr>
            <a:xfrm>
              <a:off x="455760" y="4495680"/>
              <a:ext cx="9144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" descr=""/>
            <p:cNvPicPr/>
            <p:nvPr/>
          </p:nvPicPr>
          <p:blipFill>
            <a:blip r:embed="rId3"/>
            <a:stretch/>
          </p:blipFill>
          <p:spPr>
            <a:xfrm>
              <a:off x="455760" y="5410080"/>
              <a:ext cx="9144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5" descr=""/>
            <p:cNvPicPr/>
            <p:nvPr/>
          </p:nvPicPr>
          <p:blipFill>
            <a:blip r:embed="rId4"/>
            <a:stretch/>
          </p:blipFill>
          <p:spPr>
            <a:xfrm>
              <a:off x="1446120" y="5410080"/>
              <a:ext cx="91440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67"/>
          <p:cNvSpPr/>
          <p:nvPr/>
        </p:nvSpPr>
        <p:spPr>
          <a:xfrm>
            <a:off x="228600" y="228600"/>
            <a:ext cx="662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s Marketing 7e, Global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of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3120" y="1599840"/>
            <a:ext cx="51818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customer cycle of failur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Repeated emphasis(focusing) on attracting new customer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ustomers dissatisfied with employee performan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ustomers always served by new fac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Ongoing search for new customers to maintain sales volum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  <p:pic>
        <p:nvPicPr>
          <p:cNvPr id="171" name="Picture 4" descr="fig11_11.jpg"/>
          <p:cNvPicPr/>
          <p:nvPr/>
        </p:nvPicPr>
        <p:blipFill>
          <a:blip r:embed="rId1"/>
          <a:stretch/>
        </p:blipFill>
        <p:spPr>
          <a:xfrm>
            <a:off x="5408640" y="2514600"/>
            <a:ext cx="4240080" cy="289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of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osts of short-sighted policies are ignored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nstant expense of recruiting, hiring, and training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Lower productivity of inexperienced new worker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igher costs of winning new customers to replace those lost—more need for advertising and promotional discount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t’s a big loss of revenue from dissatisfied customers who turn to alternativ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t's a loss of potential customers who are turned off by negative word-of-mouth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of Suc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Longer-term view of financial performance; firm seeks to prosper by investing in peopl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ttractive pay and benefits attract better job applican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ore focused recruitment, intensive training, and higher wages make it more likely that employees are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appier in their work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ovide higher quality, customer-pleasing servi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of Suc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roadened job descriptions with empowerment practices enable frontline staff to control quality, facilitate service recover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egular customers more likely to remain loyal because they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ppreciate continuity in service relationship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ave higher satisfaction due to higher qualit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2"/>
          <p:cNvSpPr/>
          <p:nvPr/>
        </p:nvSpPr>
        <p:spPr>
          <a:xfrm>
            <a:off x="907920" y="2664000"/>
            <a:ext cx="84171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Human Resources Management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How to Get it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re the Right 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912960" y="2427120"/>
            <a:ext cx="777240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 old saying ‘People are your most important asset’ is wr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people are your most important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Jim Coll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the Preferred Employ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400" spc="-1" strike="noStrike">
                <a:solidFill>
                  <a:srgbClr val="013c7d"/>
                </a:solidFill>
                <a:latin typeface="Arial"/>
              </a:rPr>
              <a:t>Create a large pool: “Compete for Talent Market Share”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lect the right people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000" spc="-1" strike="noStrike">
                <a:solidFill>
                  <a:srgbClr val="013c7d"/>
                </a:solidFill>
                <a:latin typeface="Arial"/>
              </a:rPr>
              <a:t>Different jobs are best filled by people with different skills, styles, or personalitie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000" spc="-1" strike="noStrike">
                <a:solidFill>
                  <a:srgbClr val="013c7d"/>
                </a:solidFill>
                <a:latin typeface="Arial"/>
              </a:rPr>
              <a:t>Hire candidates that fit firm’s core values and cultur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000" spc="-1" strike="noStrike">
                <a:solidFill>
                  <a:srgbClr val="013c7d"/>
                </a:solidFill>
                <a:latin typeface="Arial"/>
              </a:rPr>
              <a:t>Focus on recruiting naturally warm personalities for customer-contact job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ols to Identify Best Candidat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400" spc="-1" strike="noStrike">
                <a:solidFill>
                  <a:srgbClr val="013c7d"/>
                </a:solidFill>
                <a:latin typeface="Arial"/>
              </a:rPr>
              <a:t>Employ multiple, structured interviews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Use structured interviews built around job requirement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Use more than one interviewer </a:t>
            </a:r>
            <a:r>
              <a:rPr b="1" lang="en-GB" sz="2000" spc="-1" strike="noStrike">
                <a:solidFill>
                  <a:srgbClr val="013c7d"/>
                </a:solidFill>
                <a:latin typeface="Arial"/>
              </a:rPr>
              <a:t>to reduce “similar to me” biase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400" spc="-1" strike="noStrike">
                <a:solidFill>
                  <a:srgbClr val="013c7d"/>
                </a:solidFill>
                <a:latin typeface="Arial"/>
              </a:rPr>
              <a:t>Observe behavior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ire based on observed behavior, not words you hea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Best predictor of future behavior is past behavior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nsider group hiring sessions where candidates are given group task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ols to Identify Best Candidat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400" spc="-1" strike="noStrike">
                <a:solidFill>
                  <a:srgbClr val="013c7d"/>
                </a:solidFill>
                <a:latin typeface="Arial"/>
              </a:rPr>
              <a:t>Conduct personality tes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Willingness to treat co-workers and customers with courtesy,  consideration, and tac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erceptiveness</a:t>
            </a:r>
            <a:r>
              <a:rPr b="1" lang="ar-SA" sz="1100" spc="-1" strike="noStrike">
                <a:solidFill>
                  <a:srgbClr val="013c7d"/>
                </a:solidFill>
                <a:latin typeface="Arial"/>
              </a:rPr>
              <a:t>)</a:t>
            </a:r>
            <a:r>
              <a:rPr b="0" lang="en-US" sz="1100" spc="-1" strike="noStrike">
                <a:solidFill>
                  <a:srgbClr val="013c7d"/>
                </a:solidFill>
                <a:latin typeface="Arial"/>
              </a:rPr>
              <a:t> feeling of understanding</a:t>
            </a:r>
            <a:r>
              <a:rPr b="0" lang="ar-SA" sz="1100" spc="-1" strike="noStrike">
                <a:solidFill>
                  <a:srgbClr val="013c7d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 regarding customer need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bility to communicate accurately and pleasantly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Give applicants a realistic preview of the job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hance for candidates to “try on the job”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ssess how candidates respond to job realitie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llow candidates to self select themselves out of the job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in Service Employe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9000"/>
          </a:bodyPr>
          <a:p>
            <a:pPr marL="45252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employees need to learn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2520" indent="-45252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Organizational culture, purpose, and strategy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omote core values, get emotional commitment to strategy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Get managers to teach “why,” “what,” and “how” of job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2520" indent="-45252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terpersonal and technical skills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2520" indent="-45252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roduct/service knowledge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taff’s product knowledge is a key aspect of service quality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taff must explain product features and position products correctly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view of Chapter 1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Employees Are Crucially Importan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actors Contributing to the Difficulty of Frontline Work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ycles of Failure, Mediocrity, and Succes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Human Resources Management – How To Get It Right?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Leadership and Cultur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ivate and Energize the Fron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Use full range of available rewards effectively, including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Job conten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eople are motivated knowing they are doing a good job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eedback and recognition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eople derive a sense of identity and belonging to an organization from feedback and recogni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Goal accomplishmen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pecific, difficult but attainable, and accepted goals are strong motivators 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2"/>
          <p:cNvSpPr/>
          <p:nvPr/>
        </p:nvSpPr>
        <p:spPr>
          <a:xfrm>
            <a:off x="907920" y="2664000"/>
            <a:ext cx="84171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Service Leadershi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and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Leadership and Cul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harismatic/transformational leadership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hange frontline personnel’s values and goals to be consistent with the firm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otivate staff to perform at their bes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culture can be defined as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hared perceptions of what is important</a:t>
            </a:r>
            <a:r>
              <a:rPr b="1" lang="ar-SA" sz="2000" spc="-1" strike="noStrike">
                <a:solidFill>
                  <a:srgbClr val="013c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 , shared values , beliefs of why they are important.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 algn="ctr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trong service culture focuses the entire organization on the frontline, with the top management informed and actively involved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al Marke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Necessary in large service businesses that operate in widely dispersed sit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Effective internal marketing helps to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nsure efficient and satisfactory service deliver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chieve harmonious and productive working relationship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Build employee trust, respect, and loyalt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3120" y="1447560"/>
            <a:ext cx="556272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employees are crucially important to firm’s succes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ource of customer loyalty and competitive advantag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43160" indent="-44316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rontline work is difficult and stressful; employees are boundary spanners, undergo emotional labor, face a variety of conflic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43160" indent="-44316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Understand cycles of failure, mediocrity, and success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pic>
        <p:nvPicPr>
          <p:cNvPr id="198" name="Picture 4" descr="fig11_13.jpg"/>
          <p:cNvPicPr/>
          <p:nvPr/>
        </p:nvPicPr>
        <p:blipFill>
          <a:blip r:embed="rId1"/>
          <a:stretch/>
        </p:blipFill>
        <p:spPr>
          <a:xfrm>
            <a:off x="6094440" y="1752480"/>
            <a:ext cx="3567240" cy="4651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Know how to get HRM aspect righ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ire the right people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dentify the best candidat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rain service employees activel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mpower the frontlin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Build high-performance service delivery team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otivate and energize peopl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Unions have a role to pla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Understand role of service culture and service leadership in sustaining service excellen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2"/>
          <p:cNvSpPr/>
          <p:nvPr/>
        </p:nvSpPr>
        <p:spPr>
          <a:xfrm>
            <a:off x="907920" y="2664000"/>
            <a:ext cx="84171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Service Employees Are Crucially Impor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Personnel(staff): Source of Customer Loyalty &amp; Competitive Advant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ustomer’s perspective: encounter with service staff is most important aspect of a servi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rm’s perspective: frontline is an important source of differentiation and competitive advantag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rontline is an important driver of customer loyalt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nticipating(do in advance) customer need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ustomizing(modifying)  service deliver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building personalized relationship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ig11_02.jpg"/>
          <p:cNvPicPr/>
          <p:nvPr/>
        </p:nvPicPr>
        <p:blipFill>
          <a:blip r:embed="rId1"/>
          <a:stretch/>
        </p:blipFill>
        <p:spPr>
          <a:xfrm>
            <a:off x="6627960" y="2057400"/>
            <a:ext cx="304776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ntline in Low-Contact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Many routine transactions are now conducted without involving frontline staff, e.g., 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ATMs (Automated Teller Machines)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IVR (Interactive Voice Response) systems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Websites for reservations/ordering, payment, etc.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However, frontline employees remain crucially important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2"/>
          <p:cNvSpPr/>
          <p:nvPr/>
        </p:nvSpPr>
        <p:spPr>
          <a:xfrm>
            <a:off x="1065240" y="350532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Factors Contributing to the Difficulty of Frontlin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le Stress in Frontline Employe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Organization vs. Client :  whether to follow company rules or to satisfy customer demands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i="1" lang="en-US" sz="2000" spc="-1" strike="noStrike">
                <a:solidFill>
                  <a:srgbClr val="013c7d"/>
                </a:solidFill>
                <a:latin typeface="Arial"/>
                <a:ea typeface="SimSun"/>
              </a:rPr>
              <a:t>This conflict is especially serious in organizations that are not customer- oriented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erson vs. Role: Conflicts between what jobs require and what employee’s own personality and beliefs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ent vs. Client: Conflicts between customers that demand service staff interference i.e (service staff needs to be there if there is any conflict between clients.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2"/>
          <p:cNvSpPr/>
          <p:nvPr/>
        </p:nvSpPr>
        <p:spPr>
          <a:xfrm>
            <a:off x="907920" y="2664000"/>
            <a:ext cx="84171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Cycles of Failure, Mediocrity, and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of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employee cycle of failur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Narrow job design for low skill levels. (complicated job for non skilled worker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mphasis(focus) on rules rather than service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Use of technology to control qualit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Bored employees who lack ability to respond to customer problem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ustomers are dissatisfied with poor service attitud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Low service qualit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igh employee turnover ( more than the employee skills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2:31:29Z</dcterms:created>
  <dc:creator>VALR</dc:creator>
  <dc:description/>
  <dc:language>en-US</dc:language>
  <cp:lastModifiedBy>aldarrab</cp:lastModifiedBy>
  <cp:lastPrinted>2002-07-07T10:21:06Z</cp:lastPrinted>
  <dcterms:modified xsi:type="dcterms:W3CDTF">2015-07-25T10:26:08Z</dcterms:modified>
  <cp:revision>705</cp:revision>
  <dc:subject/>
  <dc:title>No Slide Title</dc:title>
</cp:coreProperties>
</file>