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0" y="4330440"/>
            <a:ext cx="68580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F046-916C-488D-8981-00CB6861956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4330440"/>
            <a:ext cx="685800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FDB-CED1-4654-BDDB-D972B0690CD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haemopoietic stem cells-mesenchymal cells in yolk s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12 week fetal liver and spleen becomes the main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week 20, bone marrow starts to become important and by the time of birth it is the main haemopoietic or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BE5-66A9-44DB-9E21-C4657097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667-8313-4F61-94D5-F6047E6F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CAE-2893-4F62-820F-019C60C6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BC1-85BD-4269-A980-EA63D1DC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425-A346-4650-AE02-F3912BD3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6E2-BC1C-4C1C-B69D-BC157195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BCF0-4C52-4162-A562-2FF03BA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ED82-3C71-46FE-A6E8-A174483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D274-230F-4557-B529-E2B0EC86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407D-7C82-4CF0-A7A4-9D50742A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169-533C-424D-94D2-336B231A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11B-4C89-4A05-B1AF-C5CA3DA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6368-2F58-451B-9341-9C19655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2797-33E8-4D87-8582-9750A73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EC12-0081-4902-83D0-8DA5D57A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03E3-E3F5-4B01-9D8D-EFC182F1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2A5A-EE19-440B-A135-FCE58CA2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513-F74D-4FB5-AD2B-81B27250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E81-E465-4C95-BB2D-B4125F82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594-E9D2-4DF7-833E-A0AF64E3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928-55BB-4E1D-B9B5-284AC9E9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277-73B4-48EE-824E-39C94D3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1F5-F8E7-4376-B13D-DEA79FD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50E-46EE-4F16-ACD5-6A11F6B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92A-A609-4D1C-9C0B-B9F5F6BB279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CF96-10DF-4FA3-B8E8-089F4D1341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The Splee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ic Trau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jury should be suspected  in blunt upper abdominal injuries ( MVA and Bik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juries are often associated with fractured ribs of the left ch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lenic injuries can cause extensive and continued hemorrhage, others can cause subcapsular hematomas that are subject to rupture at any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splenic injury is suspected, admission to the hospital for monitoring is manda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igns and symptoms of splenic trauma are those of hemoperitoneum (generalized LUQ pai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eatment of Ruptured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lenic preservation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ial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psular repai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 operative treatmen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layed  Rupture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jury to the pulp sometimes cannot be contained indefinitely by the splenic capsu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usual interval between injury and hemorrhage is within two weeks (longer intervals have been reporte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incidence is between 15-30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is hoped that as imaging techniques improve the incidence will decr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o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the auto transplantation of splenic tissue after splenic trau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y vary from a few millimeters to several centimeters in diame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 occur anywhere in the peritoneal cav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dom causes symptoms and is usually discovered as an incidental finding at reope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 splenectomy sepsis has renewed interest in sple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新細明體"/>
              </a:rPr>
              <a:t>Causes of splenomega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Infec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Bacterial: Typhoid fever, endocarditis, septicemia, absces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Viral:E-B virus, CMV, and oth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Protozoal: Malaria, toxoplasmosi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Hematologic proces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Hemolytic anemia:  Congenital, acqu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Extramedullary hematopoiesis: thalassemia, osteopetrosis, myelofibrosi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Neoplas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Malignant: Leukemia, lymphoma, histiocytoses, metastatic tumo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Benign: Hemagioma, hamarto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Metabolic disea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新細明體"/>
              </a:rPr>
              <a:t>Lipidosis: Niemann-Pick, Gaucher diseas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新細明體"/>
              </a:rPr>
              <a:t>Mucopolysaccharidosis infiltration: Histiocytosi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Conges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Cirrhos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Cys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Miscellan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ypersple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s to a variety of ill effects resulting from increased splenic function that may be improved by splenect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riteria for diagnosis include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emia, leukopenia, thrombocytopenia or a combination of the thre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ensatory bone marrow hyperplas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lenomega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ypersplenism can be categorized as primary or second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lenic Involvement in Hodgkin’s lymphom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bability of splenic involvement increases with increasing spleen s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bsence of splenomegaly does not exclude splenic invol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on gross examination of the spleen a grayish white nodule ranging from several millimeters to several centimeters is apparent with Hodgkin’s dis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r involvement with Hodgkin’s disease rarely occurs in the absence of splenic dis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lty’s Syndro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a syndrome consisting of severe rheumatoid arthritis, granulocytopenia and splenomega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usually occurs in patients with a long history of rheumatoid arthrit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vere, persistent and recurrent infections are characteris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ate splenomegaly is comm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ectomy is effective in most pati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ucher’s Disea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a disorder of lipid metabolism that may result in massive splenomegaly and hypersple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only found in the Jewish pop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agnosis is made by finding the typical Gaucher’s cells in biopsy tiss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sive splenomegaly is usually the most common form of 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dult form is the most common for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omegaly (subtotal) shows great benef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297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atomy of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880" r="1959" b="31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ysts and Tumors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differential diagnosis of splenomegaly should include splenic masses and primary tumors (these conditions are rare however they must be considere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stic lesions comprise parasitic and nonparasitic cy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sitic cysts are due almost exclusively to echinococcal disease (rare in the United Stat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nparasitic cysts are classified as primary (true) which have an epithelial lining or pseudocysts (more comm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ymptoms of splenic cysts are vague and are caused primarily by mass effect (compression of adjacent viscer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ysts and Tumors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ected nonparasitic cyst may be managed by aspi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ectomy should be performed for all large cyst and those with an uncertain diag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lignant and benign primary tumors of the spleen are ra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ary malignant tumors are angiosarco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fectious Mononucleo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disease characterized by fever, sore throat, lymphadenopathy and atypical lymph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atients are you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nical symptoms are similar to those of a severe upper respiratory tract in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pleen is enlarged and palpable in over 50% of pati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ic rupture may occ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cidental Splenect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pleen is vulnerable to injury during operative procedures in the upper abdo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the splenic capsule is torn, splenectomy is frequently perfor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bidity and mortality is higher with iatrogenic injury requiring splenect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ect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or to removing the spleen specific preoperative preparation is necess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patients should receive polyvalent pneumococcal vaccine, polyvalent meningococcal vaccine and Haemophilus influenzae type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onjugant vacc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lood and blood products should be available well in advance of surg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ood Compositional Changes in the Asplenic or Hyposplenic Patie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bsence of functional splenic tissue results in characteristic changes in the circulating bl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 of these are predictable and desirable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se changes are considered a measure of its success when splenectomy is performed for a hematologic dise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ell-Jolly bodies (nuclear remnants) and thrombocytosis (desired resul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ther findings include: target cells, acanthocytes (spur cells), Heinz bodies (denatured hemoglobin) and stippled red ce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splenectomy Sep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plenic patients have an increased susceptibility to the development of overwhelming in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of sepsis is approximately 60 times greater than normal after splenect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is greatest in children younger than four years of 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of sepsis is higher among patients requiring splenectomy for inherited disea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of sepsis after splenectomy is lowest after trau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splenectomy Sep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splenectomy sepsis syndrome typically occurs in a previously healthy individual after a mild upper respiratory tract infection associated with fe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thin hours, nausea, vomiting, headache, confusion, shock and coma can occur; death follows within 24 h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ature of the syndrome makes it difficult to diagnose early enough for therapy to be effe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splenectomy Sep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st common bacteria isolated our streptococcus pneumoniae, Neisseria meningitidis, E. coli or Haemophilus influenza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cause half of the patients develop sepsis from strep pneumoniae, penicillin can be administered immediately with onset of a febrile UR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ts are instructed to obtain and wear a Medic alert t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ite Pul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yposple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a potentially lethal syndrome characterized by diminished splenic fun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atient peripheral blood smears appear as if they are asplen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yposplenism can occur in the presence of abnormal sized or enlarged sple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danger of hyposplenism is the risk of developing potentially lethal sep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ckle cell anemia is the most common disease associated with hyposple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st common surgical disease associated with hyposplenism is chronic U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yposple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tion of Hyposple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al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unction of the spl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enital asplenia vs.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ological consequences of Hyposple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gnosis and complic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Hyposplenism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yposplenism is the lack of a spleen or its fun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are genetic disorder- Congenital Aspl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rgical removal of the spleen-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ults in severe immunological conseque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ological importance of the spl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ris and Bullock-191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rst post-splenectomy in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’Donnell-192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ects of Hyposple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ing and Shumacker-195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rgest lymphoid tissue of the bo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rves two main fun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lters blood to remove damaged/old RBC- red pul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rves as secondary lymphoid tissue by removing infectious agents and using them to activate lymphocytes- white pul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significant reservoir for T lymphocy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ys an active role in the production of IgM antibodies and compl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s significant role in the functional maturation of antibod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genital Asplen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osomal recessive genetic dis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ieved to be caused by absence of the Hox 11 gene in the embry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uses decreased adaptive immune respo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ociated with structural abnormalities in other organs of the body- cause death in infa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ect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oval of spleen tissue (partial or complet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needed because of trau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idual splenic function in ¼ to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⅔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ti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gM levels decreases, IgG levels remain constant or increase, IgA and IgE levels incr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unological Consequen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uses slower and incomplete adaptive immune response against bacte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w levels of tuftsin, which stimulates phagocytosis by neutrophils, macrophages, and monocy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creased neutrophil and macrophage a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reased NK cell a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mited capacity of circulating B-cells to differentiate into antibody-secreting ce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creased level of T-ce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termined by anatomic presence or absence of the organ, its size, and any les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ction can be assessed b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adiologic Techniq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X-ray, ultrasound, tomography, MRI, radionucleotide scann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phological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ipheral blood smear- presence of Howell-Jolly bo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owell Jolly bod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well-Joll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odies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ound, purple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aining nuclear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gments of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NA in the red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lood ce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1008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felong risk for Overwhelming Postsplenectomy infection (OPS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used by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Streptococcus pneumonia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and gram negative bacter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itial Symptoms: fever, chills, muscle aches, headache, vomiting, diarrhea, and abdominal pa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gressive symptoms: bacteremic septic shock, extremity gangrene, convulsions, and co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rtality rate of 50-8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rom onset of initial symptoms, 68% of those deaths occur within 24 hours and 80% occur within 48 hou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evention: routine vaccinations and prophylactic antibiotic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yposplenism is the lack of a spleen or its fun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 be either genetic or surgically induc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has detrimental effects on the immune system by decreasing the body’s ability to fight bacterial infections and reducing the adaptive immune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fections in Asplenic Pati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uses of Asplen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enita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ten associated with serious organ malform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st surgical remov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nctional hyposple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ological fun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n site of opsonic antibody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pecially efficient in removal of encapsulated bacte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maining RES may compensate but not in case of encapsulated bacte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t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moval of abnormal erythrocytes and intraerythrocytic inclusions eg nuclear inclusions and parasitised RB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whelming Infe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incidence of sepsis is 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3,2% in adul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3,3% in childre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isk stratified according to cause, being highest in patients with thalassaemia major and sickle-cell anaemia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(J Infect 2001 Oct;43: 182-6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ifetime risk for OPSI of 5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ath rates 600 times greater than general popul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er in children (1,7% vs 1,3%), but other reports say higher in &gt; 16 yea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del say doesn’t correspond to indication but Bisharat et al suggest higher in haematological disorder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uration of ris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occur within 2 years post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isk is lifelong as cases have been reported up to 20 years post surg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rly complications may be underreported as surgical com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icrobi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. pneumo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0 – 90% of ca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mon in all age group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ribution of serotypes seems to be same as other forms of pneumococcal infe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5% belonged to serotypes covered in 23 valent vaccine (ibid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icro cont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H. influen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arded as 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most common cau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idence reduced with vacc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typable strains do not seem to predominate in P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N. meningitid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ed by some studies as associated but others as well as animal experiments seem to support a lack of associa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en Struc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white pulp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is circular i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tructure and is made up mainly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of lymphocytes. It functions in a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anner similar to the nodules of the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ymph nod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ed pulp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surrounds the white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ulp and contains mainly red blood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ells and macrophages. The mai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nction of the red pulp is to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hagocytize old red blood cell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ther Micro-organis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steria monocytoge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Klebsiella s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almonella typhimuri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. aure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ytocapnophagia canimors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Plesiomonas shigelloi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cently occupational exposures have been highligh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is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neumococcal – 2 weeks prior to elective surgery otherwise when patient is recovered prior to discharge. Boosters every 5-1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. influenza – recommended but evidence for immunogenicity and boosters lac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ningococcal – not routinely recommend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fluenza – may be of value especially in reducing risk of secondary bacterial infec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x continued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tibiotic prophylax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vers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icill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all cases, esp in first 2 years post surge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up to 16 and if underlying immune dysfun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y not prevent sep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cal resistence patterns need to accounted f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 antibiotic supp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……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vell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LARIA PROPHYLAX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ningococcal vacc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tibiotic prophylax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 alert bracelet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d Pul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pleen is a sophisticated filter that monitors and manages blood cells and immune fun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ring fetal development the spleen produces red and white blood cel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y the fifth month of gestation the spleen no longer has hematopoietic function but retains the capacity throughout lif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 cells that pass through the spleen undergo a “cleaning” or rep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normal and old cells are destroy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iculocytes loose their nuclear remnants and excess membrane before entering the circ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BC’s coated with IgG and IgM are removed and destroy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pleen is the site of destruction in autoimmune disease states (ITTP and hemolytic anemi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sites such as malaria can be removed as we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pleen is involved in specific and nonspecific immune responses (promotes phagocytosis and destruction of bacteri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Sites of Haemopoie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Yolk s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Liver and sple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Bone marro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Arial"/>
              </a:rPr>
              <a:t>Gradual replacement of active (red) marrow by tissue inactive (fatt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Arial"/>
              </a:rPr>
              <a:t>Expansion can occur during increased need for cell produc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525780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2286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21:21:25Z</dcterms:created>
  <dc:creator>David Kloda</dc:creator>
  <dc:description/>
  <dc:language>en-US</dc:language>
  <cp:lastModifiedBy>Dr.abdel-hamid</cp:lastModifiedBy>
  <dcterms:modified xsi:type="dcterms:W3CDTF">2006-10-21T21:55:13Z</dcterms:modified>
  <cp:revision>61</cp:revision>
  <dc:subject/>
  <dc:title>The Spleen</dc:title>
</cp:coreProperties>
</file>