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FEF-3761-4A50-91B8-91C7AA11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D1C-0A7A-4F10-B0FA-C4770CF1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32E-4540-44BC-8386-36ED18CB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873-4E93-40E9-AC2E-E6DD3A8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7032-5AC7-4DFC-9B3F-83E8967C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4998-9E08-443C-8C05-847CE185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02E-422E-4FE8-AC4D-C95AFAF4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449-7E5B-43FF-A83A-0E22415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C247-A37D-43FC-8A1A-E69FD3A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CC2-5168-4F26-A071-4E9E7909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FF89-EBF3-4746-8392-9FA753E6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CDA-646E-4BE6-BC13-8E881791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7F65-8FE6-4C00-AA67-6D866568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044A-E844-458E-A8A5-0249BE5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35E6-9037-49C6-AACF-5A756E2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4B8-0E35-4169-8115-32BF04F0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709B-E6CA-4378-AE81-FFEEADC8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0C7-D305-4041-A2A3-6B10312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B77-2AAB-4793-853E-CE08D3AE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9F1-B484-467F-9673-A697237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92E-005E-4DDD-8715-3DCA5B41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CC5-63D1-498C-89AE-4549EE0A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906-7A5F-4E66-B552-9F467C3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3A7-2F35-4295-AEED-34F7713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7A3-3F59-40AD-9836-143038C20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1ED-2BAC-4B2E-A8CA-E2AF9D15DA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551-5A3A-411F-BEB0-D45F4CA01A07}" type="datetime"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872-B2FF-41C6-8220-52A9815BB748}" type="slidenum"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ahmed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roduction to the SPSS Interfac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4952880" cy="18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Dr. Mohammed Alahm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Ph.D. in Biostat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99ff"/>
                </a:solidFill>
                <a:uFillTx/>
                <a:latin typeface="Segoe UI"/>
                <a:ea typeface="Segoe UI"/>
                <a:hlinkClick r:id="rId1"/>
              </a:rPr>
              <a:t>alahmed@ksu.edu.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265f"/>
                </a:solidFill>
                <a:latin typeface="Segoe UI"/>
                <a:ea typeface="Segoe UI"/>
              </a:rPr>
              <a:t>(011) 467410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238880" y="624852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CAEE-81DD-4327-AD8F-6B2D8A83EF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6859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 data from Exc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File            Open           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il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file you want to im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click Op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8317080" y="643428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961-BF12-4D56-B5C8-BA86B0921AA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34" name="Straight Arrow Connector 25"/>
          <p:cNvCxnSpPr/>
          <p:nvPr/>
        </p:nvCxnSpPr>
        <p:spPr>
          <a:xfrm>
            <a:off x="2362320" y="1557360"/>
            <a:ext cx="762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5" name="Straight Arrow Connector 28"/>
          <p:cNvCxnSpPr/>
          <p:nvPr/>
        </p:nvCxnSpPr>
        <p:spPr>
          <a:xfrm>
            <a:off x="4343040" y="1558440"/>
            <a:ext cx="7628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36" name="Straight Arrow Connector 30"/>
          <p:cNvCxnSpPr/>
          <p:nvPr/>
        </p:nvCxnSpPr>
        <p:spPr>
          <a:xfrm flipV="1">
            <a:off x="3429000" y="5562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7" name="Straight Arrow Connector 8"/>
          <p:cNvCxnSpPr/>
          <p:nvPr/>
        </p:nvCxnSpPr>
        <p:spPr>
          <a:xfrm flipV="1">
            <a:off x="1143000" y="4419000"/>
            <a:ext cx="53424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8" name="Picture 10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67080" cy="350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76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en Excel files in SP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40EE-6A16-4A40-8657-19C0D35FF2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42" name="Straight Arrow Connector 13"/>
          <p:cNvCxnSpPr/>
          <p:nvPr/>
        </p:nvCxnSpPr>
        <p:spPr>
          <a:xfrm flipV="1">
            <a:off x="2272320" y="5295240"/>
            <a:ext cx="533880" cy="68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inu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774-8640-4794-BD99-C485DBF387B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558720" y="1066680"/>
            <a:ext cx="812484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Explosion 2 7"/>
          <p:cNvSpPr/>
          <p:nvPr/>
        </p:nvSpPr>
        <p:spPr>
          <a:xfrm>
            <a:off x="5029200" y="2590920"/>
            <a:ext cx="3657600" cy="2895480"/>
          </a:xfrm>
          <a:prstGeom prst="irregularSeal2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ve this file as SPSS dat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24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ean data after import data fi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264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ses summ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or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litative variables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pti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quantitative variab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outputs to see if you have variables with wrong val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missing values and physical surveys if you use paper surveys, and make sure they are real miss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imes, you need to recode string variables into numeric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229520" y="6324480"/>
            <a:ext cx="1762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35CB-5C8D-43D6-A217-2D3194464A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s summa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34320" y="632448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EFD8-999F-45ED-AD4E-EC88555758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5344" t="17366" r="38058" b="24890"/>
          <a:stretch/>
        </p:blipFill>
        <p:spPr>
          <a:xfrm>
            <a:off x="457200" y="1295280"/>
            <a:ext cx="828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3AB1-D8A9-47B6-B5C0-5C8641D174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7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000F-81C4-429C-9DDF-0603DC1CEF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sic Statistical Analysi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ptive statistic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nd wrong entr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ave basic knowledge about the sample and targeted variables in a stud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281240" indent="-514440"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mmarize dat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E2C-41D4-4A8F-A874-7B8117530CDF}" type="slidenum">
              <a:rPr b="1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7086600" y="63388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728F-DA0E-4440-BFFB-85832F543DE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1660680" y="4800600"/>
            <a:ext cx="487080" cy="498600"/>
          </a:xfrm>
          <a:custGeom>
            <a:avLst/>
            <a:gdLst/>
            <a:ahLst/>
            <a:rect l="l" t="t" r="r" b="b"/>
            <a:pathLst>
              <a:path w="487036" h="496159">
                <a:moveTo>
                  <a:pt x="248575" y="8878"/>
                </a:moveTo>
                <a:lnTo>
                  <a:pt x="248575" y="8878"/>
                </a:lnTo>
                <a:cubicBezTo>
                  <a:pt x="183472" y="11837"/>
                  <a:pt x="118229" y="12559"/>
                  <a:pt x="53266" y="17756"/>
                </a:cubicBezTo>
                <a:cubicBezTo>
                  <a:pt x="43938" y="18502"/>
                  <a:pt x="32072" y="19018"/>
                  <a:pt x="26633" y="26633"/>
                </a:cubicBezTo>
                <a:cubicBezTo>
                  <a:pt x="15755" y="41863"/>
                  <a:pt x="13802" y="61843"/>
                  <a:pt x="8878" y="79899"/>
                </a:cubicBezTo>
                <a:cubicBezTo>
                  <a:pt x="4908" y="94457"/>
                  <a:pt x="2959" y="109492"/>
                  <a:pt x="0" y="124288"/>
                </a:cubicBezTo>
                <a:cubicBezTo>
                  <a:pt x="2959" y="162758"/>
                  <a:pt x="508" y="202033"/>
                  <a:pt x="8878" y="239698"/>
                </a:cubicBezTo>
                <a:cubicBezTo>
                  <a:pt x="12621" y="256542"/>
                  <a:pt x="30055" y="267716"/>
                  <a:pt x="35511" y="284086"/>
                </a:cubicBezTo>
                <a:cubicBezTo>
                  <a:pt x="45054" y="312716"/>
                  <a:pt x="29123" y="354756"/>
                  <a:pt x="53266" y="372863"/>
                </a:cubicBezTo>
                <a:cubicBezTo>
                  <a:pt x="106807" y="413018"/>
                  <a:pt x="75177" y="393668"/>
                  <a:pt x="150921" y="426129"/>
                </a:cubicBezTo>
                <a:cubicBezTo>
                  <a:pt x="421568" y="409213"/>
                  <a:pt x="404697" y="496159"/>
                  <a:pt x="452761" y="363985"/>
                </a:cubicBezTo>
                <a:cubicBezTo>
                  <a:pt x="459157" y="346396"/>
                  <a:pt x="464598" y="328474"/>
                  <a:pt x="470517" y="310719"/>
                </a:cubicBezTo>
                <a:cubicBezTo>
                  <a:pt x="480742" y="249366"/>
                  <a:pt x="487036" y="240257"/>
                  <a:pt x="470517" y="168676"/>
                </a:cubicBezTo>
                <a:cubicBezTo>
                  <a:pt x="468118" y="158279"/>
                  <a:pt x="460306" y="149588"/>
                  <a:pt x="452761" y="142043"/>
                </a:cubicBezTo>
                <a:cubicBezTo>
                  <a:pt x="445216" y="134499"/>
                  <a:pt x="435006" y="130206"/>
                  <a:pt x="426128" y="124288"/>
                </a:cubicBezTo>
                <a:cubicBezTo>
                  <a:pt x="379406" y="61992"/>
                  <a:pt x="409960" y="99243"/>
                  <a:pt x="328474" y="17756"/>
                </a:cubicBezTo>
                <a:cubicBezTo>
                  <a:pt x="322556" y="11837"/>
                  <a:pt x="319089" y="0"/>
                  <a:pt x="310719" y="0"/>
                </a:cubicBezTo>
                <a:lnTo>
                  <a:pt x="248575" y="8878"/>
                </a:lnTo>
                <a:close/>
              </a:path>
            </a:pathLst>
          </a:custGeom>
          <a:noFill/>
          <a:ln w="25560">
            <a:solidFill>
              <a:srgbClr val="49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64" name="Straight Arrow Connector 9"/>
          <p:cNvCxnSpPr/>
          <p:nvPr/>
        </p:nvCxnSpPr>
        <p:spPr>
          <a:xfrm flipV="1">
            <a:off x="914400" y="403776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5" name="Straight Arrow Connector 13"/>
          <p:cNvCxnSpPr/>
          <p:nvPr/>
        </p:nvCxnSpPr>
        <p:spPr>
          <a:xfrm flipV="1">
            <a:off x="762120" y="4114080"/>
            <a:ext cx="915120" cy="1220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8520" cy="4343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533520" y="1206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Frequenc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Right Arrow 10"/>
          <p:cNvSpPr/>
          <p:nvPr/>
        </p:nvSpPr>
        <p:spPr>
          <a:xfrm>
            <a:off x="1903320" y="135396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Right Arrow 10"/>
          <p:cNvSpPr/>
          <p:nvPr/>
        </p:nvSpPr>
        <p:spPr>
          <a:xfrm>
            <a:off x="6095880" y="137484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7"/>
          <p:cNvSpPr/>
          <p:nvPr/>
        </p:nvSpPr>
        <p:spPr>
          <a:xfrm>
            <a:off x="708660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5B0B-BD1A-4D73-B1AA-6E06BF8619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2" name="Picture 11" descr=""/>
          <p:cNvPicPr/>
          <p:nvPr/>
        </p:nvPicPr>
        <p:blipFill>
          <a:blip r:embed="rId1"/>
          <a:stretch/>
        </p:blipFill>
        <p:spPr>
          <a:xfrm>
            <a:off x="782640" y="1066680"/>
            <a:ext cx="7142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8594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189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SS interfac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ata view and Variable vie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nter data in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import external data into SP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lean and edi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get descriptive statis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8229600" y="6324480"/>
            <a:ext cx="762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33EB-57C2-46FC-851D-8CD7ACE9CD2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15120" y="63342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CC58-3E0E-4892-8634-38D87C3A020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1680" y="609480"/>
            <a:ext cx="472104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5027760" cy="148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073240" y="3581280"/>
            <a:ext cx="5151600" cy="152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3402000" y="5181480"/>
            <a:ext cx="489276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6070680" y="533520"/>
            <a:ext cx="2759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6104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F74-5BC0-4CBD-BD7D-5DA9CEB135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2255760"/>
            <a:ext cx="8534160" cy="2849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304920" y="11430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        Descriptive statistics          Descriptiv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2" name="Right Arrow 10"/>
          <p:cNvSpPr/>
          <p:nvPr/>
        </p:nvSpPr>
        <p:spPr>
          <a:xfrm>
            <a:off x="586728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Right Arrow 10"/>
          <p:cNvSpPr/>
          <p:nvPr/>
        </p:nvSpPr>
        <p:spPr>
          <a:xfrm>
            <a:off x="1676520" y="1290600"/>
            <a:ext cx="844560" cy="228600"/>
          </a:xfrm>
          <a:prstGeom prst="rightArrow">
            <a:avLst>
              <a:gd name="adj1" fmla="val 50000"/>
              <a:gd name="adj2" fmla="val 1373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0574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Vari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848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465-3FF9-4187-8917-CB3956183A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13236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253200" y="68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4038480" y="239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7162920" y="6427800"/>
            <a:ext cx="190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B2A6-5DC4-42FE-A5BA-1C074238526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191120" cy="4983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3248280" cy="49831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2895480" y="61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Sta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371600" y="75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6253200" y="82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Box-Plo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SS interfa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umns: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ws: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ce to enter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all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305920" y="6324480"/>
            <a:ext cx="685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92B-21B5-4AA7-8980-792DA41C90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8077320" y="6248520"/>
            <a:ext cx="914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50A2-0346-4EEE-BE03-6316C25890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09680" y="1371600"/>
            <a:ext cx="8001000" cy="4697280"/>
          </a:xfrm>
          <a:prstGeom prst="rect">
            <a:avLst/>
          </a:prstGeom>
          <a:ln w="0">
            <a:noFill/>
          </a:ln>
        </p:spPr>
      </p:pic>
      <p:sp>
        <p:nvSpPr>
          <p:cNvPr id="93" name="Title 2"/>
          <p:cNvSpPr/>
          <p:nvPr/>
        </p:nvSpPr>
        <p:spPr>
          <a:xfrm>
            <a:off x="1417680" y="304920"/>
            <a:ext cx="685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data in SPSS direct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Right Arrow 6"/>
          <p:cNvSpPr/>
          <p:nvPr/>
        </p:nvSpPr>
        <p:spPr>
          <a:xfrm rot="10800000">
            <a:off x="2171880" y="1981080"/>
            <a:ext cx="121896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Right Arrow 10"/>
          <p:cNvSpPr/>
          <p:nvPr/>
        </p:nvSpPr>
        <p:spPr>
          <a:xfrm rot="20870400">
            <a:off x="5866920" y="584028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: Hospital-stay dat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086600" y="6400800"/>
            <a:ext cx="1905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A0B6-2085-4154-AD54-7B904BA4621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3560" y="981000"/>
            <a:ext cx="81568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3" descr="spss window.png"/>
          <p:cNvPicPr/>
          <p:nvPr/>
        </p:nvPicPr>
        <p:blipFill>
          <a:blip r:embed="rId1"/>
          <a:stretch/>
        </p:blipFill>
        <p:spPr>
          <a:xfrm>
            <a:off x="609480" y="981000"/>
            <a:ext cx="8077320" cy="518796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9"/>
          <p:cNvSpPr/>
          <p:nvPr/>
        </p:nvSpPr>
        <p:spPr>
          <a:xfrm>
            <a:off x="7772400" y="6324480"/>
            <a:ext cx="1066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8343-EE91-4A08-8F0C-F065A6ADC74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 flipH="1" flipV="1">
            <a:off x="1142640" y="1676160"/>
            <a:ext cx="83880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2" name="Oval 8"/>
          <p:cNvSpPr/>
          <p:nvPr/>
        </p:nvSpPr>
        <p:spPr>
          <a:xfrm>
            <a:off x="1828800" y="2057400"/>
            <a:ext cx="2133720" cy="99072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lumns: variab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3" name="Straight Arrow Connector 13"/>
          <p:cNvCxnSpPr/>
          <p:nvPr/>
        </p:nvCxnSpPr>
        <p:spPr>
          <a:xfrm flipH="1" flipV="1">
            <a:off x="685080" y="4037760"/>
            <a:ext cx="1143720" cy="2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4" name="Oval 14"/>
          <p:cNvSpPr/>
          <p:nvPr/>
        </p:nvSpPr>
        <p:spPr>
          <a:xfrm>
            <a:off x="1828800" y="3657600"/>
            <a:ext cx="2286000" cy="106668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ws: ca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05" name="Straight Arrow Connector 18"/>
          <p:cNvCxnSpPr/>
          <p:nvPr/>
        </p:nvCxnSpPr>
        <p:spPr>
          <a:xfrm flipH="1">
            <a:off x="777600" y="5258880"/>
            <a:ext cx="95328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06" name="Oval 20"/>
          <p:cNvSpPr/>
          <p:nvPr/>
        </p:nvSpPr>
        <p:spPr>
          <a:xfrm>
            <a:off x="1562040" y="4952880"/>
            <a:ext cx="2171880" cy="609840"/>
          </a:xfrm>
          <a:prstGeom prst="ellipse">
            <a:avLst/>
          </a:prstGeom>
          <a:solidFill>
            <a:srgbClr val="2a5682"/>
          </a:solidFill>
          <a:ln w="25560">
            <a:solidFill>
              <a:srgbClr val="1c3d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der Data View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Content Placeholder 14" descr="variable view.png"/>
          <p:cNvPicPr/>
          <p:nvPr/>
        </p:nvPicPr>
        <p:blipFill>
          <a:blip r:embed="rId1"/>
          <a:stretch/>
        </p:blipFill>
        <p:spPr>
          <a:xfrm>
            <a:off x="984240" y="1270080"/>
            <a:ext cx="6858000" cy="416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Slide Number Placeholder 12"/>
          <p:cNvSpPr/>
          <p:nvPr/>
        </p:nvSpPr>
        <p:spPr>
          <a:xfrm>
            <a:off x="8420040" y="6324480"/>
            <a:ext cx="533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211-0126-40E8-81B7-E5EA6FEB56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0" name="Straight Arrow Connector 16"/>
          <p:cNvCxnSpPr/>
          <p:nvPr/>
        </p:nvCxnSpPr>
        <p:spPr>
          <a:xfrm flipH="1">
            <a:off x="1523520" y="4811760"/>
            <a:ext cx="534240" cy="53424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1" name="Oval 17"/>
          <p:cNvSpPr/>
          <p:nvPr/>
        </p:nvSpPr>
        <p:spPr>
          <a:xfrm>
            <a:off x="1676520" y="4495680"/>
            <a:ext cx="1981080" cy="849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Click this Window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562720" y="1371600"/>
            <a:ext cx="3124080" cy="480060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Click Variable View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 variable name under Name column (AGE)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NOTE: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 Variable name can be 64 bytes long, and the first character must be a letter or one of the characters @, #, or $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Type: Numeric, string, etc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Label: description of variables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3" name="Straight Arrow Connector 20"/>
          <p:cNvCxnSpPr/>
          <p:nvPr/>
        </p:nvCxnSpPr>
        <p:spPr>
          <a:xfrm flipH="1" flipV="1">
            <a:off x="1370880" y="1758600"/>
            <a:ext cx="305640" cy="83880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4" name="Oval 22"/>
          <p:cNvSpPr/>
          <p:nvPr/>
        </p:nvSpPr>
        <p:spPr>
          <a:xfrm>
            <a:off x="457200" y="2584440"/>
            <a:ext cx="1905120" cy="7682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. Type variable nam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1819080" y="1641240"/>
            <a:ext cx="1305360" cy="1559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16" name="Oval 26"/>
          <p:cNvSpPr/>
          <p:nvPr/>
        </p:nvSpPr>
        <p:spPr>
          <a:xfrm>
            <a:off x="2057400" y="3200400"/>
            <a:ext cx="1981080" cy="838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 Type: numeric or stri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3505320" y="2590920"/>
            <a:ext cx="1904760" cy="7617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 Description of variable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18" name="Straight Arrow Connector 37"/>
          <p:cNvCxnSpPr/>
          <p:nvPr/>
        </p:nvCxnSpPr>
        <p:spPr>
          <a:xfrm flipH="1" flipV="1">
            <a:off x="2941200" y="1796760"/>
            <a:ext cx="1791360" cy="76248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variab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tent Placeholder 3" descr="variable02 view.png"/>
          <p:cNvPicPr/>
          <p:nvPr/>
        </p:nvPicPr>
        <p:blipFill>
          <a:blip r:embed="rId1"/>
          <a:stretch/>
        </p:blipFill>
        <p:spPr>
          <a:xfrm>
            <a:off x="914400" y="1295280"/>
            <a:ext cx="6858000" cy="41626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8"/>
          <p:cNvSpPr/>
          <p:nvPr/>
        </p:nvSpPr>
        <p:spPr>
          <a:xfrm>
            <a:off x="8258040" y="6335640"/>
            <a:ext cx="609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A71C-0CF5-439E-9EAF-A53F675F8C1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Picture 8" descr="values01.png"/>
          <p:cNvPicPr/>
          <p:nvPr/>
        </p:nvPicPr>
        <p:blipFill>
          <a:blip r:embed="rId2"/>
          <a:stretch/>
        </p:blipFill>
        <p:spPr>
          <a:xfrm>
            <a:off x="4114800" y="1828800"/>
            <a:ext cx="4448160" cy="309564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10"/>
          <p:cNvCxnSpPr/>
          <p:nvPr/>
        </p:nvCxnSpPr>
        <p:spPr>
          <a:xfrm>
            <a:off x="3200040" y="2130480"/>
            <a:ext cx="1067400" cy="4579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124" name="Straight Arrow Connector 14"/>
          <p:cNvCxnSpPr/>
          <p:nvPr/>
        </p:nvCxnSpPr>
        <p:spPr>
          <a:xfrm flipH="1">
            <a:off x="3200040" y="2894400"/>
            <a:ext cx="915120" cy="6865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sp>
        <p:nvSpPr>
          <p:cNvPr id="125" name="Cloud 15"/>
          <p:cNvSpPr/>
          <p:nvPr/>
        </p:nvSpPr>
        <p:spPr>
          <a:xfrm>
            <a:off x="533520" y="2438280"/>
            <a:ext cx="1904760" cy="685800"/>
          </a:xfrm>
          <a:prstGeom prst="pi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your code book!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443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er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8124840" y="6400800"/>
            <a:ext cx="91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FE22-2F2E-428D-BEE7-B5D988FF768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129" name="Straight Arrow Connector 16"/>
          <p:cNvCxnSpPr/>
          <p:nvPr/>
        </p:nvCxnSpPr>
        <p:spPr>
          <a:xfrm flipH="1" flipV="1">
            <a:off x="2590200" y="1142280"/>
            <a:ext cx="1143720" cy="1143720"/>
          </a:xfrm>
          <a:prstGeom prst="straightConnector1">
            <a:avLst/>
          </a:prstGeom>
          <a:ln w="31680">
            <a:solidFill>
              <a:srgbClr val="60c9fd"/>
            </a:solidFill>
            <a:miter/>
            <a:tailEnd len="med" type="arrow" w="med"/>
          </a:ln>
        </p:spPr>
      </p:cxn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248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38:32Z</dcterms:created>
  <dc:creator>huibian</dc:creator>
  <dc:description/>
  <dc:language>en-US</dc:language>
  <cp:lastModifiedBy>Mohammed Alahmed</cp:lastModifiedBy>
  <dcterms:modified xsi:type="dcterms:W3CDTF">2014-10-29T10:57:18Z</dcterms:modified>
  <cp:revision>240</cp:revision>
  <dc:subject/>
  <dc:title>SPSS for Beginners</dc:title>
</cp:coreProperties>
</file>