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373-E14A-4A91-B31E-AE4CE2AB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8A4-2602-4677-8CE2-E4C9DFE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BB7-CE87-420B-ABEA-464B527D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FC1-A211-4912-974F-B0C54932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C670-6648-4168-BCF3-10A23AFE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6DD-04CC-43B7-A967-FBD13323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78EC-0185-44C6-83F2-B01EC36A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50DC-1826-40E8-B675-D4F5F5F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36DC-0020-482A-82C9-F4E60D1A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083A-AD96-4F23-B854-1FEEA0F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C70C-A138-4990-BE14-106BF5E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624-E085-471A-9CB4-0ABB4018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8B64-2F36-42E3-86FE-C1268EB0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4197-349E-4E5B-96AF-24330E7D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2B48-07D8-49F9-BA9B-8FEF62F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873-B536-4B00-9565-481EBF0B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6C57-68C4-4D69-930A-767F3303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6B4-48C8-4E0F-903C-763A0DB7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5AF-B085-4865-8A44-6F155DD1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8F2-C71F-4EF9-8F97-32CB206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A3F-7542-4850-A700-F5EBECFD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292-98ED-4A2C-AE57-40AD5F6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B09-90AF-48AE-A99F-FED5DFB1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558-50DD-47CF-9458-CEB6DB9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573C-50B5-44E6-AF13-C51E6DFA2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C4E3-0B65-430C-921A-74697691DDF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139C-3912-434A-B132-8BD2E810D68D}" type="datetime"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FB2-6D1A-476F-AA70-9974387890FF}" type="slidenum"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ahmed@ksu.edu.sa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4475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roduction to the SPSS Interfac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Dr. Mohammed Alahm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Ph.D. in Biostat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99ff"/>
                </a:solidFill>
                <a:uFillTx/>
                <a:latin typeface="Segoe UI"/>
                <a:ea typeface="Segoe UI"/>
                <a:hlinkClick r:id="rId1"/>
              </a:rPr>
              <a:t>alahmed@ksu.edu.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(011) 467410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238880" y="6248520"/>
            <a:ext cx="1676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547-115E-449C-A520-7F143D42AE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6859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 data from Exc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File            Open           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il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file you want to im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click Op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8317080" y="64342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650B-95C2-40F0-ABF3-2A5A8B0B0F4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34" name="Straight Arrow Connector 25"/>
          <p:cNvCxnSpPr/>
          <p:nvPr/>
        </p:nvCxnSpPr>
        <p:spPr>
          <a:xfrm>
            <a:off x="2362320" y="1557360"/>
            <a:ext cx="762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5" name="Straight Arrow Connector 28"/>
          <p:cNvCxnSpPr/>
          <p:nvPr/>
        </p:nvCxnSpPr>
        <p:spPr>
          <a:xfrm>
            <a:off x="4343040" y="1558440"/>
            <a:ext cx="7628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6" name="Straight Arrow Connector 30"/>
          <p:cNvCxnSpPr/>
          <p:nvPr/>
        </p:nvCxnSpPr>
        <p:spPr>
          <a:xfrm flipV="1">
            <a:off x="3429000" y="5562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" name="Straight Arrow Connector 8"/>
          <p:cNvCxnSpPr/>
          <p:nvPr/>
        </p:nvCxnSpPr>
        <p:spPr>
          <a:xfrm flipV="1">
            <a:off x="1143000" y="4419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267080" cy="350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876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en Excel files in SPS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ADC6-18F0-40A9-A2A1-825708A468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42" name="Straight Arrow Connector 13"/>
          <p:cNvCxnSpPr/>
          <p:nvPr/>
        </p:nvCxnSpPr>
        <p:spPr>
          <a:xfrm flipV="1">
            <a:off x="2272320" y="5295240"/>
            <a:ext cx="53388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172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inu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101-8D83-4818-8599-ACDB8FBF1B6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558720" y="1066680"/>
            <a:ext cx="812484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Explosion 2 7"/>
          <p:cNvSpPr/>
          <p:nvPr/>
        </p:nvSpPr>
        <p:spPr>
          <a:xfrm>
            <a:off x="5029200" y="2590920"/>
            <a:ext cx="3657600" cy="2895480"/>
          </a:xfrm>
          <a:prstGeom prst="irregularSeal2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ve this file as SPSS dat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24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ean data after import data fi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264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ses summ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litative variables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p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ntitative variab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outputs to see if you have variables with wrong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missing values and physical surveys if you use paper surveys, and make sure they are real miss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, you need to recode string variables into numeric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229520" y="6324480"/>
            <a:ext cx="1762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0A8-DD88-438D-AC9F-1C22F176358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s summar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34320" y="632448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E649-B958-4B6F-B357-8444EBBCFF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5344" t="17366" r="38058" b="24890"/>
          <a:stretch/>
        </p:blipFill>
        <p:spPr>
          <a:xfrm>
            <a:off x="457200" y="1295280"/>
            <a:ext cx="828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E4F-3041-46C6-B204-847EEC73042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7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8ED8-C653-452A-A6C3-E2992A9C58E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ic Statistical Analysi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ptive statistic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nd wrong entr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ave basic knowledge about the sample and targeted variables in a stud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mmarize dat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FC1-98DE-42D7-93C1-0A27AFB405A8}" type="slidenum">
              <a:rPr b="1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8"/>
          <p:cNvSpPr/>
          <p:nvPr/>
        </p:nvSpPr>
        <p:spPr>
          <a:xfrm>
            <a:off x="7086600" y="63388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6E0E-0CCF-4183-8E69-B537387DB0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660680" y="4800600"/>
            <a:ext cx="487080" cy="498600"/>
          </a:xfrm>
          <a:custGeom>
            <a:avLst/>
            <a:gdLst/>
            <a:ahLst/>
            <a:rect l="l" t="t" r="r" b="b"/>
            <a:pathLst>
              <a:path w="487036" h="496159">
                <a:moveTo>
                  <a:pt x="248575" y="8878"/>
                </a:moveTo>
                <a:lnTo>
                  <a:pt x="248575" y="8878"/>
                </a:lnTo>
                <a:cubicBezTo>
                  <a:pt x="183472" y="11837"/>
                  <a:pt x="118229" y="12559"/>
                  <a:pt x="53266" y="17756"/>
                </a:cubicBezTo>
                <a:cubicBezTo>
                  <a:pt x="43938" y="18502"/>
                  <a:pt x="32072" y="19018"/>
                  <a:pt x="26633" y="26633"/>
                </a:cubicBezTo>
                <a:cubicBezTo>
                  <a:pt x="15755" y="41863"/>
                  <a:pt x="13802" y="61843"/>
                  <a:pt x="8878" y="79899"/>
                </a:cubicBezTo>
                <a:cubicBezTo>
                  <a:pt x="4908" y="94457"/>
                  <a:pt x="2959" y="109492"/>
                  <a:pt x="0" y="124288"/>
                </a:cubicBezTo>
                <a:cubicBezTo>
                  <a:pt x="2959" y="162758"/>
                  <a:pt x="508" y="202033"/>
                  <a:pt x="8878" y="239698"/>
                </a:cubicBezTo>
                <a:cubicBezTo>
                  <a:pt x="12621" y="256542"/>
                  <a:pt x="30055" y="267716"/>
                  <a:pt x="35511" y="284086"/>
                </a:cubicBezTo>
                <a:cubicBezTo>
                  <a:pt x="45054" y="312716"/>
                  <a:pt x="29123" y="354756"/>
                  <a:pt x="53266" y="372863"/>
                </a:cubicBezTo>
                <a:cubicBezTo>
                  <a:pt x="106807" y="413018"/>
                  <a:pt x="75177" y="393668"/>
                  <a:pt x="150921" y="426129"/>
                </a:cubicBezTo>
                <a:cubicBezTo>
                  <a:pt x="421568" y="409213"/>
                  <a:pt x="404697" y="496159"/>
                  <a:pt x="452761" y="363985"/>
                </a:cubicBezTo>
                <a:cubicBezTo>
                  <a:pt x="459157" y="346396"/>
                  <a:pt x="464598" y="328474"/>
                  <a:pt x="470517" y="310719"/>
                </a:cubicBezTo>
                <a:cubicBezTo>
                  <a:pt x="480742" y="249366"/>
                  <a:pt x="487036" y="240257"/>
                  <a:pt x="470517" y="168676"/>
                </a:cubicBezTo>
                <a:cubicBezTo>
                  <a:pt x="468118" y="158279"/>
                  <a:pt x="460306" y="149588"/>
                  <a:pt x="452761" y="142043"/>
                </a:cubicBezTo>
                <a:cubicBezTo>
                  <a:pt x="445216" y="134499"/>
                  <a:pt x="435006" y="130206"/>
                  <a:pt x="426128" y="124288"/>
                </a:cubicBezTo>
                <a:cubicBezTo>
                  <a:pt x="379406" y="61992"/>
                  <a:pt x="409960" y="99243"/>
                  <a:pt x="328474" y="17756"/>
                </a:cubicBezTo>
                <a:cubicBezTo>
                  <a:pt x="322556" y="11837"/>
                  <a:pt x="319089" y="0"/>
                  <a:pt x="310719" y="0"/>
                </a:cubicBezTo>
                <a:lnTo>
                  <a:pt x="248575" y="8878"/>
                </a:lnTo>
                <a:close/>
              </a:path>
            </a:pathLst>
          </a:custGeom>
          <a:noFill/>
          <a:ln w="25560">
            <a:solidFill>
              <a:srgbClr val="49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64" name="Straight Arrow Connector 9"/>
          <p:cNvCxnSpPr/>
          <p:nvPr/>
        </p:nvCxnSpPr>
        <p:spPr>
          <a:xfrm flipV="1">
            <a:off x="914400" y="403776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Straight Arrow Connector 13"/>
          <p:cNvCxnSpPr/>
          <p:nvPr/>
        </p:nvCxnSpPr>
        <p:spPr>
          <a:xfrm flipV="1">
            <a:off x="762120" y="411408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8520" cy="4343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533520" y="1206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Frequenc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Right Arrow 10"/>
          <p:cNvSpPr/>
          <p:nvPr/>
        </p:nvSpPr>
        <p:spPr>
          <a:xfrm>
            <a:off x="1903320" y="135396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Right Arrow 10"/>
          <p:cNvSpPr/>
          <p:nvPr/>
        </p:nvSpPr>
        <p:spPr>
          <a:xfrm>
            <a:off x="6095880" y="137484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7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D3D-8B8C-46C9-8FCF-D7148681BA1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1"/>
          <a:stretch/>
        </p:blipFill>
        <p:spPr>
          <a:xfrm>
            <a:off x="782640" y="1066680"/>
            <a:ext cx="7142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859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SS interfa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ta view and Variable 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nter data in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import external data into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lean and edi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get descriptive statis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229600" y="6324480"/>
            <a:ext cx="762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7B96-0786-4C40-BC6E-B109886D6F0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15120" y="63342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8E1-E235-4D7B-8D7B-4C44331ADD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1680" y="609480"/>
            <a:ext cx="4721040" cy="13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5027760" cy="148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073240" y="3581280"/>
            <a:ext cx="5151600" cy="152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3402000" y="5181480"/>
            <a:ext cx="48927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6070680" y="533520"/>
            <a:ext cx="2759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6104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BDF8-ABFF-413E-AA67-0D10A76ED7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2255760"/>
            <a:ext cx="8534160" cy="2849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304920" y="1143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 Descriptiv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Right Arrow 10"/>
          <p:cNvSpPr/>
          <p:nvPr/>
        </p:nvSpPr>
        <p:spPr>
          <a:xfrm>
            <a:off x="586728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Right Arrow 10"/>
          <p:cNvSpPr/>
          <p:nvPr/>
        </p:nvSpPr>
        <p:spPr>
          <a:xfrm>
            <a:off x="167652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1848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9CEC-8E68-48C5-B714-1883AA071A9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13236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253200" y="68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4038480" y="239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162920" y="642780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271-4CC9-4387-A157-408631381C7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91120" cy="4983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248280" cy="49831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2895480" y="61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of St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6253200" y="82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SS interfa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s: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ws: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305920" y="6324480"/>
            <a:ext cx="685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DEE1-2C45-4629-8384-C400FA87380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077320" y="6248520"/>
            <a:ext cx="914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AFA7-2776-436B-BB57-43BAB73736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09680" y="1371600"/>
            <a:ext cx="8001000" cy="4697280"/>
          </a:xfrm>
          <a:prstGeom prst="rect">
            <a:avLst/>
          </a:prstGeom>
          <a:ln w="0">
            <a:noFill/>
          </a:ln>
        </p:spPr>
      </p:pic>
      <p:sp>
        <p:nvSpPr>
          <p:cNvPr id="93" name="Title 2"/>
          <p:cNvSpPr/>
          <p:nvPr/>
        </p:nvSpPr>
        <p:spPr>
          <a:xfrm>
            <a:off x="1417680" y="304920"/>
            <a:ext cx="685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data in SPSS direct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Right Arrow 6"/>
          <p:cNvSpPr/>
          <p:nvPr/>
        </p:nvSpPr>
        <p:spPr>
          <a:xfrm rot="10800000">
            <a:off x="2171880" y="1981080"/>
            <a:ext cx="121896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Right Arrow 10"/>
          <p:cNvSpPr/>
          <p:nvPr/>
        </p:nvSpPr>
        <p:spPr>
          <a:xfrm rot="20870400">
            <a:off x="5866920" y="584028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: Hospital-stay dat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4E23-B960-41E1-B7D7-28AA2FFF87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3560" y="981000"/>
            <a:ext cx="81568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3" descr="spss window.png"/>
          <p:cNvPicPr/>
          <p:nvPr/>
        </p:nvPicPr>
        <p:blipFill>
          <a:blip r:embed="rId1"/>
          <a:stretch/>
        </p:blipFill>
        <p:spPr>
          <a:xfrm>
            <a:off x="609480" y="981000"/>
            <a:ext cx="8077320" cy="51879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9"/>
          <p:cNvSpPr/>
          <p:nvPr/>
        </p:nvSpPr>
        <p:spPr>
          <a:xfrm>
            <a:off x="7772400" y="6324480"/>
            <a:ext cx="1066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15D-8C40-496A-A8CC-A3820C73D45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1" name="Straight Arrow Connector 7"/>
          <p:cNvCxnSpPr/>
          <p:nvPr/>
        </p:nvCxnSpPr>
        <p:spPr>
          <a:xfrm flipH="1" flipV="1">
            <a:off x="1142640" y="1676160"/>
            <a:ext cx="83880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2" name="Oval 8"/>
          <p:cNvSpPr/>
          <p:nvPr/>
        </p:nvSpPr>
        <p:spPr>
          <a:xfrm>
            <a:off x="1828800" y="2057400"/>
            <a:ext cx="2133720" cy="99072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lumns: variab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3" name="Straight Arrow Connector 13"/>
          <p:cNvCxnSpPr/>
          <p:nvPr/>
        </p:nvCxnSpPr>
        <p:spPr>
          <a:xfrm flipH="1" flipV="1">
            <a:off x="685080" y="4037760"/>
            <a:ext cx="1143720" cy="2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4" name="Oval 14"/>
          <p:cNvSpPr/>
          <p:nvPr/>
        </p:nvSpPr>
        <p:spPr>
          <a:xfrm>
            <a:off x="1828800" y="3657600"/>
            <a:ext cx="2286000" cy="106668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ws: cas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5" name="Straight Arrow Connector 18"/>
          <p:cNvCxnSpPr/>
          <p:nvPr/>
        </p:nvCxnSpPr>
        <p:spPr>
          <a:xfrm flipH="1">
            <a:off x="777600" y="5258880"/>
            <a:ext cx="95328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6" name="Oval 20"/>
          <p:cNvSpPr/>
          <p:nvPr/>
        </p:nvSpPr>
        <p:spPr>
          <a:xfrm>
            <a:off x="1562040" y="4952880"/>
            <a:ext cx="2171880" cy="60984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der Data View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Content Placeholder 14" descr="variable view.png"/>
          <p:cNvPicPr/>
          <p:nvPr/>
        </p:nvPicPr>
        <p:blipFill>
          <a:blip r:embed="rId1"/>
          <a:stretch/>
        </p:blipFill>
        <p:spPr>
          <a:xfrm>
            <a:off x="984240" y="1270080"/>
            <a:ext cx="6858000" cy="416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Slide Number Placeholder 12"/>
          <p:cNvSpPr/>
          <p:nvPr/>
        </p:nvSpPr>
        <p:spPr>
          <a:xfrm>
            <a:off x="8420040" y="6324480"/>
            <a:ext cx="533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0FD-8961-41A1-833F-EF3E935413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0" name="Straight Arrow Connector 16"/>
          <p:cNvCxnSpPr/>
          <p:nvPr/>
        </p:nvCxnSpPr>
        <p:spPr>
          <a:xfrm flipH="1">
            <a:off x="1523520" y="4811760"/>
            <a:ext cx="534240" cy="53424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1" name="Oval 17"/>
          <p:cNvSpPr/>
          <p:nvPr/>
        </p:nvSpPr>
        <p:spPr>
          <a:xfrm>
            <a:off x="1676520" y="4495680"/>
            <a:ext cx="1981080" cy="849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 Click this Window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562720" y="1371600"/>
            <a:ext cx="3124080" cy="480060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Click Variable View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 variable name under Name column (AGE)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NOTE: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 Variable name can be 64 bytes long, and the first character must be a letter or one of the characters @, #, or $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: Numeric, string, etc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Label: description of variables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3" name="Straight Arrow Connector 20"/>
          <p:cNvCxnSpPr/>
          <p:nvPr/>
        </p:nvCxnSpPr>
        <p:spPr>
          <a:xfrm flipH="1" flipV="1">
            <a:off x="1370880" y="1758600"/>
            <a:ext cx="305640" cy="83880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4" name="Oval 22"/>
          <p:cNvSpPr/>
          <p:nvPr/>
        </p:nvSpPr>
        <p:spPr>
          <a:xfrm>
            <a:off x="457200" y="2584440"/>
            <a:ext cx="1905120" cy="7682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. Type variable nam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5" name="Straight Arrow Connector 24"/>
          <p:cNvCxnSpPr/>
          <p:nvPr/>
        </p:nvCxnSpPr>
        <p:spPr>
          <a:xfrm flipH="1" flipV="1">
            <a:off x="1819080" y="1641240"/>
            <a:ext cx="1305360" cy="1559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6" name="Oval 26"/>
          <p:cNvSpPr/>
          <p:nvPr/>
        </p:nvSpPr>
        <p:spPr>
          <a:xfrm>
            <a:off x="2057400" y="3200400"/>
            <a:ext cx="1981080" cy="838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 Type: numeric or string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3505320" y="2590920"/>
            <a:ext cx="1904760" cy="7617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 Description of variabl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8" name="Straight Arrow Connector 37"/>
          <p:cNvCxnSpPr/>
          <p:nvPr/>
        </p:nvCxnSpPr>
        <p:spPr>
          <a:xfrm flipH="1" flipV="1">
            <a:off x="2941200" y="1796760"/>
            <a:ext cx="179136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tent Placeholder 3" descr="variable02 view.png"/>
          <p:cNvPicPr/>
          <p:nvPr/>
        </p:nvPicPr>
        <p:blipFill>
          <a:blip r:embed="rId1"/>
          <a:stretch/>
        </p:blipFill>
        <p:spPr>
          <a:xfrm>
            <a:off x="914400" y="1295280"/>
            <a:ext cx="6858000" cy="41626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8"/>
          <p:cNvSpPr/>
          <p:nvPr/>
        </p:nvSpPr>
        <p:spPr>
          <a:xfrm>
            <a:off x="8258040" y="6335640"/>
            <a:ext cx="609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8BED-5221-4D9B-AB99-A7BFC6D6D50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Picture 8" descr="values01.png"/>
          <p:cNvPicPr/>
          <p:nvPr/>
        </p:nvPicPr>
        <p:blipFill>
          <a:blip r:embed="rId2"/>
          <a:stretch/>
        </p:blipFill>
        <p:spPr>
          <a:xfrm>
            <a:off x="4114800" y="1828800"/>
            <a:ext cx="4448160" cy="309564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10"/>
          <p:cNvCxnSpPr/>
          <p:nvPr/>
        </p:nvCxnSpPr>
        <p:spPr>
          <a:xfrm>
            <a:off x="3200040" y="2130480"/>
            <a:ext cx="1067400" cy="4579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124" name="Straight Arrow Connector 14"/>
          <p:cNvCxnSpPr/>
          <p:nvPr/>
        </p:nvCxnSpPr>
        <p:spPr>
          <a:xfrm flipH="1">
            <a:off x="3200040" y="2894400"/>
            <a:ext cx="91512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25" name="Cloud 15"/>
          <p:cNvSpPr/>
          <p:nvPr/>
        </p:nvSpPr>
        <p:spPr>
          <a:xfrm>
            <a:off x="533520" y="2438280"/>
            <a:ext cx="1904760" cy="685800"/>
          </a:xfrm>
          <a:prstGeom prst="pi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sed on your code book!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4438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ca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8124840" y="6400800"/>
            <a:ext cx="91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157-BA5A-42A6-B5E8-E7F0AD7F15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29" name="Straight Arrow Connector 16"/>
          <p:cNvCxnSpPr/>
          <p:nvPr/>
        </p:nvCxnSpPr>
        <p:spPr>
          <a:xfrm flipH="1" flipV="1">
            <a:off x="2590200" y="1142280"/>
            <a:ext cx="1143720" cy="11437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4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38:32Z</dcterms:created>
  <dc:creator>huibian</dc:creator>
  <dc:description/>
  <dc:language>en-US</dc:language>
  <cp:lastModifiedBy>Mohammed Alahmed</cp:lastModifiedBy>
  <dcterms:modified xsi:type="dcterms:W3CDTF">2014-10-29T10:57:18Z</dcterms:modified>
  <cp:revision>240</cp:revision>
  <dc:subject/>
  <dc:title>SPSS for Beginners</dc:title>
</cp:coreProperties>
</file>