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8D9-7428-4A63-9BC9-165F1DD6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576-374B-4743-ADEB-5A1E558F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8F0-A8D8-4CFC-9F32-3B3A97D6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FD7-26A0-407B-B938-C43F1671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907-7BF8-4A66-983A-27352B66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53B-EF81-4339-8D47-E5F89BB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755-3265-4CB1-AECB-78D1817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53C8-1CA8-4B3D-B1D3-FB22DCBC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D8BC-C33C-4A9F-8374-7CC62ACA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3A79-D058-42C7-B383-AD8BD17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CAD9-97D0-423C-A5C9-FE45F7A7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640-9C8D-420B-8F16-CB6EF85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A89-EA0B-4CC1-B36D-584A0209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1D6-9BDA-490F-9535-AE71C1C4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EF11-BAEB-4B75-9577-59BF518F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762-8E83-4026-9B3B-D56E0292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6942-2F41-47C5-9861-BE647307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207-0024-4AAD-86F2-891DC02F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1EF-C717-49EE-8E2D-554F3B2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5C6-B504-48B1-97A6-4359238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850-FF19-4EBF-93A4-3037BEE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331-C772-4493-B254-2D409517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DC7-B596-4149-90BF-504523C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1FF-A0B0-47A9-B851-9416C3C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20B6-68D3-4AFE-AE9B-0D16517D6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ADF3-7E24-4316-86DA-706E45B53F5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0AC9-50B5-4BF0-83DF-2422D21A817D}" type="datetime"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D77A-3924-4925-94D3-29816D730E99}" type="slidenum"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ahmed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roduction to the SPSS Interfac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Dr. Mohammed Alahm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Ph.D. in Biostat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99ff"/>
                </a:solidFill>
                <a:uFillTx/>
                <a:latin typeface="Segoe UI"/>
                <a:ea typeface="Segoe UI"/>
                <a:hlinkClick r:id="rId1"/>
              </a:rPr>
              <a:t>alahmed@ksu.edu.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(011) 467410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238880" y="624852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75A-C5DE-4826-9E62-2EBD174ADE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6859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 data from Exc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File            Open           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il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file you want to im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click Op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8317080" y="64342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FA8-A2B8-4546-A23B-3D694A33C92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34" name="Straight Arrow Connector 25"/>
          <p:cNvCxnSpPr/>
          <p:nvPr/>
        </p:nvCxnSpPr>
        <p:spPr>
          <a:xfrm>
            <a:off x="2362320" y="1557360"/>
            <a:ext cx="762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5" name="Straight Arrow Connector 28"/>
          <p:cNvCxnSpPr/>
          <p:nvPr/>
        </p:nvCxnSpPr>
        <p:spPr>
          <a:xfrm>
            <a:off x="4343040" y="1558440"/>
            <a:ext cx="7628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6" name="Straight Arrow Connector 30"/>
          <p:cNvCxnSpPr/>
          <p:nvPr/>
        </p:nvCxnSpPr>
        <p:spPr>
          <a:xfrm flipV="1">
            <a:off x="3429000" y="5562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Straight Arrow Connector 8"/>
          <p:cNvCxnSpPr/>
          <p:nvPr/>
        </p:nvCxnSpPr>
        <p:spPr>
          <a:xfrm flipV="1">
            <a:off x="1143000" y="4419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67080" cy="350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76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en Excel files in SP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426D-06F7-4AE7-959C-DAABF534EA3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42" name="Straight Arrow Connector 13"/>
          <p:cNvCxnSpPr/>
          <p:nvPr/>
        </p:nvCxnSpPr>
        <p:spPr>
          <a:xfrm flipV="1">
            <a:off x="2272320" y="5295240"/>
            <a:ext cx="53388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i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65F-98C2-4FF2-ACC9-06AAFD21D33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558720" y="1066680"/>
            <a:ext cx="812484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Explosion 2 7"/>
          <p:cNvSpPr/>
          <p:nvPr/>
        </p:nvSpPr>
        <p:spPr>
          <a:xfrm>
            <a:off x="5029200" y="2590920"/>
            <a:ext cx="3657600" cy="2895480"/>
          </a:xfrm>
          <a:prstGeom prst="irregularSeal2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ve this file as SPSS dat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24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ean data after import data fi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264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es summ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litative variables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p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ntitative variab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outputs to see if you have variables with wrong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missing values and physical surveys if you use paper surveys, and make sure they are real miss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, you need to recode string variables into numer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229520" y="6324480"/>
            <a:ext cx="1762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DE7-D252-4E7F-8503-08D042D2DE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s summa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34320" y="632448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2D5-A92A-4C2C-905C-F20339B8184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5344" t="17366" r="38058" b="24890"/>
          <a:stretch/>
        </p:blipFill>
        <p:spPr>
          <a:xfrm>
            <a:off x="457200" y="1295280"/>
            <a:ext cx="828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06D-D9AE-4408-99B9-81FEA39F33A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7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429-DE75-42F8-97D6-9C87C6CEE3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 Statistical Analysi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ptive statistic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nd wrong entr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ave basic knowledge about the sample and targeted variables in a stud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mmarize dat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7E5-1A6E-43A4-9219-C92C22CD4B9B}" type="slidenum">
              <a:rPr b="1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7086600" y="63388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3DB-5B40-4685-8568-C491AD8719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660680" y="4800600"/>
            <a:ext cx="487080" cy="498600"/>
          </a:xfrm>
          <a:custGeom>
            <a:avLst/>
            <a:gdLst/>
            <a:ahLst/>
            <a:rect l="l" t="t" r="r" b="b"/>
            <a:pathLst>
              <a:path w="487036" h="496159">
                <a:moveTo>
                  <a:pt x="248575" y="8878"/>
                </a:moveTo>
                <a:lnTo>
                  <a:pt x="248575" y="8878"/>
                </a:lnTo>
                <a:cubicBezTo>
                  <a:pt x="183472" y="11837"/>
                  <a:pt x="118229" y="12559"/>
                  <a:pt x="53266" y="17756"/>
                </a:cubicBezTo>
                <a:cubicBezTo>
                  <a:pt x="43938" y="18502"/>
                  <a:pt x="32072" y="19018"/>
                  <a:pt x="26633" y="26633"/>
                </a:cubicBezTo>
                <a:cubicBezTo>
                  <a:pt x="15755" y="41863"/>
                  <a:pt x="13802" y="61843"/>
                  <a:pt x="8878" y="79899"/>
                </a:cubicBezTo>
                <a:cubicBezTo>
                  <a:pt x="4908" y="94457"/>
                  <a:pt x="2959" y="109492"/>
                  <a:pt x="0" y="124288"/>
                </a:cubicBezTo>
                <a:cubicBezTo>
                  <a:pt x="2959" y="162758"/>
                  <a:pt x="508" y="202033"/>
                  <a:pt x="8878" y="239698"/>
                </a:cubicBezTo>
                <a:cubicBezTo>
                  <a:pt x="12621" y="256542"/>
                  <a:pt x="30055" y="267716"/>
                  <a:pt x="35511" y="284086"/>
                </a:cubicBezTo>
                <a:cubicBezTo>
                  <a:pt x="45054" y="312716"/>
                  <a:pt x="29123" y="354756"/>
                  <a:pt x="53266" y="372863"/>
                </a:cubicBezTo>
                <a:cubicBezTo>
                  <a:pt x="106807" y="413018"/>
                  <a:pt x="75177" y="393668"/>
                  <a:pt x="150921" y="426129"/>
                </a:cubicBezTo>
                <a:cubicBezTo>
                  <a:pt x="421568" y="409213"/>
                  <a:pt x="404697" y="496159"/>
                  <a:pt x="452761" y="363985"/>
                </a:cubicBezTo>
                <a:cubicBezTo>
                  <a:pt x="459157" y="346396"/>
                  <a:pt x="464598" y="328474"/>
                  <a:pt x="470517" y="310719"/>
                </a:cubicBezTo>
                <a:cubicBezTo>
                  <a:pt x="480742" y="249366"/>
                  <a:pt x="487036" y="240257"/>
                  <a:pt x="470517" y="168676"/>
                </a:cubicBezTo>
                <a:cubicBezTo>
                  <a:pt x="468118" y="158279"/>
                  <a:pt x="460306" y="149588"/>
                  <a:pt x="452761" y="142043"/>
                </a:cubicBezTo>
                <a:cubicBezTo>
                  <a:pt x="445216" y="134499"/>
                  <a:pt x="435006" y="130206"/>
                  <a:pt x="426128" y="124288"/>
                </a:cubicBezTo>
                <a:cubicBezTo>
                  <a:pt x="379406" y="61992"/>
                  <a:pt x="409960" y="99243"/>
                  <a:pt x="328474" y="17756"/>
                </a:cubicBezTo>
                <a:cubicBezTo>
                  <a:pt x="322556" y="11837"/>
                  <a:pt x="319089" y="0"/>
                  <a:pt x="310719" y="0"/>
                </a:cubicBezTo>
                <a:lnTo>
                  <a:pt x="248575" y="8878"/>
                </a:lnTo>
                <a:close/>
              </a:path>
            </a:pathLst>
          </a:custGeom>
          <a:noFill/>
          <a:ln w="25560">
            <a:solidFill>
              <a:srgbClr val="49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64" name="Straight Arrow Connector 9"/>
          <p:cNvCxnSpPr/>
          <p:nvPr/>
        </p:nvCxnSpPr>
        <p:spPr>
          <a:xfrm flipV="1">
            <a:off x="914400" y="403776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Straight Arrow Connector 13"/>
          <p:cNvCxnSpPr/>
          <p:nvPr/>
        </p:nvCxnSpPr>
        <p:spPr>
          <a:xfrm flipV="1">
            <a:off x="762120" y="411408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852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533520" y="1206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Frequenc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Right Arrow 10"/>
          <p:cNvSpPr/>
          <p:nvPr/>
        </p:nvSpPr>
        <p:spPr>
          <a:xfrm>
            <a:off x="1903320" y="135396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Right Arrow 10"/>
          <p:cNvSpPr/>
          <p:nvPr/>
        </p:nvSpPr>
        <p:spPr>
          <a:xfrm>
            <a:off x="6095880" y="137484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7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5935-9C2C-4ADB-BD2D-8E55C56D3DF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1"/>
          <a:stretch/>
        </p:blipFill>
        <p:spPr>
          <a:xfrm>
            <a:off x="782640" y="1066680"/>
            <a:ext cx="7142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85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SS interfa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ta view and Variable 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nter data in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import external data into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lean and edi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get descriptive statis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229600" y="6324480"/>
            <a:ext cx="762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9F3D-3DD2-4B57-9680-BA1FF3C3DDD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15120" y="63342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1C1D-FD29-46FF-AB4C-99C70DA9CFF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1680" y="609480"/>
            <a:ext cx="472104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5027760" cy="148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073240" y="3581280"/>
            <a:ext cx="5151600" cy="152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3402000" y="5181480"/>
            <a:ext cx="48927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6070680" y="533520"/>
            <a:ext cx="275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6104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6F7-A949-4061-A83D-349489F6F5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2255760"/>
            <a:ext cx="8534160" cy="284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304920" y="1143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 Descriptiv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Right Arrow 10"/>
          <p:cNvSpPr/>
          <p:nvPr/>
        </p:nvSpPr>
        <p:spPr>
          <a:xfrm>
            <a:off x="586728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Right Arrow 10"/>
          <p:cNvSpPr/>
          <p:nvPr/>
        </p:nvSpPr>
        <p:spPr>
          <a:xfrm>
            <a:off x="167652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848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7BC-A65C-4593-815A-97AFA69994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13236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253200" y="68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4038480" y="239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162920" y="642780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1C7-0A85-4C2E-98D3-7A359D92766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91120" cy="498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248280" cy="498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895480" y="61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St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253200" y="82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SS interfa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: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s: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05920" y="6324480"/>
            <a:ext cx="685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B1FB-7857-4CF8-8FDE-F1993B3CED7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77320" y="6248520"/>
            <a:ext cx="914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B1B3-4626-4979-82DF-0ED3583619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09680" y="1371600"/>
            <a:ext cx="8001000" cy="4697280"/>
          </a:xfrm>
          <a:prstGeom prst="rect">
            <a:avLst/>
          </a:prstGeom>
          <a:ln w="0">
            <a:noFill/>
          </a:ln>
        </p:spPr>
      </p:pic>
      <p:sp>
        <p:nvSpPr>
          <p:cNvPr id="93" name="Title 2"/>
          <p:cNvSpPr/>
          <p:nvPr/>
        </p:nvSpPr>
        <p:spPr>
          <a:xfrm>
            <a:off x="1417680" y="304920"/>
            <a:ext cx="685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data in SPSS direct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ight Arrow 6"/>
          <p:cNvSpPr/>
          <p:nvPr/>
        </p:nvSpPr>
        <p:spPr>
          <a:xfrm rot="10800000">
            <a:off x="2171880" y="1981080"/>
            <a:ext cx="121896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Right Arrow 10"/>
          <p:cNvSpPr/>
          <p:nvPr/>
        </p:nvSpPr>
        <p:spPr>
          <a:xfrm rot="20870400">
            <a:off x="5866920" y="584028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: Hospital-stay 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EFF2-F4C5-42F1-9A74-A19152ECF1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3560" y="981000"/>
            <a:ext cx="81568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3" descr="spss window.png"/>
          <p:cNvPicPr/>
          <p:nvPr/>
        </p:nvPicPr>
        <p:blipFill>
          <a:blip r:embed="rId1"/>
          <a:stretch/>
        </p:blipFill>
        <p:spPr>
          <a:xfrm>
            <a:off x="609480" y="981000"/>
            <a:ext cx="8077320" cy="51879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9"/>
          <p:cNvSpPr/>
          <p:nvPr/>
        </p:nvSpPr>
        <p:spPr>
          <a:xfrm>
            <a:off x="7772400" y="6324480"/>
            <a:ext cx="1066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F0F2-34BD-4766-BACB-84267CA586B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 flipH="1" flipV="1">
            <a:off x="1142640" y="1676160"/>
            <a:ext cx="83880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2" name="Oval 8"/>
          <p:cNvSpPr/>
          <p:nvPr/>
        </p:nvSpPr>
        <p:spPr>
          <a:xfrm>
            <a:off x="1828800" y="2057400"/>
            <a:ext cx="2133720" cy="99072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lumns: variab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3" name="Straight Arrow Connector 13"/>
          <p:cNvCxnSpPr/>
          <p:nvPr/>
        </p:nvCxnSpPr>
        <p:spPr>
          <a:xfrm flipH="1" flipV="1">
            <a:off x="685080" y="4037760"/>
            <a:ext cx="1143720" cy="2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4" name="Oval 14"/>
          <p:cNvSpPr/>
          <p:nvPr/>
        </p:nvSpPr>
        <p:spPr>
          <a:xfrm>
            <a:off x="1828800" y="3657600"/>
            <a:ext cx="2286000" cy="106668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ws: ca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5" name="Straight Arrow Connector 18"/>
          <p:cNvCxnSpPr/>
          <p:nvPr/>
        </p:nvCxnSpPr>
        <p:spPr>
          <a:xfrm flipH="1">
            <a:off x="777600" y="5258880"/>
            <a:ext cx="95328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6" name="Oval 20"/>
          <p:cNvSpPr/>
          <p:nvPr/>
        </p:nvSpPr>
        <p:spPr>
          <a:xfrm>
            <a:off x="1562040" y="4952880"/>
            <a:ext cx="2171880" cy="60984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der Data View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Content Placeholder 14" descr="variable view.png"/>
          <p:cNvPicPr/>
          <p:nvPr/>
        </p:nvPicPr>
        <p:blipFill>
          <a:blip r:embed="rId1"/>
          <a:stretch/>
        </p:blipFill>
        <p:spPr>
          <a:xfrm>
            <a:off x="984240" y="1270080"/>
            <a:ext cx="6858000" cy="416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Slide Number Placeholder 12"/>
          <p:cNvSpPr/>
          <p:nvPr/>
        </p:nvSpPr>
        <p:spPr>
          <a:xfrm>
            <a:off x="8420040" y="6324480"/>
            <a:ext cx="533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EDD7-2DF7-42E0-A903-02961E6EC8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0" name="Straight Arrow Connector 16"/>
          <p:cNvCxnSpPr/>
          <p:nvPr/>
        </p:nvCxnSpPr>
        <p:spPr>
          <a:xfrm flipH="1">
            <a:off x="1523520" y="4811760"/>
            <a:ext cx="534240" cy="53424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1" name="Oval 17"/>
          <p:cNvSpPr/>
          <p:nvPr/>
        </p:nvSpPr>
        <p:spPr>
          <a:xfrm>
            <a:off x="1676520" y="4495680"/>
            <a:ext cx="1981080" cy="849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Click this Window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562720" y="1371600"/>
            <a:ext cx="3124080" cy="480060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Click Variable Vie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 variable name under Name column (AGE)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NOTE: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 Variable name can be 64 bytes long, and the first character must be a letter or one of the characters @, #, or $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: Numeric, string, etc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Label: description of variables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3" name="Straight Arrow Connector 20"/>
          <p:cNvCxnSpPr/>
          <p:nvPr/>
        </p:nvCxnSpPr>
        <p:spPr>
          <a:xfrm flipH="1" flipV="1">
            <a:off x="1370880" y="1758600"/>
            <a:ext cx="305640" cy="83880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4" name="Oval 22"/>
          <p:cNvSpPr/>
          <p:nvPr/>
        </p:nvSpPr>
        <p:spPr>
          <a:xfrm>
            <a:off x="457200" y="2584440"/>
            <a:ext cx="1905120" cy="7682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. Type variable nam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1819080" y="1641240"/>
            <a:ext cx="1305360" cy="1559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6" name="Oval 26"/>
          <p:cNvSpPr/>
          <p:nvPr/>
        </p:nvSpPr>
        <p:spPr>
          <a:xfrm>
            <a:off x="2057400" y="3200400"/>
            <a:ext cx="1981080" cy="838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 Type: numeric or stri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3505320" y="2590920"/>
            <a:ext cx="1904760" cy="761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 Description of variabl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8" name="Straight Arrow Connector 37"/>
          <p:cNvCxnSpPr/>
          <p:nvPr/>
        </p:nvCxnSpPr>
        <p:spPr>
          <a:xfrm flipH="1" flipV="1">
            <a:off x="2941200" y="1796760"/>
            <a:ext cx="179136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tent Placeholder 3" descr="variable02 view.png"/>
          <p:cNvPicPr/>
          <p:nvPr/>
        </p:nvPicPr>
        <p:blipFill>
          <a:blip r:embed="rId1"/>
          <a:stretch/>
        </p:blipFill>
        <p:spPr>
          <a:xfrm>
            <a:off x="914400" y="1295280"/>
            <a:ext cx="6858000" cy="41626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8"/>
          <p:cNvSpPr/>
          <p:nvPr/>
        </p:nvSpPr>
        <p:spPr>
          <a:xfrm>
            <a:off x="8258040" y="6335640"/>
            <a:ext cx="60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7B2-71A4-4E4B-BB76-017A725C090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8" descr="values01.png"/>
          <p:cNvPicPr/>
          <p:nvPr/>
        </p:nvPicPr>
        <p:blipFill>
          <a:blip r:embed="rId2"/>
          <a:stretch/>
        </p:blipFill>
        <p:spPr>
          <a:xfrm>
            <a:off x="4114800" y="1828800"/>
            <a:ext cx="4448160" cy="309564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0"/>
          <p:cNvCxnSpPr/>
          <p:nvPr/>
        </p:nvCxnSpPr>
        <p:spPr>
          <a:xfrm>
            <a:off x="3200040" y="2130480"/>
            <a:ext cx="1067400" cy="4579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124" name="Straight Arrow Connector 14"/>
          <p:cNvCxnSpPr/>
          <p:nvPr/>
        </p:nvCxnSpPr>
        <p:spPr>
          <a:xfrm flipH="1">
            <a:off x="3200040" y="2894400"/>
            <a:ext cx="91512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25" name="Cloud 15"/>
          <p:cNvSpPr/>
          <p:nvPr/>
        </p:nvSpPr>
        <p:spPr>
          <a:xfrm>
            <a:off x="533520" y="2438280"/>
            <a:ext cx="1904760" cy="685800"/>
          </a:xfrm>
          <a:prstGeom prst="pi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your code book!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443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8124840" y="640080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0AA2-CE16-4324-BE19-8D1121A225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29" name="Straight Arrow Connector 16"/>
          <p:cNvCxnSpPr/>
          <p:nvPr/>
        </p:nvCxnSpPr>
        <p:spPr>
          <a:xfrm flipH="1" flipV="1">
            <a:off x="2590200" y="1142280"/>
            <a:ext cx="1143720" cy="11437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4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38:32Z</dcterms:created>
  <dc:creator>huibian</dc:creator>
  <dc:description/>
  <dc:language>en-US</dc:language>
  <cp:lastModifiedBy>Mohammed Alahmed</cp:lastModifiedBy>
  <dcterms:modified xsi:type="dcterms:W3CDTF">2014-10-29T10:57:18Z</dcterms:modified>
  <cp:revision>240</cp:revision>
  <dc:subject/>
  <dc:title>SPSS for Beginners</dc:title>
</cp:coreProperties>
</file>