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930D-AC46-4C0E-8807-E9D33114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1737-AE4B-4764-8BDD-440C64CD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EE43-3772-46A1-90EA-40DB5BEC5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0EA3-2EEB-4479-9516-ECB202ED3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52AE-37AA-41F7-8B30-16294DD7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A768-FE80-4D12-9A3E-33F8A1EB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02B9-FD7C-4221-BB08-36D928E0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FAC0-1481-4C55-8A8F-A2E4CB1F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C7E9-C4B6-4B8C-93E3-146EEEC2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BFF8-C17D-46D7-903C-62AF05D6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5284-2549-4356-902C-D6A28144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ED48-B1AD-4CC3-95C6-C1239A99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7491-F8A8-4B55-8D8B-2CF6A22D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2F20-3003-4622-A645-0D4EE147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DE93-C458-465B-9EF9-2F23A3D4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678B-7F86-4484-B47D-DA174AC3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8769-5663-4ED9-AFC1-DFECE057A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8534-88C5-4850-87F1-98FA4665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6DEF-DAEA-41A2-BEF2-1484869A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3F40-D283-4F96-A5F8-F9149942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B40D-D78D-4018-80CD-6D9EB1E0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72C2-5D6D-42D8-864D-11C73861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43DD-8D8A-492A-94BB-2F9B6C6A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77A8-9DA2-492D-86EB-8FC2C0E8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E144-8E20-4EA9-878D-31F70B5347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7727-59CA-4462-AFE8-109BBD85B73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20C5-27B3-4A6A-BA60-ADE2B348339A}" type="datetime">
              <a:rPr b="0" lang="en-US" sz="1200" spc="-1" strike="noStrike">
                <a:solidFill>
                  <a:srgbClr val="3366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0385-867E-4313-9D9C-B826FB9DA59F}" type="slidenum">
              <a:rPr b="1" lang="en-US" sz="12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lahmed@ksu.edu.sa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144756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roduction to the SPSS Interface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828800" y="3962520"/>
            <a:ext cx="4952880" cy="18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2265f"/>
                </a:solidFill>
                <a:latin typeface="Segoe UI"/>
                <a:ea typeface="Segoe UI"/>
              </a:rPr>
              <a:t>Dr. Mohammed Alahm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2265f"/>
                </a:solidFill>
                <a:latin typeface="Segoe UI"/>
                <a:ea typeface="Segoe UI"/>
              </a:rPr>
              <a:t>Ph.D. in Biostatistic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99ff"/>
                </a:solidFill>
                <a:uFillTx/>
                <a:latin typeface="Segoe UI"/>
                <a:ea typeface="Segoe UI"/>
                <a:hlinkClick r:id="rId1"/>
              </a:rPr>
              <a:t>alahmed@ksu.edu.s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2265f"/>
                </a:solidFill>
                <a:latin typeface="Segoe UI"/>
                <a:ea typeface="Segoe UI"/>
              </a:rPr>
              <a:t>(011) 467410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238880" y="6248520"/>
            <a:ext cx="16765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566A-9F1A-4E99-A585-DFC1B9E5233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5760" y="304920"/>
            <a:ext cx="6859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mport data from Exc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0880" y="1295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 File            Open           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os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file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 the file you want to im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click Ope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Slide Number Placeholder 7"/>
          <p:cNvSpPr/>
          <p:nvPr/>
        </p:nvSpPr>
        <p:spPr>
          <a:xfrm>
            <a:off x="8317080" y="643428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21B2-EF02-4FC9-AE7D-3F6327B22B8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34" name="Straight Arrow Connector 25"/>
          <p:cNvCxnSpPr/>
          <p:nvPr/>
        </p:nvCxnSpPr>
        <p:spPr>
          <a:xfrm>
            <a:off x="2362320" y="1557360"/>
            <a:ext cx="76248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35" name="Straight Arrow Connector 28"/>
          <p:cNvCxnSpPr/>
          <p:nvPr/>
        </p:nvCxnSpPr>
        <p:spPr>
          <a:xfrm>
            <a:off x="4343040" y="1558440"/>
            <a:ext cx="762840" cy="2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36" name="Straight Arrow Connector 30"/>
          <p:cNvCxnSpPr/>
          <p:nvPr/>
        </p:nvCxnSpPr>
        <p:spPr>
          <a:xfrm flipV="1">
            <a:off x="3429000" y="5562000"/>
            <a:ext cx="534240" cy="6865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7" name="Straight Arrow Connector 8"/>
          <p:cNvCxnSpPr/>
          <p:nvPr/>
        </p:nvCxnSpPr>
        <p:spPr>
          <a:xfrm flipV="1">
            <a:off x="1143000" y="4419000"/>
            <a:ext cx="534240" cy="6865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38" name="Picture 10" descr=""/>
          <p:cNvPicPr/>
          <p:nvPr/>
        </p:nvPicPr>
        <p:blipFill>
          <a:blip r:embed="rId1"/>
          <a:stretch/>
        </p:blipFill>
        <p:spPr>
          <a:xfrm>
            <a:off x="304920" y="3124080"/>
            <a:ext cx="4267080" cy="3500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"/>
          <p:cNvPicPr/>
          <p:nvPr/>
        </p:nvPicPr>
        <p:blipFill>
          <a:blip r:embed="rId2"/>
          <a:stretch/>
        </p:blipFill>
        <p:spPr>
          <a:xfrm>
            <a:off x="5029200" y="2743200"/>
            <a:ext cx="38768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0160" y="380880"/>
            <a:ext cx="6859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pen Excel files in SPS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708660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BCD5-A02D-431D-9D02-650C5D2B235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42" name="Straight Arrow Connector 13"/>
          <p:cNvCxnSpPr/>
          <p:nvPr/>
        </p:nvCxnSpPr>
        <p:spPr>
          <a:xfrm flipV="1">
            <a:off x="2272320" y="5295240"/>
            <a:ext cx="533880" cy="6865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43" name="Picture 11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172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tinu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86600" y="6400800"/>
            <a:ext cx="1905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0F12-55ED-4397-909D-B6E90004F01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558720" y="1066680"/>
            <a:ext cx="8124840" cy="4876920"/>
          </a:xfrm>
          <a:prstGeom prst="rect">
            <a:avLst/>
          </a:prstGeom>
          <a:ln w="0">
            <a:noFill/>
          </a:ln>
        </p:spPr>
      </p:pic>
      <p:sp>
        <p:nvSpPr>
          <p:cNvPr id="147" name="Explosion 2 7"/>
          <p:cNvSpPr/>
          <p:nvPr/>
        </p:nvSpPr>
        <p:spPr>
          <a:xfrm>
            <a:off x="5029200" y="2590920"/>
            <a:ext cx="3657600" cy="2895480"/>
          </a:xfrm>
          <a:prstGeom prst="irregularSeal2">
            <a:avLst/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ave this file as SPSS data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7240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ean data after import data fil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42640" y="1523880"/>
            <a:ext cx="74674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ses summar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for all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requ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qualitative variables an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scriptiv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quantitative variab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 outputs to see if you have variables with wrong valu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 missing values and physical surveys if you use paper surveys, and make sure they are real missin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times, you need to recode string variables into numeric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7229520" y="6324480"/>
            <a:ext cx="17622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50BC-8644-47BE-AFAC-575C6012DC0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ses summarie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934320" y="6324480"/>
            <a:ext cx="19047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8C00-98B2-4EB6-BE5F-66B284809CD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rcRect l="5344" t="17366" r="38058" b="24890"/>
          <a:stretch/>
        </p:blipFill>
        <p:spPr>
          <a:xfrm>
            <a:off x="457200" y="1295280"/>
            <a:ext cx="8282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708660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7169-390D-44B1-BAD9-15FA2727A6D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174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708660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6169-2271-4334-A1D8-6D3C0F55B7B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asic Statistical Analysi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0880" y="15235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scriptive statistics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281240" indent="-514440">
              <a:spcBef>
                <a:spcPts val="75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nd wrong entri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281240" indent="-514440">
              <a:spcBef>
                <a:spcPts val="75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ave basic knowledge about the sample and targeted variables in a study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281240" indent="-514440">
              <a:spcBef>
                <a:spcPts val="75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ummarize data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8B27-9314-4785-B64E-8F49F877650A}" type="slidenum">
              <a:rPr b="1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Slide Number Placeholder 8"/>
          <p:cNvSpPr/>
          <p:nvPr/>
        </p:nvSpPr>
        <p:spPr>
          <a:xfrm>
            <a:off x="7086600" y="6338880"/>
            <a:ext cx="1905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800A-2E7A-4404-815D-365B973B007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3" name="Freeform 5"/>
          <p:cNvSpPr/>
          <p:nvPr/>
        </p:nvSpPr>
        <p:spPr>
          <a:xfrm>
            <a:off x="1660680" y="4800600"/>
            <a:ext cx="487080" cy="498600"/>
          </a:xfrm>
          <a:custGeom>
            <a:avLst/>
            <a:gdLst/>
            <a:ahLst/>
            <a:rect l="l" t="t" r="r" b="b"/>
            <a:pathLst>
              <a:path w="487036" h="496159">
                <a:moveTo>
                  <a:pt x="248575" y="8878"/>
                </a:moveTo>
                <a:lnTo>
                  <a:pt x="248575" y="8878"/>
                </a:lnTo>
                <a:cubicBezTo>
                  <a:pt x="183472" y="11837"/>
                  <a:pt x="118229" y="12559"/>
                  <a:pt x="53266" y="17756"/>
                </a:cubicBezTo>
                <a:cubicBezTo>
                  <a:pt x="43938" y="18502"/>
                  <a:pt x="32072" y="19018"/>
                  <a:pt x="26633" y="26633"/>
                </a:cubicBezTo>
                <a:cubicBezTo>
                  <a:pt x="15755" y="41863"/>
                  <a:pt x="13802" y="61843"/>
                  <a:pt x="8878" y="79899"/>
                </a:cubicBezTo>
                <a:cubicBezTo>
                  <a:pt x="4908" y="94457"/>
                  <a:pt x="2959" y="109492"/>
                  <a:pt x="0" y="124288"/>
                </a:cubicBezTo>
                <a:cubicBezTo>
                  <a:pt x="2959" y="162758"/>
                  <a:pt x="508" y="202033"/>
                  <a:pt x="8878" y="239698"/>
                </a:cubicBezTo>
                <a:cubicBezTo>
                  <a:pt x="12621" y="256542"/>
                  <a:pt x="30055" y="267716"/>
                  <a:pt x="35511" y="284086"/>
                </a:cubicBezTo>
                <a:cubicBezTo>
                  <a:pt x="45054" y="312716"/>
                  <a:pt x="29123" y="354756"/>
                  <a:pt x="53266" y="372863"/>
                </a:cubicBezTo>
                <a:cubicBezTo>
                  <a:pt x="106807" y="413018"/>
                  <a:pt x="75177" y="393668"/>
                  <a:pt x="150921" y="426129"/>
                </a:cubicBezTo>
                <a:cubicBezTo>
                  <a:pt x="421568" y="409213"/>
                  <a:pt x="404697" y="496159"/>
                  <a:pt x="452761" y="363985"/>
                </a:cubicBezTo>
                <a:cubicBezTo>
                  <a:pt x="459157" y="346396"/>
                  <a:pt x="464598" y="328474"/>
                  <a:pt x="470517" y="310719"/>
                </a:cubicBezTo>
                <a:cubicBezTo>
                  <a:pt x="480742" y="249366"/>
                  <a:pt x="487036" y="240257"/>
                  <a:pt x="470517" y="168676"/>
                </a:cubicBezTo>
                <a:cubicBezTo>
                  <a:pt x="468118" y="158279"/>
                  <a:pt x="460306" y="149588"/>
                  <a:pt x="452761" y="142043"/>
                </a:cubicBezTo>
                <a:cubicBezTo>
                  <a:pt x="445216" y="134499"/>
                  <a:pt x="435006" y="130206"/>
                  <a:pt x="426128" y="124288"/>
                </a:cubicBezTo>
                <a:cubicBezTo>
                  <a:pt x="379406" y="61992"/>
                  <a:pt x="409960" y="99243"/>
                  <a:pt x="328474" y="17756"/>
                </a:cubicBezTo>
                <a:cubicBezTo>
                  <a:pt x="322556" y="11837"/>
                  <a:pt x="319089" y="0"/>
                  <a:pt x="310719" y="0"/>
                </a:cubicBezTo>
                <a:lnTo>
                  <a:pt x="248575" y="8878"/>
                </a:lnTo>
                <a:close/>
              </a:path>
            </a:pathLst>
          </a:custGeom>
          <a:noFill/>
          <a:ln w="25560">
            <a:solidFill>
              <a:srgbClr val="49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64" name="Straight Arrow Connector 9"/>
          <p:cNvCxnSpPr/>
          <p:nvPr/>
        </p:nvCxnSpPr>
        <p:spPr>
          <a:xfrm flipV="1">
            <a:off x="914400" y="4037760"/>
            <a:ext cx="915120" cy="12200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5" name="Straight Arrow Connector 13"/>
          <p:cNvCxnSpPr/>
          <p:nvPr/>
        </p:nvCxnSpPr>
        <p:spPr>
          <a:xfrm flipV="1">
            <a:off x="762120" y="4114080"/>
            <a:ext cx="915120" cy="12200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66" name="Picture 11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778520" cy="43434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2"/>
          <p:cNvSpPr/>
          <p:nvPr/>
        </p:nvSpPr>
        <p:spPr>
          <a:xfrm>
            <a:off x="533520" y="12063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e         Descriptive statistics         Frequenc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8" name="Right Arrow 10"/>
          <p:cNvSpPr/>
          <p:nvPr/>
        </p:nvSpPr>
        <p:spPr>
          <a:xfrm>
            <a:off x="1903320" y="1353960"/>
            <a:ext cx="844560" cy="228600"/>
          </a:xfrm>
          <a:prstGeom prst="rightArrow">
            <a:avLst>
              <a:gd name="adj1" fmla="val 50000"/>
              <a:gd name="adj2" fmla="val 13738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9" name="Right Arrow 10"/>
          <p:cNvSpPr/>
          <p:nvPr/>
        </p:nvSpPr>
        <p:spPr>
          <a:xfrm>
            <a:off x="6095880" y="1374840"/>
            <a:ext cx="844560" cy="228600"/>
          </a:xfrm>
          <a:prstGeom prst="rightArrow">
            <a:avLst>
              <a:gd name="adj1" fmla="val 50000"/>
              <a:gd name="adj2" fmla="val 13738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2057400" y="3049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ative Variable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7"/>
          <p:cNvSpPr/>
          <p:nvPr/>
        </p:nvSpPr>
        <p:spPr>
          <a:xfrm>
            <a:off x="708660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6BBB-9050-455A-B35F-644019A8917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2" name="Picture 11" descr=""/>
          <p:cNvPicPr/>
          <p:nvPr/>
        </p:nvPicPr>
        <p:blipFill>
          <a:blip r:embed="rId1"/>
          <a:stretch/>
        </p:blipFill>
        <p:spPr>
          <a:xfrm>
            <a:off x="782640" y="1066680"/>
            <a:ext cx="714204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859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tent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218960" y="20570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SS interface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Data view and Variable view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enter data in SP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import external data into SP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clean and edit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get descriptive statistic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8229600" y="6324480"/>
            <a:ext cx="762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89F3-CE08-4F5E-B9A5-E25912F8F7C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7215120" y="6334200"/>
            <a:ext cx="1905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4F5D-2565-48EA-9F48-C555E93B214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571680" y="609480"/>
            <a:ext cx="4721040" cy="1397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2"/>
          <a:stretch/>
        </p:blipFill>
        <p:spPr>
          <a:xfrm>
            <a:off x="914400" y="2057400"/>
            <a:ext cx="5027760" cy="1487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3"/>
          <a:stretch/>
        </p:blipFill>
        <p:spPr>
          <a:xfrm>
            <a:off x="2073240" y="3581280"/>
            <a:ext cx="5151600" cy="1524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"/>
          <p:cNvPicPr/>
          <p:nvPr/>
        </p:nvPicPr>
        <p:blipFill>
          <a:blip r:embed="rId4"/>
          <a:stretch/>
        </p:blipFill>
        <p:spPr>
          <a:xfrm>
            <a:off x="3402000" y="5181480"/>
            <a:ext cx="4892760" cy="1447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"/>
          <p:cNvPicPr/>
          <p:nvPr/>
        </p:nvPicPr>
        <p:blipFill>
          <a:blip r:embed="rId5"/>
          <a:stretch/>
        </p:blipFill>
        <p:spPr>
          <a:xfrm>
            <a:off x="6070680" y="533520"/>
            <a:ext cx="2759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706104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35DA-F578-4A31-8FC2-F88673C107B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304920" y="2255760"/>
            <a:ext cx="8534160" cy="28497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"/>
          <p:cNvSpPr/>
          <p:nvPr/>
        </p:nvSpPr>
        <p:spPr>
          <a:xfrm>
            <a:off x="304920" y="11430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e         Descriptive statistics          Descriptives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2" name="Right Arrow 10"/>
          <p:cNvSpPr/>
          <p:nvPr/>
        </p:nvSpPr>
        <p:spPr>
          <a:xfrm>
            <a:off x="5867280" y="1290600"/>
            <a:ext cx="844560" cy="228600"/>
          </a:xfrm>
          <a:prstGeom prst="rightArrow">
            <a:avLst>
              <a:gd name="adj1" fmla="val 50000"/>
              <a:gd name="adj2" fmla="val 13738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3" name="Right Arrow 10"/>
          <p:cNvSpPr/>
          <p:nvPr/>
        </p:nvSpPr>
        <p:spPr>
          <a:xfrm>
            <a:off x="1676520" y="1290600"/>
            <a:ext cx="844560" cy="228600"/>
          </a:xfrm>
          <a:prstGeom prst="rightArrow">
            <a:avLst>
              <a:gd name="adj1" fmla="val 50000"/>
              <a:gd name="adj2" fmla="val 13738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4" name="TextBox 8"/>
          <p:cNvSpPr/>
          <p:nvPr/>
        </p:nvSpPr>
        <p:spPr>
          <a:xfrm>
            <a:off x="2057400" y="3049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ntitative Variable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71848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59F0-B924-45CB-BF43-85860CA46BC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4876920" cy="4800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2"/>
          <a:stretch/>
        </p:blipFill>
        <p:spPr>
          <a:xfrm>
            <a:off x="5638680" y="1295280"/>
            <a:ext cx="3132360" cy="4800600"/>
          </a:xfrm>
          <a:prstGeom prst="rect">
            <a:avLst/>
          </a:prstGeom>
          <a:ln w="0">
            <a:noFill/>
          </a:ln>
        </p:spPr>
      </p:pic>
      <p:sp>
        <p:nvSpPr>
          <p:cNvPr id="188" name="TextBox 1"/>
          <p:cNvSpPr/>
          <p:nvPr/>
        </p:nvSpPr>
        <p:spPr>
          <a:xfrm>
            <a:off x="1371600" y="757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Histogram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9" name="TextBox 6"/>
          <p:cNvSpPr/>
          <p:nvPr/>
        </p:nvSpPr>
        <p:spPr>
          <a:xfrm>
            <a:off x="6253200" y="681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Box-Plo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4038480" y="2397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3"/>
          <p:cNvSpPr/>
          <p:nvPr/>
        </p:nvSpPr>
        <p:spPr>
          <a:xfrm>
            <a:off x="7162920" y="6427800"/>
            <a:ext cx="19047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FD21-3A2B-4BA3-A500-A08D30E7ADA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4191120" cy="49831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5410080" y="1295280"/>
            <a:ext cx="3248280" cy="4983120"/>
          </a:xfrm>
          <a:prstGeom prst="rect">
            <a:avLst/>
          </a:prstGeom>
          <a:ln w="0">
            <a:noFill/>
          </a:ln>
        </p:spPr>
      </p:pic>
      <p:sp>
        <p:nvSpPr>
          <p:cNvPr id="194" name="TextBox 5"/>
          <p:cNvSpPr/>
          <p:nvPr/>
        </p:nvSpPr>
        <p:spPr>
          <a:xfrm>
            <a:off x="2895480" y="619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uration of Sta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371600" y="757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Histogram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>
            <a:off x="6253200" y="826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Box-Plo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PSS interfac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lace to ent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umns: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ws: reco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riable 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lace to enter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all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all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8305920" y="6324480"/>
            <a:ext cx="685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24F1-1A94-4B11-B0CA-9D4144D1AEB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8077320" y="6248520"/>
            <a:ext cx="914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35C3-B1DE-4E4F-B9A5-FE32E969CF9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409680" y="1371600"/>
            <a:ext cx="8001000" cy="4697280"/>
          </a:xfrm>
          <a:prstGeom prst="rect">
            <a:avLst/>
          </a:prstGeom>
          <a:ln w="0">
            <a:noFill/>
          </a:ln>
        </p:spPr>
      </p:pic>
      <p:sp>
        <p:nvSpPr>
          <p:cNvPr id="93" name="Title 2"/>
          <p:cNvSpPr/>
          <p:nvPr/>
        </p:nvSpPr>
        <p:spPr>
          <a:xfrm>
            <a:off x="1417680" y="304920"/>
            <a:ext cx="685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ter data in SPSS directl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Right Arrow 6"/>
          <p:cNvSpPr/>
          <p:nvPr/>
        </p:nvSpPr>
        <p:spPr>
          <a:xfrm rot="10800000">
            <a:off x="2171880" y="1981080"/>
            <a:ext cx="1218960" cy="4572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Right Arrow 10"/>
          <p:cNvSpPr/>
          <p:nvPr/>
        </p:nvSpPr>
        <p:spPr>
          <a:xfrm rot="20870400">
            <a:off x="5866920" y="5840280"/>
            <a:ext cx="1219320" cy="457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0160" y="380880"/>
            <a:ext cx="68594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xample: Hospital-stay data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086600" y="6400800"/>
            <a:ext cx="1905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7A6D-DA81-40DB-AE49-D114C4C577D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93560" y="981000"/>
            <a:ext cx="815688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ontent Placeholder 3" descr="spss window.png"/>
          <p:cNvPicPr/>
          <p:nvPr/>
        </p:nvPicPr>
        <p:blipFill>
          <a:blip r:embed="rId1"/>
          <a:stretch/>
        </p:blipFill>
        <p:spPr>
          <a:xfrm>
            <a:off x="609480" y="981000"/>
            <a:ext cx="8077320" cy="518796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9"/>
          <p:cNvSpPr/>
          <p:nvPr/>
        </p:nvSpPr>
        <p:spPr>
          <a:xfrm>
            <a:off x="7772400" y="6324480"/>
            <a:ext cx="10666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C21B-765D-4C82-A80D-D16CCE18CF4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01" name="Straight Arrow Connector 7"/>
          <p:cNvCxnSpPr/>
          <p:nvPr/>
        </p:nvCxnSpPr>
        <p:spPr>
          <a:xfrm flipH="1" flipV="1">
            <a:off x="1142640" y="1676160"/>
            <a:ext cx="838800" cy="762480"/>
          </a:xfrm>
          <a:prstGeom prst="straightConnector1">
            <a:avLst/>
          </a:prstGeom>
          <a:ln w="31680">
            <a:solidFill>
              <a:srgbClr val="60c9fd"/>
            </a:solidFill>
            <a:miter/>
            <a:tailEnd len="med" type="arrow" w="med"/>
          </a:ln>
        </p:spPr>
      </p:cxnSp>
      <p:sp>
        <p:nvSpPr>
          <p:cNvPr id="102" name="Oval 8"/>
          <p:cNvSpPr/>
          <p:nvPr/>
        </p:nvSpPr>
        <p:spPr>
          <a:xfrm>
            <a:off x="1828800" y="2057400"/>
            <a:ext cx="2133720" cy="990720"/>
          </a:xfrm>
          <a:prstGeom prst="ellipse">
            <a:avLst/>
          </a:prstGeom>
          <a:solidFill>
            <a:srgbClr val="2a5682"/>
          </a:solidFill>
          <a:ln w="25560">
            <a:solidFill>
              <a:srgbClr val="1c3d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lumns: variable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03" name="Straight Arrow Connector 13"/>
          <p:cNvCxnSpPr/>
          <p:nvPr/>
        </p:nvCxnSpPr>
        <p:spPr>
          <a:xfrm flipH="1" flipV="1">
            <a:off x="685080" y="4037760"/>
            <a:ext cx="1143720" cy="2520"/>
          </a:xfrm>
          <a:prstGeom prst="straightConnector1">
            <a:avLst/>
          </a:prstGeom>
          <a:ln w="31680">
            <a:solidFill>
              <a:srgbClr val="60c9fd"/>
            </a:solidFill>
            <a:miter/>
            <a:tailEnd len="med" type="arrow" w="med"/>
          </a:ln>
        </p:spPr>
      </p:cxnSp>
      <p:sp>
        <p:nvSpPr>
          <p:cNvPr id="104" name="Oval 14"/>
          <p:cNvSpPr/>
          <p:nvPr/>
        </p:nvSpPr>
        <p:spPr>
          <a:xfrm>
            <a:off x="1828800" y="3657600"/>
            <a:ext cx="2286000" cy="1066680"/>
          </a:xfrm>
          <a:prstGeom prst="ellipse">
            <a:avLst/>
          </a:prstGeom>
          <a:solidFill>
            <a:srgbClr val="2a5682"/>
          </a:solidFill>
          <a:ln w="25560">
            <a:solidFill>
              <a:srgbClr val="1c3d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ows: cas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05" name="Straight Arrow Connector 18"/>
          <p:cNvCxnSpPr/>
          <p:nvPr/>
        </p:nvCxnSpPr>
        <p:spPr>
          <a:xfrm flipH="1">
            <a:off x="777600" y="5258880"/>
            <a:ext cx="953280" cy="686520"/>
          </a:xfrm>
          <a:prstGeom prst="straightConnector1">
            <a:avLst/>
          </a:prstGeom>
          <a:ln w="31680">
            <a:solidFill>
              <a:srgbClr val="60c9fd"/>
            </a:solidFill>
            <a:miter/>
            <a:tailEnd len="med" type="arrow" w="med"/>
          </a:ln>
        </p:spPr>
      </p:cxnSp>
      <p:sp>
        <p:nvSpPr>
          <p:cNvPr id="106" name="Oval 20"/>
          <p:cNvSpPr/>
          <p:nvPr/>
        </p:nvSpPr>
        <p:spPr>
          <a:xfrm>
            <a:off x="1562040" y="4952880"/>
            <a:ext cx="2171880" cy="609840"/>
          </a:xfrm>
          <a:prstGeom prst="ellipse">
            <a:avLst/>
          </a:prstGeom>
          <a:solidFill>
            <a:srgbClr val="2a5682"/>
          </a:solidFill>
          <a:ln w="25560">
            <a:solidFill>
              <a:srgbClr val="1c3d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Under Data View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ter Variabl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Content Placeholder 14" descr="variable view.png"/>
          <p:cNvPicPr/>
          <p:nvPr/>
        </p:nvPicPr>
        <p:blipFill>
          <a:blip r:embed="rId1"/>
          <a:stretch/>
        </p:blipFill>
        <p:spPr>
          <a:xfrm>
            <a:off x="984240" y="1270080"/>
            <a:ext cx="6858000" cy="4163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09" name="Slide Number Placeholder 12"/>
          <p:cNvSpPr/>
          <p:nvPr/>
        </p:nvSpPr>
        <p:spPr>
          <a:xfrm>
            <a:off x="8420040" y="6324480"/>
            <a:ext cx="5335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6B6F-BB9A-42FD-98A0-EEA90879FBD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10" name="Straight Arrow Connector 16"/>
          <p:cNvCxnSpPr/>
          <p:nvPr/>
        </p:nvCxnSpPr>
        <p:spPr>
          <a:xfrm flipH="1">
            <a:off x="1523520" y="4811760"/>
            <a:ext cx="534240" cy="534240"/>
          </a:xfrm>
          <a:prstGeom prst="straightConnector1">
            <a:avLst/>
          </a:prstGeom>
          <a:ln w="31680">
            <a:solidFill>
              <a:srgbClr val="60c9fd"/>
            </a:solidFill>
            <a:miter/>
            <a:tailEnd len="med" type="arrow" w="med"/>
          </a:ln>
        </p:spPr>
      </p:cxnSp>
      <p:sp>
        <p:nvSpPr>
          <p:cNvPr id="111" name="Oval 17"/>
          <p:cNvSpPr/>
          <p:nvPr/>
        </p:nvSpPr>
        <p:spPr>
          <a:xfrm>
            <a:off x="1676520" y="4495680"/>
            <a:ext cx="1981080" cy="849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. Click this Window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5562720" y="1371600"/>
            <a:ext cx="3124080" cy="4800600"/>
          </a:xfrm>
          <a:prstGeom prst="rect">
            <a:avLst/>
          </a:prstGeom>
          <a:gradFill rotWithShape="0">
            <a:gsLst>
              <a:gs pos="0">
                <a:srgbClr val="bff5ff"/>
              </a:gs>
              <a:gs pos="100000">
                <a:srgbClr val="ebfcff"/>
              </a:gs>
            </a:gsLst>
            <a:lin ang="16200000"/>
          </a:gradFill>
          <a:ln w="9360">
            <a:solidFill>
              <a:srgbClr val="b2dd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ahoma"/>
              </a:rPr>
              <a:t>Click Variable View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ahoma"/>
              </a:rPr>
              <a:t>Type variable name under Name column (AGE).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Tahoma"/>
              </a:rPr>
              <a:t>NOTE:</a:t>
            </a:r>
            <a:r>
              <a:rPr b="1" lang="en-US" sz="1800" spc="-1" strike="noStrike">
                <a:solidFill>
                  <a:srgbClr val="c00000"/>
                </a:solidFill>
                <a:latin typeface="Tahoma"/>
              </a:rPr>
              <a:t> Variable name can be 64 bytes long, and the first character must be a letter or one of the characters @, #, or $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ahoma"/>
              </a:rPr>
              <a:t>Type: Numeric, string, etc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ahoma"/>
              </a:rPr>
              <a:t>Label: description of variables.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13" name="Straight Arrow Connector 20"/>
          <p:cNvCxnSpPr/>
          <p:nvPr/>
        </p:nvCxnSpPr>
        <p:spPr>
          <a:xfrm flipH="1" flipV="1">
            <a:off x="1370880" y="1758600"/>
            <a:ext cx="305640" cy="838800"/>
          </a:xfrm>
          <a:prstGeom prst="straightConnector1">
            <a:avLst/>
          </a:prstGeom>
          <a:ln w="31680">
            <a:solidFill>
              <a:srgbClr val="60c9fd"/>
            </a:solidFill>
            <a:miter/>
            <a:tailEnd len="med" type="arrow" w="med"/>
          </a:ln>
        </p:spPr>
      </p:cxnSp>
      <p:sp>
        <p:nvSpPr>
          <p:cNvPr id="114" name="Oval 22"/>
          <p:cNvSpPr/>
          <p:nvPr/>
        </p:nvSpPr>
        <p:spPr>
          <a:xfrm>
            <a:off x="457200" y="2584440"/>
            <a:ext cx="1905120" cy="76824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2. Type variable name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15" name="Straight Arrow Connector 24"/>
          <p:cNvCxnSpPr/>
          <p:nvPr/>
        </p:nvCxnSpPr>
        <p:spPr>
          <a:xfrm flipH="1" flipV="1">
            <a:off x="1819080" y="1641240"/>
            <a:ext cx="1305360" cy="1559520"/>
          </a:xfrm>
          <a:prstGeom prst="straightConnector1">
            <a:avLst/>
          </a:prstGeom>
          <a:ln w="31680">
            <a:solidFill>
              <a:srgbClr val="60c9fd"/>
            </a:solidFill>
            <a:miter/>
            <a:tailEnd len="med" type="arrow" w="med"/>
          </a:ln>
        </p:spPr>
      </p:cxnSp>
      <p:sp>
        <p:nvSpPr>
          <p:cNvPr id="116" name="Oval 26"/>
          <p:cNvSpPr/>
          <p:nvPr/>
        </p:nvSpPr>
        <p:spPr>
          <a:xfrm>
            <a:off x="2057400" y="3200400"/>
            <a:ext cx="1981080" cy="83808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3. Type: numeric or string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Oval 33"/>
          <p:cNvSpPr/>
          <p:nvPr/>
        </p:nvSpPr>
        <p:spPr>
          <a:xfrm>
            <a:off x="3505320" y="2590920"/>
            <a:ext cx="1904760" cy="76176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4. Description of variable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18" name="Straight Arrow Connector 37"/>
          <p:cNvCxnSpPr/>
          <p:nvPr/>
        </p:nvCxnSpPr>
        <p:spPr>
          <a:xfrm flipH="1" flipV="1">
            <a:off x="2941200" y="1796760"/>
            <a:ext cx="1791360" cy="762480"/>
          </a:xfrm>
          <a:prstGeom prst="straightConnector1">
            <a:avLst/>
          </a:prstGeom>
          <a:ln w="31680">
            <a:solidFill>
              <a:srgbClr val="60c9f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ter variabl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Content Placeholder 3" descr="variable02 view.png"/>
          <p:cNvPicPr/>
          <p:nvPr/>
        </p:nvPicPr>
        <p:blipFill>
          <a:blip r:embed="rId1"/>
          <a:stretch/>
        </p:blipFill>
        <p:spPr>
          <a:xfrm>
            <a:off x="914400" y="1295280"/>
            <a:ext cx="6858000" cy="4162680"/>
          </a:xfrm>
          <a:prstGeom prst="rect">
            <a:avLst/>
          </a:prstGeom>
          <a:ln w="0">
            <a:noFill/>
          </a:ln>
        </p:spPr>
      </p:pic>
      <p:sp>
        <p:nvSpPr>
          <p:cNvPr id="121" name="Slide Number Placeholder 8"/>
          <p:cNvSpPr/>
          <p:nvPr/>
        </p:nvSpPr>
        <p:spPr>
          <a:xfrm>
            <a:off x="8258040" y="6335640"/>
            <a:ext cx="6098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7F1A-915F-4A2B-8C0D-2F8E8AA13D9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2" name="Picture 8" descr="values01.png"/>
          <p:cNvPicPr/>
          <p:nvPr/>
        </p:nvPicPr>
        <p:blipFill>
          <a:blip r:embed="rId2"/>
          <a:stretch/>
        </p:blipFill>
        <p:spPr>
          <a:xfrm>
            <a:off x="4114800" y="1828800"/>
            <a:ext cx="4448160" cy="3095640"/>
          </a:xfrm>
          <a:prstGeom prst="rect">
            <a:avLst/>
          </a:prstGeom>
          <a:ln w="0">
            <a:noFill/>
          </a:ln>
        </p:spPr>
      </p:pic>
      <p:cxnSp>
        <p:nvCxnSpPr>
          <p:cNvPr id="123" name="Straight Arrow Connector 10"/>
          <p:cNvCxnSpPr/>
          <p:nvPr/>
        </p:nvCxnSpPr>
        <p:spPr>
          <a:xfrm>
            <a:off x="3200040" y="2130480"/>
            <a:ext cx="1067400" cy="457920"/>
          </a:xfrm>
          <a:prstGeom prst="straightConnector1">
            <a:avLst/>
          </a:prstGeom>
          <a:ln w="31680">
            <a:solidFill>
              <a:srgbClr val="60c9fd"/>
            </a:solidFill>
            <a:miter/>
            <a:tailEnd len="med" type="arrow" w="med"/>
          </a:ln>
        </p:spPr>
      </p:cxnSp>
      <p:cxnSp>
        <p:nvCxnSpPr>
          <p:cNvPr id="124" name="Straight Arrow Connector 14"/>
          <p:cNvCxnSpPr/>
          <p:nvPr/>
        </p:nvCxnSpPr>
        <p:spPr>
          <a:xfrm flipH="1">
            <a:off x="3200040" y="2894400"/>
            <a:ext cx="915120" cy="686520"/>
          </a:xfrm>
          <a:prstGeom prst="straightConnector1">
            <a:avLst/>
          </a:prstGeom>
          <a:ln w="31680">
            <a:solidFill>
              <a:srgbClr val="60c9fd"/>
            </a:solidFill>
            <a:miter/>
            <a:tailEnd len="med" type="arrow" w="med"/>
          </a:ln>
        </p:spPr>
      </p:cxnSp>
      <p:sp>
        <p:nvSpPr>
          <p:cNvPr id="125" name="Cloud 15"/>
          <p:cNvSpPr/>
          <p:nvPr/>
        </p:nvSpPr>
        <p:spPr>
          <a:xfrm>
            <a:off x="533520" y="2438280"/>
            <a:ext cx="1904760" cy="685800"/>
          </a:xfrm>
          <a:prstGeom prst="pie">
            <a:avLst/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Based on your code book!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6" name="Picture 10" descr=""/>
          <p:cNvPicPr/>
          <p:nvPr/>
        </p:nvPicPr>
        <p:blipFill>
          <a:blip r:embed="rId3"/>
          <a:stretch/>
        </p:blipFill>
        <p:spPr>
          <a:xfrm>
            <a:off x="2590920" y="3886200"/>
            <a:ext cx="44384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ter cas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Slide Number Placeholder 8"/>
          <p:cNvSpPr/>
          <p:nvPr/>
        </p:nvSpPr>
        <p:spPr>
          <a:xfrm>
            <a:off x="8124840" y="6400800"/>
            <a:ext cx="914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A71C-3140-4A87-803A-98EC8DF7667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29" name="Straight Arrow Connector 16"/>
          <p:cNvCxnSpPr/>
          <p:nvPr/>
        </p:nvCxnSpPr>
        <p:spPr>
          <a:xfrm flipH="1" flipV="1">
            <a:off x="2590200" y="1142280"/>
            <a:ext cx="1143720" cy="1143720"/>
          </a:xfrm>
          <a:prstGeom prst="straightConnector1">
            <a:avLst/>
          </a:prstGeom>
          <a:ln w="31680">
            <a:solidFill>
              <a:srgbClr val="60c9fd"/>
            </a:solidFill>
            <a:miter/>
            <a:tailEnd len="med" type="arrow" w="med"/>
          </a:ln>
        </p:spPr>
      </p:cxnSp>
      <p:pic>
        <p:nvPicPr>
          <p:cNvPr id="130" name="Picture 9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2484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3:38:32Z</dcterms:created>
  <dc:creator>huibian</dc:creator>
  <dc:description/>
  <dc:language>en-US</dc:language>
  <cp:lastModifiedBy>Mohammed Alahmed</cp:lastModifiedBy>
  <dcterms:modified xsi:type="dcterms:W3CDTF">2014-10-29T10:57:18Z</dcterms:modified>
  <cp:revision>240</cp:revision>
  <dc:subject/>
  <dc:title>SPSS for Beginners</dc:title>
</cp:coreProperties>
</file>