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B26-A0F5-47BC-83EB-D7E321E5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14B-D6A6-4F9A-96E8-B7D7F07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B4C-15BC-4EE2-BA85-A837A496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409-B23A-44FB-992C-909930E4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7B3-48CB-465D-A71E-F4A8C04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A26-0C66-4D75-AAA2-C386125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C64-D63C-45C5-87A0-D83FE1F9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D8B-38F4-442C-A66E-A853257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6DE-5E5E-46D2-8E5D-5F89C417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E38-8F14-4C9B-BBCD-837E81B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041-DB07-4108-85E1-C3BDF92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AA9-B1BC-48CE-8ADF-2357E17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DF4-7C8D-4B0C-AF9C-97B025188508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203-0A11-4911-8EB6-90CAC8A47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661760" y="6508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SS-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00000" y="14130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power-point slides show you 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some of the features in SP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732680" y="3191040"/>
            <a:ext cx="676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urvey of 20 randomly se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nies asked them to repor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nual income of their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Thousands of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3   264   265  278  229  281  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3   301   318  230  260  256   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3   271   261  221  290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600200" y="2819520"/>
            <a:ext cx="71629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7BB3-EAFD-4456-95DA-8DF4ADCEC572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E5F-2C24-4EFD-9EC0-E587C4CB8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530720" y="11736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at, you can proceed to analysis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describe the data you can go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 or show in graphic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991720" cy="548640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6"/>
          <p:cNvCxnSpPr/>
          <p:nvPr/>
        </p:nvCxnSpPr>
        <p:spPr>
          <a:xfrm flipH="1">
            <a:off x="1980720" y="1219320"/>
            <a:ext cx="4579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6BD-A90A-4F7A-BC7D-8653CBDF95C1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7BE3-4AEB-4FF9-B996-F9DDD3327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565440" y="22860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 flipH="1">
            <a:off x="2209320" y="685800"/>
            <a:ext cx="152496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950B-F83A-49E7-B0C1-20CD0048B80F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5E7-52CF-4813-B247-A605D6098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266840" y="19368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get the descriptive information, click the anal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, a drop down menu appear, please click 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, and then click descrip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6"/>
          <p:cNvCxnSpPr/>
          <p:nvPr/>
        </p:nvCxnSpPr>
        <p:spPr>
          <a:xfrm flipH="1">
            <a:off x="3504960" y="1294200"/>
            <a:ext cx="137232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9EF-161D-444A-9DD5-E65F9869ADEE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594-97AD-4C86-AF35-687AC24B6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347120" y="34596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criptives will appear and the variables will be sh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ox on the left side. In our case we only hav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hat is sa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518184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6"/>
          <p:cNvCxnSpPr/>
          <p:nvPr/>
        </p:nvCxnSpPr>
        <p:spPr>
          <a:xfrm>
            <a:off x="3504240" y="1447560"/>
            <a:ext cx="76680" cy="198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D27-7BFF-43DF-BB94-F0525476C91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3FA-E070-468D-B7D4-453A0C89E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45320" y="117360"/>
            <a:ext cx="75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ransfer the salary to the box on the right (variable(s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the salary by click on it and in the middl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boxes is a direction button, please click on i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lary will appear in the righ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6"/>
          <p:cNvCxnSpPr/>
          <p:nvPr/>
        </p:nvCxnSpPr>
        <p:spPr>
          <a:xfrm flipH="1">
            <a:off x="4266360" y="1218960"/>
            <a:ext cx="381960" cy="2896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009-A50F-4966-B2D2-2E723F182692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480F-9311-4325-A028-9E8EF87A8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128960" y="228600"/>
            <a:ext cx="80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click the option button, to identify the type of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like for example mean, std.deviation etc. After you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ion please click continue. Finally click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8"/>
          <p:cNvCxnSpPr/>
          <p:nvPr/>
        </p:nvCxnSpPr>
        <p:spPr>
          <a:xfrm>
            <a:off x="3580200" y="609480"/>
            <a:ext cx="839160" cy="2820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Straight Arrow Connector 10"/>
          <p:cNvCxnSpPr/>
          <p:nvPr/>
        </p:nvCxnSpPr>
        <p:spPr>
          <a:xfrm>
            <a:off x="4343400" y="990720"/>
            <a:ext cx="991440" cy="2134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Straight Arrow Connector 12"/>
          <p:cNvCxnSpPr/>
          <p:nvPr/>
        </p:nvCxnSpPr>
        <p:spPr>
          <a:xfrm flipH="1">
            <a:off x="5409360" y="990360"/>
            <a:ext cx="762840" cy="25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2" name="Straight Arrow Connector 14"/>
          <p:cNvCxnSpPr/>
          <p:nvPr/>
        </p:nvCxnSpPr>
        <p:spPr>
          <a:xfrm flipV="1">
            <a:off x="4952880" y="5333400"/>
            <a:ext cx="457920" cy="610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Straight Arrow Connector 16"/>
          <p:cNvCxnSpPr/>
          <p:nvPr/>
        </p:nvCxnSpPr>
        <p:spPr>
          <a:xfrm flipV="1">
            <a:off x="2284560" y="4801320"/>
            <a:ext cx="360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C4D-C941-46FD-BB7F-90069E90796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AD73-0F36-4FF0-AD37-87177B313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432080" y="152280"/>
            <a:ext cx="35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result will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E90-5A15-4968-AC18-1845956B12B3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95D9-DE39-4E53-BE76-E301D373E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349640" y="193680"/>
            <a:ext cx="49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o back to the data click this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617220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6"/>
          <p:cNvCxnSpPr/>
          <p:nvPr/>
        </p:nvCxnSpPr>
        <p:spPr>
          <a:xfrm flipH="1">
            <a:off x="1599840" y="609480"/>
            <a:ext cx="403920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225-3D5F-440A-BE4A-34BE51F73F1E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87B-636C-4275-AA66-5341C684F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344960" y="270000"/>
            <a:ext cx="73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present the data collected in graphical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click Graphs and then choose the requir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boxplot ( simple, summaries of sepa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then also click defin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50292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5"/>
          <p:cNvCxnSpPr/>
          <p:nvPr/>
        </p:nvCxnSpPr>
        <p:spPr>
          <a:xfrm flipV="1">
            <a:off x="3732840" y="4952160"/>
            <a:ext cx="22932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5AF-28B7-443C-9FC1-D4A378572092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537F-8635-47AC-9DA0-EBCD1362F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355760" y="152280"/>
            <a:ext cx="76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dure is the same as descriptive, you have to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ropriate variable and click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5"/>
          <p:cNvCxnSpPr/>
          <p:nvPr/>
        </p:nvCxnSpPr>
        <p:spPr>
          <a:xfrm flipV="1">
            <a:off x="3199320" y="5257440"/>
            <a:ext cx="3056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Straight Arrow Connector 7"/>
          <p:cNvCxnSpPr/>
          <p:nvPr/>
        </p:nvCxnSpPr>
        <p:spPr>
          <a:xfrm>
            <a:off x="3808800" y="914040"/>
            <a:ext cx="762840" cy="1677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75C5-31BF-4DC9-8F8B-ED556C47666B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811B-34F2-498D-B142-5C182E2A3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tart SPSS for Windows using either of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  If you already have the SPSS icon on your desktop, double click on the SPSS icon.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Go to Start Menu | Programs  |  SPSS 16.0 for Window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92A-166E-4F56-A989-CE181E97908B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C467-6244-4BD8-BED0-131077A53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6713-BB5A-4710-B685-9F745868D130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750-75D2-428F-94AB-1D3C6E7CB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583440" y="2606760"/>
            <a:ext cx="282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7F16-DB1A-4113-8FBD-94F2E586FC1C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057-5B9C-4955-AA4F-EDF2AC681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69800" y="30492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open the SPSS, this window will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66680" y="762120"/>
            <a:ext cx="74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the first time you are key-in the data, click type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9"/>
          <p:cNvCxnSpPr/>
          <p:nvPr/>
        </p:nvCxnSpPr>
        <p:spPr>
          <a:xfrm flipV="1">
            <a:off x="2514240" y="2894760"/>
            <a:ext cx="1677240" cy="839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 flipV="1">
            <a:off x="4267080" y="5638320"/>
            <a:ext cx="4579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3C90-8FB6-4A4C-87EC-FF2555C9FC8A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ABD-8454-4775-9166-6C09D13C7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1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nus Available in the Data Edito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" y="685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open an existing file, to read data (from a text data file or from an application [like Excel] data file) into Data Editor window, to save a data file, and to exit SPSS fo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52280" y="2133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changes like copy, cut or paste to the Data Editor window.  These functions work just like a spread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" y="3276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view status bar, tool bar,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2860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fine variables, insert variables or cases, sort cases, merge files, split files, select cases and use a variable to weight cas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5105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o some computations on variables, to create new variables from existing ones or recode old variabl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8901-E073-4DAB-A077-735C71192349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364-3A54-4870-AF01-41288D172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52280" y="9144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z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o statistical analysis, from descriptive statistics to testing of hypothes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0" y="22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nus Available in the Data Editor Window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arious plots and 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2514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un script and to display information on the contents of SPSS data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ove to an open window or to see which window is active.  The window with a check mark is the active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8600" y="3352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-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vide on-line help and statistics guide for advanced topics and also to provide related information from the SPS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04920" y="5257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t help on topics in SPSS and to ask the statistics coach some questions. This is a very useful t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1A2-9F1E-4AB1-ADFE-4F325ED6ACFB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92E-9CB7-4AD1-972F-1500FFF95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3"/>
          <p:cNvGraphicFramePr/>
          <p:nvPr/>
        </p:nvGraphicFramePr>
        <p:xfrm>
          <a:off x="228600" y="1447920"/>
          <a:ext cx="87631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7631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5"/>
          <p:cNvSpPr/>
          <p:nvPr/>
        </p:nvSpPr>
        <p:spPr>
          <a:xfrm>
            <a:off x="1355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272600" y="19368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this window will appear. Please go to variable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introduce the SPSS program the type of data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. ( quantitative or qualitative …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H="1">
            <a:off x="2133360" y="609480"/>
            <a:ext cx="4343400" cy="5715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4CC-2CDB-436D-B711-67224D75039A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A7A-485A-4749-B808-506E9D13E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762120" y="117360"/>
            <a:ext cx="798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n the relevant information. In our case, the name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yped in ‘salary’ as an example. The nex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is Variable type because this is where you 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quantitative or qualit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839080" cy="5105520"/>
          </a:xfrm>
          <a:prstGeom prst="rect">
            <a:avLst/>
          </a:prstGeom>
          <a:ln w="0">
            <a:noFill/>
          </a:ln>
        </p:spPr>
      </p:pic>
      <p:cxnSp>
        <p:nvCxnSpPr>
          <p:cNvPr id="90" name="Straight Arrow Connector 7"/>
          <p:cNvCxnSpPr/>
          <p:nvPr/>
        </p:nvCxnSpPr>
        <p:spPr>
          <a:xfrm flipH="1">
            <a:off x="1980360" y="1294920"/>
            <a:ext cx="1296360" cy="2057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" name="Straight Arrow Connector 9"/>
          <p:cNvCxnSpPr/>
          <p:nvPr/>
        </p:nvCxnSpPr>
        <p:spPr>
          <a:xfrm flipH="1">
            <a:off x="2285640" y="1295280"/>
            <a:ext cx="991440" cy="335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557-E04A-4F87-B0BC-9EAB6B7F6253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DCD-1110-48C8-B4CB-DF561A707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272240" y="270000"/>
            <a:ext cx="72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column is also very important because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 have diff. level of numerical fig. In our case,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 the highest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181480"/>
          </a:xfrm>
          <a:prstGeom prst="rect">
            <a:avLst/>
          </a:prstGeom>
          <a:ln w="0">
            <a:noFill/>
          </a:ln>
        </p:spPr>
      </p:pic>
      <p:cxnSp>
        <p:nvCxnSpPr>
          <p:cNvPr id="97" name="Straight Arrow Connector 7"/>
          <p:cNvCxnSpPr/>
          <p:nvPr/>
        </p:nvCxnSpPr>
        <p:spPr>
          <a:xfrm>
            <a:off x="4343040" y="1142640"/>
            <a:ext cx="198180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AD0E-2C91-48BE-B5EB-F41605528DEF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E56-7176-4A36-9A81-5292C46AE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348560" y="117360"/>
            <a:ext cx="73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go to Data View and key-in the data - the salari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6"/>
          <p:cNvCxnSpPr/>
          <p:nvPr/>
        </p:nvCxnSpPr>
        <p:spPr>
          <a:xfrm flipH="1">
            <a:off x="609120" y="533520"/>
            <a:ext cx="4572720" cy="586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1B8B-AE32-4DD9-A033-B81EA5DEE3EA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D7F-DD80-417E-B0A7-0A815301B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09:05:43Z</dcterms:created>
  <dc:creator>unitar</dc:creator>
  <dc:description/>
  <dc:language>en-US</dc:language>
  <cp:lastModifiedBy>sasidhar</cp:lastModifiedBy>
  <dcterms:modified xsi:type="dcterms:W3CDTF">2008-10-18T07:31:05Z</dcterms:modified>
  <cp:revision>41</cp:revision>
  <dc:subject/>
  <dc:title>No Slide Title</dc:title>
</cp:coreProperties>
</file>