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923-D7DC-4A17-AA12-BE5E152D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37A-E6FC-4B1F-AA54-65299858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BF2-C316-4C12-BB2B-31B7928D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2C5-15AA-4A3B-8252-D835E82A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E42-52DE-4C1C-9244-ABBB6A0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4B3-0A0B-456F-9B37-A2D8E5AF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146-2FA6-474F-B4EF-E7C587D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6CE-5EC2-4A14-962E-8441B0C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61B-CB5D-4A51-8737-9C7E0700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E5C-2047-451C-83E4-7AE42E0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D7F-E57B-463A-9EFB-8BA8068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34F-C307-42DA-98E9-8B7F2EB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B0D-EFA4-4D29-97B2-27982D593382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533-2F40-47DF-B95F-AFA3F2BE3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661760" y="6508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SS-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800000" y="14130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power-point slides show you 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some of the features in SP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732680" y="3191040"/>
            <a:ext cx="676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urvey of 20 randomly se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nies asked them to repor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nual income of their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Thousands of 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3   264   265  278  229  281  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3   301   318  230  260  256   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3   271   261  221  290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600200" y="2819520"/>
            <a:ext cx="71629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884-F99D-4B6A-9746-EAA7D050F033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0B4-20ED-48CB-AB8F-61BC2EDC6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530720" y="11736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at, you can proceed to analysis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describe the data you can go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 or show in graphic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991720" cy="548640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6"/>
          <p:cNvCxnSpPr/>
          <p:nvPr/>
        </p:nvCxnSpPr>
        <p:spPr>
          <a:xfrm flipH="1">
            <a:off x="1980720" y="1219320"/>
            <a:ext cx="4579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33D0-467D-4E1F-AB80-429BDA0314D5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C048-32A5-4DE3-97E0-FF609C6B1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565440" y="22860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 flipH="1">
            <a:off x="2209320" y="685800"/>
            <a:ext cx="152496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793F-3117-4240-828E-7B2BA3018B45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DC14-79A6-4581-8F48-CDD384E78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266840" y="19368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get the descriptive information, click the anal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on, a drop down menu appear, please click 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, and then click descrip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6"/>
          <p:cNvCxnSpPr/>
          <p:nvPr/>
        </p:nvCxnSpPr>
        <p:spPr>
          <a:xfrm flipH="1">
            <a:off x="3504960" y="1294200"/>
            <a:ext cx="137232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F93-8528-4EC0-988B-E4F589A07E2B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499-D6DB-467D-AB00-206F5BB37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347120" y="345960"/>
            <a:ext cx="76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criptives will appear and the variables will be sh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ox on the left side. In our case we only hav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hat is sa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518184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6"/>
          <p:cNvCxnSpPr/>
          <p:nvPr/>
        </p:nvCxnSpPr>
        <p:spPr>
          <a:xfrm>
            <a:off x="3504240" y="1447560"/>
            <a:ext cx="76680" cy="198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64BB-F766-4915-81FF-81F9E988CE0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85CF-C0EE-4D95-A7A2-6D6E77329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45320" y="117360"/>
            <a:ext cx="75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ransfer the salary to the box on the right (variable(s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the salary by click on it and in the middl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wo boxes is a direction button, please click on i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lary will appear in the righ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6"/>
          <p:cNvCxnSpPr/>
          <p:nvPr/>
        </p:nvCxnSpPr>
        <p:spPr>
          <a:xfrm flipH="1">
            <a:off x="4266360" y="1218960"/>
            <a:ext cx="381960" cy="2896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A73-4A5B-4CA3-BA0D-4DCA8D59BEE5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8923-272E-4229-A81D-19134E7BF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128960" y="228600"/>
            <a:ext cx="80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click the option button, to identify the type of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like for example mean, std.deviation etc. After you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ection please click continue. Finally click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  <p:cxnSp>
        <p:nvCxnSpPr>
          <p:cNvPr id="139" name="Straight Arrow Connector 8"/>
          <p:cNvCxnSpPr/>
          <p:nvPr/>
        </p:nvCxnSpPr>
        <p:spPr>
          <a:xfrm>
            <a:off x="3580200" y="609480"/>
            <a:ext cx="839160" cy="2820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Straight Arrow Connector 10"/>
          <p:cNvCxnSpPr/>
          <p:nvPr/>
        </p:nvCxnSpPr>
        <p:spPr>
          <a:xfrm>
            <a:off x="4343400" y="990720"/>
            <a:ext cx="991440" cy="2134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Straight Arrow Connector 12"/>
          <p:cNvCxnSpPr/>
          <p:nvPr/>
        </p:nvCxnSpPr>
        <p:spPr>
          <a:xfrm flipH="1">
            <a:off x="5409360" y="990360"/>
            <a:ext cx="762840" cy="25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2" name="Straight Arrow Connector 14"/>
          <p:cNvCxnSpPr/>
          <p:nvPr/>
        </p:nvCxnSpPr>
        <p:spPr>
          <a:xfrm flipV="1">
            <a:off x="4952880" y="5333400"/>
            <a:ext cx="457920" cy="610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Straight Arrow Connector 16"/>
          <p:cNvCxnSpPr/>
          <p:nvPr/>
        </p:nvCxnSpPr>
        <p:spPr>
          <a:xfrm flipV="1">
            <a:off x="2284560" y="4801320"/>
            <a:ext cx="360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46AD-71F2-45F4-A56F-F2CF41EDC4F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7F58-7577-4AF0-9E3B-B092EB052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432080" y="152280"/>
            <a:ext cx="35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result will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D51-28A5-4610-B2B8-5ECD7E04C258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C03-E91A-48D0-9D89-94808BE12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349640" y="193680"/>
            <a:ext cx="49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o back to the data click this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617220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6"/>
          <p:cNvCxnSpPr/>
          <p:nvPr/>
        </p:nvCxnSpPr>
        <p:spPr>
          <a:xfrm flipH="1">
            <a:off x="1599840" y="609480"/>
            <a:ext cx="403920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B11-147C-4A66-8F61-86FCABAB0F6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F65C-25F1-47A4-BE8E-D7E46620C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344960" y="270000"/>
            <a:ext cx="73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 to present the data collected in graphical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click Graphs and then choose the requir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chosen boxplot ( simple, summaries of sepa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then also click defin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5029200"/>
          </a:xfrm>
          <a:prstGeom prst="rect">
            <a:avLst/>
          </a:prstGeom>
          <a:ln w="0">
            <a:noFill/>
          </a:ln>
        </p:spPr>
      </p:pic>
      <p:cxnSp>
        <p:nvCxnSpPr>
          <p:cNvPr id="160" name="Straight Arrow Connector 5"/>
          <p:cNvCxnSpPr/>
          <p:nvPr/>
        </p:nvCxnSpPr>
        <p:spPr>
          <a:xfrm flipV="1">
            <a:off x="3732840" y="4952160"/>
            <a:ext cx="22932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795-6256-4282-8D13-5E2F2DA131A9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A66B-0074-4A60-BC39-149111F24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355760" y="152280"/>
            <a:ext cx="76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dure is the same as descriptive, you have to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ropriate variable and click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5"/>
          <p:cNvCxnSpPr/>
          <p:nvPr/>
        </p:nvCxnSpPr>
        <p:spPr>
          <a:xfrm flipV="1">
            <a:off x="3199320" y="5257440"/>
            <a:ext cx="30564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Straight Arrow Connector 7"/>
          <p:cNvCxnSpPr/>
          <p:nvPr/>
        </p:nvCxnSpPr>
        <p:spPr>
          <a:xfrm>
            <a:off x="3808800" y="914040"/>
            <a:ext cx="762840" cy="1677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65E-AAF5-4E48-975E-417E14DF1B38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BF3-0189-40BA-B1E6-1EF7D3EDA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tart SPSS for Windows using either of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  If you already have the SPSS icon on your desktop, double click on the SPSS icon.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Go to Start Menu | Programs  |  SPSS 16.0 for Window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2A2B-E3E3-45A9-8AE4-85411C7E4E70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3CB9-B02B-4A86-9DF5-37DBB1AE7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CD2-05E8-488B-B642-70F9680EB7D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E18-C978-4796-A324-131E2DC65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583440" y="2606760"/>
            <a:ext cx="282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DC7E-BF87-4C5F-9227-7A63B147BD95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A03D-4BF4-4A85-BE75-01FCA4D39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69800" y="30492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open the SPSS, this window will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66680" y="762120"/>
            <a:ext cx="74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the first time you are key-in the data, click type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10552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9"/>
          <p:cNvCxnSpPr/>
          <p:nvPr/>
        </p:nvCxnSpPr>
        <p:spPr>
          <a:xfrm flipV="1">
            <a:off x="2514240" y="2894760"/>
            <a:ext cx="1677240" cy="839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 flipV="1">
            <a:off x="4267080" y="5638320"/>
            <a:ext cx="4579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9499-D655-48CC-B5E0-B08153B1CD14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2B64-AFC0-4EAD-8B44-CCE43DA5D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1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nus Available in the Data Edito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8600" y="685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open an existing file, to read data (from a text data file or from an application [like Excel] data file) into Data Editor window, to save a data file, and to exit SPSS fo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52280" y="2133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changes like copy, cut or paste to the Data Editor window.  These functions work just like a spread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28600" y="3276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view status bar, tool bar,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2860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fine variables, insert variables or cases, sort cases, merge files, split files, select cases and use a variable to weight cas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" y="5105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o some computations on variables, to create new variables from existing ones or recode old variabl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AB5-47CB-41AE-90E8-D55610E93CEC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B74A-29DC-4EAD-A8F7-EB891CBD6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52280" y="9144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z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o statistical analysis, from descriptive statistics to testing of hypothes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0" y="22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nus Available in the Data Editor Window (Con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arious plots and 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2514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un script and to display information on the contents of SPSS data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ow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ove to an open window or to see which window is active.  The window with a check mark is the active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28600" y="3352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-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vide on-line help and statistics guide for advanced topics and also to provide related information from the SPS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04920" y="5257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t help on topics in SPSS and to ask the statistics coach some questions. This is a very useful t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5F80-6E22-42B6-B3AA-FDC3DE9C43A4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B217-221E-4921-8B6D-CBFC264C6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3"/>
          <p:cNvGraphicFramePr/>
          <p:nvPr/>
        </p:nvGraphicFramePr>
        <p:xfrm>
          <a:off x="228600" y="1447920"/>
          <a:ext cx="87631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7631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5"/>
          <p:cNvSpPr/>
          <p:nvPr/>
        </p:nvSpPr>
        <p:spPr>
          <a:xfrm>
            <a:off x="1355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272600" y="193680"/>
            <a:ext cx="73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this window will appear. Please go to variable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introduce the SPSS program the type of data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. ( quantitative or qualitative …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H="1">
            <a:off x="2133360" y="609480"/>
            <a:ext cx="4343400" cy="5715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155D-6B1A-4A5A-A512-F72850E8EAA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6DF9-08E0-4EE3-926B-8BC50F24C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762120" y="117360"/>
            <a:ext cx="798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n the relevant information. In our case, the name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yped in ‘salary’ as an example. The nex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 is Variable type because this is where you 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quantitative or qualit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839080" cy="5105520"/>
          </a:xfrm>
          <a:prstGeom prst="rect">
            <a:avLst/>
          </a:prstGeom>
          <a:ln w="0">
            <a:noFill/>
          </a:ln>
        </p:spPr>
      </p:pic>
      <p:cxnSp>
        <p:nvCxnSpPr>
          <p:cNvPr id="90" name="Straight Arrow Connector 7"/>
          <p:cNvCxnSpPr/>
          <p:nvPr/>
        </p:nvCxnSpPr>
        <p:spPr>
          <a:xfrm flipH="1">
            <a:off x="1980360" y="1294920"/>
            <a:ext cx="1296360" cy="2057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" name="Straight Arrow Connector 9"/>
          <p:cNvCxnSpPr/>
          <p:nvPr/>
        </p:nvCxnSpPr>
        <p:spPr>
          <a:xfrm flipH="1">
            <a:off x="2285640" y="1295280"/>
            <a:ext cx="991440" cy="335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FD5-2A0A-40AD-B852-8C5A0555B750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A414-474A-4BDE-A926-1B0A8EEB4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272240" y="270000"/>
            <a:ext cx="720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column is also very important because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 have diff. level of numerical fig. In our case,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 the highest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181480"/>
          </a:xfrm>
          <a:prstGeom prst="rect">
            <a:avLst/>
          </a:prstGeom>
          <a:ln w="0">
            <a:noFill/>
          </a:ln>
        </p:spPr>
      </p:pic>
      <p:cxnSp>
        <p:nvCxnSpPr>
          <p:cNvPr id="97" name="Straight Arrow Connector 7"/>
          <p:cNvCxnSpPr/>
          <p:nvPr/>
        </p:nvCxnSpPr>
        <p:spPr>
          <a:xfrm>
            <a:off x="4343040" y="1142640"/>
            <a:ext cx="198180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DDB-6B47-4AB3-A0D2-287CB61E76E6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53C-001D-4393-A111-5823244FC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348560" y="117360"/>
            <a:ext cx="73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go to Data View and key-in the data - the salari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6"/>
          <p:cNvCxnSpPr/>
          <p:nvPr/>
        </p:nvCxnSpPr>
        <p:spPr>
          <a:xfrm flipH="1">
            <a:off x="609120" y="533520"/>
            <a:ext cx="4572720" cy="586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D36-55BB-4219-BD3B-865F1C66F0EC}" type="datetime3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F720-D0DD-4646-B7D2-0CD98A19C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r.B.Sasid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09:05:43Z</dcterms:created>
  <dc:creator>unitar</dc:creator>
  <dc:description/>
  <dc:language>en-US</dc:language>
  <cp:lastModifiedBy>sasidhar</cp:lastModifiedBy>
  <dcterms:modified xsi:type="dcterms:W3CDTF">2008-10-18T07:31:05Z</dcterms:modified>
  <cp:revision>41</cp:revision>
  <dc:subject/>
  <dc:title>No Slide Title</dc:title>
</cp:coreProperties>
</file>