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71B-17EE-4CC0-B9A5-40745D35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338-C999-4FBF-A7A7-7686B210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E00-3104-436B-9DEF-EFD6F187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412-591C-48F8-B39A-3F9DE0AE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EEE-480A-402C-86C3-B9D10E3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921-EBA2-4819-9B7C-F8B0B5E8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A66-F6AC-49AC-BD86-15257833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248-3497-46C6-B10B-57583251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C03-9CFC-411A-9AE4-252382F0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1A5-CCF5-4D98-8F4D-0F39CD3C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7D7-AD3A-432C-AF01-B196812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12D-B59E-4474-AC48-5C75D1D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FE4-966C-489F-9860-101C56A6B9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DB have become the most common data storage mechanism for modern computer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Structured Query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databas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t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ieve data stored in the database for display and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is the language of relational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stat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QL Syntax: The syntax of an SQL statement refers to the structure and rules used for that statement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example, the following syntax represents the information you need when you define a CREATE TA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m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table definition&gt; ::=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[ { GLOBAL | LOCAL } TEMPORARY ] TABLE &lt;table name&g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 &lt;table element&gt; [ { , &lt;table element&gt; } . . . ] 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 ON COMMIT { PRESERVE | DELETE } ROWS 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3:03Z</dcterms:created>
  <dc:creator>user</dc:creator>
  <dc:description/>
  <dc:language>en-US</dc:language>
  <cp:lastModifiedBy>K AlSultan</cp:lastModifiedBy>
  <dcterms:modified xsi:type="dcterms:W3CDTF">2015-02-08T21:53:38Z</dcterms:modified>
  <cp:revision>7</cp:revision>
  <dc:subject/>
  <dc:title>Slide 1</dc:title>
</cp:coreProperties>
</file>