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769-703C-414F-A504-28ED446A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2DA6-0AA7-4B6E-9310-91415F69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829-CD1E-40AD-8903-899A2A5A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658C-2A4D-4B3B-A9BA-C4C5C555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664-5EC9-418C-8FBA-5C61F310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8F5C-7F51-41F5-8B1E-461B6F6D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DA1D-F30C-4A84-9A11-2C48C0DA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0048-3154-4846-B89A-25163E5C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025-C512-4344-95DD-5EBE54E1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8207-6067-4F4F-868A-E0CCF2D7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4CD-3461-4524-B4D3-07DD0D35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0F9B-BAE6-4E05-BA57-C61EEAEE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46C8-40A0-4F71-80D1-F3A4CF97035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Q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al DB have become the most common data storage mechanism for modern computer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QL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Structured Query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databas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d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ete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ify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ieve data stored in the database for display and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QL is the language of relational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QL stat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SQL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QL Syntax: The syntax of an SQL statement refers to the structure and rules used for that statement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 example, the following syntax represents the information you need when you define a CREATE TAB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emen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&lt;table definition&gt; ::=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EATE [ { GLOBAL | LOCAL } TEMPORARY ] TABLE &lt;table name&gt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 &lt;table element&gt; [ { , &lt;table element&gt; } . . . ] 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[ ON COMMIT { PRESERVE | DELETE } ROWS 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06:13:03Z</dcterms:created>
  <dc:creator>user</dc:creator>
  <dc:description/>
  <dc:language>en-US</dc:language>
  <cp:lastModifiedBy>K AlSultan</cp:lastModifiedBy>
  <dcterms:modified xsi:type="dcterms:W3CDTF">2015-02-08T21:53:38Z</dcterms:modified>
  <cp:revision>7</cp:revision>
  <dc:subject/>
  <dc:title>Slide 1</dc:title>
</cp:coreProperties>
</file>