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ED2-7D85-417F-B4D1-21B35F48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E6C-8A02-43C6-A8A0-1546FB29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797-CA4F-4C38-85E0-F0FBCAE4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C4F-F21F-4759-8A5C-E2B9B16E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B62-08DA-4B7F-9786-C2BE2A6D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233-B24E-48EA-A343-446D591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BC8B-12BA-4696-AD52-A99BAB01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DF0-6D41-40BF-A849-3E365F0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B8CA-3E3F-44DD-A5B7-3DB99478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3BA0-9A59-4826-A6D1-987E25F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023C-6DA5-47A1-9049-E0AB6AE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5C1-5015-48C5-AA1C-8E92F523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622-C4AF-45E7-9D4C-F0ADF894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ADC1-E370-4A16-8E96-CA6FE23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8132-CCB9-4B6C-9B30-514B3A39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0C55-6A2C-486C-95A1-607EAFB2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C9D-9263-48F5-BD94-2FF5CC40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07C-6E2D-482C-BC8F-1F24E9E9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128-CC92-4235-8344-26FDF43A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D37-08E2-4148-9C54-E2DE0AB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970-3C3E-435F-80EC-D5133036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06B-6C6C-4E52-B5FF-749C0173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526-CC06-4BE0-BAAA-8AEB55D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5C4-BCFB-4CCA-B332-82ED5B5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7B9E-A6FD-485B-9013-FEFA21011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9C4F-73BB-4286-BE72-366AA7C8D69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IN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of adding a dye to a bac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ul-bact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030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284840" y="838080"/>
            <a:ext cx="346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racisella tularen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itive agent of Rabbit fe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09_Yeast_Meth_Blue_P7201177"/>
          <p:cNvPicPr/>
          <p:nvPr/>
        </p:nvPicPr>
        <p:blipFill>
          <a:blip r:embed="rId2"/>
          <a:stretch/>
        </p:blipFill>
        <p:spPr>
          <a:xfrm>
            <a:off x="5462640" y="3208320"/>
            <a:ext cx="3681360" cy="3649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3240" y="419112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charromyces cerevisi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rewer’s yeast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300px-Gram_Stain_Anthrax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2938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48960" y="336600"/>
            <a:ext cx="30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acillus anthraci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nthra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m posi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stal violet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12" descr="Campylobacter%20jejuni"/>
          <p:cNvPicPr/>
          <p:nvPr/>
        </p:nvPicPr>
        <p:blipFill>
          <a:blip r:embed="rId2"/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555120" y="4724280"/>
            <a:ext cx="44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ampylobacter jejun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raveler’s diarrhe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m 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chsin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dye—possess a positive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idic dye—possess a negative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, bacteria posses a slight negative charge on their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ST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nly one d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purpose of viewing bacterial shapes and arran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Stain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. aure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) A colony from the “Microbes 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nvironment” pl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Types of Staining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Stai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hapes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rrange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Staining (Gram reac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Stai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apsule, flagella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p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e smear of bacte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t fix the bacteria to the slide (release of “sticky” proteins from the cell surface of the bacteria adheres the bacterial cell to the sl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crystal violet to the smear; let stand 45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nse with distilled water or tap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t dry with bibulous 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 using micro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190600" y="649116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8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114640" y="649116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Slide8"/>
          <p:cNvPicPr/>
          <p:nvPr/>
        </p:nvPicPr>
        <p:blipFill>
          <a:blip r:embed="rId1"/>
          <a:srcRect l="0" t="0" r="35835" b="6667"/>
          <a:stretch/>
        </p:blipFill>
        <p:spPr>
          <a:xfrm>
            <a:off x="0" y="0"/>
            <a:ext cx="586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4582440" y="53352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stal Vio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chs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39880" y="2698920"/>
            <a:ext cx="38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stains allow visualization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622040" y="460368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teus vulga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phyloccocus aur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acillus cer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9" descr="Slide9"/>
          <p:cNvPicPr/>
          <p:nvPr/>
        </p:nvPicPr>
        <p:blipFill>
          <a:blip r:embed="rId1"/>
          <a:srcRect l="0" t="0" r="67504" b="0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2708280" y="64324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8:15:19Z</dcterms:created>
  <dc:creator>hoganb</dc:creator>
  <dc:description/>
  <dc:language>en-US</dc:language>
  <cp:lastModifiedBy>ihab moussa</cp:lastModifiedBy>
  <dcterms:modified xsi:type="dcterms:W3CDTF">2017-05-02T06:27:51Z</dcterms:modified>
  <cp:revision>15</cp:revision>
  <dc:subject/>
  <dc:title>STAINING</dc:title>
</cp:coreProperties>
</file>