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ED7-6666-4959-A17D-8EE30508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6885-86D7-492D-909A-B83A04EC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4C5-A95B-4515-9BC4-D6619F18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499-2DD1-47A2-8B07-C4F37EC0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67C0-A618-4C19-8D62-EA8A3C32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B78B-BE2C-41ED-A804-AE2003DF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7572-A066-43C0-9DEA-4285BA1C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6309-70C0-45EA-94FA-ADABF755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7178-5FCF-4B3A-9B77-4AFCE5F7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F8BA-B8B7-49CF-91C7-AC286431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4616-3051-463C-AD18-8339601E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AD8-9638-47BE-90D2-6024117F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962F-DFFF-40A3-B3EC-9AACAE59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480B-F881-4FAA-82CE-F4E09CC1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C97E-CE27-4F1D-9E78-C01F2198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92A4-418C-4918-8D65-4A019547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EDA0-A519-4B6E-BDC5-8A75030A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C9BE-9831-461F-A6D6-ABCBF938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2BF-7844-4076-8F8A-5B6D2268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D47-A836-4697-BE48-A0076B6B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186F-0968-4AFF-8DDD-09FFB832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3CD-5352-46E1-B0FC-A43369C7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92A-D669-4DEB-9325-55A1E0AA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6B46-E890-4425-A7AC-0F712A0D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FE60-21FB-4BD8-BC13-8B156B91A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02DA-A453-4F51-8437-263E0C6797F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INING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cess of adding a dye to a bacterial 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tul-bact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3030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284840" y="838080"/>
            <a:ext cx="346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racisella tularens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sitive agent of Rabbit fe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ylene blue st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8" descr="09_Yeast_Meth_Blue_P7201177"/>
          <p:cNvPicPr/>
          <p:nvPr/>
        </p:nvPicPr>
        <p:blipFill>
          <a:blip r:embed="rId2"/>
          <a:stretch/>
        </p:blipFill>
        <p:spPr>
          <a:xfrm>
            <a:off x="5462640" y="3208320"/>
            <a:ext cx="3681360" cy="3649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1443240" y="4191120"/>
            <a:ext cx="277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acharromyces cerevisia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rewer’s yeast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ylene blue st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300px-Gram_Stain_Anthrax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2938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1848960" y="336600"/>
            <a:ext cx="30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acillus anthraci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nthra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m posi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ystal violet st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12" descr="Campylobacter%20jejuni"/>
          <p:cNvPicPr/>
          <p:nvPr/>
        </p:nvPicPr>
        <p:blipFill>
          <a:blip r:embed="rId2"/>
          <a:stretch/>
        </p:blipFill>
        <p:spPr>
          <a:xfrm>
            <a:off x="5029200" y="3773520"/>
            <a:ext cx="4114800" cy="3084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3"/>
          <p:cNvSpPr/>
          <p:nvPr/>
        </p:nvSpPr>
        <p:spPr>
          <a:xfrm>
            <a:off x="555120" y="4724280"/>
            <a:ext cx="449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ampylobacter jejun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raveler’s diarrhe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m ne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chsin st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dye—possess a positive char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idic dye—possess a negative char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ember, bacteria posses a slight negative charge on their su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PLE STAI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nly one dy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purpose of viewing bacterial shapes and arrang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Stain the follow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. co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. aure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) A colony from the “Microbes i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Environment” plat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 Types of Staining Proced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Stai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shapes an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arrange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ial Staining (Gram reac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Stai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Capsule, flagella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spo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are smear of bacter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r d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t fix the bacteria to the slide (release of “sticky” proteins from the cell surface of the bacteria adheres the bacterial cell to the sl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crystal violet to the smear; let stand 45 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nse with distilled water or tap 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ot dry with bibulous pa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ew using microsco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190600" y="649116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ge 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8" descr="Slid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2114640" y="649116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ge 5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Slide8"/>
          <p:cNvPicPr/>
          <p:nvPr/>
        </p:nvPicPr>
        <p:blipFill>
          <a:blip r:embed="rId1"/>
          <a:srcRect l="0" t="0" r="35835" b="6667"/>
          <a:stretch/>
        </p:blipFill>
        <p:spPr>
          <a:xfrm>
            <a:off x="0" y="0"/>
            <a:ext cx="5867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4582440" y="533520"/>
            <a:ext cx="184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ylene b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ystal Viol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chs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439880" y="2698920"/>
            <a:ext cx="389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 stains allow visualization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p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ang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4622040" y="4603680"/>
            <a:ext cx="24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roteus vulgar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phyloccocus aur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acillus cere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9" descr="Slide9"/>
          <p:cNvPicPr/>
          <p:nvPr/>
        </p:nvPicPr>
        <p:blipFill>
          <a:blip r:embed="rId1"/>
          <a:srcRect l="0" t="0" r="67504" b="0"/>
          <a:stretch/>
        </p:blipFill>
        <p:spPr>
          <a:xfrm>
            <a:off x="0" y="0"/>
            <a:ext cx="29718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2708280" y="643248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ge 5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18:15:19Z</dcterms:created>
  <dc:creator>hoganb</dc:creator>
  <dc:description/>
  <dc:language>en-US</dc:language>
  <cp:lastModifiedBy>ihab moussa</cp:lastModifiedBy>
  <dcterms:modified xsi:type="dcterms:W3CDTF">2017-05-02T06:27:51Z</dcterms:modified>
  <cp:revision>15</cp:revision>
  <dc:subject/>
  <dc:title>STAINING</dc:title>
</cp:coreProperties>
</file>