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wal 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BF794-10B9-476A-BFEB-40AE00C110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F953B-F239-41BC-976B-3BD516E347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CE44-60F7-456F-8BF5-B47DF34F6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0185-10BF-4962-A6A3-44DCC2FC1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27F9-D49E-49EE-8E15-C082E3433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8E9A-E31F-4EF2-BBA6-6C437B176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9C431-5024-4134-8059-E2C0228F2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B1165-1086-415C-A099-24DF29A24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966B8-9154-465A-9038-1B7136A6B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64C96-FD7C-4742-BEE7-3A9287059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2720C-1BBA-4240-A2EF-F074A4252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83C77-5FD3-4AFF-81D5-511F4B2AB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04A1A-6570-47FC-BB8D-2AB010C51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66F9-5921-4C47-A92D-0C8EA04B5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8A5EF-E690-4CAC-86D7-94FDAC247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4643D-17CC-4B33-9E8E-9521A0E36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5267A-83FF-4216-AECC-20462CD7D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F05EE-5A56-46B6-BF78-67B65BDDB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53320-0A08-4D42-BDBF-018556ABC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CA4CD1-EC2D-4444-A409-513D30535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C3E290-6F44-43AB-AAB2-EB873BBFB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DDEB22-8DD2-416B-90AB-F5C92FA4B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85A6C5-B85B-4D4B-B50C-C6B833B56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32598E-ECB9-4A98-81C3-6FD3100FF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9093-D8C9-49DC-A875-AFA901B21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3F3569-6926-4B06-A271-978BFC943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75BE40-2746-46FE-ACE3-45D9F684D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AA0F91-DBB5-41D7-888E-619D440EF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5FD32C-688D-4FDF-A5C3-9DCBA4800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5D14CD-35B0-4A54-88B7-DE8537D5B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95C89B-D895-4719-8DCE-92430AC50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A9EB36-BB52-4485-89E3-7532B935F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36D452-1250-47C5-8BA5-EFE8CCDAC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0E7A40-4869-4056-9C0C-8DA02FF67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A16E60-DF52-4F13-9986-77E7D8617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1374-0B27-40AE-BDA8-5FAB764B7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3C9615-961F-4437-89D0-907480B02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042EC8-3FA0-42C1-8D84-5C87A8C05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71A485-DAE9-42D0-A915-0724C2209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C3921D-0871-49D4-AF3D-4CEF235C6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6B58A3-9B1C-4837-8045-96D83F612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538E49-1688-4F7B-971C-F8599852A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19849D-D042-4F22-8ABE-5E5443EFC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CE8CE4-F84E-4931-AB95-1B944AA12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C519C2-9EEE-4E01-A74A-9DE89B860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B056-D953-4D42-B386-4E4C66AC8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C429-E52B-4E10-A3F3-BF3029E46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2EFE-531E-4029-8424-2EFA90D0C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171D-8880-4CA5-9162-EF44B5966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036E-E123-429F-8B52-4441B0E1B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7.pn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8.pn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25.xml"/><Relationship Id="rId11" Type="http://schemas.openxmlformats.org/officeDocument/2006/relationships/slideLayout" Target="../slideLayouts/slideLayout26.xml"/><Relationship Id="rId12" Type="http://schemas.openxmlformats.org/officeDocument/2006/relationships/slideLayout" Target="../slideLayouts/slideLayout27.xml"/><Relationship Id="rId13" Type="http://schemas.openxmlformats.org/officeDocument/2006/relationships/slideLayout" Target="../slideLayouts/slideLayout28.xml"/><Relationship Id="rId14" Type="http://schemas.openxmlformats.org/officeDocument/2006/relationships/slideLayout" Target="../slideLayouts/slideLayout29.xml"/><Relationship Id="rId15" Type="http://schemas.openxmlformats.org/officeDocument/2006/relationships/slideLayout" Target="../slideLayouts/slideLayout30.xml"/><Relationship Id="rId16" Type="http://schemas.openxmlformats.org/officeDocument/2006/relationships/slideLayout" Target="../slideLayouts/slideLayout31.xml"/><Relationship Id="rId17" Type="http://schemas.openxmlformats.org/officeDocument/2006/relationships/slideLayout" Target="../slideLayouts/slideLayout32.xml"/><Relationship Id="rId18" Type="http://schemas.openxmlformats.org/officeDocument/2006/relationships/slideLayout" Target="../slideLayouts/slideLayout33.xml"/><Relationship Id="rId19" Type="http://schemas.openxmlformats.org/officeDocument/2006/relationships/slideLayout" Target="../slideLayouts/slideLayout34.xml"/><Relationship Id="rId20" Type="http://schemas.openxmlformats.org/officeDocument/2006/relationships/slideLayout" Target="../slideLayouts/slideLayout35.xml"/><Relationship Id="rId21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8.pn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37.xml"/><Relationship Id="rId11" Type="http://schemas.openxmlformats.org/officeDocument/2006/relationships/slideLayout" Target="../slideLayouts/slideLayout38.xml"/><Relationship Id="rId12" Type="http://schemas.openxmlformats.org/officeDocument/2006/relationships/slideLayout" Target="../slideLayouts/slideLayout39.xml"/><Relationship Id="rId13" Type="http://schemas.openxmlformats.org/officeDocument/2006/relationships/slideLayout" Target="../slideLayouts/slideLayout40.xml"/><Relationship Id="rId14" Type="http://schemas.openxmlformats.org/officeDocument/2006/relationships/slideLayout" Target="../slideLayouts/slideLayout41.xml"/><Relationship Id="rId15" Type="http://schemas.openxmlformats.org/officeDocument/2006/relationships/slideLayout" Target="../slideLayouts/slideLayout42.xml"/><Relationship Id="rId16" Type="http://schemas.openxmlformats.org/officeDocument/2006/relationships/slideLayout" Target="../slideLayouts/slideLayout43.xml"/><Relationship Id="rId17" Type="http://schemas.openxmlformats.org/officeDocument/2006/relationships/slideLayout" Target="../slideLayouts/slideLayout44.xml"/><Relationship Id="rId18" Type="http://schemas.openxmlformats.org/officeDocument/2006/relationships/slideLayout" Target="../slideLayouts/slideLayout45.xml"/><Relationship Id="rId19" Type="http://schemas.openxmlformats.org/officeDocument/2006/relationships/slideLayout" Target="../slideLayouts/slideLayout46.xml"/><Relationship Id="rId20" Type="http://schemas.openxmlformats.org/officeDocument/2006/relationships/slideLayout" Target="../slideLayouts/slideLayout47.xml"/><Relationship Id="rId21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Rectangle 7"/>
            <p:cNvGrpSpPr/>
            <p:nvPr/>
          </p:nvGrpSpPr>
          <p:grpSpPr>
            <a:xfrm>
              <a:off x="0" y="0"/>
              <a:ext cx="7165440" cy="6858000"/>
              <a:chOff x="0" y="0"/>
              <a:chExt cx="7165440" cy="6858000"/>
            </a:xfrm>
          </p:grpSpPr>
          <p:pic>
            <p:nvPicPr>
              <p:cNvPr id="2" name="Rectangle 7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54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" name=""/>
              <p:cNvSpPr/>
              <p:nvPr/>
            </p:nvSpPr>
            <p:spPr>
              <a:xfrm>
                <a:off x="5760" y="5760"/>
                <a:ext cx="7153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  <p:grpSp>
          <p:nvGrpSpPr>
            <p:cNvPr id="4" name="Rectangle 8"/>
            <p:cNvGrpSpPr/>
            <p:nvPr/>
          </p:nvGrpSpPr>
          <p:grpSpPr>
            <a:xfrm>
              <a:off x="1144440" y="0"/>
              <a:ext cx="7999560" cy="6858000"/>
              <a:chOff x="1144440" y="0"/>
              <a:chExt cx="7999560" cy="6858000"/>
            </a:xfrm>
          </p:grpSpPr>
          <p:pic>
            <p:nvPicPr>
              <p:cNvPr id="5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4440" y="0"/>
                <a:ext cx="799956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" name=""/>
              <p:cNvSpPr/>
              <p:nvPr/>
            </p:nvSpPr>
            <p:spPr>
              <a:xfrm>
                <a:off x="1147320" y="5760"/>
                <a:ext cx="7990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</p:grpSp>
      <p:grpSp>
        <p:nvGrpSpPr>
          <p:cNvPr id="7" name="Freeform 9"/>
          <p:cNvGrpSpPr/>
          <p:nvPr/>
        </p:nvGrpSpPr>
        <p:grpSpPr>
          <a:xfrm>
            <a:off x="622440" y="6066000"/>
            <a:ext cx="7935840" cy="547560"/>
            <a:chOff x="622440" y="6066000"/>
            <a:chExt cx="7935840" cy="547560"/>
          </a:xfrm>
        </p:grpSpPr>
        <p:pic>
          <p:nvPicPr>
            <p:cNvPr id="8" name="Freeform 9" descr=""/>
            <p:cNvPicPr/>
            <p:nvPr/>
          </p:nvPicPr>
          <p:blipFill>
            <a:blip r:embed="rId5"/>
            <a:stretch/>
          </p:blipFill>
          <p:spPr>
            <a:xfrm>
              <a:off x="622440" y="6066000"/>
              <a:ext cx="7935840" cy="54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 rot="10800000">
              <a:off x="628200" y="6068520"/>
              <a:ext cx="7921800" cy="53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0" name="Rectangle 10"/>
          <p:cNvSpPr/>
          <p:nvPr/>
        </p:nvSpPr>
        <p:spPr>
          <a:xfrm>
            <a:off x="731880" y="574560"/>
            <a:ext cx="7696080" cy="5715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" name="Rectangle 11"/>
          <p:cNvSpPr/>
          <p:nvPr/>
        </p:nvSpPr>
        <p:spPr>
          <a:xfrm>
            <a:off x="731880" y="576360"/>
            <a:ext cx="7696080" cy="571500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12" name="Picture 2" descr="C:\Users\Administrator\Desktop\Pushpin Dev\Assets\pushpinLeft.png"/>
          <p:cNvPicPr/>
          <p:nvPr/>
        </p:nvPicPr>
        <p:blipFill>
          <a:blip r:embed="rId7"/>
          <a:stretch/>
        </p:blipFill>
        <p:spPr>
          <a:xfrm rot="1435200">
            <a:off x="544680" y="272880"/>
            <a:ext cx="566640" cy="56844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4095600">
            <a:off x="8115480" y="298080"/>
            <a:ext cx="566640" cy="566640"/>
          </a:xfrm>
          <a:prstGeom prst="rect">
            <a:avLst/>
          </a:prstGeom>
          <a:ln w="0">
            <a:noFill/>
          </a:ln>
        </p:spPr>
      </p:pic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6454440" y="5808600"/>
            <a:ext cx="1212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CD108-DD7A-4196-8E76-0553196D38CD}" type="datetime">
              <a:rPr b="0" lang="en-US" sz="1200" spc="-1" strike="noStrike">
                <a:solidFill>
                  <a:srgbClr val="465e9c"/>
                </a:solidFill>
                <a:latin typeface="Rage Italic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914400" y="5808600"/>
            <a:ext cx="554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7670520" y="58086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BD470-BD35-4A16-A89C-4DD72D0A73F9}" type="slidenum">
              <a:rPr b="0" lang="en-US" sz="1400" spc="-1" strike="noStrike">
                <a:solidFill>
                  <a:srgbClr val="465e9c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6" name="Rectangle 15"/>
            <p:cNvGrpSpPr/>
            <p:nvPr/>
          </p:nvGrpSpPr>
          <p:grpSpPr>
            <a:xfrm>
              <a:off x="0" y="0"/>
              <a:ext cx="7165440" cy="6858000"/>
              <a:chOff x="0" y="0"/>
              <a:chExt cx="7165440" cy="6858000"/>
            </a:xfrm>
          </p:grpSpPr>
          <p:pic>
            <p:nvPicPr>
              <p:cNvPr id="57" name="Rectangle 15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54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>
                <a:off x="5760" y="5760"/>
                <a:ext cx="7153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  <p:grpSp>
          <p:nvGrpSpPr>
            <p:cNvPr id="59" name="Rectangle 16"/>
            <p:cNvGrpSpPr/>
            <p:nvPr/>
          </p:nvGrpSpPr>
          <p:grpSpPr>
            <a:xfrm>
              <a:off x="1144440" y="0"/>
              <a:ext cx="7999560" cy="6858000"/>
              <a:chOff x="1144440" y="0"/>
              <a:chExt cx="7999560" cy="6858000"/>
            </a:xfrm>
          </p:grpSpPr>
          <p:pic>
            <p:nvPicPr>
              <p:cNvPr id="60" name="Rectangle 16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4440" y="0"/>
                <a:ext cx="799956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" name=""/>
              <p:cNvSpPr/>
              <p:nvPr/>
            </p:nvSpPr>
            <p:spPr>
              <a:xfrm>
                <a:off x="1147320" y="5760"/>
                <a:ext cx="7990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</p:grpSp>
      <p:grpSp>
        <p:nvGrpSpPr>
          <p:cNvPr id="62" name="Freeform 17"/>
          <p:cNvGrpSpPr/>
          <p:nvPr/>
        </p:nvGrpSpPr>
        <p:grpSpPr>
          <a:xfrm>
            <a:off x="884160" y="5614920"/>
            <a:ext cx="7394760" cy="547920"/>
            <a:chOff x="884160" y="5614920"/>
            <a:chExt cx="7394760" cy="547920"/>
          </a:xfrm>
        </p:grpSpPr>
        <p:pic>
          <p:nvPicPr>
            <p:cNvPr id="63" name="Freeform 17" descr=""/>
            <p:cNvPicPr/>
            <p:nvPr/>
          </p:nvPicPr>
          <p:blipFill>
            <a:blip r:embed="rId5"/>
            <a:stretch/>
          </p:blipFill>
          <p:spPr>
            <a:xfrm>
              <a:off x="884160" y="5614920"/>
              <a:ext cx="7394760" cy="5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 rot="10800000">
              <a:off x="891720" y="5617800"/>
              <a:ext cx="7381800" cy="53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65" name="Rectangle 18"/>
          <p:cNvSpPr/>
          <p:nvPr/>
        </p:nvSpPr>
        <p:spPr>
          <a:xfrm>
            <a:off x="990720" y="1017720"/>
            <a:ext cx="7178400" cy="4830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Rectangle 19"/>
          <p:cNvSpPr/>
          <p:nvPr/>
        </p:nvSpPr>
        <p:spPr>
          <a:xfrm>
            <a:off x="990720" y="1009800"/>
            <a:ext cx="7180200" cy="483228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67" name="Picture 2" descr="C:\Users\Administrator\Desktop\Pushpin Dev\Assets\pushpinLeft.png"/>
          <p:cNvPicPr/>
          <p:nvPr/>
        </p:nvPicPr>
        <p:blipFill>
          <a:blip r:embed="rId7"/>
          <a:stretch/>
        </p:blipFill>
        <p:spPr>
          <a:xfrm rot="1435200">
            <a:off x="770040" y="701640"/>
            <a:ext cx="566640" cy="5684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4095600">
            <a:off x="7854480" y="748800"/>
            <a:ext cx="567000" cy="567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4"/>
          </p:nvPr>
        </p:nvSpPr>
        <p:spPr>
          <a:xfrm>
            <a:off x="6770520" y="5357880"/>
            <a:ext cx="1214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7A255-F7EC-4E1F-9BBE-33773343DF3B}" type="datetime">
              <a:rPr b="0" lang="en-US" sz="1200" spc="-1" strike="noStrike">
                <a:solidFill>
                  <a:srgbClr val="465e9c"/>
                </a:solidFill>
                <a:latin typeface="Rage Italic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ftr" idx="5"/>
          </p:nvPr>
        </p:nvSpPr>
        <p:spPr>
          <a:xfrm>
            <a:off x="1174320" y="5357880"/>
            <a:ext cx="503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sldNum" idx="6"/>
          </p:nvPr>
        </p:nvSpPr>
        <p:spPr>
          <a:xfrm>
            <a:off x="6213240" y="535788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34843-E582-4C7A-9FBF-5FE6EF61FFB6}" type="slidenum">
              <a:rPr b="0" lang="en-US" sz="1400" spc="-1" strike="noStrike">
                <a:solidFill>
                  <a:srgbClr val="465e9c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11" name="Rectangle 15"/>
            <p:cNvGrpSpPr/>
            <p:nvPr/>
          </p:nvGrpSpPr>
          <p:grpSpPr>
            <a:xfrm>
              <a:off x="0" y="0"/>
              <a:ext cx="7165440" cy="6858000"/>
              <a:chOff x="0" y="0"/>
              <a:chExt cx="7165440" cy="6858000"/>
            </a:xfrm>
          </p:grpSpPr>
          <p:pic>
            <p:nvPicPr>
              <p:cNvPr id="112" name="Rectangle 15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54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"/>
              <p:cNvSpPr/>
              <p:nvPr/>
            </p:nvSpPr>
            <p:spPr>
              <a:xfrm>
                <a:off x="5760" y="5760"/>
                <a:ext cx="7153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  <p:grpSp>
          <p:nvGrpSpPr>
            <p:cNvPr id="114" name="Rectangle 16"/>
            <p:cNvGrpSpPr/>
            <p:nvPr/>
          </p:nvGrpSpPr>
          <p:grpSpPr>
            <a:xfrm>
              <a:off x="1144440" y="0"/>
              <a:ext cx="7999560" cy="6858000"/>
              <a:chOff x="1144440" y="0"/>
              <a:chExt cx="7999560" cy="6858000"/>
            </a:xfrm>
          </p:grpSpPr>
          <p:pic>
            <p:nvPicPr>
              <p:cNvPr id="115" name="Rectangle 16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4440" y="0"/>
                <a:ext cx="799956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" name=""/>
              <p:cNvSpPr/>
              <p:nvPr/>
            </p:nvSpPr>
            <p:spPr>
              <a:xfrm>
                <a:off x="1147320" y="5760"/>
                <a:ext cx="7990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</p:grpSp>
      <p:grpSp>
        <p:nvGrpSpPr>
          <p:cNvPr id="117" name="Freeform 17"/>
          <p:cNvGrpSpPr/>
          <p:nvPr/>
        </p:nvGrpSpPr>
        <p:grpSpPr>
          <a:xfrm>
            <a:off x="628560" y="6053040"/>
            <a:ext cx="7729560" cy="549360"/>
            <a:chOff x="628560" y="6053040"/>
            <a:chExt cx="7729560" cy="549360"/>
          </a:xfrm>
        </p:grpSpPr>
        <p:pic>
          <p:nvPicPr>
            <p:cNvPr id="118" name="Freeform 17" descr=""/>
            <p:cNvPicPr/>
            <p:nvPr/>
          </p:nvPicPr>
          <p:blipFill>
            <a:blip r:embed="rId5"/>
            <a:stretch/>
          </p:blipFill>
          <p:spPr>
            <a:xfrm>
              <a:off x="628560" y="6053040"/>
              <a:ext cx="772956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 rot="10800000">
              <a:off x="631440" y="6058080"/>
              <a:ext cx="7721640" cy="53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20" name="Rectangle 18"/>
          <p:cNvSpPr/>
          <p:nvPr/>
        </p:nvSpPr>
        <p:spPr>
          <a:xfrm rot="60000">
            <a:off x="4468680" y="60444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Rectangle 19"/>
          <p:cNvSpPr/>
          <p:nvPr/>
        </p:nvSpPr>
        <p:spPr>
          <a:xfrm rot="60000">
            <a:off x="4471920" y="603000"/>
            <a:ext cx="3787920" cy="572292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2" name="Rectangle 20"/>
          <p:cNvSpPr/>
          <p:nvPr/>
        </p:nvSpPr>
        <p:spPr>
          <a:xfrm rot="21540000">
            <a:off x="748800" y="57600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3" name="Rectangle 21"/>
          <p:cNvSpPr/>
          <p:nvPr/>
        </p:nvSpPr>
        <p:spPr>
          <a:xfrm rot="21540000">
            <a:off x="748800" y="576000"/>
            <a:ext cx="3789360" cy="5721120"/>
          </a:xfrm>
          <a:prstGeom prst="rect">
            <a:avLst/>
          </a:prstGeom>
          <a:blipFill rotWithShape="0">
            <a:blip r:embed="rId7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124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1435200">
            <a:off x="2371680" y="293760"/>
            <a:ext cx="566640" cy="5680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" descr="C:\Users\Administrator\Desktop\Pushpin Dev\Assets\pushpinLeft.png"/>
          <p:cNvPicPr/>
          <p:nvPr/>
        </p:nvPicPr>
        <p:blipFill>
          <a:blip r:embed="rId9"/>
          <a:stretch/>
        </p:blipFill>
        <p:spPr>
          <a:xfrm rot="4095600">
            <a:off x="6280200" y="333000"/>
            <a:ext cx="566640" cy="56664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7"/>
          </p:nvPr>
        </p:nvSpPr>
        <p:spPr>
          <a:xfrm rot="60000">
            <a:off x="6341400" y="5886360"/>
            <a:ext cx="1212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AB084-CF17-40B0-9D44-B1AC7A63F39B}" type="datetime">
              <a:rPr b="0" lang="en-US" sz="1200" spc="-1" strike="noStrike">
                <a:solidFill>
                  <a:srgbClr val="465e9c"/>
                </a:solidFill>
                <a:latin typeface="Rage Italic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8"/>
          </p:nvPr>
        </p:nvSpPr>
        <p:spPr>
          <a:xfrm rot="21540000">
            <a:off x="914040" y="5829120"/>
            <a:ext cx="3522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9"/>
          </p:nvPr>
        </p:nvSpPr>
        <p:spPr>
          <a:xfrm rot="60000">
            <a:off x="7557840" y="589752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394A9-8CC9-495B-B28B-123A34ACA262}" type="slidenum">
              <a:rPr b="0" lang="en-US" sz="1400" spc="-1" strike="noStrike">
                <a:solidFill>
                  <a:srgbClr val="465e9c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0"/>
    <p:sldLayoutId id="2147483676" r:id="rId11"/>
    <p:sldLayoutId id="2147483677" r:id="rId12"/>
    <p:sldLayoutId id="2147483678" r:id="rId13"/>
    <p:sldLayoutId id="2147483679" r:id="rId14"/>
    <p:sldLayoutId id="2147483680" r:id="rId15"/>
    <p:sldLayoutId id="2147483681" r:id="rId16"/>
    <p:sldLayoutId id="2147483682" r:id="rId17"/>
    <p:sldLayoutId id="2147483683" r:id="rId18"/>
    <p:sldLayoutId id="2147483684" r:id="rId19"/>
    <p:sldLayoutId id="2147483685" r:id="rId20"/>
    <p:sldLayoutId id="2147483686" r:id="rId21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68" name="Rectangle 15"/>
            <p:cNvGrpSpPr/>
            <p:nvPr/>
          </p:nvGrpSpPr>
          <p:grpSpPr>
            <a:xfrm>
              <a:off x="0" y="0"/>
              <a:ext cx="7165440" cy="6858000"/>
              <a:chOff x="0" y="0"/>
              <a:chExt cx="7165440" cy="6858000"/>
            </a:xfrm>
          </p:grpSpPr>
          <p:pic>
            <p:nvPicPr>
              <p:cNvPr id="169" name="Rectangle 15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54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0" name=""/>
              <p:cNvSpPr/>
              <p:nvPr/>
            </p:nvSpPr>
            <p:spPr>
              <a:xfrm>
                <a:off x="5760" y="5760"/>
                <a:ext cx="7153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  <p:grpSp>
          <p:nvGrpSpPr>
            <p:cNvPr id="171" name="Rectangle 16"/>
            <p:cNvGrpSpPr/>
            <p:nvPr/>
          </p:nvGrpSpPr>
          <p:grpSpPr>
            <a:xfrm>
              <a:off x="1144440" y="0"/>
              <a:ext cx="7999560" cy="6858000"/>
              <a:chOff x="1144440" y="0"/>
              <a:chExt cx="7999560" cy="6858000"/>
            </a:xfrm>
          </p:grpSpPr>
          <p:pic>
            <p:nvPicPr>
              <p:cNvPr id="172" name="Rectangle 16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4440" y="0"/>
                <a:ext cx="799956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3" name=""/>
              <p:cNvSpPr/>
              <p:nvPr/>
            </p:nvSpPr>
            <p:spPr>
              <a:xfrm>
                <a:off x="1147320" y="5760"/>
                <a:ext cx="7990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</p:grpSp>
      <p:grpSp>
        <p:nvGrpSpPr>
          <p:cNvPr id="174" name="Freeform 17"/>
          <p:cNvGrpSpPr/>
          <p:nvPr/>
        </p:nvGrpSpPr>
        <p:grpSpPr>
          <a:xfrm>
            <a:off x="628560" y="6053040"/>
            <a:ext cx="7729560" cy="549360"/>
            <a:chOff x="628560" y="6053040"/>
            <a:chExt cx="7729560" cy="549360"/>
          </a:xfrm>
        </p:grpSpPr>
        <p:pic>
          <p:nvPicPr>
            <p:cNvPr id="175" name="Freeform 17" descr=""/>
            <p:cNvPicPr/>
            <p:nvPr/>
          </p:nvPicPr>
          <p:blipFill>
            <a:blip r:embed="rId5"/>
            <a:stretch/>
          </p:blipFill>
          <p:spPr>
            <a:xfrm>
              <a:off x="628560" y="6053040"/>
              <a:ext cx="772956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 rot="10800000">
              <a:off x="631440" y="6058080"/>
              <a:ext cx="7721640" cy="53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77" name="Rectangle 18"/>
          <p:cNvSpPr/>
          <p:nvPr/>
        </p:nvSpPr>
        <p:spPr>
          <a:xfrm rot="21540000">
            <a:off x="748800" y="57600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8" name="Rectangle 19"/>
          <p:cNvSpPr/>
          <p:nvPr/>
        </p:nvSpPr>
        <p:spPr>
          <a:xfrm rot="21540000">
            <a:off x="744120" y="576000"/>
            <a:ext cx="3789360" cy="572112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9" name="Rectangle 20"/>
          <p:cNvSpPr/>
          <p:nvPr/>
        </p:nvSpPr>
        <p:spPr>
          <a:xfrm rot="60000">
            <a:off x="4468680" y="60444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0" name="Rectangle 21"/>
          <p:cNvSpPr/>
          <p:nvPr/>
        </p:nvSpPr>
        <p:spPr>
          <a:xfrm rot="60000">
            <a:off x="4464000" y="603000"/>
            <a:ext cx="3789360" cy="5722920"/>
          </a:xfrm>
          <a:prstGeom prst="rect">
            <a:avLst/>
          </a:prstGeom>
          <a:blipFill rotWithShape="0">
            <a:blip r:embed="rId7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181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1435200">
            <a:off x="2371680" y="293760"/>
            <a:ext cx="566640" cy="5680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" descr="C:\Users\Administrator\Desktop\Pushpin Dev\Assets\pushpinLeft.png"/>
          <p:cNvPicPr/>
          <p:nvPr/>
        </p:nvPicPr>
        <p:blipFill>
          <a:blip r:embed="rId9"/>
          <a:stretch/>
        </p:blipFill>
        <p:spPr>
          <a:xfrm rot="4095600">
            <a:off x="6280200" y="333000"/>
            <a:ext cx="566640" cy="56664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0"/>
          </p:nvPr>
        </p:nvSpPr>
        <p:spPr>
          <a:xfrm rot="60000">
            <a:off x="6344640" y="5888160"/>
            <a:ext cx="121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B1A87-00A7-4517-8BCE-0B2FDAD0F53E}" type="datetime">
              <a:rPr b="0" lang="en-US" sz="1200" spc="-1" strike="noStrike">
                <a:solidFill>
                  <a:srgbClr val="465e9c"/>
                </a:solidFill>
                <a:latin typeface="Rage Italic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1"/>
          </p:nvPr>
        </p:nvSpPr>
        <p:spPr>
          <a:xfrm rot="21540000">
            <a:off x="914040" y="5830920"/>
            <a:ext cx="3319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2"/>
          </p:nvPr>
        </p:nvSpPr>
        <p:spPr>
          <a:xfrm rot="60000">
            <a:off x="7562520" y="590076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3B121-ABBA-4347-ACDE-780C2A0D4306}" type="slidenum">
              <a:rPr b="0" lang="en-US" sz="1400" spc="-1" strike="noStrike">
                <a:solidFill>
                  <a:srgbClr val="465e9c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0"/>
    <p:sldLayoutId id="2147483689" r:id="rId11"/>
    <p:sldLayoutId id="2147483690" r:id="rId12"/>
    <p:sldLayoutId id="2147483691" r:id="rId13"/>
    <p:sldLayoutId id="2147483692" r:id="rId14"/>
    <p:sldLayoutId id="2147483693" r:id="rId15"/>
    <p:sldLayoutId id="2147483694" r:id="rId16"/>
    <p:sldLayoutId id="2147483695" r:id="rId17"/>
    <p:sldLayoutId id="2147483696" r:id="rId18"/>
    <p:sldLayoutId id="2147483697" r:id="rId19"/>
    <p:sldLayoutId id="2147483698" r:id="rId20"/>
    <p:sldLayoutId id="2147483699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726920" y="1722240"/>
            <a:ext cx="5722920" cy="166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Constantia"/>
                <a:cs typeface="Majalla UI"/>
              </a:rPr>
              <a:t>المحاسبة في الشركات المساهمة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1738440" y="3736800"/>
            <a:ext cx="571176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lnSpc>
                <a:spcPct val="2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65e9c"/>
                </a:solidFill>
                <a:latin typeface="Arial"/>
                <a:ea typeface="Arial"/>
              </a:rPr>
              <a:t> الفصل الثالث عشر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ctr">
              <a:lnSpc>
                <a:spcPct val="2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65e9c"/>
                </a:solidFill>
                <a:latin typeface="Arial"/>
                <a:cs typeface="Arial"/>
              </a:rPr>
              <a:t>أستاذة / نــــوال بــن صالح</a:t>
            </a:r>
            <a:r>
              <a:rPr b="0" lang="ar-SA" sz="2400" spc="-1" strike="noStrike">
                <a:solidFill>
                  <a:srgbClr val="465e9c"/>
                </a:solidFill>
                <a:latin typeface="Arial"/>
                <a:ea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onstantia"/>
                <a:cs typeface="Majalla UI"/>
              </a:rPr>
              <a:t>الجزء الثالث: تعديل راس مال الشركة المساهمة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3" name="Rounded Rectangle 3"/>
          <p:cNvSpPr/>
          <p:nvPr/>
        </p:nvSpPr>
        <p:spPr>
          <a:xfrm>
            <a:off x="1819440" y="2019240"/>
            <a:ext cx="5616360" cy="1135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Franklin Gothic Book"/>
                <a:cs typeface="Arial"/>
              </a:rPr>
              <a:t>يجوز تعديل رأس مال الشركة المساهمة</a:t>
            </a:r>
            <a:r>
              <a:rPr b="1" lang="ar-SA" sz="2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4" name="Left Brace 6"/>
          <p:cNvSpPr/>
          <p:nvPr/>
        </p:nvSpPr>
        <p:spPr>
          <a:xfrm rot="5400000">
            <a:off x="4407480" y="849600"/>
            <a:ext cx="934920" cy="5543640"/>
          </a:xfrm>
          <a:custGeom>
            <a:avLst/>
            <a:gdLst>
              <a:gd name="textAreaLeft" fmla="*/ 597240 w 934920"/>
              <a:gd name="textAreaRight" fmla="*/ 935280 w 934920"/>
              <a:gd name="textAreaTop" fmla="*/ 24120 h 5543640"/>
              <a:gd name="textAreaBottom" fmla="*/ 5519520 h 554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2"/>
                  <a:pt x="10800" y="304"/>
                </a:cubicBezTo>
                <a:lnTo>
                  <a:pt x="10800" y="11216"/>
                </a:lnTo>
                <a:cubicBezTo>
                  <a:pt x="10800" y="11368"/>
                  <a:pt x="5400" y="11520"/>
                  <a:pt x="0" y="11520"/>
                </a:cubicBezTo>
                <a:cubicBezTo>
                  <a:pt x="5400" y="11520"/>
                  <a:pt x="10800" y="11672"/>
                  <a:pt x="10800" y="11824"/>
                </a:cubicBezTo>
                <a:lnTo>
                  <a:pt x="10800" y="21296"/>
                </a:lnTo>
                <a:cubicBezTo>
                  <a:pt x="10800" y="21448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5" name="Rounded Rectangle 7"/>
          <p:cNvSpPr/>
          <p:nvPr/>
        </p:nvSpPr>
        <p:spPr>
          <a:xfrm>
            <a:off x="5513400" y="3860640"/>
            <a:ext cx="2808360" cy="1584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زيادة رأس المال</a:t>
            </a:r>
            <a:r>
              <a:rPr b="1" lang="ar-SA" sz="2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6" name="Rounded Rectangle 8"/>
          <p:cNvSpPr/>
          <p:nvPr/>
        </p:nvSpPr>
        <p:spPr>
          <a:xfrm>
            <a:off x="1095480" y="3933720"/>
            <a:ext cx="2663640" cy="1511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تخفيض رأس المال</a:t>
            </a:r>
            <a:r>
              <a:rPr b="1" lang="ar-SA" sz="2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67" name="Picture 9" descr="imagesCAWQO4GZ.jpg"/>
          <p:cNvPicPr/>
          <p:nvPr/>
        </p:nvPicPr>
        <p:blipFill>
          <a:blip r:embed="rId1"/>
          <a:stretch/>
        </p:blipFill>
        <p:spPr>
          <a:xfrm>
            <a:off x="3759120" y="5445000"/>
            <a:ext cx="1560600" cy="7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095120" y="817200"/>
            <a:ext cx="6964200" cy="91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Constantia"/>
                <a:cs typeface="Majalla UI"/>
              </a:rPr>
              <a:t>تعريف شركات المساهمة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Rectangle 3"/>
          <p:cNvSpPr/>
          <p:nvPr/>
        </p:nvSpPr>
        <p:spPr>
          <a:xfrm>
            <a:off x="1576440" y="2014560"/>
            <a:ext cx="6216480" cy="24908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7f2016"/>
                </a:solidFill>
                <a:latin typeface="Franklin Gothic Book"/>
                <a:ea typeface="Arial"/>
              </a:rPr>
              <a:t> </a:t>
            </a:r>
            <a:r>
              <a:rPr b="1" lang="ar-SA" sz="2400" spc="-1" strike="noStrike">
                <a:solidFill>
                  <a:srgbClr val="7f2016"/>
                </a:solidFill>
                <a:latin typeface="Franklin Gothic Book"/>
                <a:cs typeface="Arial"/>
              </a:rPr>
              <a:t>تعرف بأنها: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 ” </a:t>
            </a:r>
            <a:r>
              <a:rPr b="0" lang="ar-SA" sz="2400" spc="-1" strike="noStrike">
                <a:solidFill>
                  <a:srgbClr val="203a4e"/>
                </a:solidFill>
                <a:latin typeface="Franklin Gothic Book"/>
                <a:cs typeface="Arial"/>
              </a:rPr>
              <a:t>شركة ينقسم رأس مالها إلى </a:t>
            </a:r>
            <a:r>
              <a:rPr b="1" lang="ar-SA" sz="2400" spc="-1" strike="noStrike">
                <a:solidFill>
                  <a:srgbClr val="203a4e"/>
                </a:solidFill>
                <a:latin typeface="Franklin Gothic Book"/>
                <a:cs typeface="Arial"/>
              </a:rPr>
              <a:t>أسهم </a:t>
            </a:r>
            <a:r>
              <a:rPr b="0" lang="ar-SA" sz="2400" spc="-1" strike="noStrike">
                <a:solidFill>
                  <a:srgbClr val="203a4e"/>
                </a:solidFill>
                <a:latin typeface="Franklin Gothic Book"/>
                <a:cs typeface="Arial"/>
              </a:rPr>
              <a:t>متساوية، قابلة للتداول، و لا يسأل الشركاء فيها إلا بالمبالغ التي يملكونها في الشركة</a:t>
            </a:r>
            <a:r>
              <a:rPr b="0" lang="ar-SA" sz="2400" spc="-1" strike="noStrike">
                <a:solidFill>
                  <a:srgbClr val="203a4e"/>
                </a:solidFill>
                <a:latin typeface="Franklin Gothic Book"/>
                <a:ea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“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onstantia"/>
                <a:cs typeface="Majalla UI"/>
              </a:rPr>
              <a:t>خصائص شركات المساهمة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1095120" y="1855800"/>
            <a:ext cx="6964200" cy="42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18160" indent="-218160" algn="r" rtl="1">
              <a:lnSpc>
                <a:spcPct val="100000"/>
              </a:lnSpc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1</a:t>
            </a:r>
            <a:r>
              <a:rPr b="1" lang="ar-SA" sz="2400" spc="-1" strike="noStrike">
                <a:solidFill>
                  <a:srgbClr val="203a4e"/>
                </a:solidFill>
                <a:latin typeface="Traditional Arabic"/>
                <a:ea typeface="Traditional Arabic"/>
              </a:rPr>
              <a:t>). لها شخصية محاسبية مستقلة (اعتبارية)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18160" indent="-218160" algn="r" rtl="1">
              <a:lnSpc>
                <a:spcPct val="100000"/>
              </a:lnSpc>
              <a:buClr>
                <a:srgbClr val="aa2b1e"/>
              </a:buClr>
              <a:buSzPct val="85000"/>
              <a:buFont typeface="Traditional Arabic"/>
              <a:buChar char="•"/>
              <a:tabLst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أن الشركة مستقلة عن حملة أسهمها ( ملاكها)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218160" indent="-218160" algn="r" rtl="1">
              <a:lnSpc>
                <a:spcPct val="100000"/>
              </a:lnSpc>
              <a:buClr>
                <a:srgbClr val="aa2b1e"/>
              </a:buClr>
              <a:buSzPct val="85000"/>
              <a:buFont typeface="Traditional Arabic"/>
              <a:buChar char="•"/>
              <a:tabLst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الشركة نفسها تبيع  و تشتري وتلتزم بالإضافة إلى أنها مسئولة عن ديونها.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218160" indent="-218160" algn="r" rtl="1">
              <a:lnSpc>
                <a:spcPct val="100000"/>
              </a:lnSpc>
              <a:buClr>
                <a:srgbClr val="aa2b1e"/>
              </a:buClr>
              <a:buSzPct val="85000"/>
              <a:buFont typeface="Traditional Arabic"/>
              <a:buChar char="•"/>
              <a:tabLst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لا تتأثر الشركة بنقل ملكية أسهمها من شخص لآخر أو موت أو إفلاس أحد حملة الأسهم.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218160" indent="-218160" algn="r" rtl="1">
              <a:lnSpc>
                <a:spcPct val="100000"/>
              </a:lnSpc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2</a:t>
            </a:r>
            <a:r>
              <a:rPr b="1" lang="ar-SA" sz="2400" spc="-1" strike="noStrike">
                <a:solidFill>
                  <a:srgbClr val="203a4e"/>
                </a:solidFill>
                <a:latin typeface="Traditional Arabic"/>
                <a:ea typeface="Traditional Arabic"/>
              </a:rPr>
              <a:t>). إدارة الشركة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18160" indent="-218160" algn="r" rtl="1">
              <a:lnSpc>
                <a:spcPct val="100000"/>
              </a:lnSpc>
              <a:buClr>
                <a:srgbClr val="aa2b1e"/>
              </a:buClr>
              <a:buSzPct val="85000"/>
              <a:buFont typeface="Traditional Arabic"/>
              <a:buChar char="•"/>
              <a:tabLst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إن إدارة الشركة منفصلة عن ملاكها (حملة أسهمها).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218160" indent="-218160" algn="r" rtl="1">
              <a:lnSpc>
                <a:spcPct val="100000"/>
              </a:lnSpc>
              <a:buClr>
                <a:srgbClr val="aa2b1e"/>
              </a:buClr>
              <a:buSzPct val="85000"/>
              <a:buFont typeface="Traditional Arabic"/>
              <a:buChar char="•"/>
              <a:tabLst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أن إدارة الشركة تكون عن طريق :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218160" indent="-218160" algn="r" rtl="1">
              <a:lnSpc>
                <a:spcPct val="100000"/>
              </a:lnSpc>
              <a:buClr>
                <a:srgbClr val="aa2b1e"/>
              </a:buClr>
              <a:buSzPct val="85000"/>
              <a:buFont typeface="Brush Script MT"/>
              <a:buChar char="O"/>
              <a:tabLst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الجمعيات العمومية للمساهمين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1" lang="ar-SA" sz="18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 مجلس الإدارة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1" lang="ar-SA" sz="18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عضو  مجلس الإدارة المنتدب( المدير العام)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  <a:ea typeface="Traditional Arab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1" lang="ar-SA" sz="18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الموظفين</a:t>
            </a:r>
            <a:r>
              <a:rPr b="1" lang="ar-SA" sz="24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18160" indent="-218160" algn="r" rtl="1">
              <a:lnSpc>
                <a:spcPct val="100000"/>
              </a:lnSpc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3</a:t>
            </a:r>
            <a:r>
              <a:rPr b="1" lang="ar-SA" sz="24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). </a:t>
            </a:r>
            <a:r>
              <a:rPr b="1" lang="ar-SA" sz="2400" spc="-1" strike="noStrike">
                <a:solidFill>
                  <a:srgbClr val="203a4e"/>
                </a:solidFill>
                <a:latin typeface="Traditional Arabic"/>
                <a:cs typeface="Traditional Arabic"/>
              </a:rPr>
              <a:t>سهولة تبادل الأسهم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18160" indent="-218160" algn="r" rtl="1">
              <a:lnSpc>
                <a:spcPct val="100000"/>
              </a:lnSpc>
              <a:buClr>
                <a:srgbClr val="aa2b1e"/>
              </a:buClr>
              <a:buSzPct val="85000"/>
              <a:buFont typeface="Arial"/>
              <a:buChar char="•"/>
              <a:tabLst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يجوز لحملة الأسهم تداول أسهم الشركة دون الحاجة إلى أخذ موافقة الشركاء </a:t>
            </a:r>
            <a:r>
              <a:rPr b="0" lang="ar-SA" sz="18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218160" indent="-218160" algn="r" rtl="1">
              <a:lnSpc>
                <a:spcPct val="100000"/>
              </a:lnSpc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4</a:t>
            </a:r>
            <a:r>
              <a:rPr b="1" lang="ar-SA" sz="24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). </a:t>
            </a:r>
            <a:r>
              <a:rPr b="1" lang="ar-SA" sz="2400" spc="-1" strike="noStrike">
                <a:solidFill>
                  <a:srgbClr val="203a4e"/>
                </a:solidFill>
                <a:latin typeface="Traditional Arabic"/>
                <a:cs typeface="Traditional Arabic"/>
              </a:rPr>
              <a:t>العمل في ظل نظام الشركات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18160" indent="-218160" algn="r" rtl="1">
              <a:lnSpc>
                <a:spcPct val="100000"/>
              </a:lnSpc>
              <a:buClr>
                <a:srgbClr val="aa2b1e"/>
              </a:buClr>
              <a:buSzPct val="85000"/>
              <a:buFont typeface="Arial"/>
              <a:buChar char="•"/>
              <a:tabLst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بين نظام الشركات كيفية تأسيس الشركة ، ادرة الشركة ، جمعيات مساهميها ... الخ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218160" indent="-2181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Constantia"/>
                <a:cs typeface="Majalla UI"/>
              </a:rPr>
              <a:t>الجزء الأول :تكوين الشركات المساهمة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1095120" y="1828440"/>
            <a:ext cx="6964200" cy="389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9" name="Down Arrow Callout 3"/>
          <p:cNvSpPr/>
          <p:nvPr/>
        </p:nvSpPr>
        <p:spPr>
          <a:xfrm>
            <a:off x="1484280" y="2346480"/>
            <a:ext cx="6043680" cy="2808000"/>
          </a:xfrm>
          <a:prstGeom prst="downArrowCallout">
            <a:avLst>
              <a:gd name="adj1" fmla="val 25013"/>
              <a:gd name="adj2" fmla="val 25020"/>
              <a:gd name="adj3" fmla="val 25000"/>
              <a:gd name="adj4" fmla="val 64977"/>
            </a:avLst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f2016"/>
                </a:solidFill>
                <a:latin typeface="Franklin Gothic Book"/>
                <a:cs typeface="Arial"/>
              </a:rPr>
              <a:t>لا بد من دراسة كل من: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1</a:t>
            </a:r>
            <a:r>
              <a:rPr b="1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- مراحل تأسيس شركات المساهمة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2</a:t>
            </a:r>
            <a:r>
              <a:rPr b="1" lang="ar-SA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- أنواع الأسهم التي تصدرها الشركة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Constantia"/>
                <a:ea typeface="Majalla UI"/>
              </a:rPr>
              <a:t>1</a:t>
            </a:r>
            <a:r>
              <a:rPr b="1" lang="ar-SA" sz="4000" spc="-1" strike="noStrike">
                <a:solidFill>
                  <a:srgbClr val="000000"/>
                </a:solidFill>
                <a:latin typeface="Constantia"/>
                <a:ea typeface="Majalla UI"/>
              </a:rPr>
              <a:t>- مراحل تأسيس شركات المساهمة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1095120" y="1815840"/>
            <a:ext cx="7186680" cy="41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430560" indent="-36576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1</a:t>
            </a:r>
            <a:r>
              <a:rPr b="1" lang="ar-SA" sz="1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-اتفاق مجموعة من رجال الأعمال ( المؤسسين) على تأسيس الشركة.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430560" indent="-36576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2</a:t>
            </a:r>
            <a:r>
              <a:rPr b="1" lang="ar-SA" sz="1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- تقديم طلب إلى وزارة التجارة إلى تأسيس الشركة المساهمة ( و يشمل الطلب معلومات عن أسماء المؤسسين وعدد الأسهم التي اكتتب فيها المؤسسون وعدد أسهم كل مؤسس ... ألخ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430560" indent="-36576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3</a:t>
            </a:r>
            <a:r>
              <a:rPr b="1" lang="ar-SA" sz="1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-  الحصول على الموافقة من وزير التجارة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430560" indent="-36576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4</a:t>
            </a:r>
            <a:r>
              <a:rPr b="1" lang="ar-SA" sz="1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- أن يتم الاكتتاب في كل راس المال و ذلك: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430560" indent="-365760" algn="r" rtl="1">
              <a:spcBef>
                <a:spcPts val="400"/>
              </a:spcBef>
              <a:buClr>
                <a:srgbClr val="aa2b1e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Franklin Gothic Book"/>
                <a:ea typeface="Arial"/>
              </a:rPr>
              <a:t> في نشره بالجرائد اليومية. 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430560" indent="-365760" algn="r" rtl="1">
              <a:spcBef>
                <a:spcPts val="400"/>
              </a:spcBef>
              <a:buClr>
                <a:srgbClr val="aa2b1e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Franklin Gothic Book"/>
                <a:cs typeface="Arial"/>
              </a:rPr>
              <a:t>يكون الاكتتاب مفتوحا لمدة لا تقل عن </a:t>
            </a:r>
            <a:r>
              <a:rPr b="0" lang="ar-SA" sz="1600" spc="-1" strike="noStrike" u="sng">
                <a:solidFill>
                  <a:srgbClr val="000000"/>
                </a:solidFill>
                <a:uFillTx/>
                <a:latin typeface="Franklin Gothic Book"/>
                <a:ea typeface="Arial"/>
              </a:rPr>
              <a:t>10</a:t>
            </a:r>
            <a:r>
              <a:rPr b="0" lang="ar-SA" sz="1600" spc="-1" strike="noStrike" u="sng">
                <a:solidFill>
                  <a:srgbClr val="000000"/>
                </a:solidFill>
                <a:uFillTx/>
                <a:latin typeface="Franklin Gothic Book"/>
                <a:ea typeface="Arial"/>
              </a:rPr>
              <a:t> أيام  </a:t>
            </a:r>
            <a:r>
              <a:rPr b="0" lang="ar-SA" sz="1600" spc="-1" strike="noStrike">
                <a:solidFill>
                  <a:srgbClr val="000000"/>
                </a:solidFill>
                <a:latin typeface="Franklin Gothic Book"/>
                <a:cs typeface="Arial"/>
              </a:rPr>
              <a:t>ولا تزيد عن </a:t>
            </a:r>
            <a:r>
              <a:rPr b="0" lang="ar-SA" sz="1600" spc="-1" strike="noStrike" u="sng">
                <a:solidFill>
                  <a:srgbClr val="000000"/>
                </a:solidFill>
                <a:uFillTx/>
                <a:latin typeface="Franklin Gothic Book"/>
                <a:ea typeface="Arial"/>
              </a:rPr>
              <a:t>90</a:t>
            </a:r>
            <a:r>
              <a:rPr b="0" lang="ar-SA" sz="1600" spc="-1" strike="noStrike" u="sng">
                <a:solidFill>
                  <a:srgbClr val="000000"/>
                </a:solidFill>
                <a:uFillTx/>
                <a:latin typeface="Franklin Gothic Book"/>
                <a:ea typeface="Arial"/>
              </a:rPr>
              <a:t> يوما </a:t>
            </a:r>
            <a:r>
              <a:rPr b="0" lang="ar-SA" sz="16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بقرار من وزير التجارة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430560" indent="-36576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5</a:t>
            </a:r>
            <a:r>
              <a:rPr b="1" lang="ar-SA" sz="1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- إيداع حصيلة الاكتتاب في أحد البنوك ( البنك الذي يحددها وزير التجارة) و استلام القسط المطلوب سداده و الذي لا يجوز أن يقل عن </a:t>
            </a:r>
            <a:r>
              <a:rPr b="1" lang="ar-SA" sz="1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25</a:t>
            </a:r>
            <a:r>
              <a:rPr b="1" lang="ar-SA" sz="1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% من القيمة الاسمية للأسهم المكتتب فيها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430560" indent="-36576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6</a:t>
            </a:r>
            <a:r>
              <a:rPr b="1" lang="ar-SA" sz="1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- وعندما يتم الاكتتاب في راس المال و الانتهاء من فترة الاكتتاب يتم اجتماع الجمعية التأسيسية.   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430560" indent="-36576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7</a:t>
            </a:r>
            <a:r>
              <a:rPr b="1" lang="ar-SA" sz="1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- يتقدم المؤسسين إلى وزارة التجارة خلال</a:t>
            </a:r>
            <a:r>
              <a:rPr b="1" lang="ar-SA" sz="1800" spc="-1" strike="noStrike" u="sng">
                <a:solidFill>
                  <a:srgbClr val="000000"/>
                </a:solidFill>
                <a:uFillTx/>
                <a:latin typeface="Franklin Gothic Book"/>
                <a:ea typeface="Arial"/>
              </a:rPr>
              <a:t> </a:t>
            </a:r>
            <a:r>
              <a:rPr b="1" lang="ar-SA" sz="1800" spc="-1" strike="noStrike" u="sng">
                <a:solidFill>
                  <a:srgbClr val="000000"/>
                </a:solidFill>
                <a:uFillTx/>
                <a:latin typeface="Franklin Gothic Book"/>
                <a:ea typeface="Arial"/>
              </a:rPr>
              <a:t>15</a:t>
            </a:r>
            <a:r>
              <a:rPr b="1" lang="ar-SA" sz="1800" spc="-1" strike="noStrike" u="sng">
                <a:solidFill>
                  <a:srgbClr val="000000"/>
                </a:solidFill>
                <a:uFillTx/>
                <a:latin typeface="Franklin Gothic Book"/>
                <a:ea typeface="Arial"/>
              </a:rPr>
              <a:t> يوما </a:t>
            </a:r>
            <a:r>
              <a:rPr b="1" lang="ar-SA" sz="1800" spc="-1" strike="noStrike">
                <a:solidFill>
                  <a:srgbClr val="000000"/>
                </a:solidFill>
                <a:latin typeface="Franklin Gothic Book"/>
                <a:cs typeface="Arial"/>
              </a:rPr>
              <a:t>من الاجتماع بإعلان تأسيس الشركة.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430560" indent="-36576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8</a:t>
            </a:r>
            <a:r>
              <a:rPr b="1" lang="ar-SA" sz="1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- ثم يصدر قرار وزير التجارة بتأسيس الشركة فانه يبدأ التسجيل في سجلات الشركة.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430560" indent="-36576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Constantia"/>
                <a:ea typeface="Majalla UI"/>
              </a:rPr>
              <a:t>2</a:t>
            </a:r>
            <a:r>
              <a:rPr b="1" lang="ar-SA" sz="4000" spc="-1" strike="noStrike">
                <a:solidFill>
                  <a:srgbClr val="000000"/>
                </a:solidFill>
                <a:latin typeface="Constantia"/>
                <a:ea typeface="Majalla UI"/>
              </a:rPr>
              <a:t>- أنواع الأسهم التي تصدرها </a:t>
            </a:r>
            <a:r>
              <a:rPr b="1" lang="ar-SA" sz="4400" spc="-1" strike="noStrike">
                <a:solidFill>
                  <a:srgbClr val="000000"/>
                </a:solidFill>
                <a:latin typeface="Constantia"/>
                <a:cs typeface="Majalla UI"/>
              </a:rPr>
              <a:t>الشركة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Rounded Rectangle 3"/>
          <p:cNvSpPr/>
          <p:nvPr/>
        </p:nvSpPr>
        <p:spPr>
          <a:xfrm>
            <a:off x="1895400" y="2371680"/>
            <a:ext cx="4929120" cy="1127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Franklin Gothic Book"/>
                <a:cs typeface="Arial"/>
              </a:rPr>
              <a:t>ويتم تقسيمها إلى</a:t>
            </a:r>
            <a:r>
              <a:rPr b="1" lang="ar-SA" sz="2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4" name="Rounded Rectangle 4"/>
          <p:cNvSpPr/>
          <p:nvPr/>
        </p:nvSpPr>
        <p:spPr>
          <a:xfrm>
            <a:off x="5724360" y="4373640"/>
            <a:ext cx="1974960" cy="981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1-</a:t>
            </a:r>
            <a:r>
              <a:rPr b="1" lang="ar-SA" sz="18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الأسهم العادية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5" name="Rounded Rectangle 5"/>
          <p:cNvSpPr/>
          <p:nvPr/>
        </p:nvSpPr>
        <p:spPr>
          <a:xfrm>
            <a:off x="1095480" y="4373640"/>
            <a:ext cx="1974600" cy="981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3- </a:t>
            </a:r>
            <a:r>
              <a:rPr b="1" lang="ar-SA" sz="18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حصص التأسيس</a:t>
            </a:r>
            <a:r>
              <a:rPr b="1" lang="ar-SA" sz="1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6" name="Rounded Rectangle 6"/>
          <p:cNvSpPr/>
          <p:nvPr/>
        </p:nvSpPr>
        <p:spPr>
          <a:xfrm>
            <a:off x="3444840" y="4373640"/>
            <a:ext cx="1974960" cy="981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2- </a:t>
            </a:r>
            <a:r>
              <a:rPr b="1" lang="ar-SA" sz="1800" spc="-1" strike="noStrike">
                <a:solidFill>
                  <a:srgbClr val="000000"/>
                </a:solidFill>
                <a:latin typeface="Franklin Gothic Book"/>
                <a:cs typeface="Arial"/>
              </a:rPr>
              <a:t>الأسهم الممتازة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cxnSp>
        <p:nvCxnSpPr>
          <p:cNvPr id="247" name="Straight Arrow Connector 8"/>
          <p:cNvCxnSpPr/>
          <p:nvPr/>
        </p:nvCxnSpPr>
        <p:spPr>
          <a:xfrm>
            <a:off x="6122520" y="3498480"/>
            <a:ext cx="1080" cy="677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48" name="Straight Arrow Connector 9"/>
          <p:cNvCxnSpPr/>
          <p:nvPr/>
        </p:nvCxnSpPr>
        <p:spPr>
          <a:xfrm>
            <a:off x="4452480" y="3498480"/>
            <a:ext cx="1080" cy="677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49" name="Straight Arrow Connector 10"/>
          <p:cNvCxnSpPr/>
          <p:nvPr/>
        </p:nvCxnSpPr>
        <p:spPr>
          <a:xfrm>
            <a:off x="2569680" y="3498480"/>
            <a:ext cx="1080" cy="677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0" name=""/>
          <p:cNvGraphicFramePr/>
          <p:nvPr/>
        </p:nvGraphicFramePr>
        <p:xfrm>
          <a:off x="557280" y="212760"/>
          <a:ext cx="8150040" cy="6183360"/>
        </p:xfrm>
        <a:graphic>
          <a:graphicData uri="http://schemas.openxmlformats.org/drawingml/2006/table">
            <a:tbl>
              <a:tblPr/>
              <a:tblGrid>
                <a:gridCol w="2198520"/>
                <a:gridCol w="2975040"/>
                <a:gridCol w="2070000"/>
                <a:gridCol w="906480"/>
              </a:tblGrid>
              <a:tr h="549000">
                <a:tc>
                  <a:txBody>
                    <a:bodyPr lIns="49320" rIns="49320" tIns="0" bIns="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3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). حصص التأسيس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9320" marR="493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2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). الأسهم الممتازة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9320" marR="493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1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).الأسهم العادي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9320" marR="493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9320" marR="493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5110920">
                <a:tc>
                  <a:txBody>
                    <a:bodyPr lIns="49320" rIns="49320" tIns="0" bIns="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1</a:t>
                      </a:r>
                      <a:r>
                        <a:rPr b="0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). لا تدخل في تكوين رأس مال الشركة و لا يشترك أصحابها في إدارة الشركة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2</a:t>
                      </a:r>
                      <a:r>
                        <a:rPr b="0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). يجوز أن تمنح هذه الحصص نسبة من الأرباح الصافية لا تزيد عن </a:t>
                      </a:r>
                      <a:r>
                        <a:rPr b="0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10</a:t>
                      </a:r>
                      <a:r>
                        <a:rPr b="0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% من الأرباح بعد توزيع نصيب على المساهمين لا يقل عن </a:t>
                      </a:r>
                      <a:r>
                        <a:rPr b="0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5</a:t>
                      </a:r>
                      <a:r>
                        <a:rPr b="0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%  من رأس المال المدفوع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3</a:t>
                      </a:r>
                      <a:r>
                        <a:rPr b="0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). يجوز أن تمنح عند التصفي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4</a:t>
                      </a:r>
                      <a:r>
                        <a:rPr b="0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). وهي تصدر لمن  يقدم إلى  الشركة  براءة اختراع …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5</a:t>
                      </a:r>
                      <a:r>
                        <a:rPr b="0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). لا يوجد لها قيود إثبات في تاريخ التأسي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9320" marR="493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raditional Arabic"/>
                        </a:rPr>
                        <a:t>هي الأسهم التي تعطى لحاملها الحق في التمتع بميزة إضافية من تلك الحقوق التي يتمتع بها حملة الأسهم العادية.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1</a:t>
                      </a:r>
                      <a:r>
                        <a:rPr b="0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). يحصل حامل السهم الممتاز على نسبة معينة من الأرباح قبل أن يحصل حملة الأسهم العادية على شيء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2</a:t>
                      </a:r>
                      <a:r>
                        <a:rPr b="0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). أنها مجمعة للأرباح ( عندما لا تتحقق أرباح في سنة معينة  تكفي لدفع هذه النسبة لحملة الأسهم الممتازة فان ما لم يدفع لهم من أرباح ينقل إلى العام أو الأعوام القادمة و يدفع لحملة الأسهم الممتازة نصيبهم من الأرباح عن الأعوام السابقة قبل أن يدفع لحملة الأسهم العادية شيئا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 </a:t>
                      </a:r>
                      <a:r>
                        <a:rPr b="0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3</a:t>
                      </a:r>
                      <a:r>
                        <a:rPr b="0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). الأولوية في استرداد القيمة الاسمية لأسهمهم في حالة إفلاس الشركة و تصفيتها 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9320" marR="493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raditional Arabic"/>
                        </a:rPr>
                        <a:t>الأكثر شيوعا في المملك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raditional Arabic"/>
                        </a:rPr>
                        <a:t>السهم العادي يمثل جزءا من رأس مال الشركة يتمتع حامله بحقوق منها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1</a:t>
                      </a:r>
                      <a:r>
                        <a:rPr b="0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). حق التصويت في الجمعيات العمومية للمساهمين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2</a:t>
                      </a:r>
                      <a:r>
                        <a:rPr b="0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). حق الحصول على أرباح عند تقرير الشركة توزيع الأرباح على حملة الأسهم العادي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3). </a:t>
                      </a:r>
                      <a:r>
                        <a:rPr b="0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raditional Arabic"/>
                        </a:rPr>
                        <a:t>حق الحصول على جزء من نتيجة تصفية الشركة المساهمة في حالة تصفيتها و حصول فائض من المال بعد تسديد التزامات الدائني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9320" marR="493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just" rtl="1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algn="just" rtl="1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cs typeface="Traditional Arabic"/>
                        </a:rPr>
                        <a:t>حقو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algn="just" rtl="1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cs typeface="Traditional Arabic"/>
                        </a:rPr>
                        <a:t>حامل الأسهم لكل من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9320" marR="493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549000">
                <a:tc>
                  <a:txBody>
                    <a:bodyPr lIns="49320" rIns="49320" tIns="0" bIns="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9320" marR="493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9320" marR="493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raditional Arabic"/>
                        </a:rPr>
                        <a:t>تسديد قيمة السهم للشرك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9320" marR="493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just" rtl="1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cs typeface="Traditional Arabic"/>
                        </a:rPr>
                        <a:t>التزامات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9320" marR="493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1920600">
                <a:tc>
                  <a:txBody>
                    <a:bodyPr lIns="49320" rIns="49320" tIns="0" bIns="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9320" marR="493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1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). ليس لها حق التصويت في الجمعيات العمومية للمساهمين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2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). يتمتع حملة الأسهم العادية بفائض الأرباح بعد دفع حصة الأسهم الممتازة التي يحددها الصك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9320" marR="493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9320" marR="493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just" rtl="1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algn="just" rtl="1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cs typeface="Traditional Arabic"/>
                        </a:rPr>
                        <a:t>العيو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9320" marR="493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1234800">
                <a:tc gridSpan="3">
                  <a:txBody>
                    <a:bodyPr lIns="49320" rIns="49320" tIns="0" bIns="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40749b"/>
                          </a:solidFill>
                          <a:latin typeface="Times New Roman"/>
                          <a:cs typeface="Traditional Arabic"/>
                        </a:rPr>
                        <a:t>السهم الاسمي: 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cs typeface="Traditional Arabic"/>
                        </a:rPr>
                        <a:t>أن اسم مالكه مكتوب في صك السهم ( اسم المشتري) عن طريق تقييدها في سجلات الشرك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40749b"/>
                          </a:solidFill>
                          <a:latin typeface="Times New Roman"/>
                          <a:cs typeface="Traditional Arabic"/>
                        </a:rPr>
                        <a:t>السهم لحامله: 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cs typeface="Traditional Arabic"/>
                        </a:rPr>
                        <a:t>صك لا يحمل اسم شخص معين و إنما يتم تداوله بنقله فقط من حوزة البائع إلى حوزة المشتري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9320" marR="493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cs typeface="Traditional Arabic"/>
                        </a:rPr>
                        <a:t>أنواعها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9320" marR="493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90280" y="738360"/>
            <a:ext cx="7497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Constantia"/>
                <a:cs typeface="Majalla UI"/>
              </a:rPr>
              <a:t>الجزء الأول :تكوين الشركات المساهمة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890640" y="1576440"/>
            <a:ext cx="73533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7f2016"/>
                </a:solidFill>
                <a:uFillTx/>
                <a:latin typeface="Franklin Gothic Book"/>
                <a:cs typeface="Arial"/>
              </a:rPr>
              <a:t>أنواع الاكتتاب</a:t>
            </a:r>
            <a:r>
              <a:rPr b="1" lang="ar-SA" sz="2400" spc="-1" strike="noStrike" u="sng">
                <a:solidFill>
                  <a:srgbClr val="7f2016"/>
                </a:solidFill>
                <a:uFillTx/>
                <a:latin typeface="Franklin Gothic Book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3" name="Rounded Rectangle 3"/>
          <p:cNvSpPr/>
          <p:nvPr/>
        </p:nvSpPr>
        <p:spPr>
          <a:xfrm>
            <a:off x="1476360" y="2106720"/>
            <a:ext cx="6264360" cy="79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4" name="Rectangle 2"/>
          <p:cNvSpPr/>
          <p:nvPr/>
        </p:nvSpPr>
        <p:spPr>
          <a:xfrm>
            <a:off x="684360" y="2107800"/>
            <a:ext cx="755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ويتم تقسيمها إلى:</a:t>
            </a:r>
            <a:r>
              <a:rPr b="0" lang="ar-SA" sz="3200" spc="-1" strike="noStrike" u="sng">
                <a:solidFill>
                  <a:srgbClr val="ff99cc"/>
                </a:solidFill>
                <a:uFillTx/>
                <a:latin typeface="Traditional Arabic"/>
                <a:ea typeface="Traditional Arabi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cxnSp>
        <p:nvCxnSpPr>
          <p:cNvPr id="255" name="Straight Arrow Connector 6"/>
          <p:cNvCxnSpPr/>
          <p:nvPr/>
        </p:nvCxnSpPr>
        <p:spPr>
          <a:xfrm>
            <a:off x="7019640" y="2898720"/>
            <a:ext cx="1080" cy="4327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56" name="Straight Arrow Connector 7"/>
          <p:cNvCxnSpPr/>
          <p:nvPr/>
        </p:nvCxnSpPr>
        <p:spPr>
          <a:xfrm>
            <a:off x="2555640" y="2898720"/>
            <a:ext cx="1080" cy="4327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57" name="Rounded Rectangle 8"/>
          <p:cNvSpPr/>
          <p:nvPr/>
        </p:nvSpPr>
        <p:spPr>
          <a:xfrm>
            <a:off x="5292720" y="3330720"/>
            <a:ext cx="2951280" cy="1584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1</a:t>
            </a:r>
            <a:r>
              <a:rPr b="1" lang="ar-SA" sz="28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).  اكتتاب المؤسسين في جميع رأس مال الشركة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8" name="Rounded Rectangle 9"/>
          <p:cNvSpPr/>
          <p:nvPr/>
        </p:nvSpPr>
        <p:spPr>
          <a:xfrm>
            <a:off x="1187280" y="3330720"/>
            <a:ext cx="2953080" cy="1584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ea typeface="Arial"/>
              </a:rPr>
              <a:t>). </a:t>
            </a:r>
            <a:r>
              <a:rPr b="1" lang="ar-SA" sz="24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اكتتاب المؤسسين في جزء من رأس مال الشركة و يطرحون الباقي للاكتتاب العام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9" name="Rounded Rectangle 13"/>
          <p:cNvSpPr/>
          <p:nvPr/>
        </p:nvSpPr>
        <p:spPr>
          <a:xfrm>
            <a:off x="1187280" y="5180040"/>
            <a:ext cx="7056720" cy="885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إلا أننا في هذا الفصل سوف يتم التركيز على النوع الثاني من الاكتتاب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عندما يكتتب المؤسسين في جزء من رأس المال، ثم يطرح الباقي من الأسهم للاكتتاب العام</a:t>
            </a:r>
            <a:r>
              <a:rPr b="0" lang="ar-SA" sz="18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onstantia"/>
                <a:cs typeface="Majalla UI"/>
              </a:rPr>
              <a:t>الجزء الثاني:أرباح الشركة المساهمة وكيفية توزيعها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1" name="Flowchart: Alternate Process 4"/>
          <p:cNvSpPr/>
          <p:nvPr/>
        </p:nvSpPr>
        <p:spPr>
          <a:xfrm>
            <a:off x="1496880" y="2259000"/>
            <a:ext cx="6264360" cy="2592360"/>
          </a:xfrm>
          <a:prstGeom prst="flowChartAlternateProcess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7f2016"/>
                </a:solidFill>
                <a:latin typeface="Times New Roman"/>
                <a:cs typeface="Traditional Arabic"/>
              </a:rPr>
              <a:t>أرباح الشركة المساهمة :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هي صافي الدخل بعد الزكاة الشرعية و ضرائب استثمار المال الأجنبي إن وجدت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30T16:18:07Z</dcterms:created>
  <dc:creator>Noni USA</dc:creator>
  <dc:description/>
  <dc:language>en-US</dc:language>
  <cp:lastModifiedBy>Mansour</cp:lastModifiedBy>
  <dcterms:modified xsi:type="dcterms:W3CDTF">2016-04-03T10:01:14Z</dcterms:modified>
  <cp:revision>133</cp:revision>
  <dc:subject/>
  <dc:title>مقدمة في الفكر المحاسبي </dc:title>
</cp:coreProperties>
</file>