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1675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F05-9212-4DF7-B85A-7179974F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FA2-962B-440E-943B-48579E21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84BA-9C5F-4A7B-A970-9529B6C4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E554-D944-40D0-AA21-1D788077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D51A-DC25-4269-A92B-D1C2739F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5F26-B6A1-4A8E-930B-342C4320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E049-6AEB-4EB6-A58D-A587364B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9131-6B10-47F1-ABC9-6D408AD6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1383-9EF4-4AF0-914C-44CF2B52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7F87-1D56-4A38-9F1C-7E1FA12F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6DD3-6972-4E70-B2F7-B3CDE67D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299C-3735-403C-8DB0-AB04586E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15FA-43CC-4314-AEC7-9296CF00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36C3-15B9-4291-A66D-3E0ECB0C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C382-7D39-47A2-B2E6-41F52964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38D5-3209-475A-983B-FBA1FE39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1FD7-3A79-4FF7-8BB5-A75A9F6D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C03-3537-40C9-B837-27D13BA4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CAF-67B0-456E-9503-E25EB7F7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C24B-223B-433A-9C84-EF8B0518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E025-AE39-41C3-9D91-72DD33BF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F6B0-F216-487F-A2EB-34CD3261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137-907A-4BF3-9272-23FC8B38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EC0-78BE-4100-B473-334068EE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7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7b5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FFA2-9D16-4D44-A041-D0DC6BE8521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7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7b5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4C23-AB6B-4F91-AC1C-A4FA3902A78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ailifeline.org/images/photo-counseling.jpg&amp;imgrefurl=http://www.chailifeline.org/programdetail.php?program=61&amp;usg=__2AN8oN5Sbikf-t0Cal0yjJyEhgE=&amp;h=485&amp;w=371&amp;sz=45&amp;hl=en&amp;start=148&amp;tbnid=UHbBBZ5I9E_6dM:&amp;tbnh=129&amp;tbnw=99&amp;prev=/images?q=counseling&amp;gbv=2&amp;ndsp=18&amp;hl=en&amp;sa=N&amp;start=14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ress and its Psycho physiologic Disorder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152280" y="3733920"/>
            <a:ext cx="8839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rofessor Dr. Elham faya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99" name="Picture 6" descr="http://www.keysboroughchiropracticclinic.com.au/wp-content/uploads/2014/10/gestion-stress-au-travail.jpg"/>
          <p:cNvPicPr/>
          <p:nvPr/>
        </p:nvPicPr>
        <p:blipFill>
          <a:blip r:embed="rId1"/>
          <a:stretch/>
        </p:blipFill>
        <p:spPr>
          <a:xfrm>
            <a:off x="609480" y="91440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hysiologic responses to stress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 General Adaptation Syndrome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Selye claimed that the organism undergoes a generalized physiological response in its efforts to adapt to the demands and pressures it experiences, whatever they might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arm is the first stag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essor is identified or realiz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ess response is initi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renaline floods the bloodstream, and the stress response is activ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277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Resistance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omes necessary if the stressor persists. The body attempts to adapt as it uses all available resources. Cortisol  works to mobilize energy stores to keep up with the body’s demand( </a:t>
            </a:r>
            <a:r>
              <a:rPr b="0" lang="en-US" sz="2800" spc="-1" strike="noStrike">
                <a:solidFill>
                  <a:srgbClr val="007373"/>
                </a:solidFill>
                <a:latin typeface="Arial"/>
              </a:rPr>
              <a:t>cause the coronary arteries to constrict)</a:t>
            </a:r>
            <a:r>
              <a:rPr b="0" lang="en-US" sz="2800" spc="-1" strike="noStrike">
                <a:solidFill>
                  <a:srgbClr val="007373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hau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final stage in this model. Bodily resources are depleted, physiological functions are impaired, and illness (physical or emotional) or death may occ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0000"/>
                </a:solidFill>
                <a:latin typeface="Times New Roman"/>
              </a:rPr>
              <a:t>B- Local adaptation syndrome</a:t>
            </a:r>
            <a:r>
              <a:rPr b="0" lang="en-GB" sz="4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4200"/>
            </a:b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123" name="Content Placeholder 2" descr=""/>
          <p:cNvPicPr/>
          <p:nvPr/>
        </p:nvPicPr>
        <p:blipFill>
          <a:blip r:embed="rId1"/>
          <a:stretch/>
        </p:blipFill>
        <p:spPr>
          <a:xfrm>
            <a:off x="738360" y="853920"/>
            <a:ext cx="8107200" cy="5278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Factors influence stress response</a:t>
            </a: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sity of the stimulu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ation of the stimulu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ception of control over the stimulu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bs01203_"/>
          <p:cNvPicPr/>
          <p:nvPr/>
        </p:nvPicPr>
        <p:blipFill>
          <a:blip r:embed="rId1"/>
          <a:stretch/>
        </p:blipFill>
        <p:spPr>
          <a:xfrm>
            <a:off x="1447920" y="3276720"/>
            <a:ext cx="6019560" cy="3581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Types of stressors</a:t>
            </a: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304920" y="1447920"/>
          <a:ext cx="8381880" cy="51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38188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Symptoms of Chronic Stress Reactio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Physical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igue ,Headaches, Muscle cr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Cognitive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ghtm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ming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Behavioral Change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appetite, Withdraw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Emotional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xiety Guilt ,Irritability,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C:\Program Files (x86)\Microsoft Office\MEDIA\CAGCAT10\j0157763.wmf"/>
          <p:cNvPicPr/>
          <p:nvPr/>
        </p:nvPicPr>
        <p:blipFill>
          <a:blip r:embed="rId1"/>
          <a:stretch/>
        </p:blipFill>
        <p:spPr>
          <a:xfrm>
            <a:off x="5562720" y="2133720"/>
            <a:ext cx="3124080" cy="47242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Theories about predisposing biological factors</a:t>
            </a:r>
            <a:r>
              <a:rPr b="0" lang="en-US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crine activity affects pers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tic factors have been proposed but not prov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rget organs may be affected by specific stressors, but this theory is not supported by researc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Theories about psychological factors</a:t>
            </a: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clinical experts contend that a relationship exists between </a:t>
            </a:r>
            <a:r>
              <a:rPr b="1" lang="en-GB" sz="2400" spc="-1" strike="noStrike">
                <a:solidFill>
                  <a:srgbClr val="0070c0"/>
                </a:solidFill>
                <a:latin typeface="Arial"/>
              </a:rPr>
              <a:t>personality's type and specific psycho physiologic disorders</a:t>
            </a:r>
            <a:r>
              <a:rPr b="1" lang="en-GB" sz="24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Arial"/>
              </a:rPr>
              <a:t>The client’s difficulty in dealing with feel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C:\Program Files (x86)\Microsoft Office\MEDIA\CAGCAT10\j0149481.wmf"/>
          <p:cNvPicPr/>
          <p:nvPr/>
        </p:nvPicPr>
        <p:blipFill>
          <a:blip r:embed="rId1"/>
          <a:stretch/>
        </p:blipFill>
        <p:spPr>
          <a:xfrm>
            <a:off x="3500280" y="3809880"/>
            <a:ext cx="5110200" cy="3048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Interventions for clients with stress</a:t>
            </a: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in assessment dat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- Complete physiologic assess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- Thorough psychosocial assess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- Measurement of stress leve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- Investigation of coping abilit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- Identification of belief system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- Examination of family dynamic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Group counseling clip art"/>
          <p:cNvPicPr/>
          <p:nvPr/>
        </p:nvPicPr>
        <p:blipFill>
          <a:blip r:embed="rId1"/>
          <a:stretch/>
        </p:blipFill>
        <p:spPr>
          <a:xfrm>
            <a:off x="6553080" y="3124080"/>
            <a:ext cx="259092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0000"/>
                </a:solidFill>
                <a:latin typeface="Times New Roman"/>
              </a:rPr>
              <a:t>Diagnoses</a:t>
            </a:r>
            <a:r>
              <a:rPr b="1" lang="en-GB" sz="4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25909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-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reflect the </a:t>
            </a:r>
            <a:r>
              <a:rPr b="1" lang="en-GB" sz="2800" spc="-1" strike="noStrike">
                <a:solidFill>
                  <a:srgbClr val="0070c0"/>
                </a:solidFill>
                <a:latin typeface="Arial"/>
              </a:rPr>
              <a:t>complexity of the bio psychosocial interaction</a:t>
            </a:r>
            <a:r>
              <a:rPr b="1" lang="en-GB" sz="2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consider all aspects of the client’s life that may be generating stress-related anxiety, as well as </a:t>
            </a:r>
            <a:r>
              <a:rPr b="1" lang="en-GB" sz="2800" spc="-1" strike="noStrike">
                <a:solidFill>
                  <a:srgbClr val="0070c0"/>
                </a:solidFill>
                <a:latin typeface="Arial"/>
              </a:rPr>
              <a:t>predisposing and precipitating stressors</a:t>
            </a:r>
            <a:r>
              <a:rPr b="1" lang="en-GB" sz="2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Arial"/>
              </a:rPr>
              <a:t>Must consider the client’s stress level and coping skills</a:t>
            </a:r>
            <a:r>
              <a:rPr b="1" lang="en-GB" sz="2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C:\Program Files (x86)\Microsoft Office\MEDIA\CAGCAT10\j0195534.wmf"/>
          <p:cNvPicPr/>
          <p:nvPr/>
        </p:nvPicPr>
        <p:blipFill>
          <a:blip r:embed="rId1"/>
          <a:stretch/>
        </p:blipFill>
        <p:spPr>
          <a:xfrm>
            <a:off x="3833640" y="0"/>
            <a:ext cx="2795760" cy="3048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ff0000"/>
                </a:solidFill>
                <a:uFillTx/>
                <a:latin typeface="Times New Roman"/>
              </a:rPr>
              <a:t>Objectives</a:t>
            </a:r>
            <a:r>
              <a:rPr b="1" lang="en-US" sz="3800" spc="-1" strike="noStrike" u="sng">
                <a:solidFill>
                  <a:srgbClr val="ff0000"/>
                </a:solidFill>
                <a:uFillTx/>
                <a:latin typeface="Times New Roman"/>
              </a:rPr>
              <a:t>:      </a:t>
            </a:r>
            <a:br>
              <a:rPr sz="3800"/>
            </a:b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By the end of this session the student should be able to</a:t>
            </a: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ess, stressors, eustress and dist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cribe stress response sta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 the physiologic responses to st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tors influence stress respon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te care goals and interventions for clients with str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me stress-related illness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ulate care goals and interventions for clients with stress-related illness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0000"/>
                </a:solidFill>
                <a:latin typeface="Times New Roman"/>
              </a:rPr>
              <a:t>B- Types of diagnoses</a:t>
            </a: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SM-III-R medical diagnoses: </a:t>
            </a:r>
            <a:r>
              <a:rPr b="1" lang="en-GB" sz="2400" spc="-1" strike="noStrike">
                <a:solidFill>
                  <a:srgbClr val="262626"/>
                </a:solidFill>
                <a:latin typeface="Arial"/>
              </a:rPr>
              <a:t>psychological factors affecting the physical condi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for example, conversion disorder or hypochondrias 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mary NANDA diagnostic category: </a:t>
            </a:r>
            <a:r>
              <a:rPr b="1" lang="en-GB" sz="2400" spc="-1" strike="noStrike">
                <a:solidFill>
                  <a:srgbClr val="262626"/>
                </a:solidFill>
                <a:latin typeface="Arial"/>
              </a:rPr>
              <a:t>ineffective individual co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C:\WINDOWS\Application Data\Microsoft\Media Catalog\Downloaded Clips\cl0\PE02481_.wmf"/>
          <p:cNvPicPr/>
          <p:nvPr/>
        </p:nvPicPr>
        <p:blipFill>
          <a:blip r:embed="rId1"/>
          <a:stretch/>
        </p:blipFill>
        <p:spPr>
          <a:xfrm>
            <a:off x="3429000" y="3352680"/>
            <a:ext cx="5410080" cy="35053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c7b505"/>
                </a:solidFill>
                <a:latin typeface="Times New Roman"/>
              </a:rPr>
              <a:t>General care goals</a:t>
            </a:r>
            <a:r>
              <a:rPr b="1" lang="en-GB" sz="4200" spc="-1" strike="noStrike">
                <a:solidFill>
                  <a:srgbClr val="c7b505"/>
                </a:solidFill>
                <a:latin typeface="Times New Roman"/>
              </a:rPr>
              <a:t>:</a:t>
            </a:r>
            <a:r>
              <a:rPr b="0" lang="en-GB" sz="4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- Maintain the client’s biological integrity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- Offer support while establishing a trusting relationshi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- explain unconscious psychodynamic processes to the cli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Top 10 Qualities of a Great Nurse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733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0000"/>
                </a:solidFill>
                <a:latin typeface="Times New Roman"/>
              </a:rPr>
              <a:t>Teach the client to</a:t>
            </a: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8951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pe more effectivel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ence feelings consc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are feelings with oth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 the frequency and intensity of existing str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ify stimuli that might generate further stres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family members how to support the client’s behavioural chang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 the client and family to appropriate clin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C:\Program Files (x86)\Microsoft Office\MEDIA\CAGCAT10\j0199036.wmf"/>
          <p:cNvPicPr/>
          <p:nvPr/>
        </p:nvPicPr>
        <p:blipFill>
          <a:blip r:embed="rId1"/>
          <a:stretch/>
        </p:blipFill>
        <p:spPr>
          <a:xfrm>
            <a:off x="5029200" y="0"/>
            <a:ext cx="2438280" cy="39625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Stress management strategies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US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- Progressive relax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- Biofeedbac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- Med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- Hypnosi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- Guided imager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- Behaviour modif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- Yog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- Exercise and stre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- Attitudinal restructur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- Stress desensitiz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- Mass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MCj03357340000[1]"/>
          <p:cNvPicPr/>
          <p:nvPr/>
        </p:nvPicPr>
        <p:blipFill>
          <a:blip r:embed="rId1"/>
          <a:stretch/>
        </p:blipFill>
        <p:spPr>
          <a:xfrm>
            <a:off x="4572000" y="12952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0000"/>
                </a:solidFill>
                <a:latin typeface="Times New Roman"/>
              </a:rPr>
              <a:t>Evaluation</a:t>
            </a:r>
            <a:r>
              <a:rPr b="0" lang="en-GB" sz="42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- Base evaluation on identified client care go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- Do not interpret lack of goal achievement as fail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I:\مجلد جديد\jjj.jpg"/>
          <p:cNvPicPr/>
          <p:nvPr/>
        </p:nvPicPr>
        <p:blipFill>
          <a:blip r:embed="rId1"/>
          <a:stretch/>
        </p:blipFill>
        <p:spPr>
          <a:xfrm>
            <a:off x="304920" y="3429000"/>
            <a:ext cx="8229600" cy="3429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C:\Program Files (x86)\Microsoft Office\MEDIA\CAGCAT10\j0199805.wmf"/>
          <p:cNvPicPr/>
          <p:nvPr/>
        </p:nvPicPr>
        <p:blipFill>
          <a:blip r:embed="rId2"/>
          <a:stretch/>
        </p:blipFill>
        <p:spPr>
          <a:xfrm>
            <a:off x="5181480" y="2527200"/>
            <a:ext cx="3962520" cy="2502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a0c6ba"/>
                </a:solidFill>
                <a:uFillTx/>
                <a:latin typeface="Times New Roman"/>
              </a:rPr>
              <a:t>Stress Related Disorders</a:t>
            </a:r>
            <a:r>
              <a:rPr b="0" lang="en-US" sz="3800" spc="-1" strike="noStrike" u="sng">
                <a:solidFill>
                  <a:srgbClr val="a0c6ba"/>
                </a:solidFill>
                <a:uFillTx/>
                <a:latin typeface="Times New Roman"/>
              </a:rPr>
              <a:t>:</a:t>
            </a:r>
            <a:br>
              <a:rPr sz="3800"/>
            </a:br>
            <a:r>
              <a:rPr b="1" lang="en-US" sz="3800" spc="-1" strike="noStrike">
                <a:solidFill>
                  <a:srgbClr val="a0c6ba"/>
                </a:solidFill>
                <a:latin typeface="Times New Roman"/>
              </a:rPr>
              <a:t>Psycho physiologic disorders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a0c6ba"/>
                </a:solidFill>
                <a:latin typeface="Arial"/>
              </a:rPr>
              <a:t>Skin disord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y include allergy, eczema, hives, and ac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a0c6ba"/>
                </a:solidFill>
                <a:latin typeface="Arial"/>
              </a:rPr>
              <a:t>Respiratory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orders my include breathlessness, hyperventilation, hay fever, asthma, sinusitis, emphysema, and bronchial spas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a0c6ba"/>
                </a:solidFill>
                <a:latin typeface="Arial"/>
              </a:rPr>
              <a:t>Cardiovascular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orders my include hypertension, migraine headaches, and coronary heart dis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0c6ba"/>
                </a:solidFill>
                <a:latin typeface="Times New Roman"/>
              </a:rPr>
              <a:t>Cont. stress related disorders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a0c6ba"/>
                </a:solidFill>
                <a:latin typeface="Arial"/>
              </a:rPr>
              <a:t>Endocrine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orders my include diabetes mellitus, gonadal dysfunction, and adrenal dys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a0c6ba"/>
                </a:solidFill>
                <a:latin typeface="Arial"/>
              </a:rPr>
              <a:t>Musculoskeletal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orders my include backaches and cramps. Stress-related gastrointestinal system disorders my include colitis, gastritis constipation, obesity, hyperacidity, duodenal ulcer, and anorex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a0c6ba"/>
                </a:solidFill>
                <a:latin typeface="Arial"/>
              </a:rPr>
              <a:t>Genitourinary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orders may include menstrual disturbances, impotence, and vaginism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200" spc="-1" strike="noStrike">
                <a:solidFill>
                  <a:srgbClr val="5a84d8"/>
                </a:solidFill>
                <a:latin typeface="Times New Roman"/>
              </a:rPr>
              <a:t>Main assessment data</a:t>
            </a:r>
            <a:r>
              <a:rPr b="1" lang="en-US" sz="4200" spc="-1" strike="noStrike">
                <a:solidFill>
                  <a:srgbClr val="5a84d8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Complete physiology assessment</a:t>
            </a: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Measurement of stress level</a:t>
            </a: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Investigation of coping abilities</a:t>
            </a: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Identification of belief systems</a:t>
            </a: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Examination of family dynamics</a:t>
            </a:r>
            <a:r>
              <a:rPr b="0" lang="en-US" sz="2400" spc="-1" strike="noStrike">
                <a:solidFill>
                  <a:srgbClr val="a0c6b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5562720" y="1447920"/>
          <a:ext cx="35812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447920"/>
                    <a:ext cx="35812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General care goals and interventions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the client's biological integ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support while establishing a trusting relations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4572000" y="2581200"/>
          <a:ext cx="457200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581200"/>
                    <a:ext cx="457200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a84d8"/>
                </a:solidFill>
                <a:latin typeface="Times New Roman"/>
              </a:rPr>
              <a:t>THAN YOU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174" name="Object 5"/>
          <p:cNvGraphicFramePr/>
          <p:nvPr/>
        </p:nvGraphicFramePr>
        <p:xfrm>
          <a:off x="0" y="1295280"/>
          <a:ext cx="91440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 u="sng">
                <a:solidFill>
                  <a:srgbClr val="ff0000"/>
                </a:solidFill>
                <a:uFillTx/>
                <a:latin typeface="Times New Roman"/>
              </a:rPr>
              <a:t>Outlines</a:t>
            </a:r>
            <a:r>
              <a:rPr b="1" lang="en-GB" sz="4200" spc="-1" strike="noStrike" u="sng">
                <a:solidFill>
                  <a:srgbClr val="ff0000"/>
                </a:solidFill>
                <a:uFillTx/>
                <a:latin typeface="Times New Roman"/>
              </a:rPr>
              <a:t>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7724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 of stress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ssors, eustress and dist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racteristics of stre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aptation, physiologic response to stre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l care goals &amp; interven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ss manage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ss related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http://tbn1.google.com/images?q=tbn:UHbBBZ5I9E_6dM:http://www.chailifeline.org/images/photo-counseli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0"/>
            <a:ext cx="381024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600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Stress</a:t>
            </a:r>
            <a:r>
              <a:rPr b="1" lang="en-GB" sz="29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9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the reaction people have to excessive pressures, occurs when the pressure is greater than the resour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tressor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s, events, and situations that cause str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ustres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stress — beneficial to life and go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tres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ive stress, destructive to physical, mental,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motional heal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Exercise</a:t>
            </a: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for 5 minutes about things that stressed you recently and how they made you fe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Stress Quiz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:</a:t>
            </a:r>
            <a:br>
              <a:rPr sz="6600"/>
            </a:br>
            <a:endParaRPr b="0" lang="en-US" sz="6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144792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seem to tire more easily latel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people said you don’t look well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m to be working harder and accomplishing les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frequently forget appointments, deadlines, personal possessio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feel yourself becoming more cynical and less enchant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seeing friends &amp; family less frequentl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more irritable, short-tempered, or disappointed with people around you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often struck by sadness you can’t explain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you having physical complaints like body aches, headaches, pain, colds not able to shake more frequentl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have very little to say to peop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4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Scoring</a:t>
            </a: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 to 5 or more~ may be serious candidate for burn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 u="sng">
                <a:solidFill>
                  <a:srgbClr val="ff0000"/>
                </a:solidFill>
                <a:uFillTx/>
                <a:latin typeface="Times New Roman"/>
              </a:rPr>
              <a:t>Stress Response Stages</a:t>
            </a:r>
            <a:r>
              <a:rPr b="1" lang="en-US" sz="4200" spc="-1" strike="noStrike" u="sng">
                <a:solidFill>
                  <a:srgbClr val="ff0000"/>
                </a:solidFill>
                <a:uFillTx/>
                <a:latin typeface="Times New Roman"/>
              </a:rPr>
              <a:t>: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i received by the brain through one or more of five sens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rce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imul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a threat or as a non-thr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stays aroused until threat is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returns to homeostasis once the threat is g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ous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happens for non-physical stressors (mental, emotional, &amp; spiritual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Physiologic responses to stress</a:t>
            </a: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en-GB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- General adaptation syndrome (GAS)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ar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ista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haus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C:\Program Files\Common Files\Microsoft Shared\ClipArt\CagCat50\BS01316_.wmf"/>
          <p:cNvPicPr/>
          <p:nvPr/>
        </p:nvPicPr>
        <p:blipFill>
          <a:blip r:embed="rId1"/>
          <a:stretch/>
        </p:blipFill>
        <p:spPr>
          <a:xfrm>
            <a:off x="1371600" y="228600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05:55:11Z</dcterms:created>
  <dc:creator>efayad</dc:creator>
  <dc:description/>
  <dc:language>en-US</dc:language>
  <cp:lastModifiedBy>Elham Fayad</cp:lastModifiedBy>
  <dcterms:modified xsi:type="dcterms:W3CDTF">2014-10-14T10:22:49Z</dcterms:modified>
  <cp:revision>47</cp:revision>
  <dc:subject/>
  <dc:title>Stress and its Psycho physiologic Disorders</dc:title>
</cp:coreProperties>
</file>