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0C8-8C4F-4C83-AB9F-2F2CEB76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F29-88EE-40F4-9AA5-A0CC42BB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341-84F0-4CDA-B798-099DFDA2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764-3B5B-4B13-8EA2-D31A1114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0F4-7FFE-4CE3-B400-7553C6D5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326-D649-4539-A3F7-268B672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BE6-2BA4-4EFC-8A73-75122F3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06CD-FE25-45AD-8C6B-BD2B2E1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D6B-345B-4A53-AFE3-FE111A8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F81-E491-4F0D-87BE-23FDC8F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E94-AE7F-4338-9CF2-2205CF5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CB8-CEF5-4AFE-88DB-E68433E7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1CE2-640C-4598-8795-6222321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1CF-4E42-4947-B8BE-A32E59A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98B2-D569-40C0-99A4-B29E70B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DB1-A92F-4B61-9D60-5B411F4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E4DB-8494-499C-A0F5-589D453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A08-DA0E-479B-B02D-34E4EB16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15B-4FB6-42DA-8BE1-182C64A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B85-14D3-4E67-89AE-A9AA704D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1FC-5508-4214-9C86-D43141C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CCD-AD35-45C3-B048-280746E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A0E-3A72-4DA0-AFAF-4D1340D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FA4-D844-4A8F-B83D-193ECEA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869-E28C-4F81-90EA-000D8352935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9C4D-4609-4DA1-94A2-658D0CE4D29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ailifeline.org/images/photo-counseling.jpg&amp;imgrefurl=http://www.chailifeline.org/programdetail.php?program=61&amp;usg=__2AN8oN5Sbikf-t0Cal0yjJyEhgE=&amp;h=485&amp;w=371&amp;sz=45&amp;hl=en&amp;start=148&amp;tbnid=UHbBBZ5I9E_6dM:&amp;tbnh=129&amp;tbnw=99&amp;prev=/images?q=counseling&amp;gbv=2&amp;ndsp=18&amp;hl=en&amp;sa=N&amp;start=14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ess and its Psycho physiologic Disorder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52280" y="3733920"/>
            <a:ext cx="8839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fessor Dr. Elham fay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9" name="Picture 6" descr="http://www.keysboroughchiropracticclinic.com.au/wp-content/uploads/2014/10/gestion-stress-au-travail.jpg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hysiologic responses to stress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General Adaptation Syndrom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Selye claimed that the organism undergoes a generalized physiological response in its efforts to adapt to the demands and pressures it experiences, whatever they might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arm is the first stag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ssor is identified or r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ss response is ini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ine floods the bloodstream, and the stress response is activ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Resistanc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necessary if the stressor persists. The body attempts to adapt as it uses all available resources. Cortisol  works to mobilize energy stores to keep up with the body’s demand( </a:t>
            </a:r>
            <a:r>
              <a:rPr b="0" lang="en-US" sz="2800" spc="-1" strike="noStrike">
                <a:solidFill>
                  <a:srgbClr val="007373"/>
                </a:solidFill>
                <a:latin typeface="Arial"/>
              </a:rPr>
              <a:t>cause the coronary arteries to constrict)</a:t>
            </a:r>
            <a:r>
              <a:rPr b="0" lang="en-US" sz="2800" spc="-1" strike="noStrike">
                <a:solidFill>
                  <a:srgbClr val="007373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hau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inal stage in this model. Bodily resources are depleted, physiological functions are impaired, and illness (physical or emotional) or death may occ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B- Local adaptation syndrome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3" name="Content Placeholder 2" descr=""/>
          <p:cNvPicPr/>
          <p:nvPr/>
        </p:nvPicPr>
        <p:blipFill>
          <a:blip r:embed="rId1"/>
          <a:stretch/>
        </p:blipFill>
        <p:spPr>
          <a:xfrm>
            <a:off x="738360" y="853920"/>
            <a:ext cx="8107200" cy="5278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Factors influence stress response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sity of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ception of control over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bs01203_"/>
          <p:cNvPicPr/>
          <p:nvPr/>
        </p:nvPicPr>
        <p:blipFill>
          <a:blip r:embed="rId1"/>
          <a:stretch/>
        </p:blipFill>
        <p:spPr>
          <a:xfrm>
            <a:off x="1447920" y="3276720"/>
            <a:ext cx="601956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Types of stressors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304920" y="1447920"/>
          <a:ext cx="838188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3818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Symptoms of Chronic Stress Reactio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,Headaches, Muscle cr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ognitiv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m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m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ehavioral Chang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, Withd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motional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xiety Guilt ,Irritability,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:\Program Files (x86)\Microsoft Office\MEDIA\CAGCAT10\j0157763.wmf"/>
          <p:cNvPicPr/>
          <p:nvPr/>
        </p:nvPicPr>
        <p:blipFill>
          <a:blip r:embed="rId1"/>
          <a:stretch/>
        </p:blipFill>
        <p:spPr>
          <a:xfrm>
            <a:off x="5562720" y="2133720"/>
            <a:ext cx="312408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Theories about predisposing biological factors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crine activity affects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 factors have been proposed but not pro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organs may be affected by specific stressors, but this theory is not supported by resea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Theories about psychological factor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linical experts contend that a relationship exists between </a:t>
            </a: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personality's type and specific psycho physiologic disorders</a:t>
            </a: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The client’s difficulty in dealing with 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Program Files (x86)\Microsoft Office\MEDIA\CAGCAT10\j0149481.wmf"/>
          <p:cNvPicPr/>
          <p:nvPr/>
        </p:nvPicPr>
        <p:blipFill>
          <a:blip r:embed="rId1"/>
          <a:stretch/>
        </p:blipFill>
        <p:spPr>
          <a:xfrm>
            <a:off x="3500280" y="3809880"/>
            <a:ext cx="5110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Interventions for clients with stres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 assessment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- Complete physiologic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- Thorough psychosocial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- Measurement of stress lev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- Investigation of coping abil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 Identification of belief syste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- Examination of family dynamic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Group counseling clip art"/>
          <p:cNvPicPr/>
          <p:nvPr/>
        </p:nvPicPr>
        <p:blipFill>
          <a:blip r:embed="rId1"/>
          <a:stretch/>
        </p:blipFill>
        <p:spPr>
          <a:xfrm>
            <a:off x="6553080" y="3124080"/>
            <a:ext cx="25909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Diagnoses</a:t>
            </a: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-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reflect the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complexity of the bio psychosocial interaction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consider all aspects of the client’s life that may be generating stress-related anxiety, as well as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predisposing and precipitating stressors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Must consider the client’s stress level and coping skills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Program Files (x86)\Microsoft Office\MEDIA\CAGCAT10\j0195534.wmf"/>
          <p:cNvPicPr/>
          <p:nvPr/>
        </p:nvPicPr>
        <p:blipFill>
          <a:blip r:embed="rId1"/>
          <a:stretch/>
        </p:blipFill>
        <p:spPr>
          <a:xfrm>
            <a:off x="3833640" y="0"/>
            <a:ext cx="279576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ff0000"/>
                </a:solidFill>
                <a:uFillTx/>
                <a:latin typeface="Times New Roman"/>
              </a:rPr>
              <a:t>Objectives</a:t>
            </a:r>
            <a:r>
              <a:rPr b="1" lang="en-US" sz="3800" spc="-1" strike="noStrike" u="sng">
                <a:solidFill>
                  <a:srgbClr val="ff0000"/>
                </a:solidFill>
                <a:uFillTx/>
                <a:latin typeface="Times New Roman"/>
              </a:rPr>
              <a:t>:      </a:t>
            </a:r>
            <a:br>
              <a:rPr sz="3800"/>
            </a:b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By the end of this session the student should be able to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ess, stressors, eustress and di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stress response st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the physiologic responses to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ors influence stress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care goals and interventions for clients with st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stress-related illne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care goals and interventions for clients with stress-related illne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B- Types of diagnoses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M-III-R medical diagnoses: </a:t>
            </a:r>
            <a:r>
              <a:rPr b="1" lang="en-GB" sz="2400" spc="-1" strike="noStrike">
                <a:solidFill>
                  <a:srgbClr val="262626"/>
                </a:solidFill>
                <a:latin typeface="Arial"/>
              </a:rPr>
              <a:t>psychological factors affecting the physical condi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or example, conversion disorder or hypochondrias 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NANDA diagnostic category: </a:t>
            </a:r>
            <a:r>
              <a:rPr b="1" lang="en-GB" sz="2400" spc="-1" strike="noStrike">
                <a:solidFill>
                  <a:srgbClr val="262626"/>
                </a:solidFill>
                <a:latin typeface="Arial"/>
              </a:rPr>
              <a:t>ineffective individual co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WINDOWS\Application Data\Microsoft\Media Catalog\Downloaded Clips\cl0\PE02481_.wmf"/>
          <p:cNvPicPr/>
          <p:nvPr/>
        </p:nvPicPr>
        <p:blipFill>
          <a:blip r:embed="rId1"/>
          <a:stretch/>
        </p:blipFill>
        <p:spPr>
          <a:xfrm>
            <a:off x="3429000" y="3352680"/>
            <a:ext cx="541008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c7b505"/>
                </a:solidFill>
                <a:latin typeface="Times New Roman"/>
              </a:rPr>
              <a:t>General care goals</a:t>
            </a:r>
            <a:r>
              <a:rPr b="1" lang="en-GB" sz="4200" spc="-1" strike="noStrike">
                <a:solidFill>
                  <a:srgbClr val="c7b505"/>
                </a:solidFill>
                <a:latin typeface="Times New Roman"/>
              </a:rPr>
              <a:t>: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- Maintain the client’s biological integ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- Offer support while establishing a trusting relationsh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- explain unconscious psychodynamic processes to the cli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Top 10 Qualities of a Great Nurse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Teach the client to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e more effective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feelings consc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 feelings with oth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he frequency and intensity of existing st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y stimuli that might generate further st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family members how to support the client’s behavioural ch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 the client and family to appropriate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Program Files (x86)\Microsoft Office\MEDIA\CAGCAT10\j0199036.wmf"/>
          <p:cNvPicPr/>
          <p:nvPr/>
        </p:nvPicPr>
        <p:blipFill>
          <a:blip r:embed="rId1"/>
          <a:stretch/>
        </p:blipFill>
        <p:spPr>
          <a:xfrm>
            <a:off x="5029200" y="0"/>
            <a:ext cx="243828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Stress management strategie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- Progressive relax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- Biofeedbac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- Med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- Hypn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 Guided imag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- Behaviour mod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- Yo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- Exercise and stre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- Attitudinal restructur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- Stress desensitiz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- Ma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3357340000[1]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Evaluation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- Base evaluation on identified client care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- Do not interpret lack of goal achievement as 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I:\مجلد جديد\jjj.jpg"/>
          <p:cNvPicPr/>
          <p:nvPr/>
        </p:nvPicPr>
        <p:blipFill>
          <a:blip r:embed="rId1"/>
          <a:stretch/>
        </p:blipFill>
        <p:spPr>
          <a:xfrm>
            <a:off x="304920" y="3429000"/>
            <a:ext cx="822960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Program Files (x86)\Microsoft Office\MEDIA\CAGCAT10\j0199805.wmf"/>
          <p:cNvPicPr/>
          <p:nvPr/>
        </p:nvPicPr>
        <p:blipFill>
          <a:blip r:embed="rId2"/>
          <a:stretch/>
        </p:blipFill>
        <p:spPr>
          <a:xfrm>
            <a:off x="5181480" y="2527200"/>
            <a:ext cx="3962520" cy="250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a0c6ba"/>
                </a:solidFill>
                <a:uFillTx/>
                <a:latin typeface="Times New Roman"/>
              </a:rPr>
              <a:t>Stress Related Disorders</a:t>
            </a:r>
            <a:r>
              <a:rPr b="0" lang="en-US" sz="3800" spc="-1" strike="noStrike" u="sng">
                <a:solidFill>
                  <a:srgbClr val="a0c6ba"/>
                </a:solidFill>
                <a:uFillTx/>
                <a:latin typeface="Times New Roman"/>
              </a:rPr>
              <a:t>:</a:t>
            </a:r>
            <a:br>
              <a:rPr sz="3800"/>
            </a:br>
            <a:r>
              <a:rPr b="1" lang="en-US" sz="3800" spc="-1" strike="noStrike">
                <a:solidFill>
                  <a:srgbClr val="a0c6ba"/>
                </a:solidFill>
                <a:latin typeface="Times New Roman"/>
              </a:rPr>
              <a:t>Psycho physiologic disorder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Skin disor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include allergy, eczema, hives, and ac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Respira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breathlessness, hyperventilation, hay fever, asthma, sinusitis, emphysema, and bronchial spa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a0c6ba"/>
                </a:solidFill>
                <a:latin typeface="Arial"/>
              </a:rPr>
              <a:t>Cardiovascula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hypertension, migraine headaches, and coronary heart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0c6ba"/>
                </a:solidFill>
                <a:latin typeface="Times New Roman"/>
              </a:rPr>
              <a:t>Cont. stress related disorders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Endocrin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diabetes mellitus, gonadal dysfunction, and adrenal dys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Musculoskelet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backaches and cramps. Stress-related gastrointestinal system disorders my include colitis, gastritis constipation, obesity, hyperacidity, duodenal ulcer, and anorex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Genitourina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ay include menstrual disturbances, impotence, and vagi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Main assessment data</a:t>
            </a: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Complete physiology assessment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Measurement of stress level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Investigation of coping abilitie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Identification of belief system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Examination of family dynamic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5562720" y="1447920"/>
          <a:ext cx="3581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3581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General care goals and intervention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client's biological integ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while establishing a trusting relation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572000" y="2581200"/>
          <a:ext cx="4572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81200"/>
                    <a:ext cx="4572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THAN YOU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 u="sng">
                <a:solidFill>
                  <a:srgbClr val="ff0000"/>
                </a:solidFill>
                <a:uFillTx/>
                <a:latin typeface="Times New Roman"/>
              </a:rPr>
              <a:t>Outlines</a:t>
            </a:r>
            <a:r>
              <a:rPr b="1" lang="en-GB" sz="42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stres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ors, eustress and di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 of str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, physiologic response to str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care goals &amp; interven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ss manag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ss related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tbn1.google.com/images?q=tbn:UHbBBZ5I9E_6dM:http://www.chailifeline.org/images/photo-counsel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600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reaction people have to excessive pressures, occurs when the pressure is greater than the resou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essor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s, events, and situations that cause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stres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ress — beneficial to life and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tres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stress, destructive to physical, mental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motional heal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or 5 minutes about things that stressed you recently and how they made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tress Quiz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br>
              <a:rPr sz="6600"/>
            </a:b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seem to tire more easily late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people said you don’t look we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m to be working harder and accomplishing l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requently forget appointments, deadlines, personal possess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yourself becoming more cynical and less enchant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seeing friends &amp; family less frequent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more irritable, short-tempered, or disappointed with people around yo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often struck by sadness you can’t expl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having physical complaints like body aches, headaches, pain, colds not able to shake more frequent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very little to say to peo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Scoring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to 5 or more~ may be serious candidate for burn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Stress Response Stages</a:t>
            </a:r>
            <a:r>
              <a:rPr b="1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 received by the brain through one or more of five sen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a threat or as a non-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stays aroused until threat i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returns to homeostasis once the threat is g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ppens for non-physical stressors (mental, emotional, &amp; spiritu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Physiologic responses to stres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- General adaptation syndrome (GAS)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C:\Program Files\Common Files\Microsoft Shared\ClipArt\CagCat50\BS01316_.wmf"/>
          <p:cNvPicPr/>
          <p:nvPr/>
        </p:nvPicPr>
        <p:blipFill>
          <a:blip r:embed="rId1"/>
          <a:stretch/>
        </p:blipFill>
        <p:spPr>
          <a:xfrm>
            <a:off x="1371600" y="22860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5:55:11Z</dcterms:created>
  <dc:creator>efayad</dc:creator>
  <dc:description/>
  <dc:language>en-US</dc:language>
  <cp:lastModifiedBy>Elham Fayad</cp:lastModifiedBy>
  <dcterms:modified xsi:type="dcterms:W3CDTF">2014-10-14T10:22:49Z</dcterms:modified>
  <cp:revision>47</cp:revision>
  <dc:subject/>
  <dc:title>Stress and its Psycho physiologic Disorders</dc:title>
</cp:coreProperties>
</file>