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9B0-1B76-471D-950E-827CEFA5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820-11F9-47CF-BBE1-BC28B49D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1B7-CF3C-4C83-98ED-C47F58DD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DF2-4142-48AC-864C-41D5A668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4016-D849-4923-9752-1BAF6D36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786-7005-437E-910A-17DD7F8D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A988-5A29-4391-98D1-43738408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D5B9-6DCA-4F01-9BC7-3179E619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33E-5315-4408-889C-993A997C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3BDC-3BB5-4290-B631-37A6966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D3B8-DF61-4755-8023-4E68987F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3C9-6162-400A-B362-80394CEA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47D9-7637-4F41-A042-1257CEF9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D786-5977-48EB-A646-3956B380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5C04-3E30-4B10-B914-D5ABA465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EF62-0559-488F-B3F5-82C40283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087B-FE5D-47DA-997B-933F5369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DCF6-6C97-4099-A0F6-610E0515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AD70-7613-4436-A20C-030E8BDD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F7F9-6A2F-4ADD-AC1C-4A313280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C5E6-BDFE-4817-996A-8BD0BF34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D36DA-0096-45A4-A9E4-26B728A7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BB0-F45B-4B83-B68D-A366BABB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E909-EFED-4D71-BA7B-AE297AC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C285F-F6AA-4BE5-BEBC-F07233F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94F7-7CE6-4B12-8CEE-624D1983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BB247-D532-4859-AA40-ADABA16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5FA8-27C4-488E-A429-984CE81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7589-A856-4150-9E65-5E6CC51D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DE71-D157-47CD-B8C0-00E46236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E7F42-98E1-455B-B0A1-FF3D6A63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376DE-C7A2-48F4-8700-24FEFDC8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3C80-E56D-4F8C-B972-CEA7283D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F41-F238-473D-B626-75A3BBC7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5364-E6BE-4059-8D33-CEA2981A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9B27-AD03-414D-9A44-3215FE9C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04AE4-28ED-434D-9E65-F8B0F5D0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58601-E6A3-49E3-A391-9CB5AC9B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E57D-3689-45C3-B849-EC48C4A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FC56-4339-4641-9E76-D13510B2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693A-2C73-4BBE-82D4-3755028D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42468-351A-4B0B-A815-3230C2A4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23B5F-DC8F-414E-B0CC-0CD68199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746-683F-45A8-BAB5-FD6D1DD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E9D1-ABE4-4551-892E-A56555AF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1B7-2BCC-4603-8BA5-F81ECFEF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A7B-A3D0-4890-92D9-A76FDBA6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29BD-9667-47DB-AA72-D57FE5E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F58-5F66-4485-9F0A-2089BB06506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AEA-4A31-4D69-8722-B23A8CBD943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0486-195A-4A64-88E9-3B6C67B7CBCB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EA6-AF1A-4805-8563-02D74A3FC978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1"/>
          <a:stretch/>
        </p:blipFill>
        <p:spPr>
          <a:xfrm>
            <a:off x="530280" y="1706400"/>
            <a:ext cx="810720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213840" y="28548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etch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myo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reflex is exemplifi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e knee jerk ref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routinely in clinical neurophysiology as a tool 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iagn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certain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neurological condi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etch reflex has on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ynapse between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sensory a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rv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roup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 affer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and 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Arial"/>
              </a:rPr>
              <a:t>motor e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rves (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moro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the muscle i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tretch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group Ia afferent fibers in the muscle spindle are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ctiv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and their firing rate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increas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 Ia afferents enter the spinal cord and synapse directly on an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ctiva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otoneur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these </a:t>
            </a:r>
            <a:r>
              <a:rPr b="0" lang="el-GR" sz="2600" spc="-1" strike="noStrike">
                <a:solidFill>
                  <a:srgbClr val="ff0000"/>
                </a:solidFill>
                <a:latin typeface="Constantia"/>
              </a:rPr>
              <a:t>α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motoneuro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e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ctivat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hey ca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the muscle that was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originall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tretched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the muscle contracts, it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horte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thereby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decreas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tretch on the muscle spind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muscle spindl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tur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its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original leng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nd the firing rate of the group Ia afferents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turn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baseli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ultaneously, information is sent from the spinal cord to caus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contra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synergist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uscles and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relax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f </a:t>
            </a:r>
            <a:r>
              <a:rPr b="0" lang="en-US" sz="2600" spc="-1" strike="noStrike">
                <a:solidFill>
                  <a:srgbClr val="0066ff"/>
                </a:solidFill>
                <a:latin typeface="Constantia"/>
              </a:rPr>
              <a:t>antagonist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usc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29" descr=""/>
          <p:cNvPicPr/>
          <p:nvPr/>
        </p:nvPicPr>
        <p:blipFill>
          <a:blip r:embed="rId1"/>
          <a:srcRect l="0" t="0" r="0" b="51587"/>
          <a:stretch/>
        </p:blipFill>
        <p:spPr>
          <a:xfrm>
            <a:off x="428760" y="1500120"/>
            <a:ext cx="87152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20:10:51Z</dcterms:created>
  <dc:creator>userPC</dc:creator>
  <dc:description/>
  <dc:language>en-US</dc:language>
  <cp:lastModifiedBy>User</cp:lastModifiedBy>
  <dcterms:modified xsi:type="dcterms:W3CDTF">2012-02-20T07:05:06Z</dcterms:modified>
  <cp:revision>16</cp:revision>
  <dc:subject/>
  <dc:title>Stretch reflex</dc:title>
</cp:coreProperties>
</file>