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D63-D824-4E1F-AC85-FE6ED0BF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A0D-C6E8-4308-A47D-B8AE9BE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EF0-E4B7-4A08-A91B-6728D635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03C-62D6-4655-9FDC-726BAD1D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071F-74E0-4D25-8DCD-E9FA93B5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36AB-2BA5-4465-A43C-4725A85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B9E-0AED-4B34-965B-7F62FFD2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9468-CAB6-460E-AC5B-3A9B2C8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43B-F47E-4850-8D55-9862E14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59DB-5BCB-4B4D-9FC8-5E821214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EF30-8343-4A75-830F-D85223C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47B-7C44-4C09-9739-556C871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D6A-1011-4CD7-A37A-CA7757BC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387E-9976-4FC5-B7CD-DA4A89B5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C7ED-DD73-4D16-8787-891909A6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74F6-995E-41CC-88E9-BBA682D9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E24-741F-46EA-84C6-10DCF962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3476-DDE7-4B13-A1D8-FD315559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601C-A8B8-46E8-B955-62DE5210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02FC-622B-4257-B960-CE31B096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1FAD-7E99-4C94-B16F-E14E02C1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7EF6-F902-40DB-8666-28822F02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011-7C4C-4632-9976-E034C0B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B1B6-978E-40D0-87E7-979C03EE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1CE7-00CB-426A-B2CF-DF577D4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1E04-0F09-48EF-88BB-8841798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90A0-BF7A-4673-B015-D982110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C85D-E44E-4784-8332-29B1897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32AD-5D36-42BC-B3D6-423F5616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C9F6-8B94-428C-ACF6-14599FF3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B317-23D8-41A9-8B72-B9B67436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FDD3-8776-4EEF-A225-A4F8D3C4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81A0-8989-48BB-8977-43B0BD0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A5C-543F-44EE-B567-6978DFE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02F6-BA4F-4D0E-BAC3-FA7CDB1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635A-A620-41B3-A01A-7B283356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2D8D-4698-4D47-8F1C-EA73635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1A5C-0963-4297-9F7A-0DAAFAA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E3F8-00EF-4D73-AEB4-ECB196D3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8B04-C967-4502-880D-C6A65BB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D7CE-EABF-42F8-9FC2-B2DAF69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9403-BD1D-4091-B4DC-0CDC4A16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8B40-FA9E-4BC0-9E63-B7404E1E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A0D-2D24-402F-9890-B9D407E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C9E-E9D3-4811-B57E-73C04C6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77F-D4AC-4166-923D-F1A3008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472-88C3-446D-84DA-7BA762D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284-1EE1-4B5E-8E2B-B64D3B42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9FA-9600-4F34-B50D-1EDED0793C2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ADA3-8771-4E0D-8873-BFF33A3548A3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CA28-5607-40AC-BF58-704772F1A74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E072-D3B4-4D46-BD3A-9CC08B072F2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1"/>
          <a:stretch/>
        </p:blipFill>
        <p:spPr>
          <a:xfrm>
            <a:off x="530280" y="1706400"/>
            <a:ext cx="81072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840" y="28548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etch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myo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reflex is exemplifi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 knee jerk ref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routinely in clinical neurophysiology as a tool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iagn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certain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neurological cond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etch reflex has on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ynapse between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sensory a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rv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roup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 affer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and 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motor e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rves (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moro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the muscle i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tretch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group Ia afferent fibers in the muscle spindle are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ctiv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their firing rate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increa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 Ia afferents enter the spinal cord and synapse directly on an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ctiv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otoneur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these </a:t>
            </a:r>
            <a:r>
              <a:rPr b="0" lang="el-GR" sz="2600" spc="-1" strike="noStrike">
                <a:solidFill>
                  <a:srgbClr val="ff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motoneur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ctiv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hey ca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the muscle that was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original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tretched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the muscle contracts, i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horte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hereby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decreas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tretch on the muscle spind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uscle spindl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tur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its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original leng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nd the firing rate of the group Ia afferent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tur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baseli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ultaneously, information is sent from the spinal cord to ca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synergist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uscles an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lax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ntagonist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usc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29" descr=""/>
          <p:cNvPicPr/>
          <p:nvPr/>
        </p:nvPicPr>
        <p:blipFill>
          <a:blip r:embed="rId1"/>
          <a:srcRect l="0" t="0" r="0" b="51587"/>
          <a:stretch/>
        </p:blipFill>
        <p:spPr>
          <a:xfrm>
            <a:off x="428760" y="1500120"/>
            <a:ext cx="8715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20:10:51Z</dcterms:created>
  <dc:creator>userPC</dc:creator>
  <dc:description/>
  <dc:language>en-US</dc:language>
  <cp:lastModifiedBy>User</cp:lastModifiedBy>
  <dcterms:modified xsi:type="dcterms:W3CDTF">2012-02-20T07:05:06Z</dcterms:modified>
  <cp:revision>16</cp:revision>
  <dc:subject/>
  <dc:title>Stretch reflex</dc:title>
</cp:coreProperties>
</file>