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A6B51-F9A1-4A47-88D4-B1C76F11E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FA222-A714-46A1-AA9A-3C7BA5D77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6B0807-9DF6-450F-A59F-A7ECCF490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18D868-6872-47BF-A73B-1C28F426B5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70732D-1992-482B-B678-0BD0820AB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F6CA4-CD60-46D1-BFFB-DB5198C589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6C844F-7790-4840-9492-595608CBF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077186-D834-4339-8148-D144E7C66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C93BA-DD5E-48B8-B483-97F1C75025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51592A-D5B8-47F3-A617-5046B6301E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7B7C0B-1892-455B-A2D1-59B2E6A047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59DA98-EF90-4F3C-9C2D-1BC0FC168D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8CBE6-D8EE-4AFA-AA20-642F92EA9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544070-DF57-46E8-A7DE-B34FA930DE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6C7023-FD1A-4107-BAF9-8363FF4326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376111-39FE-4A45-8D89-D4506A88ED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86BAB4-144A-401F-9445-59856A1E2A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B2D4E3-8C4A-495E-931F-AE0CC711D6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BBEB10-2D60-448E-BFCC-2E46187BA4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356C69-6843-43DA-B153-FD772FDE90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376811-25AF-4422-B2C6-63C622CF36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F1E92B-A36B-44FB-9E3B-5A1AB2AB83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2FAE24-F6BE-497A-94B0-18012A1EF4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B913F-5E8F-4C79-836D-8C2F9D7DA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01E3CD-D9C5-4F92-A9B4-2A2CE90527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0B8B2C-04E5-4808-9D29-F0A47CFCE3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59C2BD-9926-4CA6-9A42-75FA0AA733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62F6B9-EE5C-4881-9E2E-6737665131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777009-5B5D-4B0E-BB05-B09FB6528A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985C6F-8963-4B95-9553-2EE31453FD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2404D6-0450-4098-B984-593E121AA4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71CA6B-EF3E-4AD0-B76D-90FC2890CE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F2E7D9-1297-44A6-8E7D-510FE9C567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29DA94-1498-4717-BA97-553830F80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71A93-E5F6-4B4C-A7DC-7F34EE59A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78738B-D19B-4815-8894-ED55AE1130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DC14B8-BE94-48F9-A031-9BE8CB61F5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4C9A1E-5A95-4E84-AD1D-CD4ADB888E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198688-B658-4CD4-9350-7C4F44C4F5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B1F3DC-ADA3-484B-AEA4-9803F690C4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C1F3C7-2375-4D20-BD9B-7D185996F7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17D3D5-B164-414F-AD5C-1F7D2441BF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3BEA80-54D8-4935-BB1B-56F7696BF4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518E30-4875-4699-A937-9A43A07147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57FA69-5881-42D5-978D-5F846EC1EF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F266E-3477-4A66-9020-77EB15680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F39AF4-FC77-4346-AC71-77206CA0C6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765F29-EC29-4332-BFDA-BCB14A36EA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83807D-B27F-420A-8F43-C3DCFD399F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D96F8B-1E3C-4646-833F-D52F1F8B96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9EA7C1-4151-4897-A327-EEE90D43FC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27D51-60EA-4536-AD31-1FA5C5C19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C6F95-D55F-4BD7-B4F4-FDAFB6356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FCCD3-D2D9-497C-8A26-EF83D8DF7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45CBE-0343-4A56-AF39-D4571F558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33C6-DAAA-4DBD-9B9A-4FA2A83B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0491D-B506-4527-A1BF-1D6647DA0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C2260-8B31-499F-91AE-FCAC93AEA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2B5F5-9A4C-4489-855B-3656994D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4F0FB-5B7F-43E6-AC81-0F1790AF4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A27C1-2F43-45AA-B2EF-88A3F6054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B045F-13DF-43BA-8931-42213B7A3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60309-44FF-436B-9E19-DAA510B2C8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70969-CF0F-42A8-B497-B718C9EBF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977BA-948A-4B65-8688-D41DCFD1D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D5C36-DCC9-46CC-9E23-09BBD34DF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4F960-9834-4B20-A262-E7FA1CF2D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567A-DB72-4DC7-93A2-EF5EA03F6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03582-79B2-4576-877D-D9ACEA6B2C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7D07F-72CE-49D9-95FA-A6E22F82F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09ED9-95D1-43AD-A9F1-0ED73AB95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59529-8F7D-4B8A-8307-9A020EF4C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DEC43-3E9E-491D-B960-3C58EC4F4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D80863-6973-414D-B73A-0D2FEFE7A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155F0-5E1C-40FC-95A4-3B97C39CF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06ACC-D290-40FA-9CBA-D52885B8C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DE376-E91E-415C-AA40-A43455374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DF0B7-B06D-4E7F-A7DE-6B6FDAC19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4DFD5-8C4B-4602-923A-EECE52C3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5D7AF-4B15-4ABF-A04F-D6E099315C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16D6F-DE16-46A3-AFF0-E2B9FC24E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59C36-D5F4-4C0B-A872-93498C2AA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0DD0F-5F39-493C-AA01-CE69F1279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5B0B8-049E-45C9-BFCA-888E4F36C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2C697-E6B4-4F35-B5D1-816F80E30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5C55E-1102-416E-BC29-7E7F2A7684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A4265-94E4-42B4-9426-B235B68027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676CE-3843-401E-A2C0-490DA750A5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047C02-DD33-4EBC-BE5C-9140D5B184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B853-4440-4FF7-8B88-240099A9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234B4-82CE-4C06-B93C-4CCB0236C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84BFC-A8B5-43C5-850B-2BAE9B1FC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9B198-6770-40CE-A8B7-9B171F3A65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BC572-A1C9-4F3E-8298-01283FBE4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8422B-9975-485D-82CE-AA501E3AD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8249C-2F5E-4C1F-A846-975B4600D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9A1960-AEBD-4F52-97B2-B87F306EB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62002-A7C1-41CF-A75A-2093B3E8E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F3382-A988-48F6-A613-592587B5D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0EAD1-DFF3-4CF8-98D4-E1772FFCC9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3FF85-0F6C-4284-A8A4-88D8599C0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384EBD-8B5F-414E-A0DC-460F7321F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4BA679-834C-4DDA-ACCF-41F59A8807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D357E-EB4B-4BC6-9336-FD5A8BB4C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82131-4239-4773-AB3D-9C0CE170A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55292-416E-4E5F-A9BB-FAE9D1BC0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D2701-D8C3-4710-A6E6-9EB52B57F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305CF-C02F-495C-BF11-1F5A71E03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01445-080B-4C20-B088-317F905CA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A9115-0A00-4515-BB11-011F77081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9FFE8-9534-447A-AC67-626FF8274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992B-E7FF-426B-8913-70DB164EC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45117-8B5C-41C2-9992-F3B2202611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F08853-162A-4ED6-A31E-B69849B8E9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BFCFE0-1C55-48EA-AB91-380311A1AF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9E1C3F-D033-4C64-ABA7-2776E2D1E2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999532-A061-4225-B9F2-2DFB0761A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DC44B1-BB1A-470C-B963-AB696ED10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D145B-C8E1-41AA-A3ED-CCB6CFF0F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4950B-8084-4A96-9256-9E6CFCBF88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966D76-5EC9-469D-878E-3EC14372E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61BC9-9900-4A40-A727-E32D0EF1D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512D-3AA2-4ECC-A50B-CFCC50E03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2F695-62C5-4087-A1B5-8BBAF167E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0D8D4-A1A3-4C3A-9A24-75E530432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45D09-5889-4106-BC2E-899AB3BF19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54DCF6-5D7E-4180-A57B-BEBC9AAB1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913F80-4E9E-42F0-9DF1-AEBF937E8B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EDF479-E3C5-46A0-B867-1441D73FF3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EC6A49-3789-4EF9-8F39-7AD2142CD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664421-8046-48E9-889D-30EB5C746F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836B97-E756-48A3-8F7A-0AEEF0EB5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43B63B-39C5-460F-AE75-8E2D18656A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61073-5F5E-4D24-8367-709AA7A0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139F41-266D-47D9-8AE0-35BC0E31FF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C74CDE-013F-4BDC-9E78-73431CF61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7F01A-8F40-4FE8-A45F-93411CD93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33784-DD1A-48D3-8555-42FF0EA92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665A6B-1662-48D1-B23C-23DBF192C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99A3D2-5169-4302-9D10-008AAE9E52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31EFE6-A25A-4D31-9D5D-317CE9FC2D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892398-D141-481D-8EB9-7D911E0E07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0FAFCA-A0AF-44E3-B3E1-5F83E03647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8C3A30-B8E1-4435-86ED-A33811F3B6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5501-96AB-405C-9324-644B962D21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2108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2108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FE04-A871-4366-A056-AB45E162DF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2108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2FAE-EBA2-4555-982A-3D2DE4C0DA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2108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E4D1-D247-4B4C-9716-DE3A42C429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2108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شكل حر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شكل حر 19"/>
            <p:cNvGrpSpPr/>
            <p:nvPr/>
          </p:nvGrpSpPr>
          <p:grpSpPr>
            <a:xfrm>
              <a:off x="8640" y="4998600"/>
              <a:ext cx="9129240" cy="1865880"/>
              <a:chOff x="8640" y="4998600"/>
              <a:chExt cx="9129240" cy="1865880"/>
            </a:xfrm>
          </p:grpSpPr>
          <p:pic>
            <p:nvPicPr>
              <p:cNvPr id="58" name="شكل حر 19" descr=""/>
              <p:cNvPicPr/>
              <p:nvPr/>
            </p:nvPicPr>
            <p:blipFill>
              <a:blip r:embed="rId4"/>
              <a:stretch/>
            </p:blipFill>
            <p:spPr>
              <a:xfrm>
                <a:off x="8640" y="4998600"/>
                <a:ext cx="912924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07E6-E170-4222-A816-6E8E052FB55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2108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773A-643C-4806-8119-C2B0A3CF5D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2108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528E-F586-4F10-93CB-1AFBC9B265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2108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597D-E647-4A37-91E3-61B920A439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2108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4019-9B0B-4902-9B07-3B8769FF8F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2108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4118-44DF-4C16-B42B-AAAF8955CD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2108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8FA4-C0BB-4369-893E-E71DFAEF56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2108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3CDE-4962-4260-971B-213E630BAB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83"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84"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مربع نص 4"/>
          <p:cNvSpPr/>
          <p:nvPr/>
        </p:nvSpPr>
        <p:spPr>
          <a:xfrm>
            <a:off x="1071720" y="1785960"/>
            <a:ext cx="1071360" cy="237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0" spc="-1" strike="noStrike">
                <a:solidFill>
                  <a:srgbClr val="000000"/>
                </a:solidFill>
                <a:latin typeface="Arial"/>
              </a:rPr>
              <a:t>9</a:t>
            </a:r>
            <a:endParaRPr b="0" lang="en-US" sz="15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09"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610" name="مستطيل 5"/>
          <p:cNvSpPr/>
          <p:nvPr/>
        </p:nvSpPr>
        <p:spPr>
          <a:xfrm>
            <a:off x="3500280" y="3214800"/>
            <a:ext cx="1857600" cy="114300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Lucida Sans Unicode"/>
              </a:rPr>
              <a:t>السعر</a:t>
            </a:r>
            <a:endParaRPr b="0" lang="en-US" sz="4400" spc="-1" strike="noStrike">
              <a:solidFill>
                <a:srgbClr val="000000"/>
              </a:solidFill>
              <a:latin typeface="Arial"/>
            </a:endParaRPr>
          </a:p>
        </p:txBody>
      </p:sp>
      <p:sp>
        <p:nvSpPr>
          <p:cNvPr id="611" name="شكل بيضاوي 6"/>
          <p:cNvSpPr/>
          <p:nvPr/>
        </p:nvSpPr>
        <p:spPr>
          <a:xfrm>
            <a:off x="6500880" y="1714680"/>
            <a:ext cx="1571400" cy="1643040"/>
          </a:xfrm>
          <a:prstGeom prst="ellipse">
            <a:avLst/>
          </a:prstGeom>
          <a:solidFill>
            <a:srgbClr val="92d05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تكاليف</a:t>
            </a:r>
            <a:endParaRPr b="0" lang="en-US" sz="2800" spc="-1" strike="noStrike">
              <a:solidFill>
                <a:srgbClr val="000000"/>
              </a:solidFill>
              <a:latin typeface="Arial"/>
            </a:endParaRPr>
          </a:p>
        </p:txBody>
      </p:sp>
      <p:sp>
        <p:nvSpPr>
          <p:cNvPr id="612" name="شكل بيضاوي 7"/>
          <p:cNvSpPr/>
          <p:nvPr/>
        </p:nvSpPr>
        <p:spPr>
          <a:xfrm>
            <a:off x="3571920" y="1000080"/>
            <a:ext cx="1571760" cy="16430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هيكل المنافسة</a:t>
            </a:r>
            <a:endParaRPr b="0" lang="en-US" sz="2600" spc="-1" strike="noStrike">
              <a:solidFill>
                <a:srgbClr val="000000"/>
              </a:solidFill>
              <a:latin typeface="Arial"/>
            </a:endParaRPr>
          </a:p>
        </p:txBody>
      </p:sp>
      <p:sp>
        <p:nvSpPr>
          <p:cNvPr id="613" name="شكل بيضاوي 8"/>
          <p:cNvSpPr/>
          <p:nvPr/>
        </p:nvSpPr>
        <p:spPr>
          <a:xfrm>
            <a:off x="642960" y="1785960"/>
            <a:ext cx="1571760" cy="1643040"/>
          </a:xfrm>
          <a:prstGeom prst="ellipse">
            <a:avLst/>
          </a:prstGeom>
          <a:solidFill>
            <a:srgbClr val="ff66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وقعات المشترين ومرونة الطلب</a:t>
            </a:r>
            <a:endParaRPr b="0" lang="en-US" sz="2400" spc="-1" strike="noStrike">
              <a:solidFill>
                <a:srgbClr val="000000"/>
              </a:solidFill>
              <a:latin typeface="Arial"/>
            </a:endParaRPr>
          </a:p>
        </p:txBody>
      </p:sp>
      <p:sp>
        <p:nvSpPr>
          <p:cNvPr id="614" name="شكل بيضاوي 9"/>
          <p:cNvSpPr/>
          <p:nvPr/>
        </p:nvSpPr>
        <p:spPr>
          <a:xfrm>
            <a:off x="6500880" y="4643280"/>
            <a:ext cx="1571400" cy="1643400"/>
          </a:xfrm>
          <a:prstGeom prst="ellipse">
            <a:avLst/>
          </a:prstGeom>
          <a:solidFill>
            <a:srgbClr val="08de2c"/>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توقعات الوسطاء</a:t>
            </a:r>
            <a:endParaRPr b="0" lang="en-US" sz="2600" spc="-1" strike="noStrike">
              <a:solidFill>
                <a:srgbClr val="000000"/>
              </a:solidFill>
              <a:latin typeface="Arial"/>
            </a:endParaRPr>
          </a:p>
        </p:txBody>
      </p:sp>
      <p:sp>
        <p:nvSpPr>
          <p:cNvPr id="615" name="شكل بيضاوي 10"/>
          <p:cNvSpPr/>
          <p:nvPr/>
        </p:nvSpPr>
        <p:spPr>
          <a:xfrm>
            <a:off x="3643200" y="4857840"/>
            <a:ext cx="1571760" cy="1643040"/>
          </a:xfrm>
          <a:prstGeom prst="ellipse">
            <a:avLst/>
          </a:prstGeom>
          <a:solidFill>
            <a:srgbClr val="878bb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تغيرات المزيج التسويقي</a:t>
            </a:r>
            <a:endParaRPr b="0" lang="en-US" sz="2400" spc="-1" strike="noStrike">
              <a:solidFill>
                <a:srgbClr val="000000"/>
              </a:solidFill>
              <a:latin typeface="Arial"/>
            </a:endParaRPr>
          </a:p>
        </p:txBody>
      </p:sp>
      <p:sp>
        <p:nvSpPr>
          <p:cNvPr id="616" name="شكل بيضاوي 11"/>
          <p:cNvSpPr/>
          <p:nvPr/>
        </p:nvSpPr>
        <p:spPr>
          <a:xfrm>
            <a:off x="714240" y="4714920"/>
            <a:ext cx="1571760" cy="164304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rPr>
              <a:t>الجوانب القانونية والأخلاقية</a:t>
            </a:r>
            <a:endParaRPr b="0" lang="en-US" sz="2200" spc="-1" strike="noStrike">
              <a:solidFill>
                <a:srgbClr val="000000"/>
              </a:solidFill>
              <a:latin typeface="Arial"/>
            </a:endParaRPr>
          </a:p>
        </p:txBody>
      </p:sp>
      <p:cxnSp>
        <p:nvCxnSpPr>
          <p:cNvPr id="617" name="رابط كسهم مستقيم 13"/>
          <p:cNvCxnSpPr>
            <a:stCxn id="611" idx="2"/>
          </p:cNvCxnSpPr>
          <p:nvPr/>
        </p:nvCxnSpPr>
        <p:spPr>
          <a:xfrm flipH="1">
            <a:off x="5357160" y="2534040"/>
            <a:ext cx="1143720" cy="894600"/>
          </a:xfrm>
          <a:prstGeom prst="straightConnector1">
            <a:avLst/>
          </a:prstGeom>
          <a:ln w="38160">
            <a:solidFill>
              <a:srgbClr val="000000"/>
            </a:solidFill>
            <a:miter/>
            <a:tailEnd len="med" type="arrow" w="med"/>
          </a:ln>
        </p:spPr>
      </p:cxnSp>
      <p:cxnSp>
        <p:nvCxnSpPr>
          <p:cNvPr id="618" name="رابط كسهم مستقيم 15"/>
          <p:cNvCxnSpPr>
            <a:stCxn id="614" idx="2"/>
          </p:cNvCxnSpPr>
          <p:nvPr/>
        </p:nvCxnSpPr>
        <p:spPr>
          <a:xfrm flipH="1" flipV="1">
            <a:off x="5357160" y="4142880"/>
            <a:ext cx="1143720" cy="1323360"/>
          </a:xfrm>
          <a:prstGeom prst="straightConnector1">
            <a:avLst/>
          </a:prstGeom>
          <a:ln w="38160">
            <a:solidFill>
              <a:srgbClr val="000000"/>
            </a:solidFill>
            <a:miter/>
            <a:tailEnd len="med" type="arrow" w="med"/>
          </a:ln>
        </p:spPr>
      </p:cxnSp>
      <p:cxnSp>
        <p:nvCxnSpPr>
          <p:cNvPr id="619" name="رابط كسهم مستقيم 17"/>
          <p:cNvCxnSpPr/>
          <p:nvPr/>
        </p:nvCxnSpPr>
        <p:spPr>
          <a:xfrm flipH="1">
            <a:off x="4427280" y="2642760"/>
            <a:ext cx="2160" cy="500760"/>
          </a:xfrm>
          <a:prstGeom prst="straightConnector1">
            <a:avLst/>
          </a:prstGeom>
          <a:ln w="38160">
            <a:solidFill>
              <a:srgbClr val="000000"/>
            </a:solidFill>
            <a:miter/>
            <a:tailEnd len="med" type="arrow" w="med"/>
          </a:ln>
        </p:spPr>
      </p:cxnSp>
      <p:cxnSp>
        <p:nvCxnSpPr>
          <p:cNvPr id="620" name="رابط كسهم مستقيم 21"/>
          <p:cNvCxnSpPr>
            <a:stCxn id="613" idx="6"/>
          </p:cNvCxnSpPr>
          <p:nvPr/>
        </p:nvCxnSpPr>
        <p:spPr>
          <a:xfrm>
            <a:off x="2214360" y="2606760"/>
            <a:ext cx="1286280" cy="894240"/>
          </a:xfrm>
          <a:prstGeom prst="straightConnector1">
            <a:avLst/>
          </a:prstGeom>
          <a:ln w="38160">
            <a:solidFill>
              <a:srgbClr val="000000"/>
            </a:solidFill>
            <a:miter/>
            <a:tailEnd len="med" type="arrow" w="med"/>
          </a:ln>
        </p:spPr>
      </p:cxnSp>
      <p:cxnSp>
        <p:nvCxnSpPr>
          <p:cNvPr id="621" name="رابط كسهم مستقيم 23"/>
          <p:cNvCxnSpPr>
            <a:stCxn id="616" idx="6"/>
          </p:cNvCxnSpPr>
          <p:nvPr/>
        </p:nvCxnSpPr>
        <p:spPr>
          <a:xfrm flipV="1">
            <a:off x="2285640" y="4071600"/>
            <a:ext cx="1215000" cy="1465920"/>
          </a:xfrm>
          <a:prstGeom prst="straightConnector1">
            <a:avLst/>
          </a:prstGeom>
          <a:ln w="38160">
            <a:solidFill>
              <a:srgbClr val="000000"/>
            </a:solidFill>
            <a:miter/>
            <a:tailEnd len="med" type="arrow" w="med"/>
          </a:ln>
        </p:spPr>
      </p:cxnSp>
      <p:cxnSp>
        <p:nvCxnSpPr>
          <p:cNvPr id="622" name="رابط كسهم مستقيم 25"/>
          <p:cNvCxnSpPr>
            <a:stCxn id="615" idx="0"/>
            <a:endCxn id="610" idx="2"/>
          </p:cNvCxnSpPr>
          <p:nvPr/>
        </p:nvCxnSpPr>
        <p:spPr>
          <a:xfrm flipV="1">
            <a:off x="4427640" y="4358520"/>
            <a:ext cx="2160" cy="500760"/>
          </a:xfrm>
          <a:prstGeom prst="straightConnector1">
            <a:avLst/>
          </a:prstGeom>
          <a:ln w="38160">
            <a:solidFill>
              <a:srgbClr val="0000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show_file3"/>
          <p:cNvPicPr/>
          <p:nvPr/>
        </p:nvPicPr>
        <p:blipFill>
          <a:blip r:embed="rId1">
            <a:lum bright="70000" contrast="-70000"/>
          </a:blip>
          <a:stretch/>
        </p:blipFill>
        <p:spPr>
          <a:xfrm>
            <a:off x="-600120" y="-25560"/>
            <a:ext cx="9753480" cy="7315200"/>
          </a:xfrm>
          <a:prstGeom prst="rect">
            <a:avLst/>
          </a:prstGeom>
          <a:ln w="0">
            <a:noFill/>
          </a:ln>
        </p:spPr>
      </p:pic>
      <p:sp>
        <p:nvSpPr>
          <p:cNvPr id="624" name="Text Box 8"/>
          <p:cNvSpPr/>
          <p:nvPr/>
        </p:nvSpPr>
        <p:spPr>
          <a:xfrm>
            <a:off x="1071720" y="998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كاليف</a:t>
            </a:r>
            <a:endParaRPr b="0" lang="en-US" sz="2800" spc="-1" strike="noStrike">
              <a:solidFill>
                <a:srgbClr val="000000"/>
              </a:solidFill>
              <a:latin typeface="Arial"/>
            </a:endParaRPr>
          </a:p>
        </p:txBody>
      </p:sp>
      <p:sp>
        <p:nvSpPr>
          <p:cNvPr id="625" name="Text Box 8"/>
          <p:cNvSpPr/>
          <p:nvPr/>
        </p:nvSpPr>
        <p:spPr>
          <a:xfrm>
            <a:off x="1071720" y="1844640"/>
            <a:ext cx="7143480" cy="643068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3200" spc="-1" strike="noStrike">
                <a:solidFill>
                  <a:srgbClr val="000000"/>
                </a:solidFill>
                <a:latin typeface="Arial"/>
                <a:cs typeface="PT Bold Heading"/>
              </a:rPr>
              <a:t>تقسم التكاليف الكلية للمنتج إلى:</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إنتاج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تسويق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إداري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كذلك تقسم إلى:</a:t>
            </a:r>
            <a:r>
              <a:rPr b="1" lang="ar-SA" sz="3200" spc="-1" strike="noStrike">
                <a:solidFill>
                  <a:srgbClr val="e61893"/>
                </a:solidFill>
                <a:latin typeface="Arial"/>
                <a:ea typeface="PT Bold Heading"/>
              </a:rPr>
              <a:t> تكاليف ثابتة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متغير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تمثل التكاليف الكلية</a:t>
            </a:r>
            <a:r>
              <a:rPr b="1" lang="ar-SA" sz="3200" spc="-1" strike="noStrike">
                <a:solidFill>
                  <a:srgbClr val="e61893"/>
                </a:solidFill>
                <a:latin typeface="Arial"/>
                <a:ea typeface="PT Bold Heading"/>
              </a:rPr>
              <a:t> للمنتج الحد الأدنى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الذي يمكن تسعير المنتج به</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28"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29" name="Text Box 8"/>
          <p:cNvSpPr/>
          <p:nvPr/>
        </p:nvSpPr>
        <p:spPr>
          <a:xfrm>
            <a:off x="1071720" y="1916280"/>
            <a:ext cx="7143480" cy="54558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لاحتكار</a:t>
            </a:r>
            <a:r>
              <a:rPr b="1" lang="ar-SA" sz="3200" spc="-1" strike="noStrike">
                <a:solidFill>
                  <a:srgbClr val="e61893"/>
                </a:solidFill>
                <a:latin typeface="Arial"/>
                <a:ea typeface="PT Bold Heading"/>
              </a:rPr>
              <a:t>: </a:t>
            </a:r>
            <a:r>
              <a:rPr b="1" lang="ar-SA" sz="3200" spc="-1" strike="noStrike">
                <a:solidFill>
                  <a:srgbClr val="002060"/>
                </a:solidFill>
                <a:latin typeface="Arial"/>
                <a:cs typeface="PT Bold Heading"/>
              </a:rPr>
              <a:t>يباع المنتج بأسعار مرتفعة ، حيث يتحكم المنتج في السعر لعدم وجود منافسين</a:t>
            </a:r>
            <a:endParaRPr b="0" lang="en-US" sz="3200" spc="-1" strike="noStrike">
              <a:solidFill>
                <a:srgbClr val="000000"/>
              </a:solidFill>
              <a:latin typeface="Arial"/>
            </a:endParaRPr>
          </a:p>
          <a:p>
            <a:pPr marL="457200" indent="-457200" algn="just" rtl="1">
              <a:buClr>
                <a:srgbClr val="e61893"/>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حتكار القلة</a:t>
            </a:r>
            <a:r>
              <a:rPr b="1" lang="ar-SA" sz="3200" spc="-1" strike="noStrike">
                <a:solidFill>
                  <a:srgbClr val="002060"/>
                </a:solidFill>
                <a:latin typeface="Arial"/>
                <a:ea typeface="PT Bold Heading"/>
              </a:rPr>
              <a:t> (وجود عدد قليل من الشركات بالسوق تقوم بإنتاج وبيع المنتج. وهنا تتبع الشركات عادة الشركة القائدة في السوق في تحديد سعر منتجاتها تلافياً لحروب الأسعار</a:t>
            </a:r>
            <a:endParaRPr b="0" lang="en-US" sz="3200" spc="-1" strike="noStrike">
              <a:solidFill>
                <a:srgbClr val="000000"/>
              </a:solidFill>
              <a:latin typeface="Arial"/>
            </a:endParaRPr>
          </a:p>
        </p:txBody>
      </p:sp>
      <p:sp>
        <p:nvSpPr>
          <p:cNvPr id="63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2"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33" name="Text Box 8"/>
          <p:cNvSpPr/>
          <p:nvPr/>
        </p:nvSpPr>
        <p:spPr>
          <a:xfrm>
            <a:off x="1071720" y="1916280"/>
            <a:ext cx="7143480" cy="60062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cs typeface="PT Bold Heading"/>
              </a:rPr>
              <a:t>ج- </a:t>
            </a:r>
            <a:r>
              <a:rPr b="1" lang="ar-SA" sz="2800" spc="-1" strike="noStrike">
                <a:solidFill>
                  <a:srgbClr val="c00000"/>
                </a:solidFill>
                <a:latin typeface="Arial"/>
                <a:cs typeface="PT Bold Heading"/>
              </a:rPr>
              <a:t>في ظل المنافسة الكاملة: يوجد عدد كبير من المنتجين والمشترين ، وتتحدد الأسعار عادة طبقاً لقوى العرض والطلب، وتميل الأسعار إلى الانخفاض. عند تحديد السعر تقوم الشركة بجمع معلومات عن المنافسين مثل:</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قوائم الأسعار المنشورة للمنافسين</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ردود أفعال المنافسين لتغييرات اشركة للسعر في الماضي</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وضع التنافسي الحالي للشركات المنافسة</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إجراءات السعرية الانتقامية المتوقعة من جانب المنافسين</a:t>
            </a:r>
            <a:endParaRPr b="0" lang="en-US" sz="2400" spc="-1" strike="noStrike">
              <a:solidFill>
                <a:srgbClr val="000000"/>
              </a:solidFill>
              <a:latin typeface="Arial"/>
            </a:endParaRPr>
          </a:p>
        </p:txBody>
      </p:sp>
      <p:sp>
        <p:nvSpPr>
          <p:cNvPr id="63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6" name="Text Box 8"/>
          <p:cNvSpPr/>
          <p:nvPr/>
        </p:nvSpPr>
        <p:spPr>
          <a:xfrm>
            <a:off x="1071720" y="9288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37" name="Text Box 8"/>
          <p:cNvSpPr/>
          <p:nvPr/>
        </p:nvSpPr>
        <p:spPr>
          <a:xfrm>
            <a:off x="1071720" y="1571760"/>
            <a:ext cx="7143480" cy="73461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يجب أخذ قدرات وتوقعات المشترين عند تحديد أو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تغيير سعر المنتج وقيمة المنفعة التي يحققها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منتج مقارنة بالسعر الذي يتم طرح المنتج به</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نتيجة هذه المقارنة يقوم المستهلك برد فعل يتعلق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بشراء المنتج من عدمه فيما يعرف بمرون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سعرية</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مرونة الطلب السعرية هي درجة حساسي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على المنتج استجابة للتغير في السعر وتقاس بمعامل المرونة</a:t>
            </a:r>
            <a:endParaRPr b="0" lang="en-US" sz="2800" spc="-1" strike="noStrike">
              <a:solidFill>
                <a:srgbClr val="000000"/>
              </a:solidFill>
              <a:latin typeface="Arial"/>
            </a:endParaRPr>
          </a:p>
        </p:txBody>
      </p:sp>
      <p:sp>
        <p:nvSpPr>
          <p:cNvPr id="63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0" name="Text Box 8"/>
          <p:cNvSpPr/>
          <p:nvPr/>
        </p:nvSpPr>
        <p:spPr>
          <a:xfrm>
            <a:off x="1071720" y="998640"/>
            <a:ext cx="7143480" cy="520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وسطاء</a:t>
            </a:r>
            <a:endParaRPr b="0" lang="en-US" sz="2800" spc="-1" strike="noStrike">
              <a:solidFill>
                <a:srgbClr val="000000"/>
              </a:solidFill>
              <a:latin typeface="Arial"/>
            </a:endParaRPr>
          </a:p>
        </p:txBody>
      </p:sp>
      <p:sp>
        <p:nvSpPr>
          <p:cNvPr id="641" name="Text Box 8"/>
          <p:cNvSpPr/>
          <p:nvPr/>
        </p:nvSpPr>
        <p:spPr>
          <a:xfrm>
            <a:off x="1071720" y="1844640"/>
            <a:ext cx="7143480" cy="51192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PT Bold Heading"/>
              </a:rPr>
              <a:t>يتوقع الوسطاء الذين يتعامل معهم المنتج الحصول على مكافآت منه نظر قيامهم ببعض الوظائف التسويقية لصالح منتجاته التي يقومون بتوزيعها منها:</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خصومات في حالة شرائهم بكميات كبيرة أو </a:t>
            </a:r>
            <a:endParaRPr b="0" lang="en-US" sz="3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ea typeface="PT Bold Heading"/>
              </a:rPr>
              <a:t>    الدفع النقدي</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تدريب البائعين لديهم</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مساعدات في ترويج المنتج</a:t>
            </a:r>
            <a:endParaRPr b="0" lang="en-US" sz="3000" spc="-1" strike="noStrike">
              <a:solidFill>
                <a:srgbClr val="000000"/>
              </a:solidFill>
              <a:latin typeface="Arial"/>
            </a:endParaRPr>
          </a:p>
        </p:txBody>
      </p:sp>
      <p:sp>
        <p:nvSpPr>
          <p:cNvPr id="642"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4" name="Text Box 8"/>
          <p:cNvSpPr/>
          <p:nvPr/>
        </p:nvSpPr>
        <p:spPr>
          <a:xfrm>
            <a:off x="1071720" y="90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45" name="Text Box 8"/>
          <p:cNvSpPr/>
          <p:nvPr/>
        </p:nvSpPr>
        <p:spPr>
          <a:xfrm>
            <a:off x="1042920" y="1557360"/>
            <a:ext cx="7143840" cy="62834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0066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PT Bold Heading"/>
              </a:rPr>
              <a:t>المنتج:</a:t>
            </a:r>
            <a:r>
              <a:rPr b="1" lang="ar-SA" sz="2400" spc="-1" strike="noStrike">
                <a:solidFill>
                  <a:srgbClr val="e61893"/>
                </a:solidFill>
                <a:latin typeface="Arial"/>
                <a:ea typeface="PT Bold Heading"/>
              </a:rPr>
              <a:t> يؤثر نوع المنتج وطبيعته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نوع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بصفة عامة في السلع الاستهلاكية: سلع التسوق أغلى من  السلع الميسرة ، والسلع الخاصة أغلى من سلع التسويق – وفي السلع التجارية: الآلات أغلى من المواد الخام وقطع الغيا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جود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كلما زاد مستوى جودة المنتج ارتفع السع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ابلية المنتج للتلف:</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حتاج المنتج سريع التلف إلى إجراءات خاصة في التعبئة والنقل والتخزين ، مما يرفع من سعره</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دورة حيا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تم تعديل المنتج خلال دورة حياته متكيفاً مع ظروف السوق.</a:t>
            </a:r>
            <a:endParaRPr b="0" lang="en-US" sz="2400" spc="-1" strike="noStrike">
              <a:solidFill>
                <a:srgbClr val="000000"/>
              </a:solidFill>
              <a:latin typeface="Arial"/>
            </a:endParaRPr>
          </a:p>
        </p:txBody>
      </p:sp>
      <p:sp>
        <p:nvSpPr>
          <p:cNvPr id="64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8" name="Text Box 8"/>
          <p:cNvSpPr/>
          <p:nvPr/>
        </p:nvSpPr>
        <p:spPr>
          <a:xfrm>
            <a:off x="107172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49" name="Text Box 8"/>
          <p:cNvSpPr/>
          <p:nvPr/>
        </p:nvSpPr>
        <p:spPr>
          <a:xfrm>
            <a:off x="1042920" y="1876320"/>
            <a:ext cx="7143840" cy="53463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ب-</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وزيع</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تؤثر قنوات توزيع المنتج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قل السعر الذي تبيع به الشركة لتجار الجملة عن السعر الذي تبيع به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Arial"/>
            </a:endParaRPr>
          </a:p>
        </p:txBody>
      </p:sp>
      <p:sp>
        <p:nvSpPr>
          <p:cNvPr id="65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52" name="Text Box 8"/>
          <p:cNvSpPr/>
          <p:nvPr/>
        </p:nvSpPr>
        <p:spPr>
          <a:xfrm>
            <a:off x="1071720" y="117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53" name="Text Box 8"/>
          <p:cNvSpPr/>
          <p:nvPr/>
        </p:nvSpPr>
        <p:spPr>
          <a:xfrm>
            <a:off x="1042920" y="2049480"/>
            <a:ext cx="7143840" cy="38833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ج-</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رويج</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يؤثر الترويج على تحديد سعر المنتج:</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ختلف السعر الذي يبيع به المنتج للتجار إذا ما كان هو الذي سيقوم بالترويج بنفسه عما لو ساهم التجار في عملية التروي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د يحدد للمنتج سعر منخفض كوسيلة للترويج للمنت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56"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جوانب القانونية والأخلاقية</a:t>
            </a:r>
            <a:endParaRPr b="0" lang="en-US" sz="2800" spc="-1" strike="noStrike">
              <a:solidFill>
                <a:srgbClr val="000000"/>
              </a:solidFill>
              <a:latin typeface="Arial"/>
            </a:endParaRPr>
          </a:p>
        </p:txBody>
      </p:sp>
      <p:sp>
        <p:nvSpPr>
          <p:cNvPr id="657"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658" name="Text Box 8"/>
          <p:cNvSpPr/>
          <p:nvPr/>
        </p:nvSpPr>
        <p:spPr>
          <a:xfrm>
            <a:off x="1071720" y="1700280"/>
            <a:ext cx="7143480" cy="61909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جب مراعاة </a:t>
            </a:r>
            <a:r>
              <a:rPr b="1" lang="ar-SA" sz="2400" spc="-1" strike="noStrike">
                <a:solidFill>
                  <a:srgbClr val="000000"/>
                </a:solidFill>
                <a:latin typeface="Arial"/>
                <a:cs typeface="PT Bold Heading"/>
              </a:rPr>
              <a:t>التشريعات واللوائح</a:t>
            </a:r>
            <a:r>
              <a:rPr b="1" lang="ar-SA" sz="2400" spc="-1" strike="noStrike">
                <a:solidFill>
                  <a:srgbClr val="c00000"/>
                </a:solidFill>
                <a:latin typeface="Arial"/>
                <a:ea typeface="PT Bold Heading"/>
              </a:rPr>
              <a:t> الحكومية عند تحديد سعر المنتج مثل: الالتزام بالأسعار الجبرية – إضافة قيمة الضريبة على المبيعات ....</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كما يجب مراعاة </a:t>
            </a:r>
            <a:r>
              <a:rPr b="1" lang="ar-SA" sz="2400" spc="-1" strike="noStrike">
                <a:solidFill>
                  <a:srgbClr val="000000"/>
                </a:solidFill>
                <a:latin typeface="Arial"/>
                <a:cs typeface="PT Bold Heading"/>
              </a:rPr>
              <a:t>النواحي الأخلاقية</a:t>
            </a:r>
            <a:r>
              <a:rPr b="1" lang="ar-SA" sz="2400" spc="-1" strike="noStrike">
                <a:solidFill>
                  <a:srgbClr val="c00000"/>
                </a:solidFill>
                <a:latin typeface="Arial"/>
                <a:ea typeface="PT Bold Heading"/>
              </a:rPr>
              <a:t> والتي تنطوي على عدم إيهام المستهلك بمناسبة سعر المنتج على غير الحقيقة كما في حالات:</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لع رخيصة ، وعدم الإعلان عن شروط الاستفادة من هذه الأسعار ، أو استبعاد بعض المزايا في السلعة أو الخدمة المباعة</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عر رخيص ولكن عند ذهاب المستهلك للمتجر للشراء لا يجدها متوفرة (فخ التسعير</a:t>
            </a:r>
            <a:r>
              <a:rPr b="1" lang="en-US" sz="2000" spc="-1" strike="noStrike">
                <a:solidFill>
                  <a:srgbClr val="c00000"/>
                </a:solidFill>
                <a:latin typeface="Arial"/>
                <a:ea typeface="PT Bold Heading"/>
              </a:rPr>
              <a:t>Bait Price</a:t>
            </a:r>
            <a:r>
              <a:rPr b="1" lang="en-US" sz="2000" spc="-1" strike="noStrike">
                <a:solidFill>
                  <a:srgbClr val="006600"/>
                </a:solidFill>
                <a:latin typeface="Arial"/>
                <a:ea typeface="PT Bold Heading"/>
              </a:rPr>
              <a:t> </a:t>
            </a:r>
            <a:r>
              <a:rPr b="1" lang="ar-SA" sz="2000" spc="-1" strike="noStrike">
                <a:solidFill>
                  <a:srgbClr val="006600"/>
                </a:solidFill>
                <a:latin typeface="Arial"/>
                <a:ea typeface="PT Bold Heading"/>
              </a:rPr>
              <a:t> )</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بيع نفس السلعة أو الخدمة وبنفس الشروط بأسعار مختلفة</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587"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سعير</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icing Strategy</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60"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طرق التسعير</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62" name="Text Box 8"/>
          <p:cNvSpPr/>
          <p:nvPr/>
        </p:nvSpPr>
        <p:spPr>
          <a:xfrm>
            <a:off x="1028880" y="1549440"/>
            <a:ext cx="7143480" cy="56397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Sakkal Majalla"/>
                <a:cs typeface="Sakkal Majalla"/>
              </a:rPr>
              <a:t>التسعير على أساس التكلفة والرب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2</a:t>
            </a:r>
            <a:r>
              <a:rPr b="1" lang="ar-SA" sz="2800" spc="-1" strike="noStrike">
                <a:solidFill>
                  <a:srgbClr val="002060"/>
                </a:solidFill>
                <a:latin typeface="Microsoft Uighur"/>
                <a:ea typeface="Microsoft Uighur"/>
              </a:rPr>
              <a:t>- التسعير على أساس الطلب</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3</a:t>
            </a:r>
            <a:r>
              <a:rPr b="1" lang="ar-SA" sz="2800" spc="-1" strike="noStrike">
                <a:solidFill>
                  <a:srgbClr val="002060"/>
                </a:solidFill>
                <a:latin typeface="Microsoft Uighur"/>
                <a:ea typeface="Microsoft Uighur"/>
              </a:rPr>
              <a:t>- التسعير على أساس أسعار المنافس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4</a:t>
            </a:r>
            <a:r>
              <a:rPr b="1" lang="ar-SA" sz="2800" spc="-1" strike="noStrike">
                <a:solidFill>
                  <a:srgbClr val="002060"/>
                </a:solidFill>
                <a:latin typeface="Microsoft Uighur"/>
                <a:ea typeface="Microsoft Uighur"/>
              </a:rPr>
              <a:t>- التسعير على أساس قدرة المشترين على المساوم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5</a:t>
            </a:r>
            <a:r>
              <a:rPr b="1" lang="ar-SA" sz="2800" spc="-1" strike="noStrike">
                <a:solidFill>
                  <a:srgbClr val="002060"/>
                </a:solidFill>
                <a:latin typeface="Microsoft Uighur"/>
                <a:ea typeface="Microsoft Uighur"/>
              </a:rPr>
              <a:t>- التسعير باستخدام نقطة التعاد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6</a:t>
            </a:r>
            <a:r>
              <a:rPr b="1" lang="ar-SA" sz="2800" spc="-1" strike="noStrike">
                <a:solidFill>
                  <a:srgbClr val="002060"/>
                </a:solidFill>
                <a:latin typeface="Microsoft Uighur"/>
                <a:ea typeface="Microsoft Uighur"/>
              </a:rPr>
              <a:t>- التسعير باستخدام التحليل الحدي</a:t>
            </a:r>
            <a:endParaRPr b="0" lang="en-US" sz="2800" spc="-1" strike="noStrike">
              <a:solidFill>
                <a:srgbClr val="000000"/>
              </a:solidFill>
              <a:latin typeface="Arial"/>
            </a:endParaRPr>
          </a:p>
        </p:txBody>
      </p:sp>
      <p:sp>
        <p:nvSpPr>
          <p:cNvPr id="663" name="Text Box 8"/>
          <p:cNvSpPr/>
          <p:nvPr/>
        </p:nvSpPr>
        <p:spPr>
          <a:xfrm>
            <a:off x="1100160" y="21096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65"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66"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67" name="Text Box 8"/>
          <p:cNvSpPr/>
          <p:nvPr/>
        </p:nvSpPr>
        <p:spPr>
          <a:xfrm>
            <a:off x="1042920" y="2205000"/>
            <a:ext cx="7143840" cy="6857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PT Bold Heading"/>
              </a:rPr>
              <a:t>هناك </a:t>
            </a:r>
            <a:r>
              <a:rPr b="1" lang="ar-SA" sz="4000" spc="-1" strike="noStrike">
                <a:solidFill>
                  <a:srgbClr val="ff0000"/>
                </a:solidFill>
                <a:latin typeface="Arial"/>
                <a:ea typeface="PT Bold Heading"/>
              </a:rPr>
              <a:t>3</a:t>
            </a:r>
            <a:r>
              <a:rPr b="1" lang="ar-SA" sz="4000" spc="-1" strike="noStrike">
                <a:solidFill>
                  <a:srgbClr val="ff0000"/>
                </a:solidFill>
                <a:latin typeface="Arial"/>
                <a:ea typeface="PT Bold Heading"/>
              </a:rPr>
              <a:t> احتمالا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200000"/>
              </a:lnSpc>
              <a:buClr>
                <a:srgbClr val="002060"/>
              </a:buClr>
              <a:buFont typeface="Microsoft Uighu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crosoft Uighur"/>
                <a:cs typeface="Microsoft Uighur"/>
              </a:rPr>
              <a:t>أن تبيع الشركة بسعر السوق السائد</a:t>
            </a:r>
            <a:endParaRPr b="0" lang="en-US" sz="3200" spc="-1" strike="noStrike">
              <a:solidFill>
                <a:srgbClr val="000000"/>
              </a:solidFill>
              <a:latin typeface="Arial"/>
            </a:endParaRPr>
          </a:p>
          <a:p>
            <a:pPr algn="r" rtl="1">
              <a:lnSpc>
                <a:spcPct val="200000"/>
              </a:lnSpc>
              <a:buClr>
                <a:srgbClr val="002060"/>
              </a:buClr>
              <a:buFont typeface="Microsoft Uighu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crosoft Uighur"/>
                <a:cs typeface="Microsoft Uighur"/>
              </a:rPr>
              <a:t>أن تبيع الشركة بأقل من سعر السوق</a:t>
            </a:r>
            <a:endParaRPr b="0" lang="en-US" sz="3200" spc="-1" strike="noStrike">
              <a:solidFill>
                <a:srgbClr val="000000"/>
              </a:solidFill>
              <a:latin typeface="Arial"/>
            </a:endParaRPr>
          </a:p>
          <a:p>
            <a:pPr algn="r" rtl="1">
              <a:lnSpc>
                <a:spcPct val="200000"/>
              </a:lnSpc>
              <a:buClr>
                <a:srgbClr val="002060"/>
              </a:buClr>
              <a:buFont typeface="Microsoft Uighu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crosoft Uighur"/>
                <a:cs typeface="Microsoft Uighur"/>
              </a:rPr>
              <a:t>أن تبيع الشركة بأعلى من سعر السوق</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69"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70"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71" name="Text Box 8"/>
          <p:cNvSpPr/>
          <p:nvPr/>
        </p:nvSpPr>
        <p:spPr>
          <a:xfrm>
            <a:off x="1042920" y="2133720"/>
            <a:ext cx="7143840" cy="5101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lnSpc>
                <a:spcPct val="100000"/>
              </a:lnSpc>
              <a:buClr>
                <a:srgbClr val="ff0000"/>
              </a:buClr>
              <a:buFont typeface="Sakkal Majall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akkal Majalla"/>
                <a:cs typeface="Sakkal Majalla"/>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Sakkal Majalla"/>
                <a:cs typeface="Sakkal Majalla"/>
              </a:rPr>
              <a:t>يحدث ذلك في حالات مثل: </a:t>
            </a:r>
            <a:r>
              <a:rPr b="1" lang="ar-SA" sz="2800" spc="-1" strike="noStrike">
                <a:solidFill>
                  <a:srgbClr val="ff0000"/>
                </a:solidFill>
                <a:latin typeface="Sakkal Majalla"/>
                <a:cs typeface="Sakkal Majalla"/>
              </a:rPr>
              <a:t>المنافسة الشديدة</a:t>
            </a:r>
            <a:r>
              <a:rPr b="1" lang="ar-SA" sz="2800" spc="-1" strike="noStrike">
                <a:solidFill>
                  <a:srgbClr val="002060"/>
                </a:solidFill>
                <a:latin typeface="Sakkal Majalla"/>
                <a:ea typeface="Sakkal Majalla"/>
              </a:rPr>
              <a:t> -</a:t>
            </a:r>
            <a:r>
              <a:rPr b="1" lang="ar-SA" sz="2800" spc="-1" strike="noStrike">
                <a:solidFill>
                  <a:srgbClr val="ff0000"/>
                </a:solidFill>
                <a:latin typeface="Sakkal Majalla"/>
                <a:cs typeface="Sakkal Majalla"/>
              </a:rPr>
              <a:t>تشابه منتج</a:t>
            </a:r>
            <a:r>
              <a:rPr b="1" lang="ar-SA" sz="2800" spc="-1" strike="noStrike">
                <a:solidFill>
                  <a:srgbClr val="002060"/>
                </a:solidFill>
                <a:latin typeface="Sakkal Majalla"/>
                <a:ea typeface="Sakkal Majalla"/>
              </a:rPr>
              <a:t> الشركة وعدم تميزه عن المنتجات المنافسة في السوق ، مع توافر المعلومات عن جميع منتجات السوق</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73"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74"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75" name="Text Box 8"/>
          <p:cNvSpPr/>
          <p:nvPr/>
        </p:nvSpPr>
        <p:spPr>
          <a:xfrm>
            <a:off x="1098720" y="2176560"/>
            <a:ext cx="7143480" cy="54781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Microsoft Uighur"/>
                <a:cs typeface="Microsoft Uighur"/>
              </a:rPr>
              <a:t>في هذه الحالة لا يعد رفع السعر أو خفضه عن السعر السائد في السوق أمراً مناسباً لأن:</a:t>
            </a:r>
            <a:endParaRPr b="0" lang="en-US" sz="24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gn="just" rtl="1">
              <a:lnSpc>
                <a:spcPct val="100000"/>
              </a:lnSpc>
              <a:buClr>
                <a:srgbClr val="ff0000"/>
              </a:buClr>
              <a:buFont typeface="Microsoft Uighur"/>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Microsoft Uighur"/>
                <a:cs typeface="Microsoft Uighur"/>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Arial"/>
            </a:endParaRPr>
          </a:p>
          <a:p>
            <a:pPr lvl="1" marL="971640" indent="-514440" algn="r" rtl="1">
              <a:lnSpc>
                <a:spcPct val="100000"/>
              </a:lnSpc>
              <a:buClr>
                <a:srgbClr val="006600"/>
              </a:buClr>
              <a:buFont typeface="Microsoft Uighur"/>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Microsoft Uighur"/>
                <a:cs typeface="Microsoft Uighur"/>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77"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78"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79" name="Text Box 8"/>
          <p:cNvSpPr/>
          <p:nvPr/>
        </p:nvSpPr>
        <p:spPr>
          <a:xfrm>
            <a:off x="1100160" y="2421000"/>
            <a:ext cx="7143840" cy="5527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 بيع المنتج </a:t>
            </a:r>
            <a:r>
              <a:rPr b="1" lang="ar-SA" sz="3200" spc="-1" strike="noStrike">
                <a:solidFill>
                  <a:srgbClr val="0070c0"/>
                </a:solidFill>
                <a:latin typeface="Arial"/>
                <a:cs typeface="PT Bold Heading"/>
              </a:rPr>
              <a:t>بأقل</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cs typeface="Microsoft Uighur"/>
              </a:rPr>
              <a:t>يحدث ذلك عند رغبة البائع في الحصول على أرباح إجمالية صغيرة وأحجام مبيعات كبيرة ، وتقديم خدمات قليلة للعملاء</a:t>
            </a:r>
            <a:endParaRPr b="0" lang="en-US" sz="28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cs typeface="Microsoft Uighur"/>
              </a:rPr>
              <a:t>وينطوي البيع بأقل من أسعار المنافسين على مخاطرة أن يعتبر المستهلكون منتجات البائع </a:t>
            </a:r>
            <a:r>
              <a:rPr b="1" lang="ar-SA" sz="2800" spc="-1" strike="noStrike">
                <a:solidFill>
                  <a:srgbClr val="002060"/>
                </a:solidFill>
                <a:latin typeface="Arial"/>
                <a:cs typeface="PT Bold Heading"/>
              </a:rPr>
              <a:t>أقل تميزاً من منتجات منافسيه، وربما ينسحب ذلك على منتجات المتجر كله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81"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82"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83" name="Text Box 8"/>
          <p:cNvSpPr/>
          <p:nvPr/>
        </p:nvSpPr>
        <p:spPr>
          <a:xfrm>
            <a:off x="1042920" y="2235240"/>
            <a:ext cx="7143840" cy="55879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ج- بيع المنتج </a:t>
            </a:r>
            <a:r>
              <a:rPr b="1" lang="ar-SA" sz="3200" spc="-1" strike="noStrike">
                <a:solidFill>
                  <a:srgbClr val="0070c0"/>
                </a:solidFill>
                <a:latin typeface="Arial"/>
                <a:cs typeface="PT Bold Heading"/>
              </a:rPr>
              <a:t>بأعلى</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Arial"/>
                <a:cs typeface="PT Bold Heading"/>
              </a:rPr>
              <a:t>يحدث ذلك فقط عندما يكون المنتج مميزاً ، أو عندما يكتسب البائع مكانة كبيرة في مجاله مثل: وجود متجر ملابس راقية أو متجر مجوهرات ذي مكانة عالية أو احتلال موقع ذو موقع جغرافي متفوق (محطة وقود وحيدة في منطقة)</a:t>
            </a:r>
            <a:endParaRPr b="0" lang="en-US" sz="26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Arial"/>
                <a:cs typeface="PT Bold Heading"/>
              </a:rPr>
              <a:t>غالباً ما يستخدم التسعير بأعلى من أسعار المنافسين من قبل الشركات المصنعة للعلامات التجارية ذات المكانة المرموقة (مثل ساعات روليكس) </a:t>
            </a:r>
            <a:endParaRPr b="0" lang="en-US" sz="2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85"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التسعير</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87" name="Text Box 8"/>
          <p:cNvSpPr/>
          <p:nvPr/>
        </p:nvSpPr>
        <p:spPr>
          <a:xfrm>
            <a:off x="102888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قشط السوق </a:t>
            </a:r>
            <a:r>
              <a:rPr b="1" lang="en-US" sz="2800" spc="-1" strike="noStrike">
                <a:solidFill>
                  <a:srgbClr val="002060"/>
                </a:solidFill>
                <a:latin typeface="Arial"/>
                <a:ea typeface="PT Bold Heading"/>
              </a:rPr>
              <a:t>Market Skimming</a:t>
            </a:r>
            <a:endParaRPr b="0" lang="en-US" sz="2800" spc="-1" strike="noStrike">
              <a:solidFill>
                <a:srgbClr val="000000"/>
              </a:solidFill>
              <a:latin typeface="Arial"/>
            </a:endParaRPr>
          </a:p>
        </p:txBody>
      </p:sp>
      <p:sp>
        <p:nvSpPr>
          <p:cNvPr id="68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689" name="Text Box 8"/>
          <p:cNvSpPr/>
          <p:nvPr/>
        </p:nvSpPr>
        <p:spPr>
          <a:xfrm>
            <a:off x="1042920" y="1749600"/>
            <a:ext cx="7143840" cy="5662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lnSpc>
                <a:spcPts val="26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قوم على تحديد أعلى سعر ممكن للمنتج لجذب قطاعات سوقية معينة (المستهلكون الابتكاريون) بحيث تستطيع الشركة أن تسترد الاستثمارات التي أنفقتها في إعداد هذا المنتج بسرعة في السنوات الأولى من دورة حياته، ثم يتم بعد ذلك تخفيض السعر تدريجياً لمواجهة المنافسة التي تنشأ وجذب قطاعات سوقية جديدة.</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صلح هذه الاستراتيجية في حالة:</a:t>
            </a:r>
            <a:endParaRPr b="0" lang="en-US" sz="2400" spc="-1" strike="noStrike">
              <a:solidFill>
                <a:srgbClr val="000000"/>
              </a:solidFill>
              <a:latin typeface="Arial"/>
            </a:endParaRPr>
          </a:p>
          <a:p>
            <a:pPr marL="514440" indent="-51444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تماماً على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عالية التقنية التي يكون معدل التغير التكنولوجي فيها سريعاً.</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91"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ختراق السوق </a:t>
            </a:r>
            <a:r>
              <a:rPr b="1" lang="en-US" sz="2800" spc="-1" strike="noStrike">
                <a:solidFill>
                  <a:srgbClr val="002060"/>
                </a:solidFill>
                <a:latin typeface="Arial"/>
                <a:ea typeface="PT Bold Heading"/>
              </a:rPr>
              <a:t>Market Penetration</a:t>
            </a:r>
            <a:endParaRPr b="0" lang="en-US" sz="2800" spc="-1" strike="noStrike">
              <a:solidFill>
                <a:srgbClr val="000000"/>
              </a:solidFill>
              <a:latin typeface="Arial"/>
            </a:endParaRPr>
          </a:p>
        </p:txBody>
      </p:sp>
      <p:sp>
        <p:nvSpPr>
          <p:cNvPr id="69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693" name="Text Box 8"/>
          <p:cNvSpPr/>
          <p:nvPr/>
        </p:nvSpPr>
        <p:spPr>
          <a:xfrm>
            <a:off x="1042920" y="185724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قوم على تحديد سعر منخفض في البداية للمنتج الجديد بهدف ل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ستخدم هذه الاستراتيجية عندما:</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ea typeface="PT Bold Heading"/>
              </a:rPr>
              <a:t> تكون وفورات الحجم متوفرة للشركة</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يكون معدل التغير التكنولوجي في الصناعة بطئ</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وعندما يكون الطلب على المنتج مرن ومن ثم زيادة الطلب بسبب انخفاض السعر</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89"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سعير المنتجات </a:t>
            </a:r>
            <a:endParaRPr b="0" lang="en-US" sz="4400" spc="-1" strike="noStrike">
              <a:solidFill>
                <a:srgbClr val="000000"/>
              </a:solidFill>
              <a:latin typeface="Arial"/>
            </a:endParaRPr>
          </a:p>
        </p:txBody>
      </p:sp>
      <p:sp>
        <p:nvSpPr>
          <p:cNvPr id="590" name="Text Box 8"/>
          <p:cNvSpPr/>
          <p:nvPr/>
        </p:nvSpPr>
        <p:spPr>
          <a:xfrm>
            <a:off x="1071720" y="1270080"/>
            <a:ext cx="7143480" cy="5639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Segoe UI"/>
                <a:cs typeface="Segoe UI"/>
              </a:rPr>
              <a:t>قرار تسعير المنتجات قرار </a:t>
            </a:r>
            <a:r>
              <a:rPr b="1" lang="ar-SA" sz="4400" spc="-1" strike="noStrike">
                <a:solidFill>
                  <a:srgbClr val="e61893"/>
                </a:solidFill>
                <a:latin typeface="Segoe UI"/>
                <a:cs typeface="Segoe UI"/>
              </a:rPr>
              <a:t>صعب </a:t>
            </a:r>
            <a:r>
              <a:rPr b="1" lang="ar-SA" sz="4400" spc="-1" strike="noStrike">
                <a:solidFill>
                  <a:srgbClr val="002060"/>
                </a:solidFill>
                <a:latin typeface="Segoe UI"/>
                <a:cs typeface="Segoe UI"/>
              </a:rPr>
              <a:t>لأنه يؤثر على المبيعات والأرباح </a:t>
            </a:r>
            <a:r>
              <a:rPr b="1" lang="ar-SA" sz="4400" spc="-1" strike="noStrike">
                <a:solidFill>
                  <a:srgbClr val="c00000"/>
                </a:solidFill>
                <a:latin typeface="Segoe UI"/>
                <a:cs typeface="Segoe UI"/>
              </a:rPr>
              <a:t>ويؤثر على الوضع التنافسي للشركة في السوق</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Segoe UI"/>
                <a:cs typeface="Segoe UI"/>
              </a:rPr>
              <a:t>لذا ينبغي مراعاة الدقة في تحديد سعر المنتج</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95" name="Text Box 8"/>
          <p:cNvSpPr/>
          <p:nvPr/>
        </p:nvSpPr>
        <p:spPr>
          <a:xfrm>
            <a:off x="1028880" y="100008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منحنى الخبرة </a:t>
            </a:r>
            <a:r>
              <a:rPr b="1" lang="en-US" sz="2800" spc="-1" strike="noStrike">
                <a:solidFill>
                  <a:srgbClr val="002060"/>
                </a:solidFill>
                <a:latin typeface="Arial"/>
                <a:ea typeface="PT Bold Heading"/>
              </a:rPr>
              <a:t>Experience-Curve Pricing</a:t>
            </a:r>
            <a:endParaRPr b="0" lang="en-US" sz="2800" spc="-1" strike="noStrike">
              <a:solidFill>
                <a:srgbClr val="000000"/>
              </a:solidFill>
              <a:latin typeface="Arial"/>
            </a:endParaRPr>
          </a:p>
        </p:txBody>
      </p:sp>
      <p:sp>
        <p:nvSpPr>
          <p:cNvPr id="69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697" name="Text Box 8"/>
          <p:cNvSpPr/>
          <p:nvPr/>
        </p:nvSpPr>
        <p:spPr>
          <a:xfrm>
            <a:off x="1042920" y="1714680"/>
            <a:ext cx="7143840" cy="6197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يقوم التسعير باستخدام منحنى الخبرة على قيام الشركة </a:t>
            </a:r>
            <a:r>
              <a:rPr b="1" lang="ar-SA" sz="3200" spc="-1" strike="noStrike">
                <a:solidFill>
                  <a:srgbClr val="00b050"/>
                </a:solidFill>
                <a:latin typeface="Arial"/>
                <a:cs typeface="PT Bold Heading"/>
              </a:rPr>
              <a:t>ببيع المنتج بأسعار منخفضة </a:t>
            </a:r>
            <a:r>
              <a:rPr b="1" lang="ar-SA" sz="3200" spc="-1" strike="noStrike">
                <a:solidFill>
                  <a:srgbClr val="000000"/>
                </a:solidFill>
                <a:latin typeface="Arial"/>
                <a:cs typeface="PT Bold Heading"/>
              </a:rPr>
              <a:t>اعتماداً على تراكم خبرتها الإنتاجية التي مكنتها من تخفيض تكاليف الإنتاج بهدف زيادة الحصة السوقية للشركة. </a:t>
            </a:r>
            <a:endParaRPr b="0" lang="en-US" sz="3200" spc="-1" strike="noStrike">
              <a:solidFill>
                <a:srgbClr val="000000"/>
              </a:solidFill>
              <a:latin typeface="Arial"/>
            </a:endParaRPr>
          </a:p>
          <a:p>
            <a:pPr marL="514440" indent="-51444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ستخدم هذه الاستراتيجية عندما تكون للشركة </a:t>
            </a:r>
            <a:r>
              <a:rPr b="1" lang="ar-SA" sz="3200" spc="-1" strike="noStrike">
                <a:solidFill>
                  <a:srgbClr val="0070c0"/>
                </a:solidFill>
                <a:latin typeface="Arial"/>
                <a:cs typeface="PT Bold Heading"/>
              </a:rPr>
              <a:t>خبرة في الإنتاج </a:t>
            </a:r>
            <a:r>
              <a:rPr b="1" lang="ar-SA" sz="3200" spc="-1" strike="noStrike">
                <a:solidFill>
                  <a:srgbClr val="000000"/>
                </a:solidFill>
                <a:latin typeface="Arial"/>
                <a:cs typeface="PT Bold Heading"/>
              </a:rPr>
              <a:t>وتكون قادرة على تخفيض تكاليف التصنيع، بشكل يؤدي إلى انخفاض تكلفة الوحدة من المنتج</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99"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نفسية  </a:t>
            </a:r>
            <a:r>
              <a:rPr b="1" lang="en-US" sz="2800" spc="-1" strike="noStrike">
                <a:solidFill>
                  <a:srgbClr val="002060"/>
                </a:solidFill>
                <a:latin typeface="Arial"/>
                <a:ea typeface="PT Bold Heading"/>
              </a:rPr>
              <a:t>Psychological Pricing</a:t>
            </a:r>
            <a:endParaRPr b="0" lang="en-US" sz="2800" spc="-1" strike="noStrike">
              <a:solidFill>
                <a:srgbClr val="000000"/>
              </a:solidFill>
              <a:latin typeface="Arial"/>
            </a:endParaRPr>
          </a:p>
        </p:txBody>
      </p:sp>
      <p:sp>
        <p:nvSpPr>
          <p:cNvPr id="70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01" name="Text Box 8"/>
          <p:cNvSpPr/>
          <p:nvPr/>
        </p:nvSpPr>
        <p:spPr>
          <a:xfrm>
            <a:off x="1042920" y="1784520"/>
            <a:ext cx="7143840" cy="5214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يتم هنا تحديد الأسعار بناء على الاستجابات العاطفية للمستهلكين.</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cs typeface="PT Bold Heading"/>
              </a:rPr>
              <a:t>تستخدم هذه الاستراتيجية عادة على مستوى تجارة التجزئ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نفسية ما يسمى بالأسعار الكسرية لإيحاء المستهلك بانخفاض السعر ، مثلاً </a:t>
            </a:r>
            <a:r>
              <a:rPr b="1" lang="ar-SA" sz="2400" spc="-1" strike="noStrike">
                <a:solidFill>
                  <a:srgbClr val="006600"/>
                </a:solidFill>
                <a:latin typeface="Arial"/>
                <a:ea typeface="PT Bold Heading"/>
              </a:rPr>
              <a:t>3999</a:t>
            </a:r>
            <a:r>
              <a:rPr b="1" lang="ar-SA" sz="2400" spc="-1" strike="noStrike">
                <a:solidFill>
                  <a:srgbClr val="006600"/>
                </a:solidFill>
                <a:latin typeface="Arial"/>
                <a:ea typeface="PT Bold Heading"/>
              </a:rPr>
              <a:t> ريال بدلاً من </a:t>
            </a:r>
            <a:r>
              <a:rPr b="1" lang="ar-SA" sz="2400" spc="-1" strike="noStrike">
                <a:solidFill>
                  <a:srgbClr val="006600"/>
                </a:solidFill>
                <a:latin typeface="Arial"/>
                <a:ea typeface="PT Bold Heading"/>
              </a:rPr>
              <a:t>4000</a:t>
            </a:r>
            <a:r>
              <a:rPr b="1" lang="ar-SA" sz="2400" spc="-1" strike="noStrike">
                <a:solidFill>
                  <a:srgbClr val="006600"/>
                </a:solidFill>
                <a:latin typeface="Arial"/>
                <a:ea typeface="PT Bold Heading"/>
              </a:rPr>
              <a:t> ريال.</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ومن صورها أيضاً التسعير المرتبط بالجودة أو بمنفعة نفسية أو اجتماعية. وفيها يكون السعر مرتفعاً.</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03"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ترويجية  </a:t>
            </a:r>
            <a:r>
              <a:rPr b="1" lang="en-US" sz="2800" spc="-1" strike="noStrike">
                <a:solidFill>
                  <a:srgbClr val="002060"/>
                </a:solidFill>
                <a:latin typeface="Arial"/>
                <a:ea typeface="PT Bold Heading"/>
              </a:rPr>
              <a:t>Promotional Pricing</a:t>
            </a:r>
            <a:endParaRPr b="0" lang="en-US" sz="2800" spc="-1" strike="noStrike">
              <a:solidFill>
                <a:srgbClr val="000000"/>
              </a:solidFill>
              <a:latin typeface="Arial"/>
            </a:endParaRPr>
          </a:p>
        </p:txBody>
      </p:sp>
      <p:sp>
        <p:nvSpPr>
          <p:cNvPr id="70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05" name="Text Box 8"/>
          <p:cNvSpPr/>
          <p:nvPr/>
        </p:nvSpPr>
        <p:spPr>
          <a:xfrm>
            <a:off x="1042920" y="170028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 يتم تسعير المنتجات بأسعار تقل عن الأسعار الواردة في قائمة المنتجات، بهدف زيادة المبيعات في الأجل القصير</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ترويجية ما يسمى بالأسعار الجاذبة </a:t>
            </a:r>
            <a:r>
              <a:rPr b="1" lang="en-US" sz="2400" spc="-1" strike="noStrike">
                <a:solidFill>
                  <a:srgbClr val="006600"/>
                </a:solidFill>
                <a:latin typeface="Arial"/>
                <a:ea typeface="PT Bold Heading"/>
              </a:rPr>
              <a:t>Attractive Prices</a:t>
            </a:r>
            <a:r>
              <a:rPr b="1" lang="ar-SA" sz="2400" spc="-1" strike="noStrike">
                <a:solidFill>
                  <a:srgbClr val="006600"/>
                </a:solidFill>
                <a:latin typeface="Arial"/>
                <a:ea typeface="PT Bold Heading"/>
              </a:rPr>
              <a:t> والتي تعني تخفيض أسعار بعض المنتجات لجذب المستهلك لدخول المتجر، على أمل أن يشتري منتجات أخرى تعوض انخفاض السعر</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ومن صورها الأسعار الترويحية أيضاً أسعار المناسبات الخاصة </a:t>
            </a:r>
            <a:r>
              <a:rPr b="1" lang="en-US" sz="2400" spc="-1" strike="noStrike">
                <a:solidFill>
                  <a:srgbClr val="002060"/>
                </a:solidFill>
                <a:latin typeface="Arial"/>
                <a:ea typeface="PT Bold Heading"/>
              </a:rPr>
              <a:t>Special-Event Pricing</a:t>
            </a:r>
            <a:r>
              <a:rPr b="1" lang="ar-SA" sz="2400" spc="-1" strike="noStrike">
                <a:solidFill>
                  <a:srgbClr val="002060"/>
                </a:solidFill>
                <a:latin typeface="Arial"/>
                <a:cs typeface="PT Bold Heading"/>
              </a:rPr>
              <a:t>، 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07"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مهنية  </a:t>
            </a:r>
            <a:r>
              <a:rPr b="1" lang="en-US" sz="2800" spc="-1" strike="noStrike">
                <a:solidFill>
                  <a:srgbClr val="002060"/>
                </a:solidFill>
                <a:latin typeface="Arial"/>
                <a:ea typeface="PT Bold Heading"/>
              </a:rPr>
              <a:t>Professional Pricing</a:t>
            </a:r>
            <a:endParaRPr b="0" lang="en-US" sz="2800" spc="-1" strike="noStrike">
              <a:solidFill>
                <a:srgbClr val="000000"/>
              </a:solidFill>
              <a:latin typeface="Arial"/>
            </a:endParaRPr>
          </a:p>
        </p:txBody>
      </p:sp>
      <p:sp>
        <p:nvSpPr>
          <p:cNvPr id="70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09" name="Text Box 8"/>
          <p:cNvSpPr/>
          <p:nvPr/>
        </p:nvSpPr>
        <p:spPr>
          <a:xfrm>
            <a:off x="1028880" y="1916280"/>
            <a:ext cx="7143480" cy="4846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تستخدم من قبل بعض الأشخاص الذين لديهم مهارات كبيرة وخبرة في مجالات وأنشطة معينة</a:t>
            </a:r>
            <a:endParaRPr b="0" lang="en-US" sz="32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ومن أمثلة هذه الأسعار تلك التي يضعها الأطباء والمحامين بناء على الوقت الذي يخصصوه لعملائهم والخدمات التي يقدمونها إليهم</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1"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7</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وحد  </a:t>
            </a:r>
            <a:r>
              <a:rPr b="1" lang="en-US" sz="2800" spc="-1" strike="noStrike">
                <a:solidFill>
                  <a:srgbClr val="002060"/>
                </a:solidFill>
                <a:latin typeface="Arial"/>
                <a:ea typeface="PT Bold Heading"/>
              </a:rPr>
              <a:t>One price</a:t>
            </a:r>
            <a:endParaRPr b="0" lang="en-US" sz="2800" spc="-1" strike="noStrike">
              <a:solidFill>
                <a:srgbClr val="000000"/>
              </a:solidFill>
              <a:latin typeface="Arial"/>
            </a:endParaRPr>
          </a:p>
        </p:txBody>
      </p:sp>
      <p:sp>
        <p:nvSpPr>
          <p:cNvPr id="71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13" name="Text Box 8"/>
          <p:cNvSpPr/>
          <p:nvPr/>
        </p:nvSpPr>
        <p:spPr>
          <a:xfrm>
            <a:off x="1028880" y="1886040"/>
            <a:ext cx="7143480" cy="5518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فيها يتم بيه المنتجات </a:t>
            </a:r>
            <a:r>
              <a:rPr b="1" lang="ar-SA" sz="2800" spc="-1" strike="noStrike">
                <a:solidFill>
                  <a:srgbClr val="c00000"/>
                </a:solidFill>
                <a:latin typeface="Arial"/>
                <a:cs typeface="PT Bold Heading"/>
              </a:rPr>
              <a:t>بنفس السعر </a:t>
            </a:r>
            <a:r>
              <a:rPr b="1" lang="ar-SA" sz="2800" spc="-1" strike="noStrike">
                <a:solidFill>
                  <a:srgbClr val="000000"/>
                </a:solidFill>
                <a:latin typeface="Arial"/>
                <a:cs typeface="PT Bold Heading"/>
              </a:rPr>
              <a:t>لكل المستهلكين في الأسواق المختلفة </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يوفر الكثير من وقت</a:t>
            </a:r>
            <a:r>
              <a:rPr b="1" lang="ar-SA" sz="2800" spc="-1" strike="noStrike">
                <a:solidFill>
                  <a:srgbClr val="000000"/>
                </a:solidFill>
                <a:latin typeface="Arial"/>
                <a:ea typeface="PT Bold Heading"/>
              </a:rPr>
              <a:t> البائع والمشتري الذي يستغرق في المساومة على الأسعار</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لا يمنع الشركة من تغيير السعر</a:t>
            </a:r>
            <a:r>
              <a:rPr b="1" lang="ar-SA" sz="2800" spc="-1" strike="noStrike">
                <a:solidFill>
                  <a:srgbClr val="000000"/>
                </a:solidFill>
                <a:latin typeface="Arial"/>
                <a:ea typeface="PT Bold Heading"/>
              </a:rPr>
              <a:t> الذي تبيع به سلعها كلما تطلبت الظروف ذلك ، لكن بشرط أن يتم البيع بالسعر الجديد لجميع المستهلكين</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5"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8</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تغير  </a:t>
            </a:r>
            <a:r>
              <a:rPr b="1" lang="en-US" sz="2800" spc="-1" strike="noStrike">
                <a:solidFill>
                  <a:srgbClr val="002060"/>
                </a:solidFill>
                <a:latin typeface="Arial"/>
                <a:ea typeface="PT Bold Heading"/>
              </a:rPr>
              <a:t>Variable price</a:t>
            </a:r>
            <a:endParaRPr b="0" lang="en-US" sz="2800" spc="-1" strike="noStrike">
              <a:solidFill>
                <a:srgbClr val="000000"/>
              </a:solidFill>
              <a:latin typeface="Arial"/>
            </a:endParaRPr>
          </a:p>
        </p:txBody>
      </p:sp>
      <p:sp>
        <p:nvSpPr>
          <p:cNvPr id="71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17" name="Text Box 8"/>
          <p:cNvSpPr/>
          <p:nvPr/>
        </p:nvSpPr>
        <p:spPr>
          <a:xfrm>
            <a:off x="1028880" y="1714680"/>
            <a:ext cx="7143480" cy="6677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فيها يتحدد سعر البيع حسب </a:t>
            </a:r>
            <a:r>
              <a:rPr b="1" lang="ar-SA" sz="3600" spc="-1" strike="noStrike">
                <a:solidFill>
                  <a:srgbClr val="e61893"/>
                </a:solidFill>
                <a:latin typeface="Arial"/>
                <a:cs typeface="PT Bold Heading"/>
              </a:rPr>
              <a:t>قدرة المستهلك على المساومة</a:t>
            </a:r>
            <a:r>
              <a:rPr b="1" lang="ar-SA" sz="3600" spc="-1" strike="noStrike">
                <a:solidFill>
                  <a:srgbClr val="000000"/>
                </a:solidFill>
                <a:latin typeface="Arial"/>
                <a:ea typeface="PT Bold Heading"/>
              </a:rPr>
              <a:t> ، بمعنى أنه يمكن بيع نفس المنتج بأسعار مختلفة في نفس قنوات التوزيع كما في حالة السيارات المستعلمة</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تساعد هذه الاستراتيجية الشركة على </a:t>
            </a:r>
            <a:r>
              <a:rPr b="1" lang="ar-SA" sz="3600" spc="-1" strike="noStrike">
                <a:solidFill>
                  <a:srgbClr val="e61893"/>
                </a:solidFill>
                <a:latin typeface="Arial"/>
                <a:cs typeface="PT Bold Heading"/>
              </a:rPr>
              <a:t>الاستجابة السريعة </a:t>
            </a:r>
            <a:r>
              <a:rPr b="1" lang="ar-SA" sz="3600" spc="-1" strike="noStrike">
                <a:solidFill>
                  <a:srgbClr val="000000"/>
                </a:solidFill>
                <a:latin typeface="Arial"/>
                <a:cs typeface="PT Bold Heading"/>
              </a:rPr>
              <a:t>للتغيرات في ظروف السوق </a:t>
            </a: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9"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9</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مييز السعري  </a:t>
            </a:r>
            <a:r>
              <a:rPr b="1" lang="en-US" sz="2800" spc="-1" strike="noStrike">
                <a:solidFill>
                  <a:srgbClr val="002060"/>
                </a:solidFill>
                <a:latin typeface="Arial"/>
                <a:ea typeface="PT Bold Heading"/>
              </a:rPr>
              <a:t>Price Discrimination</a:t>
            </a:r>
            <a:endParaRPr b="0" lang="en-US" sz="2800" spc="-1" strike="noStrike">
              <a:solidFill>
                <a:srgbClr val="000000"/>
              </a:solidFill>
              <a:latin typeface="Arial"/>
            </a:endParaRPr>
          </a:p>
        </p:txBody>
      </p:sp>
      <p:sp>
        <p:nvSpPr>
          <p:cNvPr id="72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21" name="Text Box 8"/>
          <p:cNvSpPr/>
          <p:nvPr/>
        </p:nvSpPr>
        <p:spPr>
          <a:xfrm>
            <a:off x="1028880" y="191628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r>
              <a:rPr b="1" lang="ar-SA" sz="2400" spc="-1" strike="noStrike">
                <a:solidFill>
                  <a:srgbClr val="006600"/>
                </a:solidFill>
                <a:latin typeface="Arial"/>
                <a:cs typeface="PT Bold Heading"/>
              </a:rPr>
              <a:t>يتم هنا بيع نفس السلعة بسعرين أو أكثر على أسس تمييزية منها:</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ستهلك</a:t>
            </a:r>
            <a:r>
              <a:rPr b="1" lang="ar-SA" sz="2400" spc="-1" strike="noStrike">
                <a:solidFill>
                  <a:srgbClr val="000000"/>
                </a:solidFill>
                <a:latin typeface="Arial"/>
                <a:ea typeface="PT Bold Heading"/>
              </a:rPr>
              <a:t>: منح خصومات لأفراد معينين (كبار التجار – تذاكر مخفضة للشرطة في النقل العام)</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نتج</a:t>
            </a:r>
            <a:r>
              <a:rPr b="1" lang="ar-SA" sz="2400" spc="-1" strike="noStrike">
                <a:solidFill>
                  <a:srgbClr val="000000"/>
                </a:solidFill>
                <a:latin typeface="Arial"/>
                <a:ea typeface="PT Bold Heading"/>
              </a:rPr>
              <a:t>: اختلاف مواصفات المنتج وبالتالي اختلاف الأسعار (مثل السيارات مكيفة أو بدون)</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كان</a:t>
            </a:r>
            <a:r>
              <a:rPr b="1" lang="ar-SA" sz="2400" spc="-1" strike="noStrike">
                <a:solidFill>
                  <a:srgbClr val="000000"/>
                </a:solidFill>
                <a:latin typeface="Arial"/>
                <a:ea typeface="PT Bold Heading"/>
              </a:rPr>
              <a:t>: تسعير مختلف لأسعار تذاكر السينما أو الطيران أو المسارح باختلاف مواقع المقاعد</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زمن</a:t>
            </a:r>
            <a:r>
              <a:rPr b="1" lang="ar-SA" sz="2400" spc="-1" strike="noStrike">
                <a:solidFill>
                  <a:srgbClr val="000000"/>
                </a:solidFill>
                <a:latin typeface="Arial"/>
                <a:ea typeface="PT Bold Heading"/>
              </a:rPr>
              <a:t>: زيادة الأسعار في مواسم معنية وتخفيضها في غير المواسم (المصايف – تذاكر الطيران)</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3" name="Text Box 8"/>
          <p:cNvSpPr/>
          <p:nvPr/>
        </p:nvSpPr>
        <p:spPr>
          <a:xfrm>
            <a:off x="1028880" y="1052640"/>
            <a:ext cx="714348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0</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سعير المنتجات المرتبطة </a:t>
            </a:r>
            <a:r>
              <a:rPr b="1" lang="en-US" sz="2000" spc="-1" strike="noStrike">
                <a:solidFill>
                  <a:srgbClr val="002060"/>
                </a:solidFill>
                <a:latin typeface="Arial"/>
                <a:ea typeface="PT Bold Heading"/>
              </a:rPr>
              <a:t>Captive-Product Pricing</a:t>
            </a:r>
            <a:endParaRPr b="0" lang="en-US" sz="2000" spc="-1" strike="noStrike">
              <a:solidFill>
                <a:srgbClr val="000000"/>
              </a:solidFill>
              <a:latin typeface="Arial"/>
            </a:endParaRPr>
          </a:p>
        </p:txBody>
      </p:sp>
      <p:sp>
        <p:nvSpPr>
          <p:cNvPr id="72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25" name="Text Box 8"/>
          <p:cNvSpPr/>
          <p:nvPr/>
        </p:nvSpPr>
        <p:spPr>
          <a:xfrm>
            <a:off x="1028880" y="1844640"/>
            <a:ext cx="7143480" cy="5031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يقصد بذلك وضع أسعار للمنتجات الرئيسية بسعر منخفض وتسعير لوازم تشغيله (المنتجات المرتبطة بالمنتج الرئيسي) بسعر مرتفع</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مثال</a:t>
            </a:r>
            <a:r>
              <a:rPr b="1" lang="ar-SA" sz="2400" spc="-1" strike="noStrike">
                <a:solidFill>
                  <a:srgbClr val="000000"/>
                </a:solidFill>
                <a:latin typeface="Arial"/>
                <a:ea typeface="PT Bold Heading"/>
              </a:rPr>
              <a:t>: الطابعة منج رئيسي ، والحبر منتج مرتبط</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7"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72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29" name="Text Box 8"/>
          <p:cNvSpPr/>
          <p:nvPr/>
        </p:nvSpPr>
        <p:spPr>
          <a:xfrm>
            <a:off x="1028880" y="184464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خصم الكمية</a:t>
            </a:r>
            <a:r>
              <a:rPr b="1" lang="ar-SA" sz="2400" spc="-1" strike="noStrike">
                <a:solidFill>
                  <a:srgbClr val="000000"/>
                </a:solidFill>
                <a:latin typeface="Arial"/>
                <a:ea typeface="PT Bold Heading"/>
              </a:rPr>
              <a:t>: يمنح عندما يشتري المشتري كمية معين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تجاري</a:t>
            </a:r>
            <a:r>
              <a:rPr b="1" lang="ar-SA" sz="2400" spc="-1" strike="noStrike">
                <a:solidFill>
                  <a:srgbClr val="000000"/>
                </a:solidFill>
                <a:latin typeface="Arial"/>
                <a:ea typeface="PT Bold Heading"/>
              </a:rPr>
              <a:t>: يمنحه البائع للمشتري مقابل قيام المشتري (تاجر جملة أو تجزئة) مقابل قيام المشتري ببعض الخدمات والوظائف التسويقي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نقدي</a:t>
            </a:r>
            <a:r>
              <a:rPr b="1" lang="ar-SA" sz="2400" spc="-1" strike="noStrike">
                <a:solidFill>
                  <a:srgbClr val="000000"/>
                </a:solidFill>
                <a:latin typeface="Arial"/>
                <a:ea typeface="PT Bold Heading"/>
              </a:rPr>
              <a:t>: يهدف إلى تشجيع المشترين على الإسراع في سداد ثمن البضاع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موسمي</a:t>
            </a:r>
            <a:r>
              <a:rPr b="1" lang="ar-SA" sz="2400" spc="-1" strike="noStrike">
                <a:solidFill>
                  <a:srgbClr val="000000"/>
                </a:solidFill>
                <a:latin typeface="Arial"/>
                <a:ea typeface="PT Bold Heading"/>
              </a:rPr>
              <a:t>: 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1"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73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33" name="Text Box 8"/>
          <p:cNvSpPr/>
          <p:nvPr/>
        </p:nvSpPr>
        <p:spPr>
          <a:xfrm>
            <a:off x="1028880" y="1941480"/>
            <a:ext cx="7143480" cy="411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سماح الترويجي</a:t>
            </a:r>
            <a:r>
              <a:rPr b="1" lang="ar-SA" sz="2400" spc="-1" strike="noStrike">
                <a:solidFill>
                  <a:srgbClr val="000000"/>
                </a:solidFill>
                <a:latin typeface="Arial"/>
                <a:ea typeface="PT Bold Heading"/>
              </a:rPr>
              <a:t>: خصم يمنحه البائع للوسيط كنسبة من قيمة مشترياته مقابل الدعم الترويجي الذي يعطيه الوسيط لمنتجاته داخل محله وفي إعلاناته</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مكافآت التشجيعية للوسطاء ورجال البيع لديهم</a:t>
            </a:r>
            <a:r>
              <a:rPr b="1" lang="ar-SA" sz="2400" spc="-1" strike="noStrike">
                <a:solidFill>
                  <a:srgbClr val="000000"/>
                </a:solidFill>
                <a:latin typeface="Arial"/>
                <a:ea typeface="PT Bold Heading"/>
              </a:rPr>
              <a:t>: هي مكافآت مالية تعطي للوسطاء ومندوبي البيع لديهم لدفع منتجات الشركة ودعمها لدى المشترين</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92" name="Text Box 8"/>
          <p:cNvSpPr/>
          <p:nvPr/>
        </p:nvSpPr>
        <p:spPr>
          <a:xfrm>
            <a:off x="1116000" y="165240"/>
            <a:ext cx="71438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عريف السعر</a:t>
            </a:r>
            <a:endParaRPr b="0" lang="en-US" sz="4400" spc="-1" strike="noStrike">
              <a:solidFill>
                <a:srgbClr val="000000"/>
              </a:solidFill>
              <a:latin typeface="Arial"/>
            </a:endParaRPr>
          </a:p>
        </p:txBody>
      </p:sp>
      <p:sp>
        <p:nvSpPr>
          <p:cNvPr id="593" name="Text Box 8"/>
          <p:cNvSpPr/>
          <p:nvPr/>
        </p:nvSpPr>
        <p:spPr>
          <a:xfrm>
            <a:off x="1116000" y="1204920"/>
            <a:ext cx="7143840" cy="4908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b050"/>
                </a:solidFill>
                <a:latin typeface="Arial"/>
                <a:cs typeface="PT Bold Heading"/>
              </a:rPr>
              <a:t>السعر</a:t>
            </a:r>
            <a:r>
              <a:rPr b="1" lang="ar-SA" sz="4400" spc="-1" strike="noStrike">
                <a:solidFill>
                  <a:srgbClr val="00b050"/>
                </a:solidFill>
                <a:latin typeface="Arial"/>
                <a:ea typeface="PT Bold Heading"/>
              </a:rPr>
              <a:t>  </a:t>
            </a:r>
            <a:r>
              <a:rPr b="1" lang="en-US" sz="4400" spc="-1" strike="noStrike">
                <a:solidFill>
                  <a:srgbClr val="ff9900"/>
                </a:solidFill>
                <a:latin typeface="Arial"/>
                <a:ea typeface="PT Bold Heading"/>
              </a:rPr>
              <a:t>Price</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Segoe UI"/>
                <a:cs typeface="Segoe UI"/>
              </a:rPr>
              <a:t>هو ما يتحمله المستهلك من مقابل </a:t>
            </a:r>
            <a:r>
              <a:rPr b="1" lang="ar-SA" sz="4400" spc="-1" strike="noStrike">
                <a:solidFill>
                  <a:srgbClr val="ff0000"/>
                </a:solidFill>
                <a:latin typeface="Segoe UI"/>
                <a:cs typeface="Segoe UI"/>
              </a:rPr>
              <a:t>مادي</a:t>
            </a:r>
            <a:r>
              <a:rPr b="1" lang="ar-SA" sz="4400" spc="-1" strike="noStrike">
                <a:solidFill>
                  <a:srgbClr val="002060"/>
                </a:solidFill>
                <a:latin typeface="Segoe UI"/>
                <a:ea typeface="Segoe UI"/>
              </a:rPr>
              <a:t> أو </a:t>
            </a:r>
            <a:r>
              <a:rPr b="1" lang="ar-SA" sz="4400" spc="-1" strike="noStrike">
                <a:solidFill>
                  <a:srgbClr val="ff0000"/>
                </a:solidFill>
                <a:latin typeface="Segoe UI"/>
                <a:cs typeface="Segoe UI"/>
              </a:rPr>
              <a:t>معنوي</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Segoe UI"/>
                <a:ea typeface="Segoe UI"/>
              </a:rPr>
              <a:t> </a:t>
            </a:r>
            <a:r>
              <a:rPr b="1" lang="ar-SA" sz="4400" spc="-1" strike="noStrike">
                <a:solidFill>
                  <a:srgbClr val="002060"/>
                </a:solidFill>
                <a:latin typeface="Microsoft Uighur"/>
                <a:cs typeface="Microsoft Uighur"/>
              </a:rPr>
              <a:t>لقاء حصوله على السلع والخدمات التي تشبع حاجاته ورغباته</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95" name="Text Box 8"/>
          <p:cNvSpPr/>
          <p:nvPr/>
        </p:nvSpPr>
        <p:spPr>
          <a:xfrm>
            <a:off x="826920" y="-77760"/>
            <a:ext cx="71438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قييم المستهلك للسعر</a:t>
            </a:r>
            <a:endParaRPr b="0" lang="en-US" sz="4400" spc="-1" strike="noStrike">
              <a:solidFill>
                <a:srgbClr val="000000"/>
              </a:solidFill>
              <a:latin typeface="Arial"/>
            </a:endParaRPr>
          </a:p>
        </p:txBody>
      </p:sp>
      <p:sp>
        <p:nvSpPr>
          <p:cNvPr id="596" name="Text Box 8"/>
          <p:cNvSpPr/>
          <p:nvPr/>
        </p:nvSpPr>
        <p:spPr>
          <a:xfrm>
            <a:off x="1071720" y="928800"/>
            <a:ext cx="7143480" cy="679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Microsoft Uighur"/>
                <a:cs typeface="Microsoft Uighur"/>
              </a:rPr>
              <a:t>يقارن المستهلك بين </a:t>
            </a:r>
            <a:r>
              <a:rPr b="1" lang="ar-SA" sz="4400" spc="-1" strike="noStrike">
                <a:solidFill>
                  <a:srgbClr val="e61893"/>
                </a:solidFill>
                <a:latin typeface="Microsoft Uighur"/>
                <a:cs typeface="Microsoft Uighur"/>
              </a:rPr>
              <a:t>السعر</a:t>
            </a:r>
            <a:r>
              <a:rPr b="1" lang="ar-SA" sz="4400" spc="-1" strike="noStrike">
                <a:solidFill>
                  <a:srgbClr val="006600"/>
                </a:solidFill>
                <a:latin typeface="Microsoft Uighur"/>
                <a:ea typeface="Microsoft Uighur"/>
              </a:rPr>
              <a:t> الذي سيدفعه في المنتج </a:t>
            </a:r>
            <a:r>
              <a:rPr b="1" lang="ar-SA" sz="4400" spc="-1" strike="noStrike">
                <a:solidFill>
                  <a:srgbClr val="e61893"/>
                </a:solidFill>
                <a:latin typeface="Microsoft Uighur"/>
                <a:cs typeface="Microsoft Uighur"/>
              </a:rPr>
              <a:t>والقيمة المدركة </a:t>
            </a:r>
            <a:r>
              <a:rPr b="1" lang="ar-SA" sz="4400" spc="-1" strike="noStrike">
                <a:solidFill>
                  <a:srgbClr val="006600"/>
                </a:solidFill>
                <a:latin typeface="Microsoft Uighur"/>
                <a:cs typeface="Microsoft Uighur"/>
              </a:rPr>
              <a:t>من </a:t>
            </a:r>
            <a:r>
              <a:rPr b="1" lang="ar-SA" sz="4400" spc="-1" strike="noStrike">
                <a:solidFill>
                  <a:srgbClr val="e61893"/>
                </a:solidFill>
                <a:latin typeface="Microsoft Uighur"/>
                <a:cs typeface="Microsoft Uighur"/>
              </a:rPr>
              <a:t>المنفعة</a:t>
            </a:r>
            <a:r>
              <a:rPr b="1" lang="ar-SA" sz="4400" spc="-1" strike="noStrike">
                <a:solidFill>
                  <a:srgbClr val="006600"/>
                </a:solidFill>
                <a:latin typeface="Microsoft Uighur"/>
                <a:ea typeface="Microsoft Uighur"/>
              </a:rPr>
              <a:t> التي سيحصل عليها من هذا المنت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Microsoft Uighur"/>
                <a:cs typeface="Microsoft Uighur"/>
              </a:rPr>
              <a:t>فإذا وجد أن القيمة </a:t>
            </a:r>
            <a:r>
              <a:rPr b="1" lang="ar-SA" sz="4400" spc="-1" strike="noStrike">
                <a:solidFill>
                  <a:srgbClr val="00b0f0"/>
                </a:solidFill>
                <a:latin typeface="Microsoft Uighur"/>
                <a:cs typeface="Microsoft Uighur"/>
              </a:rPr>
              <a:t>مناسبة</a:t>
            </a:r>
            <a:r>
              <a:rPr b="1" lang="ar-SA" sz="4400" spc="-1" strike="noStrike">
                <a:solidFill>
                  <a:srgbClr val="c00000"/>
                </a:solidFill>
                <a:latin typeface="Microsoft Uighur"/>
                <a:ea typeface="Microsoft Uighur"/>
              </a:rPr>
              <a:t> للسعر الذي سيتحمله سيقوم بشراء المنتج والعكس</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98" name="Text Box 8"/>
          <p:cNvSpPr/>
          <p:nvPr/>
        </p:nvSpPr>
        <p:spPr>
          <a:xfrm>
            <a:off x="1071720" y="214200"/>
            <a:ext cx="71434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بعض أشكال الأسعار</a:t>
            </a:r>
            <a:endParaRPr b="0" lang="en-US" sz="4800" spc="-1" strike="noStrike">
              <a:solidFill>
                <a:srgbClr val="000000"/>
              </a:solidFill>
              <a:latin typeface="Arial"/>
            </a:endParaRPr>
          </a:p>
        </p:txBody>
      </p:sp>
      <p:sp>
        <p:nvSpPr>
          <p:cNvPr id="599" name="Text Box 8"/>
          <p:cNvSpPr/>
          <p:nvPr/>
        </p:nvSpPr>
        <p:spPr>
          <a:xfrm>
            <a:off x="1071720" y="1279440"/>
            <a:ext cx="7143480" cy="5031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ثمن الحصول على أي سلعة</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مصاريف دراسية</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أجرة طبيب</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اشتراك نادي رياضي</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تعريفة نقل</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رسوم جمارك</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أجر موظف</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أتعاب محام</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عمولة سمسار</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01" name="Text Box 8"/>
          <p:cNvSpPr/>
          <p:nvPr/>
        </p:nvSpPr>
        <p:spPr>
          <a:xfrm>
            <a:off x="1071720" y="14292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خصائص التسعير</a:t>
            </a:r>
            <a:endParaRPr b="0" lang="en-US" sz="4400" spc="-1" strike="noStrike">
              <a:solidFill>
                <a:srgbClr val="000000"/>
              </a:solidFill>
              <a:latin typeface="Arial"/>
            </a:endParaRPr>
          </a:p>
        </p:txBody>
      </p:sp>
      <p:sp>
        <p:nvSpPr>
          <p:cNvPr id="602" name="Text Box 8"/>
          <p:cNvSpPr/>
          <p:nvPr/>
        </p:nvSpPr>
        <p:spPr>
          <a:xfrm>
            <a:off x="468360" y="1214280"/>
            <a:ext cx="8351640" cy="9050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6600"/>
                </a:solidFill>
                <a:latin typeface="Microsoft Uighur"/>
                <a:ea typeface="Microsoft Uighur"/>
              </a:rPr>
              <a:t>-  </a:t>
            </a:r>
            <a:r>
              <a:rPr b="1" lang="ar-SA" sz="2800" spc="-1" strike="noStrike">
                <a:solidFill>
                  <a:srgbClr val="006600"/>
                </a:solidFill>
                <a:latin typeface="Microsoft Uighur"/>
                <a:cs typeface="Microsoft Uighur"/>
              </a:rPr>
              <a:t>التسعير هو العنصر الوحيد من عناصر المزيج التسويقي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Microsoft Uighur"/>
                <a:ea typeface="Microsoft Uighur"/>
              </a:rPr>
              <a:t>    </a:t>
            </a:r>
            <a:r>
              <a:rPr b="1" lang="ar-SA" sz="2800" spc="-1" strike="noStrike">
                <a:solidFill>
                  <a:srgbClr val="0070c0"/>
                </a:solidFill>
                <a:latin typeface="Microsoft Uighur"/>
                <a:cs typeface="Microsoft Uighur"/>
              </a:rPr>
              <a:t>المولد للإيرادات</a:t>
            </a:r>
            <a:r>
              <a:rPr b="1" lang="ar-SA" sz="2800" spc="-1" strike="noStrike">
                <a:solidFill>
                  <a:srgbClr val="006600"/>
                </a:solidFill>
                <a:latin typeface="Microsoft Uighur"/>
                <a:ea typeface="Microsoft Uighur"/>
              </a:rPr>
              <a:t> . أما العناصر الأخرى (منتج – ترويج –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Microsoft Uighur"/>
                <a:ea typeface="Microsoft Uighur"/>
              </a:rPr>
              <a:t>    توزيع) فهي عناصر تكلف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Uighur"/>
                <a:ea typeface="Microsoft Uighur"/>
              </a:rPr>
              <a:t>2</a:t>
            </a:r>
            <a:r>
              <a:rPr b="1" lang="ar-SA" sz="2000" spc="-1" strike="noStrike">
                <a:solidFill>
                  <a:srgbClr val="000000"/>
                </a:solidFill>
                <a:latin typeface="Microsoft Uighur"/>
                <a:ea typeface="Microsoft Uighur"/>
              </a:rPr>
              <a:t>- </a:t>
            </a:r>
            <a:r>
              <a:rPr b="1" lang="ar-SA" sz="2800" spc="-1" strike="noStrike">
                <a:solidFill>
                  <a:srgbClr val="000000"/>
                </a:solidFill>
                <a:latin typeface="Microsoft Uighur"/>
                <a:cs typeface="Microsoft Uighur"/>
              </a:rPr>
              <a:t>السعر أكثر عناصر المزيج التسويقي </a:t>
            </a:r>
            <a:r>
              <a:rPr b="1" lang="ar-SA" sz="2800" spc="-1" strike="noStrike">
                <a:solidFill>
                  <a:srgbClr val="00b0f0"/>
                </a:solidFill>
                <a:latin typeface="Microsoft Uighur"/>
                <a:cs typeface="Microsoft Uighur"/>
              </a:rPr>
              <a:t>مرونة</a:t>
            </a:r>
            <a:r>
              <a:rPr b="1" lang="ar-SA" sz="2800" spc="-1" strike="noStrike">
                <a:solidFill>
                  <a:srgbClr val="000000"/>
                </a:solidFill>
                <a:latin typeface="Microsoft Uighur"/>
                <a:cs typeface="Microsoft Uighur"/>
              </a:rPr>
              <a:t>، حيث يتيس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Uighur"/>
                <a:ea typeface="Microsoft Uighur"/>
              </a:rPr>
              <a:t>   للمنظمة تعديل أسعارها أكثر من قدرتها على تغيي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Uighur"/>
                <a:ea typeface="Microsoft Uighur"/>
              </a:rPr>
              <a:t>   منتجاتها أو حملاتها الترويجية أو قنوات التوزيع.</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Microsoft Uighur"/>
                <a:ea typeface="Microsoft Uighur"/>
              </a:rPr>
              <a:t>3</a:t>
            </a:r>
            <a:r>
              <a:rPr b="1" lang="ar-SA" sz="2000" spc="-1" strike="noStrike">
                <a:solidFill>
                  <a:srgbClr val="002060"/>
                </a:solidFill>
                <a:latin typeface="Microsoft Uighur"/>
                <a:ea typeface="Microsoft Uighur"/>
              </a:rPr>
              <a:t>- </a:t>
            </a:r>
            <a:r>
              <a:rPr b="1" lang="ar-SA" sz="2800" spc="-1" strike="noStrike">
                <a:solidFill>
                  <a:srgbClr val="c00000"/>
                </a:solidFill>
                <a:latin typeface="Microsoft Uighur"/>
                <a:cs typeface="Microsoft Uighur"/>
              </a:rPr>
              <a:t>للسعر </a:t>
            </a:r>
            <a:r>
              <a:rPr b="1" lang="ar-SA" sz="2800" spc="-1" strike="noStrike">
                <a:solidFill>
                  <a:srgbClr val="0070c0"/>
                </a:solidFill>
                <a:latin typeface="Microsoft Uighur"/>
                <a:cs typeface="Microsoft Uighur"/>
              </a:rPr>
              <a:t>تأثير نفسي</a:t>
            </a:r>
            <a:r>
              <a:rPr b="1" lang="ar-SA" sz="2800" spc="-1" strike="noStrike">
                <a:solidFill>
                  <a:srgbClr val="c00000"/>
                </a:solidFill>
                <a:latin typeface="Microsoft Uighur"/>
                <a:ea typeface="Microsoft Uighur"/>
              </a:rPr>
              <a:t> على المستهلك ، حيث يربط العديد من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Microsoft Uighur"/>
                <a:ea typeface="Microsoft Uighur"/>
              </a:rPr>
              <a:t>   المستهلكين بين السعر والجودة.</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5" descr="show_file3"/>
          <p:cNvPicPr/>
          <p:nvPr/>
        </p:nvPicPr>
        <p:blipFill>
          <a:blip r:embed="rId1">
            <a:lum bright="70000" contrast="-70000"/>
          </a:blip>
          <a:stretch/>
        </p:blipFill>
        <p:spPr>
          <a:xfrm>
            <a:off x="-900000" y="115920"/>
            <a:ext cx="9753480" cy="7315200"/>
          </a:xfrm>
          <a:prstGeom prst="rect">
            <a:avLst/>
          </a:prstGeom>
          <a:ln w="0">
            <a:noFill/>
          </a:ln>
        </p:spPr>
      </p:pic>
      <p:sp>
        <p:nvSpPr>
          <p:cNvPr id="604" name="Text Box 8"/>
          <p:cNvSpPr/>
          <p:nvPr/>
        </p:nvSpPr>
        <p:spPr>
          <a:xfrm>
            <a:off x="1258920" y="1287360"/>
            <a:ext cx="71438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أهداف التسعير</a:t>
            </a:r>
            <a:endParaRPr b="0" lang="en-US" sz="4400" spc="-1" strike="noStrike">
              <a:solidFill>
                <a:srgbClr val="000000"/>
              </a:solidFill>
              <a:latin typeface="Arial"/>
            </a:endParaRPr>
          </a:p>
        </p:txBody>
      </p:sp>
      <p:sp>
        <p:nvSpPr>
          <p:cNvPr id="605" name="Text Box 8"/>
          <p:cNvSpPr/>
          <p:nvPr/>
        </p:nvSpPr>
        <p:spPr>
          <a:xfrm>
            <a:off x="611280" y="2050920"/>
            <a:ext cx="7891200" cy="6918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1</a:t>
            </a:r>
            <a:r>
              <a:rPr b="1" lang="ar-SA" sz="2000" spc="-1" strike="noStrike">
                <a:solidFill>
                  <a:srgbClr val="000000"/>
                </a:solidFill>
                <a:latin typeface="Arial"/>
                <a:ea typeface="PT Bold Heading"/>
              </a:rPr>
              <a:t>- </a:t>
            </a:r>
            <a:r>
              <a:rPr b="1" lang="ar-SA" sz="2000" spc="-1" strike="noStrike">
                <a:solidFill>
                  <a:srgbClr val="000000"/>
                </a:solidFill>
                <a:latin typeface="Microsoft Uighur"/>
                <a:ea typeface="Microsoft Uighur"/>
              </a:rPr>
              <a:t> </a:t>
            </a:r>
            <a:r>
              <a:rPr b="1" lang="ar-SA" sz="2800" spc="-1" strike="noStrike">
                <a:solidFill>
                  <a:srgbClr val="00b0f0"/>
                </a:solidFill>
                <a:latin typeface="Microsoft Uighur"/>
                <a:cs typeface="Microsoft Uighur"/>
              </a:rPr>
              <a:t>زيادة أرباح</a:t>
            </a:r>
            <a:r>
              <a:rPr b="1" lang="ar-SA" sz="2800" spc="-1" strike="noStrike">
                <a:solidFill>
                  <a:srgbClr val="c00000"/>
                </a:solidFill>
                <a:latin typeface="Microsoft Uighur"/>
                <a:ea typeface="Microsoft Uighur"/>
              </a:rPr>
              <a:t> وعائد مناسب على الاستثما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Uighur"/>
                <a:ea typeface="Microsoft Uighur"/>
              </a:rPr>
              <a:t>3</a:t>
            </a:r>
            <a:r>
              <a:rPr b="1" lang="ar-SA" sz="2000" spc="-1" strike="noStrike">
                <a:solidFill>
                  <a:srgbClr val="000000"/>
                </a:solidFill>
                <a:latin typeface="Microsoft Uighur"/>
                <a:ea typeface="Microsoft Uighur"/>
              </a:rPr>
              <a:t>- </a:t>
            </a:r>
            <a:r>
              <a:rPr b="1" lang="ar-SA" sz="2800" spc="-1" strike="noStrike" u="sng">
                <a:solidFill>
                  <a:srgbClr val="00b0f0"/>
                </a:solidFill>
                <a:uFillTx/>
                <a:latin typeface="Microsoft Uighur"/>
                <a:cs typeface="Microsoft Uighur"/>
              </a:rPr>
              <a:t>مواجهة المنافسة</a:t>
            </a:r>
            <a:r>
              <a:rPr b="1" lang="ar-SA" sz="2800" spc="-1" strike="noStrike" u="sng">
                <a:solidFill>
                  <a:srgbClr val="000000"/>
                </a:solidFill>
                <a:uFillTx/>
                <a:latin typeface="Microsoft Uighur"/>
                <a:ea typeface="Microsoft Uighur"/>
              </a:rPr>
              <a:t> من خلال التسعير (المنافسة السعر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Microsoft Uighur"/>
                <a:ea typeface="Microsoft Uighur"/>
              </a:rPr>
              <a:t>4</a:t>
            </a:r>
            <a:r>
              <a:rPr b="1" lang="ar-SA" sz="2800" spc="-1" strike="noStrike" u="sng">
                <a:solidFill>
                  <a:srgbClr val="c00000"/>
                </a:solidFill>
                <a:uFillTx/>
                <a:latin typeface="Microsoft Uighur"/>
                <a:ea typeface="Microsoft Uighur"/>
              </a:rPr>
              <a:t>- البقاء وال</a:t>
            </a:r>
            <a:r>
              <a:rPr b="1" lang="ar-SA" sz="2800" spc="-1" strike="noStrike" u="sng">
                <a:solidFill>
                  <a:srgbClr val="00b0f0"/>
                </a:solidFill>
                <a:uFillTx/>
                <a:latin typeface="Microsoft Uighur"/>
                <a:cs typeface="Microsoft Uighur"/>
              </a:rPr>
              <a:t>المبيعات</a:t>
            </a:r>
            <a:r>
              <a:rPr b="1" lang="ar-SA" sz="2800" spc="-1" strike="noStrike" u="sng">
                <a:solidFill>
                  <a:srgbClr val="000000"/>
                </a:solidFill>
                <a:uFillTx/>
                <a:latin typeface="Microsoft Uighur"/>
                <a:ea typeface="Microsoft Uighur"/>
              </a:rPr>
              <a:t> والحصة السوقية، حيث يؤثر السعر على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Microsoft Uighur"/>
                <a:ea typeface="Microsoft Uighur"/>
              </a:rPr>
              <a:t>    الطلب </a:t>
            </a:r>
            <a:r>
              <a:rPr b="1" lang="ar-SA" sz="2800" spc="-1" strike="noStrike">
                <a:solidFill>
                  <a:srgbClr val="000000"/>
                </a:solidFill>
                <a:latin typeface="Microsoft Uighur"/>
                <a:cs typeface="Microsoft Uighur"/>
              </a:rPr>
              <a:t>طبقاً لقانون العرض والطلب، وبالتالي يجب حساب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Uighur"/>
                <a:ea typeface="Microsoft Uighur"/>
              </a:rPr>
              <a:t>    حجم المبيعات المستهدف عند تحديد السع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Uighur"/>
                <a:ea typeface="Microsoft Uighur"/>
              </a:rPr>
              <a:t>2</a:t>
            </a:r>
            <a:r>
              <a:rPr b="1" lang="ar-SA" sz="2000" spc="-1" strike="noStrike">
                <a:solidFill>
                  <a:srgbClr val="c00000"/>
                </a:solidFill>
                <a:latin typeface="Microsoft Uighur"/>
                <a:ea typeface="Microsoft Uighur"/>
              </a:rPr>
              <a:t>- </a:t>
            </a:r>
            <a:r>
              <a:rPr b="1" lang="ar-SA" sz="2800" spc="-1" strike="noStrike">
                <a:solidFill>
                  <a:srgbClr val="00b0f0"/>
                </a:solidFill>
                <a:latin typeface="Microsoft Uighur"/>
                <a:cs typeface="Microsoft Uighur"/>
              </a:rPr>
              <a:t>تحقيق </a:t>
            </a:r>
            <a:r>
              <a:rPr b="1" lang="ar-SA" sz="2800" spc="-1" strike="noStrike">
                <a:solidFill>
                  <a:srgbClr val="c00000"/>
                </a:solidFill>
                <a:latin typeface="Microsoft Uighur"/>
                <a:cs typeface="Microsoft Uighur"/>
              </a:rPr>
              <a:t>استمرار في السوق (التسعير طبقاً لأوضاع السوق)</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Microsoft Uighur"/>
                <a:ea typeface="Microsoft Uighur"/>
              </a:rPr>
              <a:t>5</a:t>
            </a:r>
            <a:r>
              <a:rPr b="1" lang="ar-SA" sz="2800" spc="-1" strike="noStrike">
                <a:solidFill>
                  <a:srgbClr val="000000"/>
                </a:solidFill>
                <a:latin typeface="Microsoft Uighur"/>
                <a:ea typeface="Microsoft Uighur"/>
              </a:rPr>
              <a:t>- </a:t>
            </a:r>
            <a:r>
              <a:rPr b="1" lang="ar-SA" sz="2800" spc="-1" strike="noStrike">
                <a:solidFill>
                  <a:srgbClr val="00b0f0"/>
                </a:solidFill>
                <a:latin typeface="Microsoft Uighur"/>
                <a:cs typeface="Microsoft Uighur"/>
              </a:rPr>
              <a:t>الحفاظ على العملاء</a:t>
            </a:r>
            <a:r>
              <a:rPr b="1" lang="ar-SA" sz="2800" spc="-1" strike="noStrike">
                <a:solidFill>
                  <a:srgbClr val="000000"/>
                </a:solidFill>
                <a:latin typeface="Microsoft Uighur"/>
                <a:ea typeface="Microsoft Uighur"/>
              </a:rPr>
              <a:t> الحاليين و</a:t>
            </a:r>
            <a:r>
              <a:rPr b="1" lang="ar-SA" sz="2800" spc="-1" strike="noStrike">
                <a:solidFill>
                  <a:srgbClr val="00b0f0"/>
                </a:solidFill>
                <a:latin typeface="Microsoft Uighur"/>
                <a:cs typeface="Microsoft Uighur"/>
              </a:rPr>
              <a:t>جذب عملاء</a:t>
            </a:r>
            <a:r>
              <a:rPr b="1" lang="ar-SA" sz="2800" spc="-1" strike="noStrike">
                <a:solidFill>
                  <a:srgbClr val="000000"/>
                </a:solidFill>
                <a:latin typeface="Microsoft Uighur"/>
                <a:ea typeface="Microsoft Uighur"/>
              </a:rPr>
              <a:t> جدد</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07"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nuha alnumair</cp:lastModifiedBy>
  <dcterms:modified xsi:type="dcterms:W3CDTF">2017-04-24T04:39:31Z</dcterms:modified>
  <cp:revision>961</cp:revision>
  <dc:subject/>
  <dc:title>الشريحة 1</dc:title>
</cp:coreProperties>
</file>