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684-60E6-4244-93BD-AFBE17F5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735-CFF3-4B5B-924B-579E407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D7C6A-3118-4811-9568-DC3F4BCB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6444C-24D5-415E-8B6A-957904B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9D75F-F1AD-432D-8ED5-C995D0B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CFD6-10CE-41F9-B450-5A73FD6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B217A-CC8A-451B-BC01-CB7D20A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26AE8-805A-414D-BB6C-5C9FCA1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9FDA-620D-47E6-9466-3AFB543D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C3E04-6123-4351-A186-51EFDC73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C9832-B05C-484E-9994-08535E23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A747A-7A9C-433F-9A60-76ED832E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8EA-CE35-4C25-8FA5-50FFF1F0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DA554-B2F2-4A0F-833E-50E23CE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4F1D1-83F2-4B92-8346-659A4AE8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885A0-B232-4371-8F63-B8383107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3286F-F221-44B2-858A-541076F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3D49B-7C0D-4CB0-A881-9727F9E0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7E61D-B468-4F3B-80F5-87602CF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08DC6-2E98-438E-AA0F-21C89AE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B87ED-BD6A-4937-B01E-B8688C4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183F6-D498-4F1C-9499-FF17452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FDB7D-AF58-43F7-9F33-53D41B52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A2-71E6-4B8D-9348-A2A5D577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5E53-ACA9-463F-89FB-3BBC9737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2DC9-C4B0-4D13-BE5A-A17F6203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E6CE1-81D1-41E1-847F-61437C75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CF5D0-9610-453F-8AEA-AFE123C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50802-F033-4E74-A8C3-8E2C0EB1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4D252-C797-47A9-88B8-8C12310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BC435-F74C-485F-A80D-F3A0CEE9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E004B-119E-40E1-AE61-02BCC55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36AF9-A76F-432C-B7A2-D4ACAB6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113D1-001D-4E8A-A0B8-F5E5F37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EB9C-9631-488A-AD85-8FF603E9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D9A3-E262-44E2-AA0E-0DB58AD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C4E11-ABBF-4060-8911-E53854A8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8038A-32B8-421B-97EE-A4A04C09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1FE7D-85B6-45CB-A25C-C4C5BB47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CD4CD-2123-4348-AC8A-341782E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A4EAD-81D2-444C-ADD2-EB92E06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D1467-30BC-4220-881C-FE18194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63F53-B3E3-4F8E-B69F-CEA35F7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530C9-2CED-41CC-AFF4-E9B8DC6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CF751-ECBD-4930-95C7-C9477D0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747-5F4C-42E4-9A49-A9603952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72A14-0289-464F-AD20-6968C4D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8EC98-1552-4390-A9C4-22953AC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9C3FE-501C-407E-8A25-B6BDD14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C3CB4-8679-4A46-8789-891D81CF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26DF5-2CEF-4099-ACC1-24579CC5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227A-19F3-45FE-BF6A-C92D456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EFE3-62DD-4181-A19B-ECBC2B9A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D2E5-FA7E-4622-BFC5-126E9E22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B79F-DF8D-4E8A-9018-5EB0B0E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6D2-791F-4FB0-9AD5-FBEFE12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F5D-4666-477C-B710-AA3F2274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C3F-B132-4BD2-A502-1ABD2B6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DC5-C680-4B22-8FCC-C12576D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517-6893-4B2F-8054-58F168B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BFE3-6CE2-49FE-BD9A-4B7115AF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98F2-EEA9-49EB-9FF8-1A65A5E6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BE66-C01F-4EDC-9F85-46090BB7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7600-D05E-4240-8751-E9558E2D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C253-99BF-4349-8388-28AFE28B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EED5-9375-4F66-B295-BD09C16E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40DA-BF11-4B0D-8FB4-FEEF09A2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266-538C-43E4-8D82-F54A1762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F249-435E-451B-AFD6-9D2FA4F9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9EBA-00A9-4E27-BD75-5E43292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E4DD-B28B-40B5-82F9-D49D598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2EFF-7B06-4F08-B8C3-387EFDFA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2C95-FA26-4BA2-BDFC-6315ADB9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9A72-D15C-4414-9077-1A600682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5DA4-18A4-4C8D-911D-0F2B6F13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C7E6-CDAC-4E9D-B442-F925E6D8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CD0C-6C94-4C71-A404-8FF1CB6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CA3D-A7CA-44F6-9FDD-F506F601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CE-4217-4073-B531-03DC2F7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E5BE-586A-4DB1-BDB1-B32FADCF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D93D6-C530-428E-99AF-49220030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25B2-D0CA-41DC-A09D-82C185A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BBE4-88F6-4E3C-AE5C-951B67B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0F08-74BE-4006-97A7-E33B620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483C-D46D-4425-871E-B0C3A19C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F825-AEAB-4FAE-BA86-F80EEC40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96DA-3DB7-4464-ADB0-0B1D92FC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545E-13A3-45E3-8A74-A0AAB35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E2D4-4654-4C20-8012-8BCAFB15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0A2-39FF-496C-883C-44FADF7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6140-C386-4B3B-81AE-86BD2BE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DB07-CCE9-4367-A8D0-D0B92F7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2FC0-B597-4148-BC2F-B99AD161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FFC5-A365-4D5E-B7D6-4F76250D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CB1B-0EAA-40D4-BFF8-46BE70A6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947B-CC8F-4FD9-BCAE-78AFD47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2E4B-A1F7-43DE-840E-DD8FB98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88EBF-C2AD-43A8-8DFE-83CFC220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FA189-3AE6-4943-8230-7C58913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9FD3-3269-44D1-98CC-09185057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F12-2DAA-4894-9003-5670D488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471D0-9BC7-46A9-9133-145160CF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8EE8-B25F-4FE1-BC51-D7BFE309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DD35-6BB2-43EB-BEED-8D15B6F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0BC8-4214-4BE4-AB7C-0F4FFEF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37A78-CFD0-4E76-BBBF-F018F0D0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98DB-7298-4E75-923B-601315B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ECED-2C41-49B5-A20D-3C0656F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C3CF-F557-4F57-8267-811A775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571B-3BAC-4796-891C-A4FF3B1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3622-A787-4BE7-B98A-FC4129F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FB3-463B-4F36-811F-60415F5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B922F-4CD8-4094-9741-A283241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052F8-CD72-4337-936F-59CC35C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4E38-9879-4FCC-8063-2666D26C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F0DD0-40DA-484A-9336-5FFE6CDB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112A-181F-4452-819F-387F412E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8F770-5C3C-4F91-A5E6-D6AC619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036D-9538-4F18-A497-954BF627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C6A1-4667-4C7E-8C5E-F212199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93C27-3F88-4D37-B559-08D0D7F6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D2F31-958F-45ED-9629-C245BAF8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56A-C3B5-40F8-B6BC-B3D0CDBC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6CF8-87CF-4211-8EF1-4CC28BF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5878-679E-4157-A23C-E1FE29C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1508-7574-4DE2-9840-D6774713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56FC-1EDD-4F4D-89B7-355AA06F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970E-D6A5-4099-B61D-F40048E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6811-279C-40D9-A11A-ED150A4F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A8A8-9E6B-4023-8262-A39E095D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573C-2A00-44D1-AFF7-FBB4269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5A0A8-271B-41E5-938E-2264B0D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6A95-CDE7-4DB0-A3C7-A91EE299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1A2-E3BE-4FB8-898E-63C85470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6D6D2-D010-4D45-9780-7EF9ADD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717C-90AB-48F1-885B-74AE9A8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663C2-8CF4-45CC-BA07-02C1653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3031-48ED-4832-9E51-78A03BC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1BE1E-73F2-4EBA-B11E-59F4F30C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E94DD-D48A-4B8C-A360-137BFC42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42527-B011-43E8-B281-A808E2B5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99E1D-B91E-4199-AED9-B23563B2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F633C-E88A-45CB-B3A2-EAF36E4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A6403-AE9C-4708-9512-3E07B10F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5F44-B701-4227-B437-74B2BDD941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338-1569-4E70-A6B5-DC7C5315BD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3D46-281A-4015-BE03-F3700BF20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9C3A-40E1-4198-B41A-F95ADC42D6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13B-CCED-44D4-BAC2-85F6B26C1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65EF-7C07-45D3-A312-DDF59AA9CB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E486-353F-4C9E-8772-5C39A8BE76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291B-716E-4D5B-B81C-B4298F34A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FDC1-4DCC-4336-9CE4-F5A22CA98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871-C4B2-4ADD-AF67-7E68B98EB7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CA78-FFDE-47D1-8710-A717A4962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143-9B04-4D4C-B5B8-5290B5C87F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179280" y="184932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أهداف الاتصال الترويج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مستطيل 4"/>
          <p:cNvSpPr/>
          <p:nvPr/>
        </p:nvSpPr>
        <p:spPr>
          <a:xfrm>
            <a:off x="928800" y="1255680"/>
            <a:ext cx="7345080" cy="4775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تعريف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إقناع المستهلك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مزايا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حث المستهلك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تغلب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على المناف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تذكير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عزيز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قرار المستهلك ب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صميم الرسالة التروي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مستطيل 4"/>
          <p:cNvSpPr/>
          <p:nvPr/>
        </p:nvSpPr>
        <p:spPr>
          <a:xfrm>
            <a:off x="900000" y="1125360"/>
            <a:ext cx="7345440" cy="6115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2d050"/>
                </a:solidFill>
                <a:latin typeface="Microsoft Sans Serif"/>
                <a:cs typeface="Microsoft Sans Serif"/>
              </a:rPr>
              <a:t>تصميم الرسالة بما يتفق مع الهدف من الاتصال وخصائص المستهلكين المستهد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يتضمن ذل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تصميم الرسال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اللغة – الصورة – الألوان ....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هيكل الرسالة 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من ناحية الترت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مضمون الرسا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عاطف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شكل – الألوان – المظهر الاجت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عقلان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سعر – الجو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خلاقية</a:t>
            </a:r>
            <a:r>
              <a:rPr b="1" lang="ar-SA" sz="20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: الحفاظ على البيئة وموارد المجت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مستطيل 4"/>
          <p:cNvSpPr/>
          <p:nvPr/>
        </p:nvSpPr>
        <p:spPr>
          <a:xfrm>
            <a:off x="900000" y="1195560"/>
            <a:ext cx="7345440" cy="60242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2d050"/>
                </a:solidFill>
                <a:latin typeface="Microsoft Sans Serif"/>
                <a:cs typeface="Microsoft Sans Serif"/>
              </a:rPr>
              <a:t>القناة التي يتم عن طريقها توصيل الرسالة إلى المستهلكين المستهدف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أنواع وسائل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شخصي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مندوب البيع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غير شخصية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الجرائد – المجلات – التليفزيون ...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مُصدر الرس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مستطيل 4"/>
          <p:cNvSpPr/>
          <p:nvPr/>
        </p:nvSpPr>
        <p:spPr>
          <a:xfrm>
            <a:off x="900000" y="1195560"/>
            <a:ext cx="7345440" cy="55371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المصدر هو المتعهد الذي يتم التعاقد معه على إصدار الرسالة الإعلانية عن طريق وسيلته الاتص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جرائد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ي جريدة من الجرائد المتاحة محليا وعالميا؟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تليفزيون (</a:t>
            </a:r>
            <a:r>
              <a:rPr b="1" lang="ar-SA" sz="2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أي قناة من القنوات المحلية والعالمية؟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جمع ردود الأفع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مستطيل 4"/>
          <p:cNvSpPr/>
          <p:nvPr/>
        </p:nvSpPr>
        <p:spPr>
          <a:xfrm>
            <a:off x="900000" y="1195560"/>
            <a:ext cx="7345440" cy="6463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جمع رد فعل الجمهور الذي تلقي الرسالة الاتصالية لتقييم فعا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وتطوير عملية الاتصال الت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ميزانية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مستطيل 4"/>
          <p:cNvSpPr/>
          <p:nvPr/>
        </p:nvSpPr>
        <p:spPr>
          <a:xfrm>
            <a:off x="900000" y="1238400"/>
            <a:ext cx="7345440" cy="515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وهي الميزانية التي يتم الصرف منها على الأنشطة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وهناك عدة طرق لتحديد ميزانية التروي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1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نسبة من المبيعات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2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الاقتداء بالمنافس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3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حسب الإم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4</a:t>
            </a:r>
            <a:r>
              <a:rPr b="1" lang="ar-SA" sz="32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- حسب المهام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571680" y="2708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مستطيل 4"/>
          <p:cNvSpPr/>
          <p:nvPr/>
        </p:nvSpPr>
        <p:spPr>
          <a:xfrm>
            <a:off x="928800" y="117792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مستطيل 3"/>
          <p:cNvSpPr/>
          <p:nvPr/>
        </p:nvSpPr>
        <p:spPr>
          <a:xfrm>
            <a:off x="900000" y="1916280"/>
            <a:ext cx="7345440" cy="68990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يقوم المنتج بالترويج لتاجر الجملة ، فيطلب تا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   الجملة البضاعة من المنتج 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ثم يقوم تاجر الجملة بالترويج لتاجر التجزئ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فيطلب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ثم يقوم تاجر التجزئة بالترويج للمستهلك، فيط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   المستهلك البضاعة من تاجر التجزئة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3"/>
          <p:cNvSpPr/>
          <p:nvPr/>
        </p:nvSpPr>
        <p:spPr>
          <a:xfrm flipH="1">
            <a:off x="6372000" y="4581360"/>
            <a:ext cx="165564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رابط كسهم مستقيم 26"/>
          <p:cNvCxnSpPr/>
          <p:nvPr/>
        </p:nvCxnSpPr>
        <p:spPr>
          <a:xfrm flipH="1">
            <a:off x="636984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cxnSp>
        <p:nvCxnSpPr>
          <p:cNvPr id="678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79" name="رابط كسهم مستقيم 28"/>
          <p:cNvCxnSpPr/>
          <p:nvPr/>
        </p:nvCxnSpPr>
        <p:spPr>
          <a:xfrm flipH="1">
            <a:off x="536328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80" name="رابط كسهم مستقيم 29"/>
          <p:cNvCxnSpPr/>
          <p:nvPr/>
        </p:nvCxnSpPr>
        <p:spPr>
          <a:xfrm flipH="1">
            <a:off x="377964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681" name="Line 43"/>
          <p:cNvSpPr/>
          <p:nvPr/>
        </p:nvSpPr>
        <p:spPr>
          <a:xfrm flipH="1">
            <a:off x="3780000" y="4581360"/>
            <a:ext cx="158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رابط كسهم مستقيم 31"/>
          <p:cNvCxnSpPr/>
          <p:nvPr/>
        </p:nvCxnSpPr>
        <p:spPr>
          <a:xfrm flipH="1">
            <a:off x="298692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683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684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مربع نص 34"/>
          <p:cNvSpPr/>
          <p:nvPr/>
        </p:nvSpPr>
        <p:spPr>
          <a:xfrm>
            <a:off x="680400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مربع نص 35"/>
          <p:cNvSpPr/>
          <p:nvPr/>
        </p:nvSpPr>
        <p:spPr>
          <a:xfrm>
            <a:off x="4067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مربع نص 36"/>
          <p:cNvSpPr/>
          <p:nvPr/>
        </p:nvSpPr>
        <p:spPr>
          <a:xfrm>
            <a:off x="1619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89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1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3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95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97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699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1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مستطيل 4"/>
          <p:cNvSpPr/>
          <p:nvPr/>
        </p:nvSpPr>
        <p:spPr>
          <a:xfrm>
            <a:off x="928800" y="981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مستطيل 3"/>
          <p:cNvSpPr/>
          <p:nvPr/>
        </p:nvSpPr>
        <p:spPr>
          <a:xfrm>
            <a:off x="900000" y="1628640"/>
            <a:ext cx="7345440" cy="5517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يقوم المنتج بالترويج للمستهلك مباشرة ، فيطلب المستهلك البضاعة من تاجر التجزئة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ثم يقوم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ثم يقوم تاجر الجملة بطلب البضاعة من المنتج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يقوم تاجر التجزئة باستلام البضاعة من تاجر الجملة، فيسلمها بدوره ل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43"/>
          <p:cNvSpPr/>
          <p:nvPr/>
        </p:nvSpPr>
        <p:spPr>
          <a:xfrm flipH="1">
            <a:off x="5364000" y="458136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sp>
        <p:nvSpPr>
          <p:cNvPr id="716" name="Line 43"/>
          <p:cNvSpPr/>
          <p:nvPr/>
        </p:nvSpPr>
        <p:spPr>
          <a:xfrm flipH="1">
            <a:off x="3059280" y="4581360"/>
            <a:ext cx="2304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18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مربع نص 35"/>
          <p:cNvSpPr/>
          <p:nvPr/>
        </p:nvSpPr>
        <p:spPr>
          <a:xfrm>
            <a:off x="4067280" y="47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روي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21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3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5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27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29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1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33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8"/>
          <p:cNvSpPr/>
          <p:nvPr/>
        </p:nvSpPr>
        <p:spPr>
          <a:xfrm>
            <a:off x="611280" y="477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ستراتيجيتي الدفع والسح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1187280" y="1528920"/>
          <a:ext cx="6840720" cy="42955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ح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ع الشخص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شاط الترويج الرئيس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يسرة – تسوق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صناعية واستهلاكية خاص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وع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بسيط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عقدة (عالية التق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بيعة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ص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نوات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066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تعد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حدو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افذ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5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خف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تف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أسعار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يج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مجموعة 13"/>
          <p:cNvGrpSpPr/>
          <p:nvPr/>
        </p:nvGrpSpPr>
        <p:grpSpPr>
          <a:xfrm>
            <a:off x="2843280" y="1611360"/>
            <a:ext cx="7200720" cy="4770360"/>
            <a:chOff x="2843280" y="1611360"/>
            <a:chExt cx="7200720" cy="4770360"/>
          </a:xfrm>
        </p:grpSpPr>
        <p:sp>
          <p:nvSpPr>
            <p:cNvPr id="741" name="AutoShape 8"/>
            <p:cNvSpPr/>
            <p:nvPr/>
          </p:nvSpPr>
          <p:spPr>
            <a:xfrm>
              <a:off x="2843280" y="161136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مستطيل 9"/>
            <p:cNvSpPr/>
            <p:nvPr/>
          </p:nvSpPr>
          <p:spPr>
            <a:xfrm>
              <a:off x="5586480" y="5006160"/>
              <a:ext cx="2214360" cy="72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مربع نص 17"/>
            <p:cNvSpPr/>
            <p:nvPr/>
          </p:nvSpPr>
          <p:spPr>
            <a:xfrm>
              <a:off x="5723640" y="515772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نترن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مجموعة 14"/>
          <p:cNvGrpSpPr/>
          <p:nvPr/>
        </p:nvGrpSpPr>
        <p:grpSpPr>
          <a:xfrm>
            <a:off x="2843280" y="2690640"/>
            <a:ext cx="7200720" cy="4770720"/>
            <a:chOff x="2843280" y="2690640"/>
            <a:chExt cx="7200720" cy="4770720"/>
          </a:xfrm>
        </p:grpSpPr>
        <p:sp>
          <p:nvSpPr>
            <p:cNvPr id="745" name="AutoShape 8"/>
            <p:cNvSpPr/>
            <p:nvPr/>
          </p:nvSpPr>
          <p:spPr>
            <a:xfrm>
              <a:off x="2843280" y="269064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مستطيل 9"/>
            <p:cNvSpPr/>
            <p:nvPr/>
          </p:nvSpPr>
          <p:spPr>
            <a:xfrm>
              <a:off x="5586480" y="5805000"/>
              <a:ext cx="2214360" cy="72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مربع نص 17"/>
            <p:cNvSpPr/>
            <p:nvPr/>
          </p:nvSpPr>
          <p:spPr>
            <a:xfrm>
              <a:off x="5729400" y="591948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ريد المباش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مجموعة 20"/>
          <p:cNvGrpSpPr/>
          <p:nvPr/>
        </p:nvGrpSpPr>
        <p:grpSpPr>
          <a:xfrm>
            <a:off x="2843280" y="530280"/>
            <a:ext cx="7200720" cy="4770360"/>
            <a:chOff x="2843280" y="530280"/>
            <a:chExt cx="7200720" cy="4770360"/>
          </a:xfrm>
        </p:grpSpPr>
        <p:sp>
          <p:nvSpPr>
            <p:cNvPr id="749" name="AutoShape 8"/>
            <p:cNvSpPr/>
            <p:nvPr/>
          </p:nvSpPr>
          <p:spPr>
            <a:xfrm>
              <a:off x="2843280" y="53028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مستطيل 9"/>
            <p:cNvSpPr/>
            <p:nvPr/>
          </p:nvSpPr>
          <p:spPr>
            <a:xfrm>
              <a:off x="5586480" y="41774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مربع نص 17"/>
            <p:cNvSpPr/>
            <p:nvPr/>
          </p:nvSpPr>
          <p:spPr>
            <a:xfrm>
              <a:off x="5729400" y="4220640"/>
              <a:ext cx="192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نشر والعلاقات العام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مجموعة 24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53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مستطيل 9"/>
            <p:cNvSpPr/>
            <p:nvPr/>
          </p:nvSpPr>
          <p:spPr>
            <a:xfrm>
              <a:off x="5586480" y="3356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مربع نص 17"/>
            <p:cNvSpPr/>
            <p:nvPr/>
          </p:nvSpPr>
          <p:spPr>
            <a:xfrm>
              <a:off x="5729400" y="353268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نشيط المبيع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مجموعة 28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57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مستطيل 9"/>
            <p:cNvSpPr/>
            <p:nvPr/>
          </p:nvSpPr>
          <p:spPr>
            <a:xfrm>
              <a:off x="5586480" y="2564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مربع نص 17"/>
            <p:cNvSpPr/>
            <p:nvPr/>
          </p:nvSpPr>
          <p:spPr>
            <a:xfrm>
              <a:off x="5729400" y="272196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عل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مجموعة 32"/>
          <p:cNvGrpSpPr/>
          <p:nvPr/>
        </p:nvGrpSpPr>
        <p:grpSpPr>
          <a:xfrm>
            <a:off x="2843280" y="-1324080"/>
            <a:ext cx="7200720" cy="4770720"/>
            <a:chOff x="2843280" y="-1324080"/>
            <a:chExt cx="7200720" cy="4770720"/>
          </a:xfrm>
        </p:grpSpPr>
        <p:sp>
          <p:nvSpPr>
            <p:cNvPr id="761" name="AutoShape 8"/>
            <p:cNvSpPr/>
            <p:nvPr/>
          </p:nvSpPr>
          <p:spPr>
            <a:xfrm>
              <a:off x="2843280" y="-132408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مستطيل 9"/>
            <p:cNvSpPr/>
            <p:nvPr/>
          </p:nvSpPr>
          <p:spPr>
            <a:xfrm>
              <a:off x="5586480" y="1772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مربع نص 17"/>
            <p:cNvSpPr/>
            <p:nvPr/>
          </p:nvSpPr>
          <p:spPr>
            <a:xfrm>
              <a:off x="5729400" y="194832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يع الشخص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مزيج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مجموعة 38"/>
          <p:cNvGrpSpPr/>
          <p:nvPr/>
        </p:nvGrpSpPr>
        <p:grpSpPr>
          <a:xfrm>
            <a:off x="-1332000" y="98280"/>
            <a:ext cx="7201080" cy="4887360"/>
            <a:chOff x="-1332000" y="98280"/>
            <a:chExt cx="7201080" cy="4887360"/>
          </a:xfrm>
        </p:grpSpPr>
        <p:sp>
          <p:nvSpPr>
            <p:cNvPr id="766" name="AutoShape 8"/>
            <p:cNvSpPr/>
            <p:nvPr/>
          </p:nvSpPr>
          <p:spPr>
            <a:xfrm>
              <a:off x="-1332000" y="98280"/>
              <a:ext cx="7201080" cy="47721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مستطيل 9"/>
            <p:cNvSpPr/>
            <p:nvPr/>
          </p:nvSpPr>
          <p:spPr>
            <a:xfrm>
              <a:off x="1411200" y="3339360"/>
              <a:ext cx="2214720" cy="1602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مربع نص 17"/>
            <p:cNvSpPr/>
            <p:nvPr/>
          </p:nvSpPr>
          <p:spPr>
            <a:xfrm>
              <a:off x="1554120" y="3429360"/>
              <a:ext cx="1928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هد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رابط مستقيم 43"/>
          <p:cNvSpPr/>
          <p:nvPr/>
        </p:nvSpPr>
        <p:spPr>
          <a:xfrm>
            <a:off x="4788000" y="2133720"/>
            <a:ext cx="0" cy="41036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رابط مستقيم 52"/>
          <p:cNvSpPr/>
          <p:nvPr/>
        </p:nvSpPr>
        <p:spPr>
          <a:xfrm>
            <a:off x="4788000" y="299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رابط مستقيم 53"/>
          <p:cNvSpPr/>
          <p:nvPr/>
        </p:nvSpPr>
        <p:spPr>
          <a:xfrm>
            <a:off x="4788000" y="21477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رابط مستقيم 54"/>
          <p:cNvSpPr/>
          <p:nvPr/>
        </p:nvSpPr>
        <p:spPr>
          <a:xfrm>
            <a:off x="4788000" y="371628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رابط مستقيم 55"/>
          <p:cNvSpPr/>
          <p:nvPr/>
        </p:nvSpPr>
        <p:spPr>
          <a:xfrm>
            <a:off x="4788000" y="4581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رابط مستقيم 56"/>
          <p:cNvSpPr/>
          <p:nvPr/>
        </p:nvSpPr>
        <p:spPr>
          <a:xfrm>
            <a:off x="4788000" y="537372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رابط مستقيم 57"/>
          <p:cNvSpPr/>
          <p:nvPr/>
        </p:nvSpPr>
        <p:spPr>
          <a:xfrm>
            <a:off x="4788000" y="623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6" name="رابط كسهم مستقيم 63"/>
          <p:cNvCxnSpPr/>
          <p:nvPr/>
        </p:nvCxnSpPr>
        <p:spPr>
          <a:xfrm flipH="1" flipV="1">
            <a:off x="3634920" y="4147920"/>
            <a:ext cx="1153440" cy="216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8"/>
          <p:cNvSpPr/>
          <p:nvPr/>
        </p:nvSpPr>
        <p:spPr>
          <a:xfrm>
            <a:off x="684360" y="40464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مستطيل 3"/>
          <p:cNvSpPr/>
          <p:nvPr/>
        </p:nvSpPr>
        <p:spPr>
          <a:xfrm>
            <a:off x="928800" y="1289160"/>
            <a:ext cx="7345080" cy="58539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70c0"/>
                </a:solidFill>
                <a:uFillTx/>
                <a:latin typeface="Microsoft Sans Serif"/>
                <a:cs typeface="Microsoft Sans Serif"/>
              </a:rPr>
              <a:t>أهداف الإعلان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ستثارة الطلب الأولي والانت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مواجهة إعلانات المناف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سهيل مهمة البيع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زيادة استخدامات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ذكير المستهلك بالسلعة وتعزيز قراره الشر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تقليل التقلبات الموسمية في المبيعات (</a:t>
            </a:r>
            <a:r>
              <a:rPr b="1" lang="ar-SA" sz="1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مثل إعلان الفنادق عن خصومات سعرية في أوقات انخفاض الطلب عليها، فيؤدي إلى زيادة الطلب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مستطيل 3"/>
          <p:cNvSpPr/>
          <p:nvPr/>
        </p:nvSpPr>
        <p:spPr>
          <a:xfrm>
            <a:off x="928800" y="1557360"/>
            <a:ext cx="7345080" cy="62215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Microsoft Sans Serif"/>
                <a:cs typeface="Microsoft Sans Serif"/>
              </a:rPr>
              <a:t>أنواع الإعلانات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إعلان التعريفية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خبر المستهلكين عن السلعة وخصائصها وفوائدها واستخداماتها ، ويهدف إلى إثارة الطلب الأولى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إعلان التنافسي: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عدد استخدامات وخصائص ومزايا المنتج عن غيره من المنتجات المنافسة، ويهدف إلى إثارة الطلب الانتق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الإعلان التذكيري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هدف إلى تذكير المستهلكين بالسلعة، وأنها مازالت موجودة بهدف تجنب انخفاض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الإعلان التعزيزي: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يهدف إلى طمأنة المستعملين الحاليين للسلعة، والتأكيد لهم بأنهم اتخذوا القرار السليم بشراء السلعة محل الإعلان بهدف تجنب الانخفاض في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solidFill>
            <a:srgbClr val="67ed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ع الشخصي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مستطيل 3"/>
          <p:cNvSpPr/>
          <p:nvPr/>
        </p:nvSpPr>
        <p:spPr>
          <a:xfrm>
            <a:off x="928800" y="1052640"/>
            <a:ext cx="7345080" cy="6733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70c0"/>
                </a:solidFill>
                <a:latin typeface="Tahoma"/>
                <a:cs typeface="PT Bold Heading"/>
              </a:rPr>
              <a:t>يعني مقابلة رجال البيع للعملاء، بهدف تعريفهم وإقناعهم بالمنتج وحثهم على شرائ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ff"/>
                </a:solidFill>
                <a:uFillTx/>
                <a:latin typeface="Tahoma"/>
                <a:cs typeface="PT Bold Heading"/>
              </a:rPr>
              <a:t>وتتم المقابلة البيعية على عدة خطوات</a:t>
            </a:r>
            <a:r>
              <a:rPr b="1" lang="ar-SA" sz="2000" spc="-1" strike="noStrike">
                <a:solidFill>
                  <a:srgbClr val="ff00ff"/>
                </a:solidFill>
                <a:latin typeface="Tahoma"/>
                <a:ea typeface="PT Bold Head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بحث عن العميل المرتقب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من خلال العملاء الحاليين أو السابقين أو الأصدقاء، أو الأدلة التجارية ....ال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مهيد للمقابلة البيعية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تحديد خطة البيع والإقناع حسب شخصية العميل وخصائص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لقاء بين البائع والمشتري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هتمام بالمظهر والعبارات الافتتاحية لترك انطباع إيجابي لدى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د على الاعتراضات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فيما يتعلق بخصائص المنتج أو سعره مثل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إنهاء المقابلة البيعية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بشكل يشجع على الش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متابعة عملية البيع: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لتأكد من الوفاء بما تم الاتفاق عليه مع 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ن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ub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مستطيل 3"/>
          <p:cNvSpPr/>
          <p:nvPr/>
        </p:nvSpPr>
        <p:spPr>
          <a:xfrm>
            <a:off x="928800" y="1413000"/>
            <a:ext cx="7345080" cy="6542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نشر أخبار أو معلومات عن المنتجات في وسائل النشر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تم النشر عادة بدون مقا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لا يكون للمنظمة السيطرة على الرسائل الدعائية من حيث توقيت عرضها ولا كيفية الع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كون لدار النشر الحرية في ذكر اسم الشركة المنتجة من عد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يكون النشر غالباً عندما تكون المنتجات ذات أهمية خاص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للنشر مصداقية عالية لدى الجمهور</a:t>
            </a: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قد يأخذ النشر شكل: الأخبار القصيرة ، المقالات المطولة ، مؤتمرات صحفية ، أفلام مص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نشيط المبيعات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مستطيل 3"/>
          <p:cNvSpPr/>
          <p:nvPr/>
        </p:nvSpPr>
        <p:spPr>
          <a:xfrm>
            <a:off x="928800" y="1413000"/>
            <a:ext cx="7345080" cy="524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يقصد بتنشيط المبيعات كافة الأنشطة الترويجية الأخرى بخلاف البيع الشخصي والإعلان والن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من أكثر الأساليب المستخدم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مسابق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كوبونات تخفيض الأسع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عينات المج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هدايا التي تمنح عند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معارض التج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مستطيل 3"/>
          <p:cNvSpPr/>
          <p:nvPr/>
        </p:nvSpPr>
        <p:spPr>
          <a:xfrm>
            <a:off x="928800" y="1504800"/>
            <a:ext cx="7345080" cy="5496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من أبرز عناصر ا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بريد المباشر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Direct Mail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من صوره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إعلان البريدي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Mail Advertizing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(إعلان مباشر يرسل بالبر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بيع بالبريد عن طريق الكتالوجات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Mail Ordering</a:t>
            </a:r>
            <a:r>
              <a:rPr b="1" lang="en-US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والسداد عن ب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تسويق عن طريق الهاتف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Telemarketing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Microsoft Sans Serif"/>
                <a:cs typeface="Microsoft Sans Serif"/>
              </a:rPr>
              <a:t>التسويق الإلكترون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E-Marketing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(استخدام الإنترنت في بناء الاستراتيجيات التسويقية ومنها التروي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مستطيل 4"/>
          <p:cNvSpPr/>
          <p:nvPr/>
        </p:nvSpPr>
        <p:spPr>
          <a:xfrm>
            <a:off x="928800" y="1557360"/>
            <a:ext cx="7345080" cy="62352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جموعة </a:t>
            </a:r>
            <a:r>
              <a:rPr b="1" lang="ar-SA" sz="4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اتصالات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تي يجريها المنتج بالمشترين المرتقبين بغرض </a:t>
            </a:r>
            <a:r>
              <a:rPr b="1" lang="ar-SA" sz="48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تعريف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و</a:t>
            </a:r>
            <a:r>
              <a:rPr b="1" lang="ar-SA" sz="4800" spc="-1" strike="noStrike">
                <a:solidFill>
                  <a:srgbClr val="00b050"/>
                </a:solidFill>
                <a:latin typeface="Microsoft Sans Serif"/>
                <a:cs typeface="Microsoft Sans Serif"/>
              </a:rPr>
              <a:t>إقناع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سلع و الخدمات المنتجة و</a:t>
            </a:r>
            <a:r>
              <a:rPr b="1" lang="ar-SA" sz="4800" spc="-1" strike="noStrike">
                <a:solidFill>
                  <a:srgbClr val="ff6600"/>
                </a:solidFill>
                <a:latin typeface="Microsoft Sans Serif"/>
                <a:cs typeface="Microsoft Sans Serif"/>
              </a:rPr>
              <a:t>دفعهم</a:t>
            </a:r>
            <a:r>
              <a:rPr b="1" lang="ar-SA" sz="4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مستطيل 3"/>
          <p:cNvSpPr/>
          <p:nvPr/>
        </p:nvSpPr>
        <p:spPr>
          <a:xfrm>
            <a:off x="928800" y="1413000"/>
            <a:ext cx="7345080" cy="6647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cs typeface="Microsoft Sans Serif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ويتضح من ذلك بعض الخصائص ل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7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نظام  للاتصال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تفاعل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في مجال التسويق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يتضمن اتصال مباشر بالعملاء والحصول منهم على رد فعال مباشر أيضاً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3699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يستخدم مجموعة من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لوسائل غير التقليدية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التي تحقق هذا الاتصال المباشر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البريد -  الهاتف – الفاكس – الإنترنت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تحقق </a:t>
            </a: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cs typeface="Microsoft Sans Serif"/>
              </a:rPr>
              <a:t>استجابة ملموسة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رد فعل مباشر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Microsoft Sans Serif"/>
                <a:ea typeface="Microsoft Sans Serif"/>
              </a:rPr>
              <a:t> بأقل جهد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 ممكن (</a:t>
            </a:r>
            <a:r>
              <a:rPr b="1" lang="ar-SA" sz="1800" spc="-1" strike="noStrike">
                <a:solidFill>
                  <a:srgbClr val="002060"/>
                </a:solidFill>
                <a:latin typeface="Microsoft Sans Serif"/>
                <a:cs typeface="Microsoft Sans Serif"/>
              </a:rPr>
              <a:t>بخلاف الوسائل التقليدية كالإعلان والبيع الشخصي</a:t>
            </a:r>
            <a:r>
              <a:rPr b="1" lang="ar-SA" sz="2800" spc="-1" strike="noStrike">
                <a:solidFill>
                  <a:srgbClr val="ff66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611280" y="47772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 الفرو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ين التسويق المباشر والتسويق غير المبا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187280" y="1920960"/>
          <a:ext cx="6840720" cy="41101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غير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ف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عروف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عم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ميسرة – تسو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مفصل على العمي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ت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بما يناسب ظروف العميل ورغبت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ة (مفصلة على العم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ينتج عنها رد فعل مباش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رسالة التروي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إغراء العملاء وترك صورة ذهنية محددة عن الشركة ومنتجاتها في أذهانه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حتفاظ بالعملاء وتحويلهم إلى عملاء دائم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هدف من التروي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1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971640" y="646200"/>
            <a:ext cx="7176960" cy="838080"/>
          </a:xfrm>
          <a:prstGeom prst="rect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549360" y="2063880"/>
            <a:ext cx="1358640" cy="1587240"/>
          </a:xfrm>
          <a:prstGeom prst="rect">
            <a:avLst/>
          </a:prstGeom>
          <a:solidFill>
            <a:srgbClr val="92d050"/>
          </a:solidFill>
          <a:ln w="12600">
            <a:solidFill>
              <a:srgbClr val="400073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PT Bold Heading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0"/>
          <p:cNvGrpSpPr/>
          <p:nvPr/>
        </p:nvGrpSpPr>
        <p:grpSpPr>
          <a:xfrm>
            <a:off x="4354560" y="2128680"/>
            <a:ext cx="2300400" cy="1587600"/>
            <a:chOff x="4354560" y="2128680"/>
            <a:chExt cx="2300400" cy="1587600"/>
          </a:xfrm>
        </p:grpSpPr>
        <p:sp>
          <p:nvSpPr>
            <p:cNvPr id="593" name="Rectangle 11"/>
            <p:cNvSpPr/>
            <p:nvPr/>
          </p:nvSpPr>
          <p:spPr>
            <a:xfrm>
              <a:off x="5219640" y="2128680"/>
              <a:ext cx="1435320" cy="1587600"/>
            </a:xfrm>
            <a:prstGeom prst="rect">
              <a:avLst/>
            </a:prstGeom>
            <a:solidFill>
              <a:srgbClr val="c6ff03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قب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2"/>
            <p:cNvSpPr/>
            <p:nvPr/>
          </p:nvSpPr>
          <p:spPr>
            <a:xfrm>
              <a:off x="4354560" y="2924280"/>
              <a:ext cx="72072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13"/>
          <p:cNvGrpSpPr/>
          <p:nvPr/>
        </p:nvGrpSpPr>
        <p:grpSpPr>
          <a:xfrm>
            <a:off x="1979640" y="2128680"/>
            <a:ext cx="2305080" cy="1587600"/>
            <a:chOff x="1979640" y="2128680"/>
            <a:chExt cx="2305080" cy="1587600"/>
          </a:xfrm>
        </p:grpSpPr>
        <p:sp>
          <p:nvSpPr>
            <p:cNvPr id="596" name="Rectangle 14"/>
            <p:cNvSpPr/>
            <p:nvPr/>
          </p:nvSpPr>
          <p:spPr>
            <a:xfrm>
              <a:off x="2868480" y="2128680"/>
              <a:ext cx="1416240" cy="1587600"/>
            </a:xfrm>
            <a:prstGeom prst="rect">
              <a:avLst/>
            </a:prstGeom>
            <a:solidFill>
              <a:srgbClr val="35385a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الوسي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5"/>
            <p:cNvSpPr/>
            <p:nvPr/>
          </p:nvSpPr>
          <p:spPr>
            <a:xfrm>
              <a:off x="1979640" y="2924280"/>
              <a:ext cx="79200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"/>
            <p:cNvSpPr/>
            <p:nvPr/>
          </p:nvSpPr>
          <p:spPr>
            <a:xfrm>
              <a:off x="2928960" y="2368440"/>
              <a:ext cx="1282680" cy="444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Line 19"/>
          <p:cNvSpPr/>
          <p:nvPr/>
        </p:nvSpPr>
        <p:spPr>
          <a:xfrm flipH="1">
            <a:off x="1258920" y="6002280"/>
            <a:ext cx="4633920" cy="1908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V="1">
            <a:off x="1187280" y="3645000"/>
            <a:ext cx="0" cy="238896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23"/>
          <p:cNvGrpSpPr/>
          <p:nvPr/>
        </p:nvGrpSpPr>
        <p:grpSpPr>
          <a:xfrm>
            <a:off x="5873760" y="2997000"/>
            <a:ext cx="2514600" cy="3456360"/>
            <a:chOff x="5873760" y="2997000"/>
            <a:chExt cx="2514600" cy="3456360"/>
          </a:xfrm>
        </p:grpSpPr>
        <p:sp>
          <p:nvSpPr>
            <p:cNvPr id="602" name="Rectangle 24"/>
            <p:cNvSpPr/>
            <p:nvPr/>
          </p:nvSpPr>
          <p:spPr>
            <a:xfrm>
              <a:off x="5873760" y="5475600"/>
              <a:ext cx="1511280" cy="977760"/>
            </a:xfrm>
            <a:prstGeom prst="rect">
              <a:avLst/>
            </a:prstGeom>
            <a:solidFill>
              <a:srgbClr val="227a8f"/>
            </a:soli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تغذية عكس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5"/>
            <p:cNvSpPr/>
            <p:nvPr/>
          </p:nvSpPr>
          <p:spPr>
            <a:xfrm flipH="1">
              <a:off x="7365600" y="6021720"/>
              <a:ext cx="939960" cy="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6"/>
            <p:cNvSpPr/>
            <p:nvPr/>
          </p:nvSpPr>
          <p:spPr>
            <a:xfrm flipV="1">
              <a:off x="8381880" y="2997000"/>
              <a:ext cx="6480" cy="297180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7"/>
          <p:cNvGrpSpPr/>
          <p:nvPr/>
        </p:nvGrpSpPr>
        <p:grpSpPr>
          <a:xfrm>
            <a:off x="2771640" y="3860640"/>
            <a:ext cx="1511280" cy="2057040"/>
            <a:chOff x="2771640" y="3860640"/>
            <a:chExt cx="1511280" cy="2057040"/>
          </a:xfrm>
        </p:grpSpPr>
        <p:sp>
          <p:nvSpPr>
            <p:cNvPr id="606" name="Rectangle 28"/>
            <p:cNvSpPr/>
            <p:nvPr/>
          </p:nvSpPr>
          <p:spPr>
            <a:xfrm>
              <a:off x="2771640" y="4363560"/>
              <a:ext cx="1511280" cy="978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لضوض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1"/>
            <p:cNvSpPr/>
            <p:nvPr/>
          </p:nvSpPr>
          <p:spPr>
            <a:xfrm>
              <a:off x="3527280" y="3860640"/>
              <a:ext cx="0" cy="482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2"/>
            <p:cNvSpPr/>
            <p:nvPr/>
          </p:nvSpPr>
          <p:spPr>
            <a:xfrm flipV="1">
              <a:off x="3527280" y="543492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21"/>
          <p:cNvSpPr/>
          <p:nvPr/>
        </p:nvSpPr>
        <p:spPr>
          <a:xfrm flipH="1">
            <a:off x="6948360" y="2924280"/>
            <a:ext cx="1440000" cy="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4"/>
          <p:cNvSpPr/>
          <p:nvPr/>
        </p:nvSpPr>
        <p:spPr>
          <a:xfrm>
            <a:off x="4356000" y="495468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رابط كسهم مستقيم 36"/>
          <p:cNvCxnSpPr/>
          <p:nvPr/>
        </p:nvCxnSpPr>
        <p:spPr>
          <a:xfrm flipV="1">
            <a:off x="4715280" y="2925360"/>
            <a:ext cx="2520" cy="201672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12" name="رابط مستقيم 37"/>
          <p:cNvSpPr/>
          <p:nvPr/>
        </p:nvSpPr>
        <p:spPr>
          <a:xfrm>
            <a:off x="2411280" y="494172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رابط كسهم مستقيم 38"/>
          <p:cNvCxnSpPr/>
          <p:nvPr/>
        </p:nvCxnSpPr>
        <p:spPr>
          <a:xfrm flipV="1">
            <a:off x="2410200" y="2923920"/>
            <a:ext cx="2520" cy="201816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مستطيل 2"/>
          <p:cNvSpPr/>
          <p:nvPr/>
        </p:nvSpPr>
        <p:spPr>
          <a:xfrm>
            <a:off x="928800" y="1557360"/>
            <a:ext cx="7345080" cy="6322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1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مرس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صاحب المصلحة في توجيه الرسالة الترويجي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                   (المسو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2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رسالة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جموعة كلمات أو رموز أو صور أو أرقام تعب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عن الرسالة التي يري المسوق أن ينقلها إلى جمهوره ع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منت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3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وسيلة الاتصا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الوسيلة التي يتم عن طريقها ن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                                   رسالة المسوق إلى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مستطيل 2"/>
          <p:cNvSpPr/>
          <p:nvPr/>
        </p:nvSpPr>
        <p:spPr>
          <a:xfrm>
            <a:off x="900000" y="1704960"/>
            <a:ext cx="7344000" cy="5635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4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مستقبل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متلقي الرسالة الترويجية عن طريق حوا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الذي يقوم بفك رموز الرسالة وفهمها وفقاً لشخصي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  وصفاته ومحيطة البيئي الذي يعيش ف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5</a:t>
            </a: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- التغذية العكسية</a:t>
            </a:r>
            <a:r>
              <a:rPr b="1" lang="ar-SA" sz="36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صاحب المصلحة في توجيه الرسالة الترويجية وقد ت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إيجابية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: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عندما يفهم المستقبل وجهة نظر المرسل وي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سلبية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: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لم يفهم المستهلك</a:t>
            </a:r>
            <a:r>
              <a:rPr b="1" lang="ar-SA" sz="2400" spc="-1" strike="noStrike">
                <a:solidFill>
                  <a:srgbClr val="0066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Microsoft Sans Serif"/>
                <a:cs typeface="Microsoft Sans Serif"/>
              </a:rPr>
              <a:t>الرسالة ولم ت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مستطيل 4"/>
          <p:cNvSpPr/>
          <p:nvPr/>
        </p:nvSpPr>
        <p:spPr>
          <a:xfrm>
            <a:off x="928800" y="1341360"/>
            <a:ext cx="7345080" cy="6096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تزويد العملاء ب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إثارة اهتمام العملاء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ناء سمعة الشركة وكسب ثقة الجم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غيير اتجاهات العملاء نحو منتجات الشر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خلق الرغبة لدى العملاء في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مساعدة العميل على اتخاذ قرار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تسهيل إنجاز العمليات البي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نشيط وزيادة 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الوصول إلى أفراد يصعب الوصول إل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تذكير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مجموعة 32"/>
          <p:cNvGrpSpPr/>
          <p:nvPr/>
        </p:nvGrpSpPr>
        <p:grpSpPr>
          <a:xfrm>
            <a:off x="2124000" y="-1270080"/>
            <a:ext cx="7993080" cy="4770360"/>
            <a:chOff x="2124000" y="-1270080"/>
            <a:chExt cx="7993080" cy="4770360"/>
          </a:xfrm>
        </p:grpSpPr>
        <p:sp>
          <p:nvSpPr>
            <p:cNvPr id="621" name="AutoShape 8"/>
            <p:cNvSpPr/>
            <p:nvPr/>
          </p:nvSpPr>
          <p:spPr>
            <a:xfrm>
              <a:off x="2916000" y="-12700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مستطيل 9"/>
            <p:cNvSpPr/>
            <p:nvPr/>
          </p:nvSpPr>
          <p:spPr>
            <a:xfrm>
              <a:off x="2124000" y="1322280"/>
              <a:ext cx="4885920" cy="576000"/>
            </a:xfrm>
            <a:prstGeom prst="rect">
              <a:avLst/>
            </a:prstGeom>
            <a:solidFill>
              <a:srgbClr val="e618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مربع نص 17"/>
            <p:cNvSpPr/>
            <p:nvPr/>
          </p:nvSpPr>
          <p:spPr>
            <a:xfrm>
              <a:off x="2637720" y="140868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المستهلكين المستهدف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8"/>
          <p:cNvSpPr/>
          <p:nvPr/>
        </p:nvSpPr>
        <p:spPr>
          <a:xfrm>
            <a:off x="1285920" y="417600"/>
            <a:ext cx="6572160" cy="52056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تنفيذ الاتصالات الترو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مجموعة 32"/>
          <p:cNvGrpSpPr/>
          <p:nvPr/>
        </p:nvGrpSpPr>
        <p:grpSpPr>
          <a:xfrm>
            <a:off x="2124000" y="-404640"/>
            <a:ext cx="7993080" cy="4770360"/>
            <a:chOff x="2124000" y="-404640"/>
            <a:chExt cx="7993080" cy="4770360"/>
          </a:xfrm>
        </p:grpSpPr>
        <p:sp>
          <p:nvSpPr>
            <p:cNvPr id="626" name="AutoShape 8"/>
            <p:cNvSpPr/>
            <p:nvPr/>
          </p:nvSpPr>
          <p:spPr>
            <a:xfrm>
              <a:off x="2916000" y="-404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مستطيل 9"/>
            <p:cNvSpPr/>
            <p:nvPr/>
          </p:nvSpPr>
          <p:spPr>
            <a:xfrm>
              <a:off x="2124000" y="2187720"/>
              <a:ext cx="4885920" cy="57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مربع نص 17"/>
            <p:cNvSpPr/>
            <p:nvPr/>
          </p:nvSpPr>
          <p:spPr>
            <a:xfrm>
              <a:off x="2637720" y="227412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أهداف الاتصال الترويج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مجموعة 32"/>
          <p:cNvGrpSpPr/>
          <p:nvPr/>
        </p:nvGrpSpPr>
        <p:grpSpPr>
          <a:xfrm>
            <a:off x="2124000" y="458640"/>
            <a:ext cx="7993080" cy="4770720"/>
            <a:chOff x="2124000" y="458640"/>
            <a:chExt cx="7993080" cy="4770720"/>
          </a:xfrm>
        </p:grpSpPr>
        <p:sp>
          <p:nvSpPr>
            <p:cNvPr id="630" name="AutoShape 8"/>
            <p:cNvSpPr/>
            <p:nvPr/>
          </p:nvSpPr>
          <p:spPr>
            <a:xfrm>
              <a:off x="2916000" y="45864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مستطيل 9"/>
            <p:cNvSpPr/>
            <p:nvPr/>
          </p:nvSpPr>
          <p:spPr>
            <a:xfrm>
              <a:off x="2124000" y="3051000"/>
              <a:ext cx="4885920" cy="5760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مربع نص 17"/>
            <p:cNvSpPr/>
            <p:nvPr/>
          </p:nvSpPr>
          <p:spPr>
            <a:xfrm>
              <a:off x="2637720" y="313776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صميم الرسالة االترويج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مجموعة 32"/>
          <p:cNvGrpSpPr/>
          <p:nvPr/>
        </p:nvGrpSpPr>
        <p:grpSpPr>
          <a:xfrm>
            <a:off x="2124000" y="1322280"/>
            <a:ext cx="7993080" cy="4770720"/>
            <a:chOff x="2124000" y="1322280"/>
            <a:chExt cx="7993080" cy="4770720"/>
          </a:xfrm>
        </p:grpSpPr>
        <p:sp>
          <p:nvSpPr>
            <p:cNvPr id="634" name="AutoShape 8"/>
            <p:cNvSpPr/>
            <p:nvPr/>
          </p:nvSpPr>
          <p:spPr>
            <a:xfrm>
              <a:off x="2916000" y="13222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مستطيل 9"/>
            <p:cNvSpPr/>
            <p:nvPr/>
          </p:nvSpPr>
          <p:spPr>
            <a:xfrm>
              <a:off x="2124000" y="3914640"/>
              <a:ext cx="4885920" cy="5760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مربع نص 17"/>
            <p:cNvSpPr/>
            <p:nvPr/>
          </p:nvSpPr>
          <p:spPr>
            <a:xfrm>
              <a:off x="2637720" y="40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وسيلة الاتص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مجموعة 32"/>
          <p:cNvGrpSpPr/>
          <p:nvPr/>
        </p:nvGrpSpPr>
        <p:grpSpPr>
          <a:xfrm>
            <a:off x="2124000" y="1916280"/>
            <a:ext cx="7993080" cy="4770360"/>
            <a:chOff x="2124000" y="1916280"/>
            <a:chExt cx="7993080" cy="4770360"/>
          </a:xfrm>
        </p:grpSpPr>
        <p:sp>
          <p:nvSpPr>
            <p:cNvPr id="638" name="AutoShape 8"/>
            <p:cNvSpPr/>
            <p:nvPr/>
          </p:nvSpPr>
          <p:spPr>
            <a:xfrm>
              <a:off x="2916000" y="19162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مستطيل 9"/>
            <p:cNvSpPr/>
            <p:nvPr/>
          </p:nvSpPr>
          <p:spPr>
            <a:xfrm>
              <a:off x="2124000" y="4796640"/>
              <a:ext cx="488592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مربع نص 17"/>
            <p:cNvSpPr/>
            <p:nvPr/>
          </p:nvSpPr>
          <p:spPr>
            <a:xfrm>
              <a:off x="2637720" y="486864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مصدر 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مجموعة 32"/>
          <p:cNvGrpSpPr/>
          <p:nvPr/>
        </p:nvGrpSpPr>
        <p:grpSpPr>
          <a:xfrm>
            <a:off x="2050920" y="3043080"/>
            <a:ext cx="7993080" cy="4770720"/>
            <a:chOff x="2050920" y="3043080"/>
            <a:chExt cx="7993080" cy="4770720"/>
          </a:xfrm>
        </p:grpSpPr>
        <p:sp>
          <p:nvSpPr>
            <p:cNvPr id="642" name="AutoShape 8"/>
            <p:cNvSpPr/>
            <p:nvPr/>
          </p:nvSpPr>
          <p:spPr>
            <a:xfrm>
              <a:off x="2842920" y="30430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مستطيل 9"/>
            <p:cNvSpPr/>
            <p:nvPr/>
          </p:nvSpPr>
          <p:spPr>
            <a:xfrm>
              <a:off x="2050920" y="5635440"/>
              <a:ext cx="4885920" cy="576000"/>
            </a:xfrm>
            <a:prstGeom prst="rect">
              <a:avLst/>
            </a:prstGeom>
            <a:solidFill>
              <a:srgbClr val="10ee3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مربع نص 17"/>
            <p:cNvSpPr/>
            <p:nvPr/>
          </p:nvSpPr>
          <p:spPr>
            <a:xfrm>
              <a:off x="2564640" y="57222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لقي ردود الأفع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5" name="رابط كسهم مستقيم 74"/>
          <p:cNvCxnSpPr>
            <a:endCxn id="627" idx="0"/>
          </p:cNvCxnSpPr>
          <p:nvPr/>
        </p:nvCxnSpPr>
        <p:spPr>
          <a:xfrm flipH="1">
            <a:off x="4566600" y="1916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6" name="رابط كسهم مستقيم 75"/>
          <p:cNvCxnSpPr/>
          <p:nvPr/>
        </p:nvCxnSpPr>
        <p:spPr>
          <a:xfrm flipH="1">
            <a:off x="4571280" y="2770200"/>
            <a:ext cx="5400" cy="270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7" name="رابط كسهم مستقيم 76"/>
          <p:cNvCxnSpPr/>
          <p:nvPr/>
        </p:nvCxnSpPr>
        <p:spPr>
          <a:xfrm flipH="1">
            <a:off x="4571280" y="3662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48" name="رابط كسهم مستقيم 77"/>
          <p:cNvCxnSpPr/>
          <p:nvPr/>
        </p:nvCxnSpPr>
        <p:spPr>
          <a:xfrm flipH="1">
            <a:off x="4571280" y="4527360"/>
            <a:ext cx="5400" cy="2703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9" name="رابط كسهم مستقيم 78"/>
          <p:cNvCxnSpPr/>
          <p:nvPr/>
        </p:nvCxnSpPr>
        <p:spPr>
          <a:xfrm flipH="1">
            <a:off x="4571280" y="5402160"/>
            <a:ext cx="5400" cy="270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المستهلكين المستهد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مستطيل 4"/>
          <p:cNvSpPr/>
          <p:nvPr/>
        </p:nvSpPr>
        <p:spPr>
          <a:xfrm>
            <a:off x="928800" y="1125360"/>
            <a:ext cx="7345080" cy="7173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هم المستهلكون الذين لديهم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حاجة ورغبة وقدرة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  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وهم الذين تريد الشركة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مخاطبتهم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بالتروي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cs typeface="Microsoft Sans Serif"/>
              </a:rPr>
              <a:t>يتم التحديد عن طريق 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تجزئة السوق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تحديد المستهلكين المستهدفين و</a:t>
            </a:r>
            <a:r>
              <a:rPr b="1" lang="ar-SA" sz="2800" spc="-1" strike="noStrike">
                <a:solidFill>
                  <a:srgbClr val="ff00ff"/>
                </a:solidFill>
                <a:latin typeface="Microsoft Sans Serif"/>
                <a:cs typeface="Microsoft Sans Serif"/>
              </a:rPr>
              <a:t>دراسة سلوكياتهم</a:t>
            </a:r>
            <a:r>
              <a:rPr b="1" lang="ar-SA" sz="2800" spc="-1" strike="noStrike">
                <a:solidFill>
                  <a:srgbClr val="0070c0"/>
                </a:solidFill>
                <a:latin typeface="Microsoft Sans Serif"/>
                <a:ea typeface="Microsoft Sans Serif"/>
              </a:rPr>
              <a:t> للتعرف على العوامل المؤثرة على قراراتهم الشر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هذا التحديد مهم لبناء الرسالة واختي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Microsoft Sans Serif"/>
                <a:ea typeface="Microsoft Sans Serif"/>
              </a:rPr>
              <a:t>   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nuha alnumair</cp:lastModifiedBy>
  <dcterms:modified xsi:type="dcterms:W3CDTF">2017-04-15T19:48:52Z</dcterms:modified>
  <cp:revision>1117</cp:revision>
  <dc:subject/>
  <dc:title>الشريحة 1</dc:title>
</cp:coreProperties>
</file>