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5BC-638A-42E2-A905-2A32A43E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EF8-4459-4CDD-BAC5-5EB4C928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7287F-E5FE-4C8B-B3B7-6861271E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248CE-7AEE-45DB-93A2-4A301F9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91B15-C75A-447E-9852-E14A6FFC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ADBF5-3195-4BBB-931B-94562C4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958C9-57BE-4CCC-B2A8-B05868E6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0690B-C3D9-4B6E-8A2D-AA83F67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9B554-5F5C-4DE7-839D-648F0686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EFFBF-D819-42C9-9A5D-1928E349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6E8DE-6541-4B37-A392-4C7706FE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FB560-46C7-4F45-BEB7-A9DEE687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0C1-AF4E-4ABE-8183-370C60BE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58696-3D6D-4449-8B59-477D2F75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1DF86-9789-4737-98F5-D18D761D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C9CA4-20D5-472D-A5F3-820966A4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44145-6AE6-4799-BADF-FCDAE93C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7A95D-7715-43C3-9604-D12F8294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3D6D4-5B1C-46EC-ACA2-0BCE4BC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CC4C1-9FC3-49E0-995C-67E56795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B3A20-7B12-42B0-9FF2-C640043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30046-6DD7-4794-B30A-1F8F8692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BD7C0-CB46-4126-81BA-B219D1C0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36D-E702-4F02-B5CF-1131EBE6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022B3-8D8D-4A28-B41C-268B6EB7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72F38-EA63-4D54-B8EE-44BE1F8B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C7173-7297-49D4-A84F-E8F55199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B3D74-A0FE-4670-8B47-CA39B80B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7116B-9BF1-41A3-9AC3-A80254F0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C2F17-C088-4AA5-A7B6-A3E0D910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FD915-2421-449C-824A-327903B5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432B-5AD9-4505-873A-6563ED0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09B9A-918F-4008-B869-8CD02B36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A27FE-6A9E-4DD2-8D6B-672A709D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7F95-D934-46ED-84C7-72A09DA5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735F5-3826-4E54-A767-7F48056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CB745-A5B2-4CB9-9D19-9BB73EAD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A948E-3182-48D5-9578-3E44E13B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52E9D-74A4-4447-94E8-8E2E45EA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6721F-25FD-4ACE-8FD1-FAA70487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50460-487F-4351-8F76-AA2998CC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017AA-2B82-4B05-8D76-B9151CB1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A2AF9-FD17-46CF-A5EC-C0B425DD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B1FD6-D00E-4D21-85F8-6BA9B97E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95D71-87F9-4A72-9E5D-F160047E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7324-A9C6-4A1D-886E-D23544DD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BC34A-10B9-419D-999D-523BEA5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F8821-4692-48AC-9D88-5CDF0384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E0A67-298A-4E96-8FD9-0528A583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5F375-935D-4FD7-BE6E-DCE5E3F4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2BFC1-F20A-4C2D-82B6-0E6F830E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80AC-0E6A-4EAD-90BE-E4E5CED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4183-5478-4030-8677-0857895E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5D28-B2D1-4845-88B5-EFA7B449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A11A-4F71-4E72-A9E4-8924BF12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1AF3-A387-4DA9-A012-F055009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360-3E18-464B-8DCC-85887DF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2D95-6F6D-4516-BB8F-738835E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3DCD-E730-4D96-B997-9937EBD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4667-E72F-42AD-8972-E2C0E30D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8927-EB41-4BD5-B751-35BFDEC9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03A5-C8A9-4D33-BCB6-631D5906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C272-0564-4C4E-ABF7-0CDBEF9A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0940-3F6B-4C5B-84F3-C9C14CB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BCE2-607B-493E-B090-061FC401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77A9-7AE8-4B1F-A83D-B6C88946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F71F-9BDF-4D5E-BFB4-8BA8C38C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A10-9013-4408-803D-43F94531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F466-CD33-4049-9148-2BA71019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1BBF-DA66-4A04-8ABA-E6686042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99E8-64C0-495B-A558-623A4D65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7663-C7C6-49BB-AC90-B31657B0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A421-229E-41DB-93D7-829A1C7C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E87A-8183-471A-B2E3-B39A652C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F91B-2072-4128-90FB-57382CE5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626A-7E5A-450D-99D7-3996C47E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75F5-E98B-4B28-987C-C630BECA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AD68-0FDA-48FD-8630-EA9D8C0C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A0F-74C7-4061-B0F9-AE8386CA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1DA38-38BC-4FF5-8325-6D9E6C55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54E1-13BC-419A-A09D-D8D0CF60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5988-72B2-4FF2-AEE0-78B2464E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FBD3-18CE-4A4A-A752-DE2922A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F987-F81B-4D28-AA44-8A69F13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46C4-6A8B-421C-A9B8-144D633A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6623-C622-48C2-820C-DE1EB69E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91AF-7F1D-45BD-AA49-063B7D02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EDC5D-AEAA-4FF1-8038-D1622DFD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9604-1BE1-4E9D-A1D2-B2F5E657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7E2-E2C6-409E-A9CD-9718B35A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8DF30-8D36-4630-8782-29911F36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3201A-2944-42E4-9C33-15F8076F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707F-2887-4A28-9A43-DAA5C11A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0448-B54F-44FF-BDD3-427A3DF1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0D443-CB07-4838-84F3-A766D02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9AC96-8B67-4BFB-BA99-325B7318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9B183-9D4E-4AEE-92C0-AD0AABE1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8D2FA-9F04-4C52-A1B5-3C4988EF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2729-230D-487B-BE51-79540F6A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D54BF-F240-4BB9-B8E6-1787B9DA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B34-5415-4C0C-82EA-D68B81A6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6D35-7291-4336-B535-8C42F4BE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211D9-6212-49A7-AA5C-472E6A9F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2953F-E250-40AB-8B70-97D3C50B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373FD-ABFF-4678-B130-688F0105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FAB12-50B5-4CF2-8C72-EB57ECED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E9503-6BA3-4001-AC58-542724BA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D737-9FBF-4CF0-820A-A3D9CE88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D3897-406B-4065-AC27-935D4E7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71507-0D83-4052-A620-438213E0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88C21-C9FE-49A2-A3D5-34C4C5F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E39-391A-48C6-8DF4-69633791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927B1-6B8E-405A-ACB0-B628E0A4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CA901-E4D8-4CAC-85B3-8653EFEA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5887-53E9-413D-BB25-D9357944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CF0C4-9F38-4453-B8DF-E804922E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75525-5023-4CFD-BA8A-1DE9AE7B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BA4EA-07CC-4B4E-8D09-53EA9BD0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EB99-7F34-44F2-BFC6-87C9DB7E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655BD-F7C1-498E-A0F0-4078074D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9FC2D-FA77-4DB1-9B8D-2D7C2005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5F7E8-78B8-4ED3-9BED-099356F6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E3F-631E-4504-B497-254F70F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A46E2-0F45-479A-B1ED-78141F4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98474-3B0C-47E2-B1C9-5BF74B8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5C6F7-07A5-4872-8457-7BB8D23C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C6C76-E550-4483-A861-8B9E2B9B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BF72C-E1E5-47E7-9956-3A9C025D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1FA45-E7EF-4D54-B722-F60CAD86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4935-AE8A-4113-AAC2-100AC977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6C0E1-CC5D-4FB8-A973-90FA8C42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E3D66-1EDD-443C-B22D-2E67E62B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FF87D-7030-4CA2-AED7-9A5F8AF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50B-75CD-47D1-87C6-F6A81F05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14A3-421D-46F3-925D-B972C137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0683E-7DF1-4FFF-AACE-CC6DC25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01AA7-004B-4CCD-B382-25B78C42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F9024-E439-4CF1-B1E4-15858F5A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63CB2-7C8F-4087-8B22-8CE72F21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E051F-744D-4010-B984-21CD5BE6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E70F6-B22D-4E78-A688-7827EA71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0328E-CC28-4834-BA0C-27CC6E6A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F5B01-4997-4527-92C6-480988F4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43D8D-CAD3-4549-BE7D-BAD697E2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5697-35DC-49D6-A8F7-780907EDFF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1709-BF0B-46B7-8001-1397D6D303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23E0-2589-4936-8206-7E956B5CF3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2974-6FA5-4E67-BC39-3569A0BC75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C2AD-9A63-46CD-913C-0D851E7BF0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E14-6129-4F8A-B3B5-244450398A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328B-AE33-4F9B-9AE2-DF95C95ACB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C577-6965-4C0A-BEAD-EC82D85C1C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D7A4-347D-40F8-AE11-31C3E4180E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94BE-CBC4-491C-AC67-2B0F304DC8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82F7-5CBA-4F11-A0A3-8E41903BCF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D99B-443D-48D2-A8AB-09E582EDEC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5"/>
          <p:cNvSpPr/>
          <p:nvPr/>
        </p:nvSpPr>
        <p:spPr>
          <a:xfrm>
            <a:off x="714240" y="1928880"/>
            <a:ext cx="1714680" cy="18572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ربع نص 4"/>
          <p:cNvSpPr/>
          <p:nvPr/>
        </p:nvSpPr>
        <p:spPr>
          <a:xfrm>
            <a:off x="179280" y="184932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حديد أهداف الاتصال الترويج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مستطيل 4"/>
          <p:cNvSpPr/>
          <p:nvPr/>
        </p:nvSpPr>
        <p:spPr>
          <a:xfrm>
            <a:off x="928800" y="1255680"/>
            <a:ext cx="7345080" cy="4775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تعريف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إقناع المستهلك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مزايا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حث المستهلك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على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تغلب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على المنافس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تذكير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المستهلك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عزيز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قرار المستهلك ب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صميم الرسالة الترويج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مستطيل 4"/>
          <p:cNvSpPr/>
          <p:nvPr/>
        </p:nvSpPr>
        <p:spPr>
          <a:xfrm>
            <a:off x="900000" y="1125360"/>
            <a:ext cx="7345440" cy="61153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2d050"/>
                </a:solidFill>
                <a:latin typeface="Microsoft Sans Serif"/>
                <a:cs typeface="Microsoft Sans Serif"/>
              </a:rPr>
              <a:t>تصميم الرسالة بما يتفق مع الهدف من الاتصال وخصائص المستهلكين المستهد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يتضمن ذل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تصميم الرسالة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اللغة – الصورة – الألوان ....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هيكل الرسالة 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من ناحية الترت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مضمون الرسال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عاطفية</a:t>
            </a:r>
            <a:r>
              <a:rPr b="1" lang="ar-SA" sz="20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: الشكل – الألوان – المظهر الاجتم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عقلانية</a:t>
            </a:r>
            <a:r>
              <a:rPr b="1" lang="ar-SA" sz="20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: السعر – الجو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أخلاقية</a:t>
            </a:r>
            <a:r>
              <a:rPr b="1" lang="ar-SA" sz="20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: الحفاظ على البيئة وموارد المجت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ختيار وسيلة الاتصال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مستطيل 4"/>
          <p:cNvSpPr/>
          <p:nvPr/>
        </p:nvSpPr>
        <p:spPr>
          <a:xfrm>
            <a:off x="900000" y="1195560"/>
            <a:ext cx="7345440" cy="60242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2d050"/>
                </a:solidFill>
                <a:latin typeface="Microsoft Sans Serif"/>
                <a:cs typeface="Microsoft Sans Serif"/>
              </a:rPr>
              <a:t>القناة التي يتم عن طريقها توصيل الرسالة إلى المستهلكين المستهدف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أنواع وسائل الاتص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شخصية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مندوب البيع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غير شخصية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الجرائد – المجلات – التليفزيون ...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ختيار مُصدر الرسا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مستطيل 4"/>
          <p:cNvSpPr/>
          <p:nvPr/>
        </p:nvSpPr>
        <p:spPr>
          <a:xfrm>
            <a:off x="900000" y="1195560"/>
            <a:ext cx="7345440" cy="55371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المصدر هو المتعهد الذي يتم التعاقد معه على إصدار الرسالة الإعلانية عن طريق وسيلته الاتص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جرائد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أي جريدة من الجرائد المتاحة محليا وعالميا؟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التليفزيون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أي قناة من القنوات المحلية والعالمية؟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جمع ردود الأفع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مستطيل 4"/>
          <p:cNvSpPr/>
          <p:nvPr/>
        </p:nvSpPr>
        <p:spPr>
          <a:xfrm>
            <a:off x="900000" y="1195560"/>
            <a:ext cx="7345440" cy="64638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جمع رد فعل الجمهور الذي تلقي الرسالة الاتصالية لتقييم فعالي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وتطوير عملية الاتصال التا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تحديد ميزانية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مستطيل 4"/>
          <p:cNvSpPr/>
          <p:nvPr/>
        </p:nvSpPr>
        <p:spPr>
          <a:xfrm>
            <a:off x="900000" y="1238400"/>
            <a:ext cx="7345440" cy="5153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وهي الميزانية التي يتم الصرف منها على الأنشطة التروي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وهناك عدة طرق لتحديد ميزانية التروي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1</a:t>
            </a: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- نسبة من المبيعات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2</a:t>
            </a: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- الاقتداء بالمنافس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3</a:t>
            </a: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- حسب الإمك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4</a:t>
            </a: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- حسب المهام التروي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571680" y="27082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مستطيل 4"/>
          <p:cNvSpPr/>
          <p:nvPr/>
        </p:nvSpPr>
        <p:spPr>
          <a:xfrm>
            <a:off x="928800" y="1177920"/>
            <a:ext cx="7345080" cy="520560"/>
          </a:xfrm>
          <a:prstGeom prst="rect">
            <a:avLst/>
          </a:prstGeom>
          <a:solidFill>
            <a:srgbClr val="10ee3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دف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مستطيل 3"/>
          <p:cNvSpPr/>
          <p:nvPr/>
        </p:nvSpPr>
        <p:spPr>
          <a:xfrm>
            <a:off x="900000" y="1916280"/>
            <a:ext cx="7345440" cy="68990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يقوم المنتج بالترويج لتاجر الجملة ، فيطلب تاج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   الجملة البضاعة من المنتج 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ثم يقوم تاجر الجملة بالترويج لتاجر التجزئ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فيطلب تاجر التجزئة البضاعة من تاجر الجمل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ثم يقوم تاجر التجزئة بالترويج للمستهلك، فيطل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   المستهلك البضاعة من تاجر التجزئة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6"/>
          <p:cNvSpPr/>
          <p:nvPr/>
        </p:nvSpPr>
        <p:spPr>
          <a:xfrm flipH="1">
            <a:off x="707076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نت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7"/>
          <p:cNvSpPr/>
          <p:nvPr/>
        </p:nvSpPr>
        <p:spPr>
          <a:xfrm flipH="1">
            <a:off x="4932360" y="29973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8"/>
          <p:cNvSpPr/>
          <p:nvPr/>
        </p:nvSpPr>
        <p:spPr>
          <a:xfrm flipH="1">
            <a:off x="245736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تجزئ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9"/>
          <p:cNvSpPr/>
          <p:nvPr/>
        </p:nvSpPr>
        <p:spPr>
          <a:xfrm flipH="1">
            <a:off x="30492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1"/>
          <p:cNvSpPr/>
          <p:nvPr/>
        </p:nvSpPr>
        <p:spPr>
          <a:xfrm flipH="1">
            <a:off x="6762600" y="3605040"/>
            <a:ext cx="3081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2"/>
          <p:cNvSpPr/>
          <p:nvPr/>
        </p:nvSpPr>
        <p:spPr>
          <a:xfrm flipH="1">
            <a:off x="4301640" y="3605040"/>
            <a:ext cx="615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3"/>
          <p:cNvSpPr/>
          <p:nvPr/>
        </p:nvSpPr>
        <p:spPr>
          <a:xfrm flipH="1">
            <a:off x="2149200" y="3605040"/>
            <a:ext cx="30780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3"/>
          <p:cNvSpPr/>
          <p:nvPr/>
        </p:nvSpPr>
        <p:spPr>
          <a:xfrm flipH="1">
            <a:off x="6372000" y="4581360"/>
            <a:ext cx="165564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رابط كسهم مستقيم 26"/>
          <p:cNvCxnSpPr/>
          <p:nvPr/>
        </p:nvCxnSpPr>
        <p:spPr>
          <a:xfrm flipH="1">
            <a:off x="636984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cxnSp>
        <p:nvCxnSpPr>
          <p:cNvPr id="678" name="رابط كسهم مستقيم 27"/>
          <p:cNvCxnSpPr/>
          <p:nvPr/>
        </p:nvCxnSpPr>
        <p:spPr>
          <a:xfrm flipH="1">
            <a:off x="802620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679" name="رابط كسهم مستقيم 28"/>
          <p:cNvCxnSpPr/>
          <p:nvPr/>
        </p:nvCxnSpPr>
        <p:spPr>
          <a:xfrm flipH="1">
            <a:off x="536328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680" name="رابط كسهم مستقيم 29"/>
          <p:cNvCxnSpPr/>
          <p:nvPr/>
        </p:nvCxnSpPr>
        <p:spPr>
          <a:xfrm flipH="1">
            <a:off x="377964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681" name="Line 43"/>
          <p:cNvSpPr/>
          <p:nvPr/>
        </p:nvSpPr>
        <p:spPr>
          <a:xfrm flipH="1">
            <a:off x="3780000" y="4581360"/>
            <a:ext cx="158400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2" name="رابط كسهم مستقيم 31"/>
          <p:cNvCxnSpPr/>
          <p:nvPr/>
        </p:nvCxnSpPr>
        <p:spPr>
          <a:xfrm flipH="1">
            <a:off x="298692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683" name="رابط كسهم مستقيم 32"/>
          <p:cNvCxnSpPr/>
          <p:nvPr/>
        </p:nvCxnSpPr>
        <p:spPr>
          <a:xfrm flipH="1">
            <a:off x="125856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684" name="Line 43"/>
          <p:cNvSpPr/>
          <p:nvPr/>
        </p:nvSpPr>
        <p:spPr>
          <a:xfrm flipH="1">
            <a:off x="1258920" y="4581360"/>
            <a:ext cx="1728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مربع نص 34"/>
          <p:cNvSpPr/>
          <p:nvPr/>
        </p:nvSpPr>
        <p:spPr>
          <a:xfrm>
            <a:off x="680400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مربع نص 35"/>
          <p:cNvSpPr/>
          <p:nvPr/>
        </p:nvSpPr>
        <p:spPr>
          <a:xfrm>
            <a:off x="406728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مربع نص 36"/>
          <p:cNvSpPr/>
          <p:nvPr/>
        </p:nvSpPr>
        <p:spPr>
          <a:xfrm>
            <a:off x="161928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رابط كسهم مستقيم 37"/>
          <p:cNvCxnSpPr/>
          <p:nvPr/>
        </p:nvCxnSpPr>
        <p:spPr>
          <a:xfrm flipH="1">
            <a:off x="630000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689" name="Line 43"/>
          <p:cNvSpPr/>
          <p:nvPr/>
        </p:nvSpPr>
        <p:spPr>
          <a:xfrm flipH="1">
            <a:off x="6372000" y="2565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رابط كسهم مستقيم 39"/>
          <p:cNvCxnSpPr/>
          <p:nvPr/>
        </p:nvCxnSpPr>
        <p:spPr>
          <a:xfrm flipH="1">
            <a:off x="8027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691" name="مربع نص 40"/>
          <p:cNvSpPr/>
          <p:nvPr/>
        </p:nvSpPr>
        <p:spPr>
          <a:xfrm>
            <a:off x="6659640" y="2050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رابط كسهم مستقيم 41"/>
          <p:cNvCxnSpPr/>
          <p:nvPr/>
        </p:nvCxnSpPr>
        <p:spPr>
          <a:xfrm flipH="1">
            <a:off x="536220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693" name="Line 43"/>
          <p:cNvSpPr/>
          <p:nvPr/>
        </p:nvSpPr>
        <p:spPr>
          <a:xfrm flipH="1">
            <a:off x="3780000" y="256536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رابط كسهم مستقيم 43"/>
          <p:cNvCxnSpPr/>
          <p:nvPr/>
        </p:nvCxnSpPr>
        <p:spPr>
          <a:xfrm flipH="1">
            <a:off x="3779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695" name="مربع نص 44"/>
          <p:cNvSpPr/>
          <p:nvPr/>
        </p:nvSpPr>
        <p:spPr>
          <a:xfrm>
            <a:off x="399564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رابط كسهم مستقيم 45"/>
          <p:cNvCxnSpPr/>
          <p:nvPr/>
        </p:nvCxnSpPr>
        <p:spPr>
          <a:xfrm flipH="1">
            <a:off x="298692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697" name="Line 43"/>
          <p:cNvSpPr/>
          <p:nvPr/>
        </p:nvSpPr>
        <p:spPr>
          <a:xfrm flipH="1">
            <a:off x="1258920" y="256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رابط كسهم مستقيم 47"/>
          <p:cNvCxnSpPr/>
          <p:nvPr/>
        </p:nvCxnSpPr>
        <p:spPr>
          <a:xfrm flipH="1">
            <a:off x="125856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699" name="مربع نص 48"/>
          <p:cNvSpPr/>
          <p:nvPr/>
        </p:nvSpPr>
        <p:spPr>
          <a:xfrm>
            <a:off x="161928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رابط كسهم مستقيم 50"/>
          <p:cNvCxnSpPr/>
          <p:nvPr/>
        </p:nvCxnSpPr>
        <p:spPr>
          <a:xfrm flipH="1" flipV="1">
            <a:off x="7379640" y="6237000"/>
            <a:ext cx="577080" cy="21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01" name="مربع نص 51"/>
          <p:cNvSpPr/>
          <p:nvPr/>
        </p:nvSpPr>
        <p:spPr>
          <a:xfrm>
            <a:off x="5781600" y="6049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دفق سل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مستطيل 53"/>
          <p:cNvSpPr/>
          <p:nvPr/>
        </p:nvSpPr>
        <p:spPr>
          <a:xfrm>
            <a:off x="928800" y="1197000"/>
            <a:ext cx="7345080" cy="520560"/>
          </a:xfrm>
          <a:prstGeom prst="rect">
            <a:avLst/>
          </a:prstGeom>
          <a:solidFill>
            <a:srgbClr val="10ee3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دف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مستطيل 4"/>
          <p:cNvSpPr/>
          <p:nvPr/>
        </p:nvSpPr>
        <p:spPr>
          <a:xfrm>
            <a:off x="928800" y="981000"/>
            <a:ext cx="73450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س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مستطيل 3"/>
          <p:cNvSpPr/>
          <p:nvPr/>
        </p:nvSpPr>
        <p:spPr>
          <a:xfrm>
            <a:off x="900000" y="1628640"/>
            <a:ext cx="7345440" cy="55177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يقوم المنتج بالترويج للمستهلك مباشرة ، فيطلب المستهلك البضاعة من تاجر التجزئة 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ثم يقوم تاجر التجزئة البضاعة من تاجر الجمل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ثم يقوم تاجر الجملة بطلب البضاعة من المنتج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يقوم تاجر التجزئة باستلام البضاعة من تاجر الجملة، فيسلمها بدوره للمسته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ة 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6"/>
          <p:cNvSpPr/>
          <p:nvPr/>
        </p:nvSpPr>
        <p:spPr>
          <a:xfrm flipH="1">
            <a:off x="707076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نت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7"/>
          <p:cNvSpPr/>
          <p:nvPr/>
        </p:nvSpPr>
        <p:spPr>
          <a:xfrm flipH="1">
            <a:off x="4932360" y="29973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8"/>
          <p:cNvSpPr/>
          <p:nvPr/>
        </p:nvSpPr>
        <p:spPr>
          <a:xfrm flipH="1">
            <a:off x="245736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تجزئ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9"/>
          <p:cNvSpPr/>
          <p:nvPr/>
        </p:nvSpPr>
        <p:spPr>
          <a:xfrm flipH="1">
            <a:off x="30492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1"/>
          <p:cNvSpPr/>
          <p:nvPr/>
        </p:nvSpPr>
        <p:spPr>
          <a:xfrm flipH="1">
            <a:off x="6762600" y="3605040"/>
            <a:ext cx="3081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2"/>
          <p:cNvSpPr/>
          <p:nvPr/>
        </p:nvSpPr>
        <p:spPr>
          <a:xfrm flipH="1">
            <a:off x="4301640" y="3605040"/>
            <a:ext cx="615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3"/>
          <p:cNvSpPr/>
          <p:nvPr/>
        </p:nvSpPr>
        <p:spPr>
          <a:xfrm flipH="1">
            <a:off x="2149200" y="3605040"/>
            <a:ext cx="30780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3"/>
          <p:cNvSpPr/>
          <p:nvPr/>
        </p:nvSpPr>
        <p:spPr>
          <a:xfrm flipH="1">
            <a:off x="5364000" y="4581360"/>
            <a:ext cx="266400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رابط كسهم مستقيم 27"/>
          <p:cNvCxnSpPr/>
          <p:nvPr/>
        </p:nvCxnSpPr>
        <p:spPr>
          <a:xfrm flipH="1">
            <a:off x="802620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sp>
        <p:nvSpPr>
          <p:cNvPr id="716" name="Line 43"/>
          <p:cNvSpPr/>
          <p:nvPr/>
        </p:nvSpPr>
        <p:spPr>
          <a:xfrm flipH="1">
            <a:off x="3059280" y="4581360"/>
            <a:ext cx="2304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رابط كسهم مستقيم 32"/>
          <p:cNvCxnSpPr/>
          <p:nvPr/>
        </p:nvCxnSpPr>
        <p:spPr>
          <a:xfrm flipH="1">
            <a:off x="125856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718" name="Line 43"/>
          <p:cNvSpPr/>
          <p:nvPr/>
        </p:nvSpPr>
        <p:spPr>
          <a:xfrm flipH="1">
            <a:off x="1258920" y="4581360"/>
            <a:ext cx="1728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مربع نص 35"/>
          <p:cNvSpPr/>
          <p:nvPr/>
        </p:nvSpPr>
        <p:spPr>
          <a:xfrm>
            <a:off x="4067280" y="4797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روي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رابط كسهم مستقيم 37"/>
          <p:cNvCxnSpPr/>
          <p:nvPr/>
        </p:nvCxnSpPr>
        <p:spPr>
          <a:xfrm flipH="1">
            <a:off x="630000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21" name="Line 43"/>
          <p:cNvSpPr/>
          <p:nvPr/>
        </p:nvSpPr>
        <p:spPr>
          <a:xfrm flipH="1">
            <a:off x="6372000" y="2565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رابط كسهم مستقيم 39"/>
          <p:cNvCxnSpPr/>
          <p:nvPr/>
        </p:nvCxnSpPr>
        <p:spPr>
          <a:xfrm flipH="1">
            <a:off x="8027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23" name="مربع نص 40"/>
          <p:cNvSpPr/>
          <p:nvPr/>
        </p:nvSpPr>
        <p:spPr>
          <a:xfrm>
            <a:off x="6659640" y="2050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رابط كسهم مستقيم 41"/>
          <p:cNvCxnSpPr/>
          <p:nvPr/>
        </p:nvCxnSpPr>
        <p:spPr>
          <a:xfrm flipH="1">
            <a:off x="536220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25" name="Line 43"/>
          <p:cNvSpPr/>
          <p:nvPr/>
        </p:nvSpPr>
        <p:spPr>
          <a:xfrm flipH="1">
            <a:off x="3780000" y="256536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رابط كسهم مستقيم 43"/>
          <p:cNvCxnSpPr/>
          <p:nvPr/>
        </p:nvCxnSpPr>
        <p:spPr>
          <a:xfrm flipH="1">
            <a:off x="3779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27" name="مربع نص 44"/>
          <p:cNvSpPr/>
          <p:nvPr/>
        </p:nvSpPr>
        <p:spPr>
          <a:xfrm>
            <a:off x="399564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رابط كسهم مستقيم 45"/>
          <p:cNvCxnSpPr/>
          <p:nvPr/>
        </p:nvCxnSpPr>
        <p:spPr>
          <a:xfrm flipH="1">
            <a:off x="298692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29" name="Line 43"/>
          <p:cNvSpPr/>
          <p:nvPr/>
        </p:nvSpPr>
        <p:spPr>
          <a:xfrm flipH="1">
            <a:off x="1258920" y="256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رابط كسهم مستقيم 47"/>
          <p:cNvCxnSpPr/>
          <p:nvPr/>
        </p:nvCxnSpPr>
        <p:spPr>
          <a:xfrm flipH="1">
            <a:off x="125856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31" name="مربع نص 48"/>
          <p:cNvSpPr/>
          <p:nvPr/>
        </p:nvSpPr>
        <p:spPr>
          <a:xfrm>
            <a:off x="161928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رابط كسهم مستقيم 50"/>
          <p:cNvCxnSpPr/>
          <p:nvPr/>
        </p:nvCxnSpPr>
        <p:spPr>
          <a:xfrm flipH="1" flipV="1">
            <a:off x="7379640" y="6237000"/>
            <a:ext cx="577080" cy="21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33" name="مربع نص 51"/>
          <p:cNvSpPr/>
          <p:nvPr/>
        </p:nvSpPr>
        <p:spPr>
          <a:xfrm>
            <a:off x="5781600" y="6049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دفق سل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مستطيل 53"/>
          <p:cNvSpPr/>
          <p:nvPr/>
        </p:nvSpPr>
        <p:spPr>
          <a:xfrm>
            <a:off x="928800" y="1197000"/>
            <a:ext cx="73450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ستراتيجية الس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8"/>
          <p:cNvSpPr/>
          <p:nvPr/>
        </p:nvSpPr>
        <p:spPr>
          <a:xfrm>
            <a:off x="611280" y="4777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قارنة بين استراتيجيتي الدفع والسح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1187280" y="1528920"/>
          <a:ext cx="6840720" cy="4295520"/>
        </p:xfrm>
        <a:graphic>
          <a:graphicData uri="http://schemas.openxmlformats.org/drawingml/2006/table">
            <a:tbl>
              <a:tblPr/>
              <a:tblGrid>
                <a:gridCol w="2295720"/>
                <a:gridCol w="2295360"/>
                <a:gridCol w="1836720"/>
                <a:gridCol w="412920"/>
              </a:tblGrid>
              <a:tr h="606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سح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دف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وجه المقار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31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إعلا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بيع الشخص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نشاط الترويج الرئيس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هلاكية (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يسرة – تسوق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صناعية واستهلاكية خاص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نوع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6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بسيط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عقدة (عالية التقني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طبيعة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08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طوي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قصي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قنوات 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066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تعد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حدو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نافذ 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5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نخفض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رتف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أسعار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8"/>
          <p:cNvSpPr/>
          <p:nvPr/>
        </p:nvSpPr>
        <p:spPr>
          <a:xfrm>
            <a:off x="571680" y="2781360"/>
            <a:ext cx="8072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زيج الترو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مجموعة 13"/>
          <p:cNvGrpSpPr/>
          <p:nvPr/>
        </p:nvGrpSpPr>
        <p:grpSpPr>
          <a:xfrm>
            <a:off x="2843280" y="1611360"/>
            <a:ext cx="7200720" cy="4770360"/>
            <a:chOff x="2843280" y="1611360"/>
            <a:chExt cx="7200720" cy="4770360"/>
          </a:xfrm>
        </p:grpSpPr>
        <p:sp>
          <p:nvSpPr>
            <p:cNvPr id="741" name="AutoShape 8"/>
            <p:cNvSpPr/>
            <p:nvPr/>
          </p:nvSpPr>
          <p:spPr>
            <a:xfrm>
              <a:off x="2843280" y="161136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مستطيل 9"/>
            <p:cNvSpPr/>
            <p:nvPr/>
          </p:nvSpPr>
          <p:spPr>
            <a:xfrm>
              <a:off x="5586480" y="5006160"/>
              <a:ext cx="2214360" cy="72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مربع نص 17"/>
            <p:cNvSpPr/>
            <p:nvPr/>
          </p:nvSpPr>
          <p:spPr>
            <a:xfrm>
              <a:off x="5723640" y="515772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نترن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مجموعة 14"/>
          <p:cNvGrpSpPr/>
          <p:nvPr/>
        </p:nvGrpSpPr>
        <p:grpSpPr>
          <a:xfrm>
            <a:off x="2843280" y="2690640"/>
            <a:ext cx="7200720" cy="4770720"/>
            <a:chOff x="2843280" y="2690640"/>
            <a:chExt cx="7200720" cy="4770720"/>
          </a:xfrm>
        </p:grpSpPr>
        <p:sp>
          <p:nvSpPr>
            <p:cNvPr id="745" name="AutoShape 8"/>
            <p:cNvSpPr/>
            <p:nvPr/>
          </p:nvSpPr>
          <p:spPr>
            <a:xfrm>
              <a:off x="2843280" y="2690640"/>
              <a:ext cx="720072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مستطيل 9"/>
            <p:cNvSpPr/>
            <p:nvPr/>
          </p:nvSpPr>
          <p:spPr>
            <a:xfrm>
              <a:off x="5586480" y="5805000"/>
              <a:ext cx="2214360" cy="727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مربع نص 17"/>
            <p:cNvSpPr/>
            <p:nvPr/>
          </p:nvSpPr>
          <p:spPr>
            <a:xfrm>
              <a:off x="5729400" y="591948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بريد المباش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مجموعة 20"/>
          <p:cNvGrpSpPr/>
          <p:nvPr/>
        </p:nvGrpSpPr>
        <p:grpSpPr>
          <a:xfrm>
            <a:off x="2843280" y="530280"/>
            <a:ext cx="7200720" cy="4770360"/>
            <a:chOff x="2843280" y="530280"/>
            <a:chExt cx="7200720" cy="4770360"/>
          </a:xfrm>
        </p:grpSpPr>
        <p:sp>
          <p:nvSpPr>
            <p:cNvPr id="749" name="AutoShape 8"/>
            <p:cNvSpPr/>
            <p:nvPr/>
          </p:nvSpPr>
          <p:spPr>
            <a:xfrm>
              <a:off x="2843280" y="53028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مستطيل 9"/>
            <p:cNvSpPr/>
            <p:nvPr/>
          </p:nvSpPr>
          <p:spPr>
            <a:xfrm>
              <a:off x="5586480" y="41774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مربع نص 17"/>
            <p:cNvSpPr/>
            <p:nvPr/>
          </p:nvSpPr>
          <p:spPr>
            <a:xfrm>
              <a:off x="5729400" y="4220640"/>
              <a:ext cx="192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نشر والعلاقات العام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مجموعة 24"/>
          <p:cNvGrpSpPr/>
          <p:nvPr/>
        </p:nvGrpSpPr>
        <p:grpSpPr>
          <a:xfrm>
            <a:off x="2843280" y="-531720"/>
            <a:ext cx="7200720" cy="4770360"/>
            <a:chOff x="2843280" y="-531720"/>
            <a:chExt cx="7200720" cy="4770360"/>
          </a:xfrm>
        </p:grpSpPr>
        <p:sp>
          <p:nvSpPr>
            <p:cNvPr id="753" name="AutoShape 8"/>
            <p:cNvSpPr/>
            <p:nvPr/>
          </p:nvSpPr>
          <p:spPr>
            <a:xfrm>
              <a:off x="2843280" y="-53172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مستطيل 9"/>
            <p:cNvSpPr/>
            <p:nvPr/>
          </p:nvSpPr>
          <p:spPr>
            <a:xfrm>
              <a:off x="5586480" y="3356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مربع نص 17"/>
            <p:cNvSpPr/>
            <p:nvPr/>
          </p:nvSpPr>
          <p:spPr>
            <a:xfrm>
              <a:off x="5729400" y="3532680"/>
              <a:ext cx="19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نشيط المبيع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مجموعة 28"/>
          <p:cNvGrpSpPr/>
          <p:nvPr/>
        </p:nvGrpSpPr>
        <p:grpSpPr>
          <a:xfrm>
            <a:off x="2843280" y="-531720"/>
            <a:ext cx="7200720" cy="4770360"/>
            <a:chOff x="2843280" y="-531720"/>
            <a:chExt cx="7200720" cy="4770360"/>
          </a:xfrm>
        </p:grpSpPr>
        <p:sp>
          <p:nvSpPr>
            <p:cNvPr id="757" name="AutoShape 8"/>
            <p:cNvSpPr/>
            <p:nvPr/>
          </p:nvSpPr>
          <p:spPr>
            <a:xfrm>
              <a:off x="2843280" y="-53172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مستطيل 9"/>
            <p:cNvSpPr/>
            <p:nvPr/>
          </p:nvSpPr>
          <p:spPr>
            <a:xfrm>
              <a:off x="5586480" y="2564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مربع نص 17"/>
            <p:cNvSpPr/>
            <p:nvPr/>
          </p:nvSpPr>
          <p:spPr>
            <a:xfrm>
              <a:off x="5729400" y="272196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عل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مجموعة 32"/>
          <p:cNvGrpSpPr/>
          <p:nvPr/>
        </p:nvGrpSpPr>
        <p:grpSpPr>
          <a:xfrm>
            <a:off x="2843280" y="-1324080"/>
            <a:ext cx="7200720" cy="4770720"/>
            <a:chOff x="2843280" y="-1324080"/>
            <a:chExt cx="7200720" cy="4770720"/>
          </a:xfrm>
        </p:grpSpPr>
        <p:sp>
          <p:nvSpPr>
            <p:cNvPr id="761" name="AutoShape 8"/>
            <p:cNvSpPr/>
            <p:nvPr/>
          </p:nvSpPr>
          <p:spPr>
            <a:xfrm>
              <a:off x="2843280" y="-1324080"/>
              <a:ext cx="720072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مستطيل 9"/>
            <p:cNvSpPr/>
            <p:nvPr/>
          </p:nvSpPr>
          <p:spPr>
            <a:xfrm>
              <a:off x="5586480" y="1772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مربع نص 17"/>
            <p:cNvSpPr/>
            <p:nvPr/>
          </p:nvSpPr>
          <p:spPr>
            <a:xfrm>
              <a:off x="5729400" y="1948320"/>
              <a:ext cx="19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بيع الشخص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مزيج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مجموعة 38"/>
          <p:cNvGrpSpPr/>
          <p:nvPr/>
        </p:nvGrpSpPr>
        <p:grpSpPr>
          <a:xfrm>
            <a:off x="-1332000" y="98280"/>
            <a:ext cx="7201080" cy="4887360"/>
            <a:chOff x="-1332000" y="98280"/>
            <a:chExt cx="7201080" cy="4887360"/>
          </a:xfrm>
        </p:grpSpPr>
        <p:sp>
          <p:nvSpPr>
            <p:cNvPr id="766" name="AutoShape 8"/>
            <p:cNvSpPr/>
            <p:nvPr/>
          </p:nvSpPr>
          <p:spPr>
            <a:xfrm>
              <a:off x="-1332000" y="98280"/>
              <a:ext cx="7201080" cy="47721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مستطيل 9"/>
            <p:cNvSpPr/>
            <p:nvPr/>
          </p:nvSpPr>
          <p:spPr>
            <a:xfrm>
              <a:off x="1411200" y="3339360"/>
              <a:ext cx="2214720" cy="160236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مربع نص 17"/>
            <p:cNvSpPr/>
            <p:nvPr/>
          </p:nvSpPr>
          <p:spPr>
            <a:xfrm>
              <a:off x="1554120" y="3429360"/>
              <a:ext cx="1928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سو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ستهد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رابط مستقيم 43"/>
          <p:cNvSpPr/>
          <p:nvPr/>
        </p:nvSpPr>
        <p:spPr>
          <a:xfrm>
            <a:off x="4788000" y="2133720"/>
            <a:ext cx="0" cy="41036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رابط مستقيم 52"/>
          <p:cNvSpPr/>
          <p:nvPr/>
        </p:nvSpPr>
        <p:spPr>
          <a:xfrm>
            <a:off x="4788000" y="2997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رابط مستقيم 53"/>
          <p:cNvSpPr/>
          <p:nvPr/>
        </p:nvSpPr>
        <p:spPr>
          <a:xfrm>
            <a:off x="4788000" y="21477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رابط مستقيم 54"/>
          <p:cNvSpPr/>
          <p:nvPr/>
        </p:nvSpPr>
        <p:spPr>
          <a:xfrm>
            <a:off x="4788000" y="371628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رابط مستقيم 55"/>
          <p:cNvSpPr/>
          <p:nvPr/>
        </p:nvSpPr>
        <p:spPr>
          <a:xfrm>
            <a:off x="4788000" y="4581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رابط مستقيم 56"/>
          <p:cNvSpPr/>
          <p:nvPr/>
        </p:nvSpPr>
        <p:spPr>
          <a:xfrm>
            <a:off x="4788000" y="537372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رابط مستقيم 57"/>
          <p:cNvSpPr/>
          <p:nvPr/>
        </p:nvSpPr>
        <p:spPr>
          <a:xfrm>
            <a:off x="4788000" y="6237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رابط كسهم مستقيم 63"/>
          <p:cNvCxnSpPr/>
          <p:nvPr/>
        </p:nvCxnSpPr>
        <p:spPr>
          <a:xfrm flipH="1" flipV="1">
            <a:off x="3634920" y="4147920"/>
            <a:ext cx="1153440" cy="216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8"/>
          <p:cNvSpPr/>
          <p:nvPr/>
        </p:nvSpPr>
        <p:spPr>
          <a:xfrm>
            <a:off x="684360" y="40464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علان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مستطيل 3"/>
          <p:cNvSpPr/>
          <p:nvPr/>
        </p:nvSpPr>
        <p:spPr>
          <a:xfrm>
            <a:off x="928800" y="1289160"/>
            <a:ext cx="7345080" cy="58539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70c0"/>
                </a:solidFill>
                <a:uFillTx/>
                <a:latin typeface="Microsoft Sans Serif"/>
                <a:cs typeface="Microsoft Sans Serif"/>
              </a:rPr>
              <a:t>أهداف الإعلان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استثارة الطلب الأولي والانتقائ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مواجهة إعلانات المناف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سهيل مهمة البيع الشخص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زيادة استخدامات السل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ذكير المستهلك بالسلعة وتعزيز قراره الشر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تقليل التقلبات الموسمية في المبيعات (</a:t>
            </a:r>
            <a:r>
              <a:rPr b="1" lang="ar-SA" sz="1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مثل إعلان الفنادق عن خصومات سعرية في أوقات انخفاض الطلب عليها، فيؤدي إلى زيادة الطلب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علان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مستطيل 3"/>
          <p:cNvSpPr/>
          <p:nvPr/>
        </p:nvSpPr>
        <p:spPr>
          <a:xfrm>
            <a:off x="928800" y="1557360"/>
            <a:ext cx="7345080" cy="62215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Microsoft Sans Serif"/>
                <a:cs typeface="Microsoft Sans Serif"/>
              </a:rPr>
              <a:t>أنواع الإعلانات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الإعلان التعريفية: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يخبر المستهلكين عن السلعة وخصائصها وفوائدها واستخداماتها ، ويهدف إلى إثارة الطلب الأولى</a:t>
            </a:r>
            <a:r>
              <a:rPr b="1" lang="ar-SA" sz="24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إعلان التنافسي: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يعدد استخدامات وخصائص ومزايا المنتج عن غيره من المنتجات المنافسة، ويهدف إلى إثارة الطلب الانتقائ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الإعلان التذكيري: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يهدف إلى تذكير المستهلكين بالسلعة، وأنها مازالت موجودة بهدف تجنب انخفاض المبي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إعلان التعزيزي: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يهدف إلى طمأنة المستعملين الحاليين للسلعة، والتأكيد لهم بأنهم اتخذوا القرار السليم بشراء السلعة محل الإعلان بهدف تجنب الانخفاض في المبي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solidFill>
            <a:srgbClr val="67ed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بيع الشخصي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Personal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مستطيل 3"/>
          <p:cNvSpPr/>
          <p:nvPr/>
        </p:nvSpPr>
        <p:spPr>
          <a:xfrm>
            <a:off x="928800" y="1052640"/>
            <a:ext cx="7345080" cy="6733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ts val="29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70c0"/>
                </a:solidFill>
                <a:latin typeface="Tahoma"/>
                <a:cs typeface="PT Bold Heading"/>
              </a:rPr>
              <a:t>يعني مقابلة رجال البيع للعملاء، بهدف تعريفهم وإقناعهم بالمنتج وحثهم على شرائ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ff"/>
                </a:solidFill>
                <a:uFillTx/>
                <a:latin typeface="Tahoma"/>
                <a:cs typeface="PT Bold Heading"/>
              </a:rPr>
              <a:t>وتتم المقابلة البيعية على عدة خطوات</a:t>
            </a:r>
            <a:r>
              <a:rPr b="1" lang="ar-SA" sz="2000" spc="-1" strike="noStrike">
                <a:solidFill>
                  <a:srgbClr val="ff00ff"/>
                </a:solidFill>
                <a:latin typeface="Tahoma"/>
                <a:ea typeface="PT Bold Heading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بحث عن العميل المرتقب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من خلال العملاء الحاليين أو السابقين أو الأصدقاء، أو الأدلة التجارية ....ال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2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تمهيد للمقابلة البيعية: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تحديد خطة البيع والإقناع حسب شخصية العميل وخصائص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3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لقاء بين البائع والمشتري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اهتمام بالمظهر والعبارات الافتتاحية لترك انطباع إيجابي لدى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4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رد على الاعتراضات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فيما يتعلق بخصائص المنتج أو سعره مثل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5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إنهاء المقابلة البيعية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بشكل يشجع على الش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6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متابعة عملية البيع: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للتأكد من الوفاء بما تم الاتفاق عليه مع العم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ن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Publ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مستطيل 3"/>
          <p:cNvSpPr/>
          <p:nvPr/>
        </p:nvSpPr>
        <p:spPr>
          <a:xfrm>
            <a:off x="928800" y="1413000"/>
            <a:ext cx="7345080" cy="65422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نشر أخبار أو معلومات عن المنتجات في وسائل النشر ال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يتم النشر عادة بدون مقا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لا يكون للمنظمة السيطرة على الرسائل الدعائية من حيث توقيت عرضها ولا كيفية العر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يكون لدار النشر الحرية في ذكر اسم الشركة المنتجة من عد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يكون النشر غالباً عندما تكون المنتجات ذات أهمية خاصة للمجت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للنشر مصداقية عالية لدى الجمهور</a:t>
            </a: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قد يأخذ النشر شكل: الأخبار القصيرة ، المقالات المطولة ، مؤتمرات صحفية ، أفلام مص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نشيط المبيعات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مستطيل 3"/>
          <p:cNvSpPr/>
          <p:nvPr/>
        </p:nvSpPr>
        <p:spPr>
          <a:xfrm>
            <a:off x="928800" y="1413000"/>
            <a:ext cx="7345080" cy="5247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يقصد بتنشيط المبيعات كافة الأنشطة الترويجية الأخرى بخلاف البيع الشخصي والإعلان والنش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ومن أكثر الأساليب المستخدمة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مسابق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كوبونات تخفيض الأسع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عينات المجا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هدايا التي تمنح عند 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معارض التج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ec76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سويق المبا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Direct Marketing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مستطيل 3"/>
          <p:cNvSpPr/>
          <p:nvPr/>
        </p:nvSpPr>
        <p:spPr>
          <a:xfrm>
            <a:off x="928800" y="1504800"/>
            <a:ext cx="7345080" cy="54968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ts val="29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هو اتصال مباشر بالعملاء للحصول على رد فعال مباشر منهم فرا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ومن أبرز عناصر التسويق المب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Microsoft Sans Serif"/>
                <a:cs typeface="Microsoft Sans Serif"/>
              </a:rPr>
              <a:t>البريد المباشر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Direct Mail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من صوره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الإعلان البريدي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Mail Advertizing</a:t>
            </a:r>
            <a:r>
              <a:rPr b="1" lang="en-US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(إعلان مباشر يرسل بالبر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البيع بالبريد عن طريق الكتالوجات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Mail Ordering</a:t>
            </a:r>
            <a:r>
              <a:rPr b="1" lang="en-US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والسداد عن ب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Microsoft Sans Serif"/>
                <a:cs typeface="Microsoft Sans Serif"/>
              </a:rPr>
              <a:t>التسويق عن طريق الهاتف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Telemarketing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Microsoft Sans Serif"/>
                <a:cs typeface="Microsoft Sans Serif"/>
              </a:rPr>
              <a:t>التسويق الإلكتروني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E-Marketing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(استخدام الإنترنت في بناء الاستراتيجيات التسويقية ومنها الترويج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8"/>
          <p:cNvSpPr/>
          <p:nvPr/>
        </p:nvSpPr>
        <p:spPr>
          <a:xfrm>
            <a:off x="684360" y="333360"/>
            <a:ext cx="77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مستطيل 4"/>
          <p:cNvSpPr/>
          <p:nvPr/>
        </p:nvSpPr>
        <p:spPr>
          <a:xfrm>
            <a:off x="928800" y="1557360"/>
            <a:ext cx="7345080" cy="62352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مجموعة </a:t>
            </a:r>
            <a:r>
              <a:rPr b="1" lang="ar-SA" sz="4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الاتصالات</a:t>
            </a: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التي يجريها المنتج بالمشترين المرتقبين بغرض </a:t>
            </a:r>
            <a:r>
              <a:rPr b="1" lang="ar-SA" sz="48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تعريفهم</a:t>
            </a: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و</a:t>
            </a:r>
            <a:r>
              <a:rPr b="1" lang="ar-SA" sz="4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إقناعهم</a:t>
            </a: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السلع و الخدمات المنتجة و</a:t>
            </a:r>
            <a:r>
              <a:rPr b="1" lang="ar-SA" sz="4800" spc="-1" strike="noStrike">
                <a:solidFill>
                  <a:srgbClr val="ff6600"/>
                </a:solidFill>
                <a:latin typeface="Microsoft Sans Serif"/>
                <a:cs typeface="Microsoft Sans Serif"/>
              </a:rPr>
              <a:t>دفعهم</a:t>
            </a: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للشر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ec76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سويق المبا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Direct Marketing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مستطيل 3"/>
          <p:cNvSpPr/>
          <p:nvPr/>
        </p:nvSpPr>
        <p:spPr>
          <a:xfrm>
            <a:off x="928800" y="1413000"/>
            <a:ext cx="7345080" cy="6647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هو اتصال مباشر بالعملاء للحصول على رد فعال مباشر منهم فرا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ويتضح من ذلك بعض الخصائص للتسويق المب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27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نظام  للاتصال </a:t>
            </a:r>
            <a:r>
              <a:rPr b="1" lang="ar-SA" sz="2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التفاعلي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في مجال التسويق (</a:t>
            </a:r>
            <a:r>
              <a:rPr b="1" lang="ar-SA" sz="1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يتضمن اتصال مباشر بالعملاء والحصول منهم على رد فعال مباشر أيضاً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3699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يستخدم مجموعة من </a:t>
            </a:r>
            <a:r>
              <a:rPr b="1" lang="ar-SA" sz="2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الوسائل غير التقليدية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تي تحقق هذا الاتصال المباشر (</a:t>
            </a:r>
            <a:r>
              <a:rPr b="1" lang="ar-SA" sz="1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البريد -  الهاتف – الفاكس – الإنترنت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تحقق </a:t>
            </a:r>
            <a:r>
              <a:rPr b="1" lang="ar-SA" sz="2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استجابة ملموسة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(</a:t>
            </a:r>
            <a:r>
              <a:rPr b="1" lang="ar-SA" sz="1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رد فعل مباشر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Microsoft Sans Serif"/>
                <a:ea typeface="Microsoft Sans Serif"/>
              </a:rPr>
              <a:t> بأقل جهد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ممكن (</a:t>
            </a:r>
            <a:r>
              <a:rPr b="1" lang="ar-SA" sz="1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بخلاف الوسائل التقليدية كالإعلان والبيع الشخصي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611280" y="47772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 الفرو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ين التسويق المباشر والتسويق غير المباش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187280" y="1920960"/>
          <a:ext cx="6840720" cy="4110120"/>
        </p:xfrm>
        <a:graphic>
          <a:graphicData uri="http://schemas.openxmlformats.org/drawingml/2006/table">
            <a:tbl>
              <a:tblPr/>
              <a:tblGrid>
                <a:gridCol w="2295720"/>
                <a:gridCol w="2295360"/>
                <a:gridCol w="1836720"/>
                <a:gridCol w="41292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سويق غير المبا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سويق المبا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وجه المقار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إعلا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مف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معروف للشر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عم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هلاكية (ميسرة – تسو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 (مفصل على العميل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نت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ا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 (بما يناسب ظروف العميل ورغبت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9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ام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ة (مفصلة على العمي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ينتج عنها رد فعل مباش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رسالة الترويج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839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إغراء العملاء وترك صورة ذهنية محددة عن الشركة ومنتجاتها في أذهانه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احتفاظ بالعملاء وتحويلهم إلى عملاء دائم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هدف من التروي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1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971640" y="646200"/>
            <a:ext cx="7176960" cy="838080"/>
          </a:xfrm>
          <a:prstGeom prst="rect">
            <a:avLst/>
          </a:prstGeom>
          <a:solidFill>
            <a:srgbClr val="ccff66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549360" y="2063880"/>
            <a:ext cx="1358640" cy="1587240"/>
          </a:xfrm>
          <a:prstGeom prst="rect">
            <a:avLst/>
          </a:prstGeom>
          <a:solidFill>
            <a:srgbClr val="92d050"/>
          </a:solidFill>
          <a:ln w="12600">
            <a:solidFill>
              <a:srgbClr val="400073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  <a:cs typeface="PT Bold Heading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0"/>
          <p:cNvGrpSpPr/>
          <p:nvPr/>
        </p:nvGrpSpPr>
        <p:grpSpPr>
          <a:xfrm>
            <a:off x="4354560" y="2128680"/>
            <a:ext cx="2300400" cy="1587600"/>
            <a:chOff x="4354560" y="2128680"/>
            <a:chExt cx="2300400" cy="1587600"/>
          </a:xfrm>
        </p:grpSpPr>
        <p:sp>
          <p:nvSpPr>
            <p:cNvPr id="593" name="Rectangle 11"/>
            <p:cNvSpPr/>
            <p:nvPr/>
          </p:nvSpPr>
          <p:spPr>
            <a:xfrm>
              <a:off x="5219640" y="2128680"/>
              <a:ext cx="1435320" cy="1587600"/>
            </a:xfrm>
            <a:prstGeom prst="rect">
              <a:avLst/>
            </a:prstGeom>
            <a:solidFill>
              <a:srgbClr val="c6ff03"/>
            </a:solidFill>
            <a:ln w="12600">
              <a:solidFill>
                <a:srgbClr val="400073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ستقب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2"/>
            <p:cNvSpPr/>
            <p:nvPr/>
          </p:nvSpPr>
          <p:spPr>
            <a:xfrm>
              <a:off x="4354560" y="2924280"/>
              <a:ext cx="720720" cy="0"/>
            </a:xfrm>
            <a:prstGeom prst="line">
              <a:avLst/>
            </a:prstGeom>
            <a:ln w="50760">
              <a:solidFill>
                <a:srgbClr val="01ff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13"/>
          <p:cNvGrpSpPr/>
          <p:nvPr/>
        </p:nvGrpSpPr>
        <p:grpSpPr>
          <a:xfrm>
            <a:off x="1979640" y="2128680"/>
            <a:ext cx="2305080" cy="1587600"/>
            <a:chOff x="1979640" y="2128680"/>
            <a:chExt cx="2305080" cy="1587600"/>
          </a:xfrm>
        </p:grpSpPr>
        <p:sp>
          <p:nvSpPr>
            <p:cNvPr id="596" name="Rectangle 14"/>
            <p:cNvSpPr/>
            <p:nvPr/>
          </p:nvSpPr>
          <p:spPr>
            <a:xfrm>
              <a:off x="2868480" y="2128680"/>
              <a:ext cx="1416240" cy="1587600"/>
            </a:xfrm>
            <a:prstGeom prst="rect">
              <a:avLst/>
            </a:prstGeom>
            <a:solidFill>
              <a:srgbClr val="35385a"/>
            </a:solidFill>
            <a:ln w="12600">
              <a:solidFill>
                <a:srgbClr val="400073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no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def5fa"/>
                  </a:solidFill>
                  <a:latin typeface="Arial"/>
                  <a:cs typeface="PT Bold Heading"/>
                </a:rPr>
                <a:t>الوسي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5"/>
            <p:cNvSpPr/>
            <p:nvPr/>
          </p:nvSpPr>
          <p:spPr>
            <a:xfrm>
              <a:off x="1979640" y="2924280"/>
              <a:ext cx="792000" cy="0"/>
            </a:xfrm>
            <a:prstGeom prst="line">
              <a:avLst/>
            </a:prstGeom>
            <a:ln w="50760">
              <a:solidFill>
                <a:srgbClr val="01ff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6"/>
            <p:cNvSpPr/>
            <p:nvPr/>
          </p:nvSpPr>
          <p:spPr>
            <a:xfrm>
              <a:off x="2928960" y="2368440"/>
              <a:ext cx="1282680" cy="444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رسا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Line 19"/>
          <p:cNvSpPr/>
          <p:nvPr/>
        </p:nvSpPr>
        <p:spPr>
          <a:xfrm flipH="1">
            <a:off x="1258920" y="6002280"/>
            <a:ext cx="4633920" cy="1908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V="1">
            <a:off x="1187280" y="3645000"/>
            <a:ext cx="0" cy="238896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23"/>
          <p:cNvGrpSpPr/>
          <p:nvPr/>
        </p:nvGrpSpPr>
        <p:grpSpPr>
          <a:xfrm>
            <a:off x="5873760" y="2997000"/>
            <a:ext cx="2514600" cy="3456360"/>
            <a:chOff x="5873760" y="2997000"/>
            <a:chExt cx="2514600" cy="3456360"/>
          </a:xfrm>
        </p:grpSpPr>
        <p:sp>
          <p:nvSpPr>
            <p:cNvPr id="602" name="Rectangle 24"/>
            <p:cNvSpPr/>
            <p:nvPr/>
          </p:nvSpPr>
          <p:spPr>
            <a:xfrm>
              <a:off x="5873760" y="5475600"/>
              <a:ext cx="1511280" cy="977760"/>
            </a:xfrm>
            <a:prstGeom prst="rect">
              <a:avLst/>
            </a:prstGeom>
            <a:solidFill>
              <a:srgbClr val="227a8f"/>
            </a:solidFill>
            <a:ln w="12600">
              <a:solidFill>
                <a:srgbClr val="def5fa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def5fa"/>
                  </a:solidFill>
                  <a:latin typeface="Arial"/>
                  <a:cs typeface="PT Bold Heading"/>
                </a:rPr>
                <a:t>تغذية عكس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5"/>
            <p:cNvSpPr/>
            <p:nvPr/>
          </p:nvSpPr>
          <p:spPr>
            <a:xfrm flipH="1">
              <a:off x="7365600" y="6021720"/>
              <a:ext cx="939960" cy="0"/>
            </a:xfrm>
            <a:prstGeom prst="line">
              <a:avLst/>
            </a:prstGeom>
            <a:ln w="50760">
              <a:solidFill>
                <a:srgbClr val="01fff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6"/>
            <p:cNvSpPr/>
            <p:nvPr/>
          </p:nvSpPr>
          <p:spPr>
            <a:xfrm flipV="1">
              <a:off x="8381880" y="2997000"/>
              <a:ext cx="6480" cy="2971800"/>
            </a:xfrm>
            <a:prstGeom prst="line">
              <a:avLst/>
            </a:prstGeom>
            <a:ln w="50760">
              <a:solidFill>
                <a:srgbClr val="01fff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7"/>
          <p:cNvGrpSpPr/>
          <p:nvPr/>
        </p:nvGrpSpPr>
        <p:grpSpPr>
          <a:xfrm>
            <a:off x="2771640" y="3860640"/>
            <a:ext cx="1511280" cy="2057040"/>
            <a:chOff x="2771640" y="3860640"/>
            <a:chExt cx="1511280" cy="2057040"/>
          </a:xfrm>
        </p:grpSpPr>
        <p:sp>
          <p:nvSpPr>
            <p:cNvPr id="606" name="Rectangle 28"/>
            <p:cNvSpPr/>
            <p:nvPr/>
          </p:nvSpPr>
          <p:spPr>
            <a:xfrm>
              <a:off x="2771640" y="4363560"/>
              <a:ext cx="1511280" cy="97812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f5fa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لضوض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1"/>
            <p:cNvSpPr/>
            <p:nvPr/>
          </p:nvSpPr>
          <p:spPr>
            <a:xfrm>
              <a:off x="3527280" y="3860640"/>
              <a:ext cx="0" cy="482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2"/>
            <p:cNvSpPr/>
            <p:nvPr/>
          </p:nvSpPr>
          <p:spPr>
            <a:xfrm flipV="1">
              <a:off x="3527280" y="5434920"/>
              <a:ext cx="0" cy="482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Line 21"/>
          <p:cNvSpPr/>
          <p:nvPr/>
        </p:nvSpPr>
        <p:spPr>
          <a:xfrm flipH="1">
            <a:off x="6948360" y="2924280"/>
            <a:ext cx="1440000" cy="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34"/>
          <p:cNvSpPr/>
          <p:nvPr/>
        </p:nvSpPr>
        <p:spPr>
          <a:xfrm>
            <a:off x="4356000" y="4954680"/>
            <a:ext cx="360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رابط كسهم مستقيم 36"/>
          <p:cNvCxnSpPr/>
          <p:nvPr/>
        </p:nvCxnSpPr>
        <p:spPr>
          <a:xfrm flipV="1">
            <a:off x="4715280" y="2925360"/>
            <a:ext cx="2520" cy="2016720"/>
          </a:xfrm>
          <a:prstGeom prst="straightConnector1">
            <a:avLst/>
          </a:prstGeom>
          <a:ln w="507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12" name="رابط مستقيم 37"/>
          <p:cNvSpPr/>
          <p:nvPr/>
        </p:nvSpPr>
        <p:spPr>
          <a:xfrm>
            <a:off x="2411280" y="4941720"/>
            <a:ext cx="360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رابط كسهم مستقيم 38"/>
          <p:cNvCxnSpPr/>
          <p:nvPr/>
        </p:nvCxnSpPr>
        <p:spPr>
          <a:xfrm flipV="1">
            <a:off x="2410200" y="2923920"/>
            <a:ext cx="2520" cy="2018160"/>
          </a:xfrm>
          <a:prstGeom prst="straightConnector1">
            <a:avLst/>
          </a:prstGeom>
          <a:ln w="5076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مستطيل 2"/>
          <p:cNvSpPr/>
          <p:nvPr/>
        </p:nvSpPr>
        <p:spPr>
          <a:xfrm>
            <a:off x="928800" y="1557360"/>
            <a:ext cx="7345080" cy="63223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1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المرسل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صاحب المصلحة في توجيه الرسالة الترويجي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                   (المسو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2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الرسالة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مجموعة كلمات أو رموز أو صور أو أرقام تعب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عن الرسالة التي يري المسوق أن ينقلها إلى جمهوره ع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منتج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3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وسيلة الاتصال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الوسيلة التي يتم عن طريقها نق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                                   رسالة المسوق إلى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مستطيل 2"/>
          <p:cNvSpPr/>
          <p:nvPr/>
        </p:nvSpPr>
        <p:spPr>
          <a:xfrm>
            <a:off x="900000" y="1704960"/>
            <a:ext cx="7344000" cy="5635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4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المستقبل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متلقي الرسالة الترويجية عن طريق حواس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الذي يقوم بفك رموز الرسالة وفهمها وفقاً لشخصي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وصفاته ومحيطة البيئي الذي يعيش ف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5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التغذية العكسية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صاحب المصلحة في توجيه الرسالة الترويجية وقد تكو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إيجابية</a:t>
            </a:r>
            <a:r>
              <a:rPr b="1" lang="ar-SA" sz="24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: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عندما يفهم المستقبل وجهة نظر المرسل ويحدث الأثر المطلو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سلبية</a:t>
            </a:r>
            <a:r>
              <a:rPr b="1" lang="ar-SA" sz="24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لم يفهم المستهلك</a:t>
            </a:r>
            <a:r>
              <a:rPr b="1" lang="ar-SA" sz="24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الرسالة ولم تحدث الأثر المطلو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داف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مستطيل 4"/>
          <p:cNvSpPr/>
          <p:nvPr/>
        </p:nvSpPr>
        <p:spPr>
          <a:xfrm>
            <a:off x="928800" y="1341360"/>
            <a:ext cx="7345080" cy="6096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تزويد العملاء ب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إثارة اهتمام العملاء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ناء سمعة الشركة وكسب ثقة الجمه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غيير اتجاهات العملاء نحو منتجات الشرك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خلق الرغبة لدى العملاء في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مساعدة العميل على اتخاذ قرار 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تسهيل إنجاز العمليات البي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نشيط وزيادة المبي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الوصول إلى أفراد يصعب الوصول إلي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ذكير المستهلك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مجموعة 32"/>
          <p:cNvGrpSpPr/>
          <p:nvPr/>
        </p:nvGrpSpPr>
        <p:grpSpPr>
          <a:xfrm>
            <a:off x="2124000" y="-1270080"/>
            <a:ext cx="7993080" cy="4770360"/>
            <a:chOff x="2124000" y="-1270080"/>
            <a:chExt cx="7993080" cy="4770360"/>
          </a:xfrm>
        </p:grpSpPr>
        <p:sp>
          <p:nvSpPr>
            <p:cNvPr id="621" name="AutoShape 8"/>
            <p:cNvSpPr/>
            <p:nvPr/>
          </p:nvSpPr>
          <p:spPr>
            <a:xfrm>
              <a:off x="2916000" y="-127008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مستطيل 9"/>
            <p:cNvSpPr/>
            <p:nvPr/>
          </p:nvSpPr>
          <p:spPr>
            <a:xfrm>
              <a:off x="2124000" y="1322280"/>
              <a:ext cx="4885920" cy="576000"/>
            </a:xfrm>
            <a:prstGeom prst="rect">
              <a:avLst/>
            </a:prstGeom>
            <a:solidFill>
              <a:srgbClr val="e618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مربع نص 17"/>
            <p:cNvSpPr/>
            <p:nvPr/>
          </p:nvSpPr>
          <p:spPr>
            <a:xfrm>
              <a:off x="2637720" y="140868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حديد المستهلكين المستهدف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Text Box 8"/>
          <p:cNvSpPr/>
          <p:nvPr/>
        </p:nvSpPr>
        <p:spPr>
          <a:xfrm>
            <a:off x="1285920" y="417600"/>
            <a:ext cx="6572160" cy="52056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مراحل تنفيذ الاتصالات الترو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مجموعة 32"/>
          <p:cNvGrpSpPr/>
          <p:nvPr/>
        </p:nvGrpSpPr>
        <p:grpSpPr>
          <a:xfrm>
            <a:off x="2124000" y="-404640"/>
            <a:ext cx="7993080" cy="4770360"/>
            <a:chOff x="2124000" y="-404640"/>
            <a:chExt cx="7993080" cy="4770360"/>
          </a:xfrm>
        </p:grpSpPr>
        <p:sp>
          <p:nvSpPr>
            <p:cNvPr id="626" name="AutoShape 8"/>
            <p:cNvSpPr/>
            <p:nvPr/>
          </p:nvSpPr>
          <p:spPr>
            <a:xfrm>
              <a:off x="2916000" y="-40464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مستطيل 9"/>
            <p:cNvSpPr/>
            <p:nvPr/>
          </p:nvSpPr>
          <p:spPr>
            <a:xfrm>
              <a:off x="2124000" y="2187720"/>
              <a:ext cx="4885920" cy="57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مربع نص 17"/>
            <p:cNvSpPr/>
            <p:nvPr/>
          </p:nvSpPr>
          <p:spPr>
            <a:xfrm>
              <a:off x="2637720" y="227412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حديد أهداف الاتصال الترويج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مجموعة 32"/>
          <p:cNvGrpSpPr/>
          <p:nvPr/>
        </p:nvGrpSpPr>
        <p:grpSpPr>
          <a:xfrm>
            <a:off x="2124000" y="458640"/>
            <a:ext cx="7993080" cy="4770720"/>
            <a:chOff x="2124000" y="458640"/>
            <a:chExt cx="7993080" cy="4770720"/>
          </a:xfrm>
        </p:grpSpPr>
        <p:sp>
          <p:nvSpPr>
            <p:cNvPr id="630" name="AutoShape 8"/>
            <p:cNvSpPr/>
            <p:nvPr/>
          </p:nvSpPr>
          <p:spPr>
            <a:xfrm>
              <a:off x="2916000" y="45864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مستطيل 9"/>
            <p:cNvSpPr/>
            <p:nvPr/>
          </p:nvSpPr>
          <p:spPr>
            <a:xfrm>
              <a:off x="2124000" y="3051000"/>
              <a:ext cx="4885920" cy="5760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مربع نص 17"/>
            <p:cNvSpPr/>
            <p:nvPr/>
          </p:nvSpPr>
          <p:spPr>
            <a:xfrm>
              <a:off x="2637720" y="313776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صميم الرسالة االترويج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مجموعة 32"/>
          <p:cNvGrpSpPr/>
          <p:nvPr/>
        </p:nvGrpSpPr>
        <p:grpSpPr>
          <a:xfrm>
            <a:off x="2124000" y="1322280"/>
            <a:ext cx="7993080" cy="4770720"/>
            <a:chOff x="2124000" y="1322280"/>
            <a:chExt cx="7993080" cy="4770720"/>
          </a:xfrm>
        </p:grpSpPr>
        <p:sp>
          <p:nvSpPr>
            <p:cNvPr id="634" name="AutoShape 8"/>
            <p:cNvSpPr/>
            <p:nvPr/>
          </p:nvSpPr>
          <p:spPr>
            <a:xfrm>
              <a:off x="2916000" y="132228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مستطيل 9"/>
            <p:cNvSpPr/>
            <p:nvPr/>
          </p:nvSpPr>
          <p:spPr>
            <a:xfrm>
              <a:off x="2124000" y="3914640"/>
              <a:ext cx="4885920" cy="5760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مربع نص 17"/>
            <p:cNvSpPr/>
            <p:nvPr/>
          </p:nvSpPr>
          <p:spPr>
            <a:xfrm>
              <a:off x="2637720" y="400140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ختيار وسيلة الاتصا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مجموعة 32"/>
          <p:cNvGrpSpPr/>
          <p:nvPr/>
        </p:nvGrpSpPr>
        <p:grpSpPr>
          <a:xfrm>
            <a:off x="2124000" y="1916280"/>
            <a:ext cx="7993080" cy="4770360"/>
            <a:chOff x="2124000" y="1916280"/>
            <a:chExt cx="7993080" cy="4770360"/>
          </a:xfrm>
        </p:grpSpPr>
        <p:sp>
          <p:nvSpPr>
            <p:cNvPr id="638" name="AutoShape 8"/>
            <p:cNvSpPr/>
            <p:nvPr/>
          </p:nvSpPr>
          <p:spPr>
            <a:xfrm>
              <a:off x="2916000" y="191628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مستطيل 9"/>
            <p:cNvSpPr/>
            <p:nvPr/>
          </p:nvSpPr>
          <p:spPr>
            <a:xfrm>
              <a:off x="2124000" y="4796640"/>
              <a:ext cx="488592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مربع نص 17"/>
            <p:cNvSpPr/>
            <p:nvPr/>
          </p:nvSpPr>
          <p:spPr>
            <a:xfrm>
              <a:off x="2637720" y="486864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ختيار مصدر الرسا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مجموعة 32"/>
          <p:cNvGrpSpPr/>
          <p:nvPr/>
        </p:nvGrpSpPr>
        <p:grpSpPr>
          <a:xfrm>
            <a:off x="2050920" y="3043080"/>
            <a:ext cx="7993080" cy="4770720"/>
            <a:chOff x="2050920" y="3043080"/>
            <a:chExt cx="7993080" cy="4770720"/>
          </a:xfrm>
        </p:grpSpPr>
        <p:sp>
          <p:nvSpPr>
            <p:cNvPr id="642" name="AutoShape 8"/>
            <p:cNvSpPr/>
            <p:nvPr/>
          </p:nvSpPr>
          <p:spPr>
            <a:xfrm>
              <a:off x="2842920" y="304308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مستطيل 9"/>
            <p:cNvSpPr/>
            <p:nvPr/>
          </p:nvSpPr>
          <p:spPr>
            <a:xfrm>
              <a:off x="2050920" y="5635440"/>
              <a:ext cx="4885920" cy="576000"/>
            </a:xfrm>
            <a:prstGeom prst="rect">
              <a:avLst/>
            </a:prstGeom>
            <a:solidFill>
              <a:srgbClr val="10ee3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مربع نص 17"/>
            <p:cNvSpPr/>
            <p:nvPr/>
          </p:nvSpPr>
          <p:spPr>
            <a:xfrm>
              <a:off x="2564640" y="572220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لقي ردود الأفعا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5" name="رابط كسهم مستقيم 74"/>
          <p:cNvCxnSpPr>
            <a:endCxn id="627" idx="0"/>
          </p:cNvCxnSpPr>
          <p:nvPr/>
        </p:nvCxnSpPr>
        <p:spPr>
          <a:xfrm flipH="1">
            <a:off x="4566600" y="1916280"/>
            <a:ext cx="5400" cy="27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46" name="رابط كسهم مستقيم 75"/>
          <p:cNvCxnSpPr/>
          <p:nvPr/>
        </p:nvCxnSpPr>
        <p:spPr>
          <a:xfrm flipH="1">
            <a:off x="4571280" y="2770200"/>
            <a:ext cx="5400" cy="270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47" name="رابط كسهم مستقيم 76"/>
          <p:cNvCxnSpPr/>
          <p:nvPr/>
        </p:nvCxnSpPr>
        <p:spPr>
          <a:xfrm flipH="1">
            <a:off x="4571280" y="3662280"/>
            <a:ext cx="5400" cy="27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8" name="رابط كسهم مستقيم 77"/>
          <p:cNvCxnSpPr/>
          <p:nvPr/>
        </p:nvCxnSpPr>
        <p:spPr>
          <a:xfrm flipH="1">
            <a:off x="4571280" y="4527360"/>
            <a:ext cx="5400" cy="2703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49" name="رابط كسهم مستقيم 78"/>
          <p:cNvCxnSpPr/>
          <p:nvPr/>
        </p:nvCxnSpPr>
        <p:spPr>
          <a:xfrm flipH="1">
            <a:off x="4571280" y="5402160"/>
            <a:ext cx="5400" cy="2707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حديد المستهلكين المستهدف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مستطيل 4"/>
          <p:cNvSpPr/>
          <p:nvPr/>
        </p:nvSpPr>
        <p:spPr>
          <a:xfrm>
            <a:off x="928800" y="1125360"/>
            <a:ext cx="7345080" cy="7173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هم المستهلكون الذين لديهم </a:t>
            </a:r>
            <a:r>
              <a:rPr b="1" lang="ar-SA" sz="2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حاجة ورغبة وقدرة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على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وهم الذين تريد الشركة </a:t>
            </a:r>
            <a:r>
              <a:rPr b="1" lang="ar-SA" sz="2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مخاطبتهم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التروي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يتم التحديد عن طريق </a:t>
            </a:r>
            <a:r>
              <a:rPr b="1" lang="ar-SA" sz="2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تجزئة السوق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لتحديد المستهلكين المستهدفين و</a:t>
            </a:r>
            <a:r>
              <a:rPr b="1" lang="ar-SA" sz="2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دراسة سلوكياتهم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للتعرف على العوامل المؤثرة على قراراتهم الشر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هذا التحديد مهم لبناء الرسالة واختيا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   وسيلة الاتصال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nuha alnumair</cp:lastModifiedBy>
  <dcterms:modified xsi:type="dcterms:W3CDTF">2017-04-15T19:48:52Z</dcterms:modified>
  <cp:revision>1117</cp:revision>
  <dc:subject/>
  <dc:title>الشريحة 1</dc:title>
</cp:coreProperties>
</file>