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E5A0-DDB3-4D41-8CCF-5814F7CC3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3BC7-768C-4920-8ECE-0F28179283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484-53AB-495C-9A17-9F4E1E2A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A47A-AE6A-43E9-8E7F-414B76FD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9D3-9C14-4EEA-BD74-005E61E6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AD39-E6D2-45FC-8342-827C0D7C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73EB-58C2-4286-8FBA-1ACAA406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3188-40D7-4B8E-A688-72B04511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AC2B-3B8F-460C-A8CD-61BBBCE6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EA4D-3081-4B7D-AE16-CCED3F73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088C-8EC7-4A02-92B6-406B3EF0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5298-4FCB-413E-BCE5-2A2C6B01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EF49-9275-4F9F-967E-14A7C289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42A-1948-49C5-B95F-D82B5E27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F3C9-E1A1-4A96-948B-F509816B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17F5-2F0C-44E1-A228-4F99126E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683A-3046-4325-BC91-1EC4C74A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5AF4-524D-44DA-B57F-10880A82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C9E2-6647-4B32-8244-34F09C05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2C455-C85B-472A-9B63-CD8CB2AA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51D94-F5AE-4C16-9EE9-344C113C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B8310-74D6-4EE1-B086-143580BA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8B170-7A2E-47E9-8BF9-9E1794F4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C73FC-AFA3-40AD-8734-54379EA7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68E-F4F1-4B30-B4C4-9EE9F2F3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9A70C-495A-4C28-B3CC-FBAC3CD6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67D7B-BB6F-4F42-9FDB-785410C7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CB1B6-ACCD-4BAE-A693-9B6F2561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A5BDB-C1D4-40D2-9D14-B975387E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DD72E-DC95-4704-AD8A-3CC1B6D2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B0348-8CF6-4035-9E7A-2ECFDE88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96770-FE76-4B81-A38F-7E1D5412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9F108-55CB-4C29-B81C-F63FAD6E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54196-FFF8-40EF-AF0B-627543D6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EBC82-0770-4ACC-BCD5-A6FD164B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9B2D-423C-46F9-B5D8-0EF36277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24AED-284A-49E8-B4FF-AB7610B3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A3BF5-E95E-45FA-AC63-376E14C2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8249F-5399-4157-869C-E56291A6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34179-7B66-459C-A68C-33BD3E4E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6460D-18BD-4895-A8F4-3DB0785A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296E9-7E5D-4F5E-ABE6-6715EBF3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481E5-BC55-4754-8C8A-DBDC3AA3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54173-63BB-4A09-B58A-589EEBF7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C1A3C-2E92-4B8C-9F74-E2048528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BE0E-432F-46CC-8B3D-230604BC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975A-2C6A-47D0-B610-920092E1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228-63F8-483A-8223-F5ACE68D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D0E5-F3A7-446C-BC8F-21ECD4E4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A61-F251-4834-8DBA-BDA8B6DB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C336-A945-4B42-8D35-D48CDA0EB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C13B-7E66-4212-8DB5-CC578B9D4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8C7C-E89E-498D-A626-AF3B7AC9E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6A06-4E4F-4F3C-9E40-6DC222BE56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Structure and function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-form of Hb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2119320"/>
            <a:ext cx="533412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he deoxy form of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aut for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he movement of dimers is constrain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Low-oxygen-affinity for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4" name="Picture 3" descr="Figure3-14.jpg"/>
          <p:cNvPicPr/>
          <p:nvPr/>
        </p:nvPicPr>
        <p:blipFill>
          <a:blip r:embed="rId2"/>
          <a:srcRect l="7650" t="7778" r="67873" b="41804"/>
          <a:stretch/>
        </p:blipFill>
        <p:spPr>
          <a:xfrm>
            <a:off x="6391440" y="1600200"/>
            <a:ext cx="2143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R-form of Hb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2119320"/>
            <a:ext cx="533412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he oxygenated form of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Relaxed for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he dimers have more freedom of move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igh-oxygen-affinity for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Picture 3" descr="Figure3-14.jpg"/>
          <p:cNvPicPr/>
          <p:nvPr/>
        </p:nvPicPr>
        <p:blipFill>
          <a:blip r:embed="rId2"/>
          <a:srcRect l="7650" t="7778" r="67873" b="41804"/>
          <a:stretch/>
        </p:blipFill>
        <p:spPr>
          <a:xfrm>
            <a:off x="6391440" y="1600200"/>
            <a:ext cx="2143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emoglobin functio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Carries oxygen from the lungs to tiss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Carries carbon dioxide from tissues back to the lu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Normal level (g/dL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Males: 14-1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Females: 13-1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Factors affecting oxygen binding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Four allosteric effector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pO</a:t>
            </a:r>
            <a:r>
              <a:rPr b="0" lang="en-US" sz="28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 (partial oxygen pressur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pH of the environ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pCO</a:t>
            </a:r>
            <a:r>
              <a:rPr b="0" lang="en-US" sz="2800" spc="-1" strike="noStrike" baseline="-25000">
                <a:solidFill>
                  <a:srgbClr val="161616"/>
                </a:solidFill>
                <a:latin typeface="Calibri"/>
              </a:rPr>
              <a:t>2 </a:t>
            </a: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(partial carbon dioxide pressur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Availability of 2,3-bisphosphoglycer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Oxygen Dissociation Curv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523880"/>
            <a:ext cx="5105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he curve is sigmoid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Indicates cooperation of subunits in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bin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Binding of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to one heme group increases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affinity of ot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eme-heme intera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33033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61616"/>
                </a:solidFill>
                <a:latin typeface="Calibri"/>
              </a:rPr>
              <a:t>P</a:t>
            </a:r>
            <a:r>
              <a:rPr b="0" lang="en-US" sz="5400" spc="-1" strike="noStrike" baseline="-25000">
                <a:solidFill>
                  <a:srgbClr val="161616"/>
                </a:solidFill>
                <a:latin typeface="Calibri"/>
              </a:rPr>
              <a:t>50</a:t>
            </a:r>
            <a:endParaRPr b="0" lang="en-US" sz="5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51920" y="179856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Indicates affinity of Hb to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P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50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(mm Hg): the pressure at which Hb is 50% saturated with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igh affinity </a:t>
            </a:r>
            <a:r>
              <a:rPr b="0" lang="en-US" sz="3200" spc="-1" strike="noStrike">
                <a:solidFill>
                  <a:srgbClr val="16161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slow unloading of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Low affinity  </a:t>
            </a:r>
            <a:r>
              <a:rPr b="0" lang="en-US" sz="3200" spc="-1" strike="noStrike">
                <a:solidFill>
                  <a:srgbClr val="16161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fast unloading of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Lung p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is 100 mm </a:t>
            </a:r>
            <a:r>
              <a:rPr b="0" lang="en-US" sz="3200" spc="-1" strike="noStrike">
                <a:solidFill>
                  <a:srgbClr val="16161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Hb saturation 100%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issue p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is 40 mm </a:t>
            </a:r>
            <a:r>
              <a:rPr b="0" lang="en-US" sz="3200" spc="-1" strike="noStrike">
                <a:solidFill>
                  <a:srgbClr val="16161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Hb saturation redu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ence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is delivered to tiss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193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he Bohr effec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0080" y="1461960"/>
            <a:ext cx="61722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It is the shift of the ODC to the right in response to an increase in pCO2 or a decrease in pH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Effect of pH and pCO</a:t>
            </a:r>
            <a:r>
              <a:rPr b="0" lang="en-US" sz="26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26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on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Oxygenation of Hb in the lung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Deoxygenation in tissu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issues have lower pH (acidic) than lung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Due to proton generation (two reactions)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CO</a:t>
            </a:r>
            <a:r>
              <a:rPr b="0" lang="en-US" sz="26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 + H</a:t>
            </a:r>
            <a:r>
              <a:rPr b="0" lang="en-US" sz="26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0        H</a:t>
            </a:r>
            <a:r>
              <a:rPr b="0" lang="en-US" sz="26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CO</a:t>
            </a:r>
            <a:r>
              <a:rPr b="0" lang="en-US" sz="2600" spc="-1" strike="noStrike" baseline="-25000">
                <a:solidFill>
                  <a:srgbClr val="161616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H</a:t>
            </a:r>
            <a:r>
              <a:rPr b="0" lang="en-US" sz="26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CO</a:t>
            </a:r>
            <a:r>
              <a:rPr b="0" lang="en-US" sz="2600" spc="-1" strike="noStrike" baseline="-25000">
                <a:solidFill>
                  <a:srgbClr val="161616"/>
                </a:solidFill>
                <a:latin typeface="Calibri"/>
              </a:rPr>
              <a:t>3</a:t>
            </a: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          HCO</a:t>
            </a:r>
            <a:r>
              <a:rPr b="0" lang="en-US" sz="2600" spc="-1" strike="noStrike" baseline="-25000">
                <a:solidFill>
                  <a:srgbClr val="161616"/>
                </a:solidFill>
                <a:latin typeface="Calibri"/>
              </a:rPr>
              <a:t>3</a:t>
            </a:r>
            <a:r>
              <a:rPr b="0" lang="en-US" sz="2600" spc="-1" strike="noStrike" baseline="30000">
                <a:solidFill>
                  <a:srgbClr val="161616"/>
                </a:solidFill>
                <a:latin typeface="Calibri"/>
              </a:rPr>
              <a:t>-</a:t>
            </a: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 + H</a:t>
            </a:r>
            <a:r>
              <a:rPr b="0" lang="en-US" sz="2600" spc="-1" strike="noStrike" baseline="30000">
                <a:solidFill>
                  <a:srgbClr val="161616"/>
                </a:solidFill>
                <a:latin typeface="Calibri"/>
              </a:rPr>
              <a:t>+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Protons reduce O</a:t>
            </a:r>
            <a:r>
              <a:rPr b="0" lang="en-US" sz="26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26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affinity of Hb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6143760" y="990720"/>
            <a:ext cx="2981160" cy="347652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4"/>
          <p:cNvGrpSpPr/>
          <p:nvPr/>
        </p:nvGrpSpPr>
        <p:grpSpPr>
          <a:xfrm>
            <a:off x="2052720" y="5760720"/>
            <a:ext cx="542880" cy="237960"/>
            <a:chOff x="2052720" y="5760720"/>
            <a:chExt cx="542880" cy="237960"/>
          </a:xfrm>
        </p:grpSpPr>
        <p:cxnSp>
          <p:nvCxnSpPr>
            <p:cNvPr id="212" name="Straight Arrow Connector 2"/>
            <p:cNvCxnSpPr/>
            <p:nvPr/>
          </p:nvCxnSpPr>
          <p:spPr>
            <a:xfrm>
              <a:off x="2133000" y="5790600"/>
              <a:ext cx="381960" cy="1080"/>
            </a:xfrm>
            <a:prstGeom prst="straightConnector1">
              <a:avLst/>
            </a:prstGeom>
            <a:ln w="25560">
              <a:solidFill>
                <a:srgbClr val="009999"/>
              </a:solidFill>
              <a:miter/>
              <a:tailEnd len="med" type="triangle" w="med"/>
            </a:ln>
          </p:spPr>
        </p:cxnSp>
        <p:pic>
          <p:nvPicPr>
            <p:cNvPr id="213" name="Picture 3" descr=""/>
            <p:cNvPicPr/>
            <p:nvPr/>
          </p:nvPicPr>
          <p:blipFill>
            <a:blip r:embed="rId3"/>
            <a:stretch/>
          </p:blipFill>
          <p:spPr>
            <a:xfrm rot="10800000">
              <a:off x="2052720" y="5760720"/>
              <a:ext cx="54288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Group 8"/>
          <p:cNvGrpSpPr/>
          <p:nvPr/>
        </p:nvGrpSpPr>
        <p:grpSpPr>
          <a:xfrm>
            <a:off x="2324160" y="5306760"/>
            <a:ext cx="542880" cy="236520"/>
            <a:chOff x="2324160" y="5306760"/>
            <a:chExt cx="542880" cy="236520"/>
          </a:xfrm>
        </p:grpSpPr>
        <p:cxnSp>
          <p:nvCxnSpPr>
            <p:cNvPr id="215" name="Straight Arrow Connector 9"/>
            <p:cNvCxnSpPr/>
            <p:nvPr/>
          </p:nvCxnSpPr>
          <p:spPr>
            <a:xfrm>
              <a:off x="2404440" y="5336640"/>
              <a:ext cx="381960" cy="1080"/>
            </a:xfrm>
            <a:prstGeom prst="straightConnector1">
              <a:avLst/>
            </a:prstGeom>
            <a:ln w="25560">
              <a:solidFill>
                <a:srgbClr val="009999"/>
              </a:solidFill>
              <a:miter/>
              <a:tailEnd len="med" type="triangle" w="med"/>
            </a:ln>
          </p:spPr>
        </p:cxnSp>
        <p:pic>
          <p:nvPicPr>
            <p:cNvPr id="216" name="Picture 10" descr=""/>
            <p:cNvPicPr/>
            <p:nvPr/>
          </p:nvPicPr>
          <p:blipFill>
            <a:blip r:embed="rId4"/>
            <a:stretch/>
          </p:blipFill>
          <p:spPr>
            <a:xfrm rot="10800000">
              <a:off x="2324160" y="5306760"/>
              <a:ext cx="542880" cy="23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he Bohr Effect 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880" y="12949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Causing easier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 release into the tiss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12400" indent="-212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The free Hb binds to two prot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212400" indent="-212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Protons are released and react with HCO</a:t>
            </a:r>
            <a:r>
              <a:rPr b="0" lang="en-US" sz="2800" spc="-1" strike="noStrike" baseline="30000">
                <a:solidFill>
                  <a:srgbClr val="161616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 </a:t>
            </a:r>
            <a:r>
              <a:rPr b="0" lang="en-US" sz="2800" spc="-1" strike="noStrike" baseline="30000">
                <a:solidFill>
                  <a:srgbClr val="161616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 to form CO</a:t>
            </a:r>
            <a:r>
              <a:rPr b="0" lang="en-US" sz="28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 gas (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HC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161616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 + H</a:t>
            </a:r>
            <a:r>
              <a:rPr b="0" lang="en-US" sz="3200" spc="-1" strike="noStrike" baseline="30000">
                <a:solidFill>
                  <a:srgbClr val="161616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16161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C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 + H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0 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12400" indent="-212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The proton-poor Hb now has greater affinity for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(in lung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12400" indent="-212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The Bohr effect removes insoluble C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 from blood stre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12400" indent="-212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Produces soluble bicarbon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Availability of 2,3 bisphosphoglycerate</a:t>
            </a:r>
            <a:endParaRPr b="0" lang="en-US" sz="40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Binds to deoxy-hb and stabilizes the T-for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When oxygen binds to Hb, BPG is releas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Picture 2" descr="C:\Documents and Settings\Fatma\Desktop\chapter03\jpg\0311_DPG_effect.jpg"/>
          <p:cNvPicPr/>
          <p:nvPr/>
        </p:nvPicPr>
        <p:blipFill>
          <a:blip r:embed="rId2"/>
          <a:stretch/>
        </p:blipFill>
        <p:spPr>
          <a:xfrm>
            <a:off x="838080" y="2666880"/>
            <a:ext cx="3065760" cy="40356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7"/>
          <p:cNvSpPr/>
          <p:nvPr/>
        </p:nvSpPr>
        <p:spPr>
          <a:xfrm>
            <a:off x="3966480" y="4038480"/>
            <a:ext cx="26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At high altitudes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-RBC number increas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61616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Hb conc. increas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61616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BPG increas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3" name="Picture 2" descr="C:\Documents and Settings\Fatma\Desktop\chapter03\jpg\0310_Binding_site_for_BPG.jpg"/>
          <p:cNvPicPr/>
          <p:nvPr/>
        </p:nvPicPr>
        <p:blipFill>
          <a:blip r:embed="rId3"/>
          <a:stretch/>
        </p:blipFill>
        <p:spPr>
          <a:xfrm>
            <a:off x="6705720" y="3048120"/>
            <a:ext cx="2085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Objectiv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By the end of this lecture, the students should be able to know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he structure and function of hemoglobi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he factors affecting oxygen binding to hemoglobi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examples of normal and abnormal hemoglobin structur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igh altitude and O</a:t>
            </a:r>
            <a:r>
              <a:rPr b="0" lang="en-US" sz="44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affinity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In hypoxia and high altitu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  <a:ea typeface="MS PGothic"/>
              </a:rPr>
              <a:t>2,3 BPG levels ri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  <a:ea typeface="MS PGothic"/>
              </a:rPr>
              <a:t>This decreases O</a:t>
            </a:r>
            <a:r>
              <a:rPr b="0" lang="en-US" sz="2800" spc="-1" strike="noStrike" baseline="-25000">
                <a:solidFill>
                  <a:srgbClr val="161616"/>
                </a:solidFill>
                <a:latin typeface="Calibri"/>
                <a:ea typeface="MS PGothic"/>
              </a:rPr>
              <a:t>2 </a:t>
            </a:r>
            <a:r>
              <a:rPr b="0" lang="en-US" sz="2800" spc="-1" strike="noStrike">
                <a:solidFill>
                  <a:srgbClr val="161616"/>
                </a:solidFill>
                <a:latin typeface="Calibri"/>
                <a:ea typeface="MS PGothic"/>
              </a:rPr>
              <a:t>affinity of Hb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  <a:ea typeface="MS PGothic"/>
              </a:rPr>
              <a:t>Thus increases O</a:t>
            </a:r>
            <a:r>
              <a:rPr b="0" lang="en-US" sz="2800" spc="-1" strike="noStrike" baseline="-25000">
                <a:solidFill>
                  <a:srgbClr val="161616"/>
                </a:solidFill>
                <a:latin typeface="Calibri"/>
                <a:ea typeface="MS PGothic"/>
              </a:rPr>
              <a:t>2</a:t>
            </a:r>
            <a:r>
              <a:rPr b="0" lang="en-US" sz="2800" spc="-1" strike="noStrike">
                <a:solidFill>
                  <a:srgbClr val="161616"/>
                </a:solidFill>
                <a:latin typeface="Calibri"/>
                <a:ea typeface="MS PGothic"/>
              </a:rPr>
              <a:t> delivery to tiss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igh O</a:t>
            </a:r>
            <a:r>
              <a:rPr b="0" lang="en-US" sz="44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affinity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High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 affinity is due t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Alkalo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High levels of Hb 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Multiple transfusion of 2,3 DPG-depleted blo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Content Placeholder 3" descr="Figure3-15.jpg"/>
          <p:cNvPicPr/>
          <p:nvPr/>
        </p:nvPicPr>
        <p:blipFill>
          <a:blip r:embed="rId1"/>
          <a:stretch/>
        </p:blipFill>
        <p:spPr>
          <a:xfrm>
            <a:off x="1676520" y="533520"/>
            <a:ext cx="5616360" cy="5616360"/>
          </a:xfrm>
          <a:prstGeom prst="rect">
            <a:avLst/>
          </a:prstGeom>
          <a:ln w="0">
            <a:noFill/>
          </a:ln>
        </p:spPr>
      </p:pic>
      <p:cxnSp>
        <p:nvCxnSpPr>
          <p:cNvPr id="229" name="Straight Arrow Connector 2"/>
          <p:cNvCxnSpPr/>
          <p:nvPr/>
        </p:nvCxnSpPr>
        <p:spPr>
          <a:xfrm>
            <a:off x="4876560" y="3504960"/>
            <a:ext cx="610200" cy="1080"/>
          </a:xfrm>
          <a:prstGeom prst="straightConnector1">
            <a:avLst/>
          </a:prstGeom>
          <a:ln w="25560">
            <a:solidFill>
              <a:srgbClr val="009999"/>
            </a:solidFill>
            <a:miter/>
            <a:tailEnd len="med" type="arrow" w="med"/>
          </a:ln>
        </p:spPr>
      </p:cxnSp>
      <p:cxnSp>
        <p:nvCxnSpPr>
          <p:cNvPr id="230" name="Straight Arrow Connector 4"/>
          <p:cNvCxnSpPr/>
          <p:nvPr/>
        </p:nvCxnSpPr>
        <p:spPr>
          <a:xfrm flipH="1">
            <a:off x="4799880" y="1066320"/>
            <a:ext cx="610200" cy="1080"/>
          </a:xfrm>
          <a:prstGeom prst="straightConnector1">
            <a:avLst/>
          </a:prstGeom>
          <a:ln w="25560">
            <a:solidFill>
              <a:srgbClr val="009999"/>
            </a:solidFill>
            <a:miter/>
            <a:tailEnd len="med" type="arrow" w="med"/>
          </a:ln>
        </p:spPr>
      </p:cxnSp>
      <p:sp>
        <p:nvSpPr>
          <p:cNvPr id="231" name="TextBox 5"/>
          <p:cNvSpPr/>
          <p:nvPr/>
        </p:nvSpPr>
        <p:spPr>
          <a:xfrm>
            <a:off x="5521320" y="3276720"/>
            <a:ext cx="177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Calibri"/>
              </a:rPr>
              <a:t>Low affinity to O</a:t>
            </a:r>
            <a:r>
              <a:rPr b="0" lang="en-US" sz="1800" spc="-1" strike="noStrike" baseline="-25000">
                <a:solidFill>
                  <a:srgbClr val="2b5481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2987640" y="838080"/>
            <a:ext cx="181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Calibri"/>
              </a:rPr>
              <a:t>High affinity to O</a:t>
            </a:r>
            <a:r>
              <a:rPr b="0" lang="en-US" sz="1800" spc="-1" strike="noStrike" baseline="-25000">
                <a:solidFill>
                  <a:srgbClr val="2b5481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Fetal Hemoglobin (HbF)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52388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Major hemoglobin found in the fetus and newbor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etramer with two </a:t>
            </a:r>
            <a:r>
              <a:rPr b="0" lang="en-US" sz="3200" spc="-1" strike="noStrike">
                <a:solidFill>
                  <a:srgbClr val="161616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and two </a:t>
            </a:r>
            <a:r>
              <a:rPr b="0" lang="en-US" sz="3200" spc="-1" strike="noStrike">
                <a:solidFill>
                  <a:srgbClr val="161616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igher affinity for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than HB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ransfers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from maternal to fetal circulation across placen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5" name="Picture 2" descr="D:\Arun-Backup\project\Ferrier\Image_Bank\image_bank\images\jpg\figure_3.14.jpg"/>
          <p:cNvPicPr/>
          <p:nvPr/>
        </p:nvPicPr>
        <p:blipFill>
          <a:blip r:embed="rId2"/>
          <a:stretch/>
        </p:blipFill>
        <p:spPr>
          <a:xfrm>
            <a:off x="5657760" y="1593720"/>
            <a:ext cx="3152880" cy="45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bA</a:t>
            </a:r>
            <a:r>
              <a:rPr b="0" lang="en-US" sz="44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Appears shortly before birt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Constitutes ~2% of tot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Composed of two </a:t>
            </a:r>
            <a:r>
              <a:rPr b="0" lang="en-US" sz="3200" spc="-1" strike="noStrike">
                <a:solidFill>
                  <a:srgbClr val="161616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and two </a:t>
            </a:r>
            <a:r>
              <a:rPr b="0" lang="en-US" sz="3200" spc="-1" strike="noStrike">
                <a:solidFill>
                  <a:srgbClr val="161616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globin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8" name="Picture 1" descr=""/>
          <p:cNvPicPr/>
          <p:nvPr/>
        </p:nvPicPr>
        <p:blipFill>
          <a:blip r:embed="rId2"/>
          <a:stretch/>
        </p:blipFill>
        <p:spPr>
          <a:xfrm>
            <a:off x="5105520" y="1751040"/>
            <a:ext cx="3151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bA</a:t>
            </a:r>
            <a:r>
              <a:rPr b="0" lang="en-US" sz="44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1c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bA undergoes non-enzymatic glycosyl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Glycosylation depends on plasma glucose lev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bA1c levels are high in patients with diabetes mellit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Picture 2" descr="C:\Documents and Settings\Fatma\Desktop\chapter03\jpg\0315_Formation_HbA1C.jpg"/>
          <p:cNvPicPr/>
          <p:nvPr/>
        </p:nvPicPr>
        <p:blipFill>
          <a:blip r:embed="rId2"/>
          <a:stretch/>
        </p:blipFill>
        <p:spPr>
          <a:xfrm>
            <a:off x="5867280" y="838080"/>
            <a:ext cx="290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Abnormal Hb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Unable to transport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due to abnormal struc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Carboxy-Hb: CO replaces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and binds 220X tighter than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 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(in smoker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Met-Hb: Contains oxidized Fe</a:t>
            </a:r>
            <a:r>
              <a:rPr b="0" lang="en-US" sz="3200" spc="-1" strike="noStrike" baseline="30000">
                <a:solidFill>
                  <a:srgbClr val="161616"/>
                </a:solidFill>
                <a:latin typeface="Calibri"/>
                <a:ea typeface="ＭＳ Ｐゴシック"/>
              </a:rPr>
              <a:t>3+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(~2%) that cannot carry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  <a:ea typeface="ＭＳ Ｐゴシック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Sulf-HB: Forms due to high sulfur levels in blood (irreversible reac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Referenc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Lippincott’s Illustrated Reviews Biochemistry: Unit I, Chapter 3, Pages 25 -42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emoglobin (Hb)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981080"/>
            <a:ext cx="8229600" cy="23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A hemeprotein found only in red blood cell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Oxygen transport func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Contains heme as prosthetic group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eme reversibly binds to oxyge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The heme group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A complex of protoporphyrin IX and ferrous iron (Fe</a:t>
            </a:r>
            <a:r>
              <a:rPr b="0" lang="en-US" sz="3200" spc="-1" strike="noStrike" baseline="30000">
                <a:solidFill>
                  <a:srgbClr val="161616"/>
                </a:solidFill>
                <a:latin typeface="Calibri"/>
                <a:ea typeface="ＭＳ Ｐゴシック"/>
              </a:rPr>
              <a:t>2+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Fe</a:t>
            </a:r>
            <a:r>
              <a:rPr b="0" lang="en-US" sz="3200" spc="-1" strike="noStrike" baseline="30000">
                <a:solidFill>
                  <a:srgbClr val="161616"/>
                </a:solidFill>
                <a:latin typeface="Calibri"/>
                <a:ea typeface="ＭＳ Ｐゴシック"/>
              </a:rPr>
              <a:t>2+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 is present in the center of the he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Fe</a:t>
            </a:r>
            <a:r>
              <a:rPr b="0" lang="en-US" sz="3200" spc="-1" strike="noStrike" baseline="30000">
                <a:solidFill>
                  <a:srgbClr val="161616"/>
                </a:solidFill>
                <a:latin typeface="Calibri"/>
                <a:ea typeface="ＭＳ Ｐゴシック"/>
              </a:rPr>
              <a:t>2+ 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binds to four nitrogen atoms of the porphyrin r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Forms two additional bonds with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Histidine residue of globin cha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Oxyg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954760" cy="41148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181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eme group: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porphyrin complex with bound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e5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  <a:ea typeface="ＭＳ Ｐゴシック"/>
              </a:rPr>
              <a:t>Types of Hb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286000" y="4795920"/>
          <a:ext cx="4952880" cy="173664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Abnormal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xy Hb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Hb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f Hb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86" name="Picture 2" descr="D:\Arun-Backup\project\Ferrier\Image_Bank\image_bank\images\jpg\figure_3.13.jpg"/>
          <p:cNvPicPr/>
          <p:nvPr/>
        </p:nvPicPr>
        <p:blipFill>
          <a:blip r:embed="rId2"/>
          <a:srcRect l="0" t="0" r="-326" b="6297"/>
          <a:stretch/>
        </p:blipFill>
        <p:spPr>
          <a:xfrm>
            <a:off x="2362320" y="1108080"/>
            <a:ext cx="47242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Calibri"/>
                <a:ea typeface="ＭＳ Ｐゴシック"/>
              </a:rPr>
              <a:t>Hemoglobin A (HbA)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Calibri"/>
              </a:rPr>
              <a:t>Major Hb in adul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281160" indent="-28116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Calibri"/>
              </a:rPr>
              <a:t>Composed of four polypetide chains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Two </a:t>
            </a:r>
            <a:r>
              <a:rPr b="0" lang="el-GR" sz="2600" spc="-1" strike="noStrike">
                <a:solidFill>
                  <a:srgbClr val="161616"/>
                </a:solidFill>
                <a:latin typeface="Calibri"/>
              </a:rPr>
              <a:t>α</a:t>
            </a: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 and two </a:t>
            </a:r>
            <a:r>
              <a:rPr b="0" lang="el-GR" sz="2600" spc="-1" strike="noStrike">
                <a:solidFill>
                  <a:srgbClr val="161616"/>
                </a:solidFill>
                <a:latin typeface="Calibri"/>
              </a:rPr>
              <a:t>β</a:t>
            </a:r>
            <a:r>
              <a:rPr b="0" lang="en-US" sz="2600" spc="-1" strike="noStrike">
                <a:solidFill>
                  <a:srgbClr val="161616"/>
                </a:solidFill>
                <a:latin typeface="Calibri"/>
              </a:rPr>
              <a:t> chai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Contains two dimers of </a:t>
            </a:r>
            <a:r>
              <a:rPr b="0" lang="en-US" sz="3200" spc="-1" strike="noStrike">
                <a:solidFill>
                  <a:srgbClr val="161616"/>
                </a:solidFill>
                <a:latin typeface="Symbol"/>
                <a:ea typeface="Symbol"/>
              </a:rPr>
              <a:t>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 subun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Held together by non-covalent interac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Each chain is a subunit with a heme group in the center that carries oxy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A Hb molecule contains 4 heme groups and carries 4 moelcules of O</a:t>
            </a:r>
            <a:r>
              <a:rPr b="0" lang="en-US" sz="3200" spc="-1" strike="noStrike" baseline="-25000">
                <a:solidFill>
                  <a:srgbClr val="161616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Figure3-8.jpg"/>
          <p:cNvPicPr/>
          <p:nvPr/>
        </p:nvPicPr>
        <p:blipFill>
          <a:blip r:embed="rId1"/>
          <a:stretch/>
        </p:blipFill>
        <p:spPr>
          <a:xfrm>
            <a:off x="1371600" y="228600"/>
            <a:ext cx="6324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bA structur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1:27:42Z</dcterms:created>
  <dc:creator>Fatma</dc:creator>
  <dc:description/>
  <dc:language>en-US</dc:language>
  <cp:lastModifiedBy>Ahmed Mujamammi</cp:lastModifiedBy>
  <dcterms:modified xsi:type="dcterms:W3CDTF">2017-11-22T03:43:37Z</dcterms:modified>
  <cp:revision>105</cp:revision>
  <dc:subject/>
  <dc:title>Slide 1</dc:title>
</cp:coreProperties>
</file>