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910A-5FAF-448B-AD3A-53334B27B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49E1-C455-41A5-A29C-8B73C2D61F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B57-B011-4525-B2F7-7288114A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F7E-3563-4307-BA32-E8119C51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CAD5-A5F0-4AC5-B08A-96B481CC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CF95-7FEB-493B-B40B-85BBD8D0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7BD2-CEE3-48BF-A477-2352E851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1876-6A66-4F61-9BFC-39DE4232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CF80-6F60-44DA-B202-DEDC9898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4B1E-56A7-4680-9738-29161B82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ED41-883B-4EC6-9C60-06D945B5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379D-4954-4732-ABC2-DE46628D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B177-736A-4E99-AE73-63057309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F33A-4987-41D4-8915-8E56B215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954A-4183-4AC7-87B9-27B0A9E9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59F7-4770-452A-967F-9E4E3810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1DBD-45B3-4E24-AA0A-84DF1E7C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1CD6-193C-4226-8849-EE9932CC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FDD4-74A6-4FBF-9D79-7C23A718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1FFE1-ED68-4731-B310-7232AFC8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C2E8D-A7CF-4D11-96E8-810F9A96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AD3FF-A937-4D36-940E-C5DC8B14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AB175-6FB9-4DA1-B457-A7CFBC5C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64F3D-C892-4C48-8D98-BFE4C6B4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A602-EB2B-4D39-A3B6-070CC314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3B02E-099F-419F-8ABF-771A3061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B714C-067A-4185-890E-F7323FA7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F85DE-2BA3-4269-A015-84028B9D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0B104-FC0A-42C6-82BF-ADFF6230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31F63-99F6-4897-A934-F6695470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27C25-CC3F-4F8F-9C85-49CA9D2D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A8917-37D5-4527-975F-C2A887EE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55A48-72E5-4361-984A-50BF25FD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0B35E-6DA7-49DE-A8A2-69DC24CA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7289A-B6EC-4552-9D67-9952393B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2B21-4A49-4507-85FD-E936BA11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B5437-B4B6-44C5-8344-199D435A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11F7B-FBF4-4289-9CC1-080AF842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BD4BB-EB8E-4A6A-B3FE-17CD742E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B674F-0653-44B0-9EDC-EECA6500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B3347-AA2A-4D1B-8814-D9DA2942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7FF5A-2B64-4A71-A323-29C963FB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921D3-6422-4581-8A28-F213225F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605B5-D264-4326-98B5-4E6CC994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3C159-3E3E-41AA-81C0-A9D76FE2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1DA-3B7E-4A2B-B11E-C18C3BEB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C98-AEBD-4976-89DF-DC049816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DB0D-6852-417B-95DB-673195A3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24E4-F777-4C02-AE58-A39AEAE8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B058-B2B2-4ABC-A115-A2D45B4B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F868-5116-4939-B09E-D2D08DB18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E380-7811-4A3B-8B5C-4F1D7F079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381F-7123-4408-9709-B7940DE6C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0C38-8B32-4EE0-BDB0-1F0DA47C3B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Structure and function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-form of Hb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2119320"/>
            <a:ext cx="533412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he deoxy form of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aut for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he movement of dimers is constrain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Low-oxygen-affinity for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4" name="Picture 3" descr="Figure3-14.jpg"/>
          <p:cNvPicPr/>
          <p:nvPr/>
        </p:nvPicPr>
        <p:blipFill>
          <a:blip r:embed="rId2"/>
          <a:srcRect l="7650" t="7778" r="67873" b="41804"/>
          <a:stretch/>
        </p:blipFill>
        <p:spPr>
          <a:xfrm>
            <a:off x="6391440" y="1600200"/>
            <a:ext cx="2143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R-form of Hb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2119320"/>
            <a:ext cx="533412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he oxygenated form of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Relaxed for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he dimers have more freedom of move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igh-oxygen-affinity for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Picture 3" descr="Figure3-14.jpg"/>
          <p:cNvPicPr/>
          <p:nvPr/>
        </p:nvPicPr>
        <p:blipFill>
          <a:blip r:embed="rId2"/>
          <a:srcRect l="7650" t="7778" r="67873" b="41804"/>
          <a:stretch/>
        </p:blipFill>
        <p:spPr>
          <a:xfrm>
            <a:off x="6391440" y="1600200"/>
            <a:ext cx="2143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emoglobin functio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Carries oxygen from the lungs to tiss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Carries carbon dioxide from tissues back to the lu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Normal level (g/dL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Males: 14-1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Females: 13-1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Factors affecting oxygen binding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Four allosteric effector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pO</a:t>
            </a:r>
            <a:r>
              <a:rPr b="0" lang="en-US" sz="28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 (partial oxygen pressur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pH of the environ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pCO</a:t>
            </a:r>
            <a:r>
              <a:rPr b="0" lang="en-US" sz="2800" spc="-1" strike="noStrike" baseline="-25000">
                <a:solidFill>
                  <a:srgbClr val="161616"/>
                </a:solidFill>
                <a:latin typeface="Calibri"/>
              </a:rPr>
              <a:t>2 </a:t>
            </a: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(partial carbon dioxide pressur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Availability of 2,3-bisphosphoglycer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Oxygen Dissociation Curv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523880"/>
            <a:ext cx="5105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he curve is sigmoid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Indicates cooperation of subunits in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bin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Binding of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to one heme group increases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affinity of ot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eme-heme intera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33033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61616"/>
                </a:solidFill>
                <a:latin typeface="Calibri"/>
              </a:rPr>
              <a:t>P</a:t>
            </a:r>
            <a:r>
              <a:rPr b="0" lang="en-US" sz="5400" spc="-1" strike="noStrike" baseline="-25000">
                <a:solidFill>
                  <a:srgbClr val="161616"/>
                </a:solidFill>
                <a:latin typeface="Calibri"/>
              </a:rPr>
              <a:t>50</a:t>
            </a:r>
            <a:endParaRPr b="0" lang="en-US" sz="5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51920" y="179856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Indicates affinity of Hb to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P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50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(mm Hg): the pressure at which Hb is 50% saturated with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igh affinity </a:t>
            </a:r>
            <a:r>
              <a:rPr b="0" lang="en-US" sz="3200" spc="-1" strike="noStrike">
                <a:solidFill>
                  <a:srgbClr val="16161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slow unloading of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Low affinity  </a:t>
            </a:r>
            <a:r>
              <a:rPr b="0" lang="en-US" sz="3200" spc="-1" strike="noStrike">
                <a:solidFill>
                  <a:srgbClr val="16161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fast unloading of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Lung p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is 100 mm </a:t>
            </a:r>
            <a:r>
              <a:rPr b="0" lang="en-US" sz="3200" spc="-1" strike="noStrike">
                <a:solidFill>
                  <a:srgbClr val="16161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Hb saturation 100%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issue p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is 40 mm </a:t>
            </a:r>
            <a:r>
              <a:rPr b="0" lang="en-US" sz="3200" spc="-1" strike="noStrike">
                <a:solidFill>
                  <a:srgbClr val="16161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Hb saturation redu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ence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is delivered to tiss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193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he Bohr effec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0080" y="1461960"/>
            <a:ext cx="61722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It is the shift of the ODC to the right in response to an increase in pCO2 or a decrease in pH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Effect of pH and pCO</a:t>
            </a:r>
            <a:r>
              <a:rPr b="0" lang="en-US" sz="26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26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on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Oxygenation of Hb in the lung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Deoxygenation in tissu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issues have lower pH (acidic) than lung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Due to proton generation (two reactions)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CO</a:t>
            </a:r>
            <a:r>
              <a:rPr b="0" lang="en-US" sz="26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 + H</a:t>
            </a:r>
            <a:r>
              <a:rPr b="0" lang="en-US" sz="26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0        H</a:t>
            </a:r>
            <a:r>
              <a:rPr b="0" lang="en-US" sz="26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CO</a:t>
            </a:r>
            <a:r>
              <a:rPr b="0" lang="en-US" sz="2600" spc="-1" strike="noStrike" baseline="-25000">
                <a:solidFill>
                  <a:srgbClr val="161616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H</a:t>
            </a:r>
            <a:r>
              <a:rPr b="0" lang="en-US" sz="26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CO</a:t>
            </a:r>
            <a:r>
              <a:rPr b="0" lang="en-US" sz="2600" spc="-1" strike="noStrike" baseline="-25000">
                <a:solidFill>
                  <a:srgbClr val="161616"/>
                </a:solidFill>
                <a:latin typeface="Calibri"/>
              </a:rPr>
              <a:t>3</a:t>
            </a: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          HCO</a:t>
            </a:r>
            <a:r>
              <a:rPr b="0" lang="en-US" sz="2600" spc="-1" strike="noStrike" baseline="-25000">
                <a:solidFill>
                  <a:srgbClr val="161616"/>
                </a:solidFill>
                <a:latin typeface="Calibri"/>
              </a:rPr>
              <a:t>3</a:t>
            </a:r>
            <a:r>
              <a:rPr b="0" lang="en-US" sz="2600" spc="-1" strike="noStrike" baseline="30000">
                <a:solidFill>
                  <a:srgbClr val="161616"/>
                </a:solidFill>
                <a:latin typeface="Calibri"/>
              </a:rPr>
              <a:t>-</a:t>
            </a: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 + H</a:t>
            </a:r>
            <a:r>
              <a:rPr b="0" lang="en-US" sz="2600" spc="-1" strike="noStrike" baseline="30000">
                <a:solidFill>
                  <a:srgbClr val="161616"/>
                </a:solidFill>
                <a:latin typeface="Calibri"/>
              </a:rPr>
              <a:t>+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Protons reduce O</a:t>
            </a:r>
            <a:r>
              <a:rPr b="0" lang="en-US" sz="26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26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affinity of Hb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6143760" y="990720"/>
            <a:ext cx="2981160" cy="347652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4"/>
          <p:cNvGrpSpPr/>
          <p:nvPr/>
        </p:nvGrpSpPr>
        <p:grpSpPr>
          <a:xfrm>
            <a:off x="2052720" y="5760720"/>
            <a:ext cx="542880" cy="237960"/>
            <a:chOff x="2052720" y="5760720"/>
            <a:chExt cx="542880" cy="237960"/>
          </a:xfrm>
        </p:grpSpPr>
        <p:cxnSp>
          <p:nvCxnSpPr>
            <p:cNvPr id="212" name="Straight Arrow Connector 2"/>
            <p:cNvCxnSpPr/>
            <p:nvPr/>
          </p:nvCxnSpPr>
          <p:spPr>
            <a:xfrm>
              <a:off x="2133000" y="5790600"/>
              <a:ext cx="381960" cy="1080"/>
            </a:xfrm>
            <a:prstGeom prst="straightConnector1">
              <a:avLst/>
            </a:prstGeom>
            <a:ln w="25560">
              <a:solidFill>
                <a:srgbClr val="009999"/>
              </a:solidFill>
              <a:miter/>
              <a:tailEnd len="med" type="triangle" w="med"/>
            </a:ln>
          </p:spPr>
        </p:cxnSp>
        <p:pic>
          <p:nvPicPr>
            <p:cNvPr id="213" name="Picture 3" descr=""/>
            <p:cNvPicPr/>
            <p:nvPr/>
          </p:nvPicPr>
          <p:blipFill>
            <a:blip r:embed="rId3"/>
            <a:stretch/>
          </p:blipFill>
          <p:spPr>
            <a:xfrm rot="10800000">
              <a:off x="2052720" y="5760720"/>
              <a:ext cx="54288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Group 8"/>
          <p:cNvGrpSpPr/>
          <p:nvPr/>
        </p:nvGrpSpPr>
        <p:grpSpPr>
          <a:xfrm>
            <a:off x="2324160" y="5306760"/>
            <a:ext cx="542880" cy="236520"/>
            <a:chOff x="2324160" y="5306760"/>
            <a:chExt cx="542880" cy="236520"/>
          </a:xfrm>
        </p:grpSpPr>
        <p:cxnSp>
          <p:nvCxnSpPr>
            <p:cNvPr id="215" name="Straight Arrow Connector 9"/>
            <p:cNvCxnSpPr/>
            <p:nvPr/>
          </p:nvCxnSpPr>
          <p:spPr>
            <a:xfrm>
              <a:off x="2404440" y="5336640"/>
              <a:ext cx="381960" cy="1080"/>
            </a:xfrm>
            <a:prstGeom prst="straightConnector1">
              <a:avLst/>
            </a:prstGeom>
            <a:ln w="25560">
              <a:solidFill>
                <a:srgbClr val="009999"/>
              </a:solidFill>
              <a:miter/>
              <a:tailEnd len="med" type="triangle" w="med"/>
            </a:ln>
          </p:spPr>
        </p:cxnSp>
        <p:pic>
          <p:nvPicPr>
            <p:cNvPr id="216" name="Picture 10" descr=""/>
            <p:cNvPicPr/>
            <p:nvPr/>
          </p:nvPicPr>
          <p:blipFill>
            <a:blip r:embed="rId4"/>
            <a:stretch/>
          </p:blipFill>
          <p:spPr>
            <a:xfrm rot="10800000">
              <a:off x="2324160" y="5306760"/>
              <a:ext cx="542880" cy="23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he Bohr Effect 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880" y="12949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Causing easier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 release into the tiss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12400" indent="-212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The free Hb binds to two prot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212400" indent="-212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Protons are released and react with HCO</a:t>
            </a:r>
            <a:r>
              <a:rPr b="0" lang="en-US" sz="2800" spc="-1" strike="noStrike" baseline="30000">
                <a:solidFill>
                  <a:srgbClr val="161616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 </a:t>
            </a:r>
            <a:r>
              <a:rPr b="0" lang="en-US" sz="2800" spc="-1" strike="noStrike" baseline="30000">
                <a:solidFill>
                  <a:srgbClr val="161616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 to form CO</a:t>
            </a:r>
            <a:r>
              <a:rPr b="0" lang="en-US" sz="28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 gas (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HC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161616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 + H</a:t>
            </a:r>
            <a:r>
              <a:rPr b="0" lang="en-US" sz="3200" spc="-1" strike="noStrike" baseline="30000">
                <a:solidFill>
                  <a:srgbClr val="161616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16161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C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 + H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0 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12400" indent="-212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The proton-poor Hb now has greater affinity for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(in lung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12400" indent="-212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The Bohr effect removes insoluble C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 from blood stre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12400" indent="-212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Produces soluble bicarbon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Availability of 2,3 bisphosphoglycerate</a:t>
            </a:r>
            <a:endParaRPr b="0" lang="en-US" sz="40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Binds to deoxy-hb and stabilizes the T-for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When oxygen binds to Hb, BPG is releas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Picture 2" descr="C:\Documents and Settings\Fatma\Desktop\chapter03\jpg\0311_DPG_effect.jpg"/>
          <p:cNvPicPr/>
          <p:nvPr/>
        </p:nvPicPr>
        <p:blipFill>
          <a:blip r:embed="rId2"/>
          <a:stretch/>
        </p:blipFill>
        <p:spPr>
          <a:xfrm>
            <a:off x="838080" y="2666880"/>
            <a:ext cx="3065760" cy="40356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7"/>
          <p:cNvSpPr/>
          <p:nvPr/>
        </p:nvSpPr>
        <p:spPr>
          <a:xfrm>
            <a:off x="3966480" y="4038480"/>
            <a:ext cx="26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At high altitudes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-RBC number increas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61616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Hb conc. increas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61616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BPG increas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3" name="Picture 2" descr="C:\Documents and Settings\Fatma\Desktop\chapter03\jpg\0310_Binding_site_for_BPG.jpg"/>
          <p:cNvPicPr/>
          <p:nvPr/>
        </p:nvPicPr>
        <p:blipFill>
          <a:blip r:embed="rId3"/>
          <a:stretch/>
        </p:blipFill>
        <p:spPr>
          <a:xfrm>
            <a:off x="6705720" y="3048120"/>
            <a:ext cx="2085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Objectiv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By the end of this lecture, the students should be able to know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he structure and function of hemoglobi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he factors affecting oxygen binding to hemoglobi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examples of normal and abnormal hemoglobin structur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igh altitude and O</a:t>
            </a:r>
            <a:r>
              <a:rPr b="0" lang="en-US" sz="44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affinity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In hypoxia and high altitu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  <a:ea typeface="MS PGothic"/>
              </a:rPr>
              <a:t>2,3 BPG levels ri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  <a:ea typeface="MS PGothic"/>
              </a:rPr>
              <a:t>This decreases O</a:t>
            </a:r>
            <a:r>
              <a:rPr b="0" lang="en-US" sz="2800" spc="-1" strike="noStrike" baseline="-25000">
                <a:solidFill>
                  <a:srgbClr val="161616"/>
                </a:solidFill>
                <a:latin typeface="Calibri"/>
                <a:ea typeface="MS PGothic"/>
              </a:rPr>
              <a:t>2 </a:t>
            </a:r>
            <a:r>
              <a:rPr b="0" lang="en-US" sz="2800" spc="-1" strike="noStrike">
                <a:solidFill>
                  <a:srgbClr val="161616"/>
                </a:solidFill>
                <a:latin typeface="Calibri"/>
                <a:ea typeface="MS PGothic"/>
              </a:rPr>
              <a:t>affinity of Hb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  <a:ea typeface="MS PGothic"/>
              </a:rPr>
              <a:t>Thus increases O</a:t>
            </a:r>
            <a:r>
              <a:rPr b="0" lang="en-US" sz="2800" spc="-1" strike="noStrike" baseline="-25000">
                <a:solidFill>
                  <a:srgbClr val="161616"/>
                </a:solidFill>
                <a:latin typeface="Calibri"/>
                <a:ea typeface="MS PGothic"/>
              </a:rPr>
              <a:t>2</a:t>
            </a:r>
            <a:r>
              <a:rPr b="0" lang="en-US" sz="2800" spc="-1" strike="noStrike">
                <a:solidFill>
                  <a:srgbClr val="161616"/>
                </a:solidFill>
                <a:latin typeface="Calibri"/>
                <a:ea typeface="MS PGothic"/>
              </a:rPr>
              <a:t> delivery to tiss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igh O</a:t>
            </a:r>
            <a:r>
              <a:rPr b="0" lang="en-US" sz="44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affinity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High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 affinity is due t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Alkalo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High levels of Hb 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Multiple transfusion of 2,3 DPG-depleted blo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Content Placeholder 3" descr="Figure3-15.jpg"/>
          <p:cNvPicPr/>
          <p:nvPr/>
        </p:nvPicPr>
        <p:blipFill>
          <a:blip r:embed="rId1"/>
          <a:stretch/>
        </p:blipFill>
        <p:spPr>
          <a:xfrm>
            <a:off x="1676520" y="533520"/>
            <a:ext cx="5616360" cy="5616360"/>
          </a:xfrm>
          <a:prstGeom prst="rect">
            <a:avLst/>
          </a:prstGeom>
          <a:ln w="0">
            <a:noFill/>
          </a:ln>
        </p:spPr>
      </p:pic>
      <p:cxnSp>
        <p:nvCxnSpPr>
          <p:cNvPr id="229" name="Straight Arrow Connector 2"/>
          <p:cNvCxnSpPr/>
          <p:nvPr/>
        </p:nvCxnSpPr>
        <p:spPr>
          <a:xfrm>
            <a:off x="4876560" y="3504960"/>
            <a:ext cx="610200" cy="1080"/>
          </a:xfrm>
          <a:prstGeom prst="straightConnector1">
            <a:avLst/>
          </a:prstGeom>
          <a:ln w="25560">
            <a:solidFill>
              <a:srgbClr val="009999"/>
            </a:solidFill>
            <a:miter/>
            <a:tailEnd len="med" type="arrow" w="med"/>
          </a:ln>
        </p:spPr>
      </p:cxnSp>
      <p:cxnSp>
        <p:nvCxnSpPr>
          <p:cNvPr id="230" name="Straight Arrow Connector 4"/>
          <p:cNvCxnSpPr/>
          <p:nvPr/>
        </p:nvCxnSpPr>
        <p:spPr>
          <a:xfrm flipH="1">
            <a:off x="4799880" y="1066320"/>
            <a:ext cx="610200" cy="1080"/>
          </a:xfrm>
          <a:prstGeom prst="straightConnector1">
            <a:avLst/>
          </a:prstGeom>
          <a:ln w="25560">
            <a:solidFill>
              <a:srgbClr val="009999"/>
            </a:solidFill>
            <a:miter/>
            <a:tailEnd len="med" type="arrow" w="med"/>
          </a:ln>
        </p:spPr>
      </p:cxnSp>
      <p:sp>
        <p:nvSpPr>
          <p:cNvPr id="231" name="TextBox 5"/>
          <p:cNvSpPr/>
          <p:nvPr/>
        </p:nvSpPr>
        <p:spPr>
          <a:xfrm>
            <a:off x="5521320" y="3276720"/>
            <a:ext cx="177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Calibri"/>
              </a:rPr>
              <a:t>Low affinity to O</a:t>
            </a:r>
            <a:r>
              <a:rPr b="0" lang="en-US" sz="1800" spc="-1" strike="noStrike" baseline="-25000">
                <a:solidFill>
                  <a:srgbClr val="2b5481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2987640" y="838080"/>
            <a:ext cx="181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Calibri"/>
              </a:rPr>
              <a:t>High affinity to O</a:t>
            </a:r>
            <a:r>
              <a:rPr b="0" lang="en-US" sz="1800" spc="-1" strike="noStrike" baseline="-25000">
                <a:solidFill>
                  <a:srgbClr val="2b5481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Fetal Hemoglobin (HbF)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52388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Major hemoglobin found in the fetus and newbor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etramer with two </a:t>
            </a:r>
            <a:r>
              <a:rPr b="0" lang="en-US" sz="3200" spc="-1" strike="noStrike">
                <a:solidFill>
                  <a:srgbClr val="161616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and two </a:t>
            </a:r>
            <a:r>
              <a:rPr b="0" lang="en-US" sz="3200" spc="-1" strike="noStrike">
                <a:solidFill>
                  <a:srgbClr val="161616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igher affinity for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than HB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ransfers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from maternal to fetal circulation across placen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5" name="Picture 2" descr="D:\Arun-Backup\project\Ferrier\Image_Bank\image_bank\images\jpg\figure_3.14.jpg"/>
          <p:cNvPicPr/>
          <p:nvPr/>
        </p:nvPicPr>
        <p:blipFill>
          <a:blip r:embed="rId2"/>
          <a:stretch/>
        </p:blipFill>
        <p:spPr>
          <a:xfrm>
            <a:off x="5657760" y="1593720"/>
            <a:ext cx="3152880" cy="45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bA</a:t>
            </a:r>
            <a:r>
              <a:rPr b="0" lang="en-US" sz="44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Appears shortly before birt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Constitutes ~2% of tot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Composed of two </a:t>
            </a:r>
            <a:r>
              <a:rPr b="0" lang="en-US" sz="3200" spc="-1" strike="noStrike">
                <a:solidFill>
                  <a:srgbClr val="161616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and two </a:t>
            </a:r>
            <a:r>
              <a:rPr b="0" lang="en-US" sz="3200" spc="-1" strike="noStrike">
                <a:solidFill>
                  <a:srgbClr val="161616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globin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8" name="Picture 1" descr=""/>
          <p:cNvPicPr/>
          <p:nvPr/>
        </p:nvPicPr>
        <p:blipFill>
          <a:blip r:embed="rId2"/>
          <a:stretch/>
        </p:blipFill>
        <p:spPr>
          <a:xfrm>
            <a:off x="5105520" y="1751040"/>
            <a:ext cx="3151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bA</a:t>
            </a:r>
            <a:r>
              <a:rPr b="0" lang="en-US" sz="44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1c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bA undergoes non-enzymatic glycosyl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Glycosylation depends on plasma glucose lev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bA1c levels are high in patients with diabetes mellit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Picture 2" descr="C:\Documents and Settings\Fatma\Desktop\chapter03\jpg\0315_Formation_HbA1C.jpg"/>
          <p:cNvPicPr/>
          <p:nvPr/>
        </p:nvPicPr>
        <p:blipFill>
          <a:blip r:embed="rId2"/>
          <a:stretch/>
        </p:blipFill>
        <p:spPr>
          <a:xfrm>
            <a:off x="5867280" y="838080"/>
            <a:ext cx="290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Abnormal Hb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Unable to transport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due to abnormal struc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Carboxy-Hb: CO replaces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and binds 220X tighter than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 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(in smoker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Met-Hb: Contains oxidized Fe</a:t>
            </a:r>
            <a:r>
              <a:rPr b="0" lang="en-US" sz="3200" spc="-1" strike="noStrike" baseline="30000">
                <a:solidFill>
                  <a:srgbClr val="161616"/>
                </a:solidFill>
                <a:latin typeface="Calibri"/>
                <a:ea typeface="ＭＳ Ｐゴシック"/>
              </a:rPr>
              <a:t>3+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(~2%) that cannot carry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Sulf-HB: Forms due to high sulfur levels in blood (irreversible reac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Referenc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Lippincott’s Illustrated Reviews Biochemistry: Unit I, Chapter 3, Pages 25 -42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emoglobin (Hb)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981080"/>
            <a:ext cx="8229600" cy="23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A hemeprotein found only in red blood cell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Oxygen transport func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Contains heme as prosthetic group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eme reversibly binds to oxyge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he heme group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A complex of protoporphyrin IX and ferrous iron (Fe</a:t>
            </a:r>
            <a:r>
              <a:rPr b="0" lang="en-US" sz="3200" spc="-1" strike="noStrike" baseline="30000">
                <a:solidFill>
                  <a:srgbClr val="161616"/>
                </a:solidFill>
                <a:latin typeface="Calibri"/>
                <a:ea typeface="ＭＳ Ｐゴシック"/>
              </a:rPr>
              <a:t>2+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Fe</a:t>
            </a:r>
            <a:r>
              <a:rPr b="0" lang="en-US" sz="3200" spc="-1" strike="noStrike" baseline="30000">
                <a:solidFill>
                  <a:srgbClr val="161616"/>
                </a:solidFill>
                <a:latin typeface="Calibri"/>
                <a:ea typeface="ＭＳ Ｐゴシック"/>
              </a:rPr>
              <a:t>2+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is present in the center of the he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Fe</a:t>
            </a:r>
            <a:r>
              <a:rPr b="0" lang="en-US" sz="3200" spc="-1" strike="noStrike" baseline="30000">
                <a:solidFill>
                  <a:srgbClr val="161616"/>
                </a:solidFill>
                <a:latin typeface="Calibri"/>
                <a:ea typeface="ＭＳ Ｐゴシック"/>
              </a:rPr>
              <a:t>2+ 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binds to four nitrogen atoms of the porphyrin r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Forms two additional bonds with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Histidine residue of globin cha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Oxyg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954760" cy="41148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181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eme group: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porphyrin complex with bound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e5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  <a:ea typeface="ＭＳ Ｐゴシック"/>
              </a:rPr>
              <a:t>Types of Hb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286000" y="4795920"/>
          <a:ext cx="4952880" cy="173664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Abnormal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xy Hb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Hb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f Hb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86" name="Picture 2" descr="D:\Arun-Backup\project\Ferrier\Image_Bank\image_bank\images\jpg\figure_3.13.jpg"/>
          <p:cNvPicPr/>
          <p:nvPr/>
        </p:nvPicPr>
        <p:blipFill>
          <a:blip r:embed="rId2"/>
          <a:srcRect l="0" t="0" r="-326" b="6297"/>
          <a:stretch/>
        </p:blipFill>
        <p:spPr>
          <a:xfrm>
            <a:off x="2362320" y="1108080"/>
            <a:ext cx="47242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emoglobin A (HbA)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Calibri"/>
              </a:rPr>
              <a:t>Major Hb in adul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281160" indent="-28116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Calibri"/>
              </a:rPr>
              <a:t>Composed of four polypetide chains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Two </a:t>
            </a:r>
            <a:r>
              <a:rPr b="0" lang="el-GR" sz="2600" spc="-1" strike="noStrike">
                <a:solidFill>
                  <a:srgbClr val="161616"/>
                </a:solidFill>
                <a:latin typeface="Calibri"/>
              </a:rPr>
              <a:t>α</a:t>
            </a: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 and two </a:t>
            </a:r>
            <a:r>
              <a:rPr b="0" lang="el-GR" sz="2600" spc="-1" strike="noStrike">
                <a:solidFill>
                  <a:srgbClr val="161616"/>
                </a:solidFill>
                <a:latin typeface="Calibri"/>
              </a:rPr>
              <a:t>β</a:t>
            </a: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 chai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Contains two dimers of </a:t>
            </a:r>
            <a:r>
              <a:rPr b="0" lang="en-US" sz="3200" spc="-1" strike="noStrike">
                <a:solidFill>
                  <a:srgbClr val="161616"/>
                </a:solidFill>
                <a:latin typeface="Symbol"/>
                <a:ea typeface="Symbol"/>
              </a:rPr>
              <a:t>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 subun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Held together by non-covalent interac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Each chain is a subunit with a heme group in the center that carries oxy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A Hb molecule contains 4 heme groups and carries 4 moelcules of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Figure3-8.jpg"/>
          <p:cNvPicPr/>
          <p:nvPr/>
        </p:nvPicPr>
        <p:blipFill>
          <a:blip r:embed="rId1"/>
          <a:stretch/>
        </p:blipFill>
        <p:spPr>
          <a:xfrm>
            <a:off x="1371600" y="228600"/>
            <a:ext cx="6324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bA structur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1:27:42Z</dcterms:created>
  <dc:creator>Fatma</dc:creator>
  <dc:description/>
  <dc:language>en-US</dc:language>
  <cp:lastModifiedBy>Ahmed Mujamammi</cp:lastModifiedBy>
  <dcterms:modified xsi:type="dcterms:W3CDTF">2017-11-22T03:43:37Z</dcterms:modified>
  <cp:revision>105</cp:revision>
  <dc:subject/>
  <dc:title>Slide 1</dc:title>
</cp:coreProperties>
</file>