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60C9-9F96-473F-8941-9105F89BA7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7AD-1D3E-4171-B008-C9C017195B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E37B-460D-4149-BC89-1175CB7E4C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926C-722F-499B-8D01-C6F7B5C8A9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2391-4D1B-4534-BF17-4ED3194640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C591-AE5F-40F5-91C1-0CF2D454DE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B6FA-C23B-41E3-9CA8-A974B3A5E4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4E2B-7B2E-4822-A554-DBFC2976EA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7881-7039-40FC-BEA4-460A8E1B87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CBC7-72D1-41E2-A7DE-29CCB109C2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8A41-0F51-4F7C-88F5-7FDC907594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537E-208C-4C70-9F06-8C1A34467D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58DF-0B98-48EE-AAD6-709173898F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AB66-D7FC-4763-8A11-46717736C6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567F-C9EE-42BF-A2F6-5265C6B596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A30C-C945-439D-A7FF-267CF00EFA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FE5-AE48-40B2-BFA6-02EB5ADA35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D5FC-61CF-49E8-A588-2ED014208C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4D98-1F3B-4C95-AB85-1C51AFDF26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DE09-688A-48A5-BF82-4B0F82A52A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3D44-175E-4B86-A2E1-6E0A27F26F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9BE-6C3E-4235-BDAC-3A90217A3B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9C5D-9775-46C1-A7D7-D0AEBDACEC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2BB2-8B0E-4781-834B-0DDCDE7DDC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F3D3-7A80-47B1-948F-9DE7DE3408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DE80-0200-4D0E-9754-A9901D1118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CDF-4A99-4676-B5E0-F1C76B87A6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C16C-1109-4EBA-8E8A-428AF9781C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70DE-B015-4192-B739-B435BE5296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87F6-A661-45C0-AA6B-E286B764E0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5F7B-8FCC-4640-8576-E92BE236B5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570A-4405-46EA-8332-AE7A58494F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A12D-283A-443F-A751-A6C7B11E0C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ADE8-4141-4A43-BE5C-9BA34E9FB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8D1A-2D7B-477A-9F26-29BC9F64B0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C303-4C97-4134-8937-AE842712B7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39B3-FADD-4CCF-A478-31064C62D2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CE97-95D5-4E6D-9C7D-8E3F3ABA31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540-6570-42F3-AB3B-768A2F147C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C43B-50AF-4B8B-A361-73E5CE4D8B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A0ED-48B5-4D7F-AA0D-CFEE6430F5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7B39-2029-469E-9B64-AD95D43F11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ED98-89E1-4B9A-B9EA-B84DF3978C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BB7E-FC9F-4C74-B986-E33C8151BB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A9C3-0D1D-4712-9746-B11E1C7F74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3824-6213-413B-8ED6-AC46095681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B023-452B-4E64-87A5-80B1F212D9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D0A7-DE1B-420C-91C4-BCA9D6F89C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8F53-A60D-403C-85C7-CC255D36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9E4-C1B2-4DC1-9736-993563DF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81B-059D-4238-89AB-6479E62C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46E-3394-4B0D-8F90-2B756FFC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1861-555C-4AE9-AC32-C132753A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AEB3-F798-4992-96EB-BE027B1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E5BF-178A-4500-A306-777AEFCA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A267-5CBD-4595-9335-568EB589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4FB6-14A6-421C-A03E-2BD833C0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2AD3-6405-4320-A68A-614547A8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1764-BE66-432F-A7ED-2CFD42D0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D7B6-3920-4643-A758-54C625D1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6167-1E3E-4769-97DA-B2DF6DB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AA4D-BE17-4045-820D-328B95AB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6625-6614-45A2-9F38-D2D24F47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B4E5-229A-49E1-812B-0C5769B0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B1A9-7A57-4D9C-B99D-1B67618A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96D-68DC-49A2-8F47-DF2F8A7C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EB3-0D24-44B4-BD7C-D0CD5A5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3F39-9FFE-4195-B5B2-47F13A4C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FBAD-43BD-4ABC-9A9A-7852AD7E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0EE-977C-4B39-8BEB-B7076DC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3F2-6B9C-47CB-B0A4-38DF112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4A9-308E-48E9-9501-E68C8E7E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4DCA-1623-48E6-A26F-112F50F5C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10DA-3E59-47B5-A96D-2D56ABC9E35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and Function of Skeletal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ustration of the Neuromuscular J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Picture 3" descr="8"/>
          <p:cNvPicPr/>
          <p:nvPr/>
        </p:nvPicPr>
        <p:blipFill>
          <a:blip r:embed="rId1"/>
          <a:srcRect l="8438" t="18281" r="8438" b="21094"/>
          <a:stretch/>
        </p:blipFill>
        <p:spPr>
          <a:xfrm>
            <a:off x="228600" y="1752480"/>
            <a:ext cx="868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or Un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motorneuron &amp; muscle fibers it innerv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ye muscles – 1:1 muscle/nerve rat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mstrings – 300:1 muscle/nerve rat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scular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liding filament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cle shortening occurs due to the movement of the actin filament over the myosin fila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ation of cross-bridges between actin and myosin fila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tion in the distance between Z-lines of the sarcom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liding Filament Model of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3" descr="8"/>
          <p:cNvPicPr/>
          <p:nvPr/>
        </p:nvPicPr>
        <p:blipFill>
          <a:blip r:embed="rId1"/>
          <a:srcRect l="15938" t="7031" r="15000" b="4219"/>
          <a:stretch/>
        </p:blipFill>
        <p:spPr>
          <a:xfrm>
            <a:off x="1523880" y="1803240"/>
            <a:ext cx="590076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oss-Bridge Formation in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Picture 3" descr="8"/>
          <p:cNvPicPr/>
          <p:nvPr/>
        </p:nvPicPr>
        <p:blipFill>
          <a:blip r:embed="rId1"/>
          <a:srcRect l="9375" t="15469" r="8906" b="15469"/>
          <a:stretch/>
        </p:blipFill>
        <p:spPr>
          <a:xfrm>
            <a:off x="228600" y="1752480"/>
            <a:ext cx="86104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liding Filament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– uncharged ATP cross-bridg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itation-coupling – charged ATP cross-bridge complex, “turned on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ion – actomyosin – ATP &gt; ADP &amp; Pi +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harging – reload cross-bridge with A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xation – cross-bridges “turned off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scle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r none law – fiber contracts completely or not at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cle strength grad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motor unit summation – more motor units per unit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summation – vary frequency of contraction of individual moto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for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P is required for muscle con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osin ATPase breaks down ATP as fiber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s of A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sphocreatine (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yco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letal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body contains over 400 skeletal mus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-50% of total body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of skeletal mus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production for locomotion and brea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production for postur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t production during cold st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urces of ATP for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3" descr="8"/>
          <p:cNvPicPr/>
          <p:nvPr/>
        </p:nvPicPr>
        <p:blipFill>
          <a:blip r:embed="rId1"/>
          <a:srcRect l="2597" t="3285" r="3740" b="4399"/>
          <a:stretch/>
        </p:blipFill>
        <p:spPr>
          <a:xfrm>
            <a:off x="1219320" y="1808280"/>
            <a:ext cx="64818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of Muscle Fi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ochemical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xidative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P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actile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al force p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con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cle fiber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vidual Fiber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ast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Ib fib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-twitch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-glycolytic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Ia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-oxidative glycolytic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low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I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-twitch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-oxidative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of Maximal Shortening Velocities Between Fiber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3" descr="8"/>
          <p:cNvPicPr/>
          <p:nvPr/>
        </p:nvPicPr>
        <p:blipFill>
          <a:blip r:embed="rId1"/>
          <a:srcRect l="8438" t="8438" r="8438" b="7031"/>
          <a:stretch/>
        </p:blipFill>
        <p:spPr>
          <a:xfrm>
            <a:off x="914400" y="2209680"/>
            <a:ext cx="7188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chemical Staining of Fiber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Picture 3" descr="8"/>
          <p:cNvPicPr/>
          <p:nvPr/>
        </p:nvPicPr>
        <p:blipFill>
          <a:blip r:embed="rId1"/>
          <a:srcRect l="8906" t="8438" r="8438" b="8438"/>
          <a:stretch/>
        </p:blipFill>
        <p:spPr>
          <a:xfrm>
            <a:off x="1066680" y="1955880"/>
            <a:ext cx="73152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ber Types an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athle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ess high percentage of fast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urance athle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 run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high percentage of slow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 lifters and nonathle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about 50% slow and 50% fast f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ation of Fiber Type by Tra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urance and resistance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change fast fibers to slow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ult in shift from Type IIb to IIa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ward more oxidative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Skeletal Muscle: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Connective Tissue Cov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pimys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s entire mus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imys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s bundles of muscle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ci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omys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rrounds individual muscle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ining-Induced Changes in Muscle Fiber Ty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3" descr="8"/>
          <p:cNvPicPr/>
          <p:nvPr/>
        </p:nvPicPr>
        <p:blipFill>
          <a:blip r:embed="rId1"/>
          <a:srcRect l="15000" t="5625" r="14063" b="5625"/>
          <a:stretch/>
        </p:blipFill>
        <p:spPr>
          <a:xfrm>
            <a:off x="1447920" y="1812960"/>
            <a:ext cx="604512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ypertrophy and Hyperplas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in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 in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-Related Changes in Skeletal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ing is associated with a loss of muscle m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increases after 50 years of 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exercise training can improve strength and endur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completely eliminate the age-related loss in muscle m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Muscle Contr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cle exerts force without changing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ling against immovable o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ural musc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tonic (dynam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cle shortens during force produ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cen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cle produces force but length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otonic and Isometric Contra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Picture 3" descr="8"/>
          <p:cNvPicPr/>
          <p:nvPr/>
        </p:nvPicPr>
        <p:blipFill>
          <a:blip r:embed="rId1"/>
          <a:srcRect l="9375" t="11250" r="8438" b="9844"/>
          <a:stretch/>
        </p:blipFill>
        <p:spPr>
          <a:xfrm>
            <a:off x="762120" y="1752480"/>
            <a:ext cx="76197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lustration of a Simple Twit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rcRect l="16875" t="4219" r="15938" b="4219"/>
          <a:stretch/>
        </p:blipFill>
        <p:spPr>
          <a:xfrm>
            <a:off x="1447920" y="1600200"/>
            <a:ext cx="55623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 Regulation in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and number of motor units recru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motor units = greater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motor units = greater fo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l musc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al” length for forc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ure of the motor units neural st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 of st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twitch, summation, and tetan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ionship Between Stimulus Frequency and Force Gen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rcRect l="18750" t="7812" r="18750" b="7812"/>
          <a:stretch/>
        </p:blipFill>
        <p:spPr>
          <a:xfrm>
            <a:off x="1523880" y="2133720"/>
            <a:ext cx="56390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ngth-Tension Relationship in Skeletal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rcRect l="18750" t="4296" r="16406" b="6638"/>
          <a:stretch/>
        </p:blipFill>
        <p:spPr>
          <a:xfrm>
            <a:off x="1447920" y="1763640"/>
            <a:ext cx="556236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ple Twitch, Summation, and Teta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rcRect l="9375" t="21875" r="8593" b="21875"/>
          <a:stretch/>
        </p:blipFill>
        <p:spPr>
          <a:xfrm>
            <a:off x="0" y="1981080"/>
            <a:ext cx="88390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-Velocity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any absolute force the speed of movement is greater in muscle with higher percent of fast-twitch fi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aximum velocity of shortening is greatest at the lowest fo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e for both slow and fast-twitch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-Velocity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rcRect l="13280" t="4296" r="12501" b="6638"/>
          <a:stretch/>
        </p:blipFill>
        <p:spPr>
          <a:xfrm>
            <a:off x="1219320" y="1600200"/>
            <a:ext cx="63244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-Power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any given velocity of movement the power generated is greater in a muscle with a higher percent of fast-twitch fi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eak power increases with velocity up to movement speed of 200-300 degrees•seco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ce decreases with increasing movement speed beyond this velo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ce-Power Relation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rcRect l="16406" t="5470" r="15624" b="4296"/>
          <a:stretch/>
        </p:blipFill>
        <p:spPr>
          <a:xfrm>
            <a:off x="1447920" y="1600200"/>
            <a:ext cx="57150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eptors in Mus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cle spind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 dynamic and static changes in muscl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tch ref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etch on muscle causes reflex con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gi tendon organ (G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tension developed in mus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damage during excessive force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mulation results in reflex relaxation of mus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uscle Spind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rcRect l="25782" t="5470" r="25003" b="5470"/>
          <a:stretch/>
        </p:blipFill>
        <p:spPr>
          <a:xfrm>
            <a:off x="2209680" y="1600200"/>
            <a:ext cx="4168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lgi Tendon Org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rcRect l="7814" t="17191" r="7814" b="17191"/>
          <a:stretch/>
        </p:blipFill>
        <p:spPr>
          <a:xfrm>
            <a:off x="228600" y="1752480"/>
            <a:ext cx="8610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Skeletal Muscle: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Micro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rcolem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cle cell membr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ofibr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adlike strands within muscle f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n (thin fila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osin (thick fila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ructure of Skeletal Muscle:</a:t>
            </a:r>
            <a:br>
              <a:rPr sz="4400"/>
            </a:b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The Sarcome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rther divisions of myofibr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-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-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-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the sarc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rcoplasmic reticul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sites for calc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verse tub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cister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romuscular J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where motor neuron meets the muscle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d by gap called the neuromuscular cl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or end pl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cket formed around motor neuron by sarcolem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etylcholine is released from the motor neur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end-plate potential (EP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olarization of muscle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TK</cp:lastModifiedBy>
  <dcterms:modified xsi:type="dcterms:W3CDTF">2012-03-18T06:13:16Z</dcterms:modified>
  <cp:revision>42</cp:revision>
  <dc:subject/>
  <dc:title>PowerPoint Presentation</dc:title>
</cp:coreProperties>
</file>