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4654-8027-467D-946B-94DE45B9ED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2C48-C3DC-4A17-9F42-37F3796513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3151-175D-4841-B0D8-2858872EED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101F-2F78-424C-9255-4F749A5554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34E8-A643-457B-99D9-B74AC03542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3824-38B6-4A35-825D-86CEBD83A3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42FF-8643-4001-932A-2D4E2BFDF1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7730-9A98-4036-9CEC-FCFED345C9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6711-292D-4D67-8F4D-09456BACE9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D116-DD68-4254-9636-9292CE13DA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108C-4B56-4DEC-BEFC-0598EDFA57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7E23-71C6-4379-BAC9-9E5A4FB2D5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86CF-43FF-445A-A8D3-1FE6992FE3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A99F-F657-400A-8662-325EFDFF75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62BB-2E6D-4262-96DB-B297ADE4B6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CCCB-45E8-4723-8868-2C416D733F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B08D-AA98-4177-8AA0-3B9DD9E8B0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E139-7776-4AF5-A944-8287C67B27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905B-1C23-4F41-B4EF-96F41E48E6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8BC2-D1B3-429A-B95F-407785E8E1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646E-31D1-4AB8-B5D3-765FC9CEEB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A763-5804-4E01-92C9-7B493A6575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CFED-4A89-4C03-86C9-6F6821A6CA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4A25-ED73-4C7F-926C-D25EA3D915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AA23-31DF-49F6-B281-04B43AA7C6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1E24-3427-4C3F-A098-B68A42DFB3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10FB-78A4-4834-9F3F-3DA61D0AB0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3ED5-49DE-4C9A-8F67-227E83AE7F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CBB6-B5E3-4835-A5FC-2860F47AA2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BCE8-E179-4B3A-A0CC-6358F7B726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83C9-E514-44AB-B131-6AB0B9CA12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31C9-C3C0-4D9E-854E-CBFBC2A4FD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DB23-4A09-4BF1-A023-8E796A79C4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32E3-B678-4FC9-9408-4E5B7E7F09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2868-45B6-4959-984D-D3FA39B79A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98AF-CD0F-4A03-9FC9-8874BB00D9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E0ED-9D04-44F6-BCEC-1C2B682958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963D-2C15-483D-A3E5-6E1A2A42CF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A8D2-9481-446A-AE64-998CCBFA3A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8DDA-9D23-4F88-BD43-84A6D7AB31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0D55-88C1-4C50-9856-26F593FAE0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71A5-4518-4053-B517-8EBA4A9071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0652-5BF2-40D2-8874-3284D2143A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1226-3344-45E8-AE9C-4284880294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B668-9FEC-4A62-8AFC-18B2134C4D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203D-4AC8-421A-8E1D-52AA4EAD9B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8DF6-A0C0-4746-B9A1-1273B09184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49E3-AC9C-4AA2-9FE9-5A01BCB30F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4F0-F4BB-4F83-8F34-9C6E1724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01A-3406-43D5-A1AC-AB1E6B81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4AD-C455-4698-9165-2250A45D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5A23-E687-4D64-9EA5-C3302BA8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80CF-083E-47CC-AF6B-81AB8A6C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97E4-8FE4-49B8-AA70-0473EF13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01E4-56E2-4ED6-B894-E298C4AD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F255-E5AC-470F-B83F-1FE4FC08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F2A3-DF85-402F-92EB-5C729CBC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9BEE-C7A0-4279-A9FD-5E745D10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BF39-7DCD-4C23-8879-206CB75C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8F3B-ACF1-4AB8-A61B-C04191E8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44E6-668F-4A96-9E40-58C2C341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0107-CEF9-4857-A421-92345212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A795-30E3-4C8B-9BB2-407BAA75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1199-561F-4243-B009-89939D0E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AC83-7CB2-4E37-AE24-3D5AF1F0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9F9C-FED5-4227-B69E-D70ABBDA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4A7-A997-49FC-B9B7-DE4667C1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0D74-39E3-4F0D-AC69-46DF73AB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C5A-BB77-4602-98AC-58B98914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FA5-3C3C-4421-9A4D-52D72CF1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27A-8D13-49CE-90DE-88553D59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6B5-82CD-4906-828F-7D543E23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93F9-64F6-4D83-8154-437FAF9E0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31F1-2190-4443-92C0-D1584947EF7C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 and Function of Skeletal Mus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lustration of the Neuromuscular J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Picture 3" descr="8"/>
          <p:cNvPicPr/>
          <p:nvPr/>
        </p:nvPicPr>
        <p:blipFill>
          <a:blip r:embed="rId1"/>
          <a:srcRect l="8438" t="18281" r="8438" b="21094"/>
          <a:stretch/>
        </p:blipFill>
        <p:spPr>
          <a:xfrm>
            <a:off x="228600" y="1752480"/>
            <a:ext cx="86868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or Un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motorneuron &amp; muscle fibers it innerv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ye muscles – 1:1 muscle/nerve rat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mstrings – 300:1 muscle/nerve rat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scular Cont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liding filament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cle shortening occurs due to the movement of the actin filament over the myosin fila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tion of cross-bridges between actin and myosin fila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tion in the distance between Z-lines of the sarcom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liding Filament Model of Muscle Cont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Picture 3" descr="8"/>
          <p:cNvPicPr/>
          <p:nvPr/>
        </p:nvPicPr>
        <p:blipFill>
          <a:blip r:embed="rId1"/>
          <a:srcRect l="15938" t="7031" r="15000" b="4219"/>
          <a:stretch/>
        </p:blipFill>
        <p:spPr>
          <a:xfrm>
            <a:off x="1523880" y="1803240"/>
            <a:ext cx="590076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oss-Bridge Formation in Muscle Cont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Picture 3" descr="8"/>
          <p:cNvPicPr/>
          <p:nvPr/>
        </p:nvPicPr>
        <p:blipFill>
          <a:blip r:embed="rId1"/>
          <a:srcRect l="9375" t="15469" r="8906" b="15469"/>
          <a:stretch/>
        </p:blipFill>
        <p:spPr>
          <a:xfrm>
            <a:off x="228600" y="1752480"/>
            <a:ext cx="86104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iding Filament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– uncharged ATP cross-bridg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itation-coupling – charged ATP cross-bridge complex, “turned on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ion – actomyosin – ATP &gt; ADP &amp; Pi +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harging – reload cross-bridge with A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xation – cross-bridges “turned off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scle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or none law – fiber contracts completely or not at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cle strength grad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motor unit summation – more motor units per unit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summation – vary frequency of contraction of individual moto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ergy for Muscle Cont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P is required for muscle con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osin ATPase breaks down ATP as fiber contr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s of A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sphocreatine (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yco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xidative phosphory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keletal Mus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man body contains over 400 skeletal musc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0-50% of total body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of skeletal mus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ce production for locomotion and brea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ce production for postural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t production during cold st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rces of ATP for Muscle Cont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Picture 3" descr="8"/>
          <p:cNvPicPr/>
          <p:nvPr/>
        </p:nvPicPr>
        <p:blipFill>
          <a:blip r:embed="rId1"/>
          <a:srcRect l="2597" t="3285" r="3740" b="4399"/>
          <a:stretch/>
        </p:blipFill>
        <p:spPr>
          <a:xfrm>
            <a:off x="1219320" y="1808280"/>
            <a:ext cx="648180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ies of Muscle Fib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ochemical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xidative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ATP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actile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al force p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con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cle fiber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vidual Fiber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ast f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IIb fib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-twitch f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-glycolytic f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IIa f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f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-oxidative glycolytic f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low f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I f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-twitch f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-oxidative f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 of Maximal Shortening Velocities Between Fiber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Picture 3" descr="8"/>
          <p:cNvPicPr/>
          <p:nvPr/>
        </p:nvPicPr>
        <p:blipFill>
          <a:blip r:embed="rId1"/>
          <a:srcRect l="8438" t="8438" r="8438" b="7031"/>
          <a:stretch/>
        </p:blipFill>
        <p:spPr>
          <a:xfrm>
            <a:off x="914400" y="2209680"/>
            <a:ext cx="71881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chemical Staining of Fiber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Picture 3" descr="8"/>
          <p:cNvPicPr/>
          <p:nvPr/>
        </p:nvPicPr>
        <p:blipFill>
          <a:blip r:embed="rId1"/>
          <a:srcRect l="8906" t="8438" r="8438" b="8438"/>
          <a:stretch/>
        </p:blipFill>
        <p:spPr>
          <a:xfrm>
            <a:off x="1066680" y="1955880"/>
            <a:ext cx="73152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ber Types an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 athlet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ess high percentage of fast f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urance athlet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ance runn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high percentage of slow f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ght lifters and nonathle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about 50% slow and 50% fast f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ation of Fiber Type by Trai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durance and resistance 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change fast fibers to slow f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ult in shift from Type IIb to IIa f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ward more oxidative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 of Skeletal Muscle:</a:t>
            </a:r>
            <a:br>
              <a:rPr sz="4400"/>
            </a:b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Connective Tissue Cov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pimys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rounds entire mus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imys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rounds bundles of muscle f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ci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domys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rounds individual muscle f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ining-Induced Changes in Muscle Fiber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8" name="Picture 3" descr="8"/>
          <p:cNvPicPr/>
          <p:nvPr/>
        </p:nvPicPr>
        <p:blipFill>
          <a:blip r:embed="rId1"/>
          <a:srcRect l="15000" t="5625" r="14063" b="5625"/>
          <a:stretch/>
        </p:blipFill>
        <p:spPr>
          <a:xfrm>
            <a:off x="1447920" y="1812960"/>
            <a:ext cx="604512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ypertrophy and Hyperplas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 in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 in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-Related Changes in Skeletal Mus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ing is associated with a loss of muscle m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increases after 50 years of 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 exercise training can improve strength and endu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completely eliminate the age-related loss in muscle m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Muscle Cont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cle exerts force without changing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ling against immovable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ural mus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tonic (dynam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cle shortens during force prod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centr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cle produces force but length incre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otonic and Isometric Contra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Picture 3" descr="8"/>
          <p:cNvPicPr/>
          <p:nvPr/>
        </p:nvPicPr>
        <p:blipFill>
          <a:blip r:embed="rId1"/>
          <a:srcRect l="9375" t="11250" r="8438" b="9844"/>
          <a:stretch/>
        </p:blipFill>
        <p:spPr>
          <a:xfrm>
            <a:off x="762120" y="1752480"/>
            <a:ext cx="761976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lustration of a Simple T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rcRect l="16875" t="4219" r="15938" b="4219"/>
          <a:stretch/>
        </p:blipFill>
        <p:spPr>
          <a:xfrm>
            <a:off x="1447920" y="1600200"/>
            <a:ext cx="556236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ce Regulation in Mus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and number of motor units recru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motor units = greater fo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motor units = greater fo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l musc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l” length for force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ure of the motor units neural sti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 of sti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twitch, summation, and tetan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tionship Between Stimulus Frequency and Force Gen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rcRect l="18750" t="7812" r="18750" b="7812"/>
          <a:stretch/>
        </p:blipFill>
        <p:spPr>
          <a:xfrm>
            <a:off x="1523880" y="2133720"/>
            <a:ext cx="56390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ngth-Tension Relationship in Skeletal Mus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rcRect l="18750" t="4296" r="16406" b="6638"/>
          <a:stretch/>
        </p:blipFill>
        <p:spPr>
          <a:xfrm>
            <a:off x="1447920" y="1763640"/>
            <a:ext cx="556236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ple Twitch, Summation, and Tetan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rcRect l="9375" t="21875" r="8593" b="21875"/>
          <a:stretch/>
        </p:blipFill>
        <p:spPr>
          <a:xfrm>
            <a:off x="0" y="1981080"/>
            <a:ext cx="883908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ce-Velocity Relationsh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any absolute force the speed of movement is greater in muscle with higher percent of fast-twitch fi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aximum velocity of shortening is greatest at the lowest fo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 for both slow and fast-twitch f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ce-Velocity Relationsh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rcRect l="13280" t="4296" r="12501" b="6638"/>
          <a:stretch/>
        </p:blipFill>
        <p:spPr>
          <a:xfrm>
            <a:off x="1219320" y="1600200"/>
            <a:ext cx="63244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ce-Power Relationsh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any given velocity of movement the power generated is greater in a muscle with a higher percent of fast-twitch fi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eak power increases with velocity up to movement speed of 200-300 degrees•secon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ce decreases with increasing movement speed beyond this velo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ce-Power Relationsh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rcRect l="16406" t="5470" r="15624" b="4296"/>
          <a:stretch/>
        </p:blipFill>
        <p:spPr>
          <a:xfrm>
            <a:off x="1447920" y="1600200"/>
            <a:ext cx="57150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eptors in Mus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cle spind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 dynamic and static changes in muscl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tch ref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etch on muscle causes reflex contr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gi tendon organ (G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tension developed in mus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damage during excessive force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mulation results in reflex relaxation of mus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scle Spind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rcRect l="25782" t="5470" r="25003" b="5470"/>
          <a:stretch/>
        </p:blipFill>
        <p:spPr>
          <a:xfrm>
            <a:off x="2209680" y="1600200"/>
            <a:ext cx="4168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olgi Tendon Org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rcRect l="7814" t="17191" r="7814" b="17191"/>
          <a:stretch/>
        </p:blipFill>
        <p:spPr>
          <a:xfrm>
            <a:off x="228600" y="1752480"/>
            <a:ext cx="8610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 of Skeletal Muscle:</a:t>
            </a:r>
            <a:br>
              <a:rPr sz="4400"/>
            </a:b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Micro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rcolem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cle cell membr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ofibr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adlike strands within muscle f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n (thin fila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osin (thick fila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 of Skeletal Muscle:</a:t>
            </a:r>
            <a:br>
              <a:rPr sz="4400"/>
            </a:b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The Sarcome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rther divisions of myofibr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-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-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-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the sarcopla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rcoplasmic reticul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sites for calci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verse tub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cister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romuscular J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where motor neuron meets the muscle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d by gap called the neuromuscular cle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or end pl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cket formed around motor neuron by sarcolem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etylcholine is released from the motor neur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 end-plate potential (EP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olarization of muscle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TK</cp:lastModifiedBy>
  <dcterms:modified xsi:type="dcterms:W3CDTF">2012-03-18T06:13:16Z</dcterms:modified>
  <cp:revision>42</cp:revision>
  <dc:subject/>
  <dc:title>PowerPoint Presentation</dc:title>
</cp:coreProperties>
</file>