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D2D-78A2-466F-977C-63EA53A6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9A9-9513-44EB-AF97-334F0D27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D19-7B15-447D-8824-C5FA7FE1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AD0-55DB-49BF-B78D-B124E8E9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2C9-8651-4298-83D2-EC0B9968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EFFA-23E0-4BBE-9B81-C8072264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2F33-BC75-45E4-A7B7-7D63C99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79FA-24E1-419D-A895-47466852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033F-5640-489F-ABFE-CCFC6D5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3AF5-955F-44B1-8340-3FB1EC84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3360-B50C-4407-A2EE-9AAE4E0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F6C-BBB6-498F-8948-AE05C776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153D-E8E8-45A3-831B-6C4D750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4F5E-1F88-4E1B-ADE8-47858D05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9F54-7B32-4EE7-BCAE-25FBF51E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4D66-D6E9-4F77-B9AC-2E95764C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0DA-1ADC-47C3-BDB5-4AF24E4C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FB8-DE49-4D5A-B47C-3CD55FAF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0E4-BD31-4CFF-9A70-A286EB9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833-0DF5-4399-9461-3C7D0D40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1EE-D8C3-4A0D-96F3-91F2475A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0A7-2B70-479F-9DBD-64BA5EC2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3782-2DF9-4146-A0BD-39E0497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F73-D2D1-4E58-8E2C-10948D4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0"/>
            <a:ext cx="1144440" cy="6788160"/>
            <a:chOff x="77760" y="0"/>
            <a:chExt cx="1144440" cy="6788160"/>
          </a:xfrm>
        </p:grpSpPr>
        <p:grpSp>
          <p:nvGrpSpPr>
            <p:cNvPr id="1" name="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2" name="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480" cy="60847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1200" cy="1084320"/>
              <a:chOff x="81000" y="5703840"/>
              <a:chExt cx="1141200" cy="108432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141960"/>
                <a:ext cx="398520" cy="24768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5640" y="570384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7560" y="633888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46F6-6A81-4380-9C43-CEE9045313A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6E6F-8D51-4287-80AE-F5274B22D86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7760" y="0"/>
            <a:ext cx="1144440" cy="3511440"/>
            <a:chOff x="77760" y="0"/>
            <a:chExt cx="1144440" cy="3511440"/>
          </a:xfrm>
        </p:grpSpPr>
        <p:grpSp>
          <p:nvGrpSpPr>
            <p:cNvPr id="55" name=""/>
            <p:cNvGrpSpPr/>
            <p:nvPr/>
          </p:nvGrpSpPr>
          <p:grpSpPr>
            <a:xfrm>
              <a:off x="77760" y="0"/>
              <a:ext cx="1069920" cy="2819520"/>
              <a:chOff x="77760" y="0"/>
              <a:chExt cx="1069920" cy="2819520"/>
            </a:xfrm>
          </p:grpSpPr>
          <p:sp>
            <p:nvSpPr>
              <p:cNvPr id="56" name=""/>
              <p:cNvSpPr/>
              <p:nvPr/>
            </p:nvSpPr>
            <p:spPr>
              <a:xfrm>
                <a:off x="77760" y="0"/>
                <a:ext cx="1069920" cy="28195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5640" y="0"/>
                <a:ext cx="276480" cy="28195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81000" y="2427120"/>
              <a:ext cx="1141200" cy="1084320"/>
              <a:chOff x="81000" y="2427120"/>
              <a:chExt cx="1141200" cy="1084320"/>
            </a:xfrm>
          </p:grpSpPr>
          <p:sp>
            <p:nvSpPr>
              <p:cNvPr id="59" name=""/>
              <p:cNvSpPr/>
              <p:nvPr/>
            </p:nvSpPr>
            <p:spPr>
              <a:xfrm>
                <a:off x="822240" y="2865600"/>
                <a:ext cx="398520" cy="247320"/>
              </a:xfrm>
              <a:custGeom>
                <a:avLst/>
                <a:gdLst/>
                <a:ahLst/>
                <a:rect l="l" t="t" r="r" b="b"/>
                <a:pathLst>
                  <a:path w="251" h="156">
                    <a:moveTo>
                      <a:pt x="0" y="124"/>
                    </a:moveTo>
                    <a:lnTo>
                      <a:pt x="40" y="155"/>
                    </a:lnTo>
                    <a:lnTo>
                      <a:pt x="250" y="2"/>
                    </a:lnTo>
                    <a:lnTo>
                      <a:pt x="165" y="0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1000" y="2809800"/>
                <a:ext cx="484200" cy="58680"/>
              </a:xfrm>
              <a:custGeom>
                <a:avLst/>
                <a:gdLst/>
                <a:ahLst/>
                <a:rect l="l" t="t" r="r" b="b"/>
                <a:pathLst>
                  <a:path w="305" h="37">
                    <a:moveTo>
                      <a:pt x="0" y="0"/>
                    </a:moveTo>
                    <a:lnTo>
                      <a:pt x="44" y="36"/>
                    </a:lnTo>
                    <a:lnTo>
                      <a:pt x="304" y="36"/>
                    </a:lnTo>
                    <a:lnTo>
                      <a:pt x="2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5640" y="2427120"/>
                <a:ext cx="196920" cy="441360"/>
              </a:xfrm>
              <a:custGeom>
                <a:avLst/>
                <a:gdLst/>
                <a:ahLst/>
                <a:rect l="l" t="t" r="r" b="b"/>
                <a:pathLst>
                  <a:path w="124" h="278">
                    <a:moveTo>
                      <a:pt x="47" y="277"/>
                    </a:moveTo>
                    <a:lnTo>
                      <a:pt x="123" y="32"/>
                    </a:lnTo>
                    <a:lnTo>
                      <a:pt x="78" y="0"/>
                    </a:lnTo>
                    <a:lnTo>
                      <a:pt x="0" y="239"/>
                    </a:lnTo>
                    <a:lnTo>
                      <a:pt x="47" y="277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9120" y="2809800"/>
                <a:ext cx="433080" cy="58680"/>
              </a:xfrm>
              <a:custGeom>
                <a:avLst/>
                <a:gdLst/>
                <a:ahLst/>
                <a:rect l="l" t="t" r="r" b="b"/>
                <a:pathLst>
                  <a:path w="273" h="37">
                    <a:moveTo>
                      <a:pt x="15" y="36"/>
                    </a:moveTo>
                    <a:lnTo>
                      <a:pt x="0" y="0"/>
                    </a:lnTo>
                    <a:lnTo>
                      <a:pt x="227" y="0"/>
                    </a:lnTo>
                    <a:lnTo>
                      <a:pt x="272" y="36"/>
                    </a:lnTo>
                    <a:lnTo>
                      <a:pt x="15" y="36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99880" y="3208320"/>
                <a:ext cx="395280" cy="291960"/>
              </a:xfrm>
              <a:custGeom>
                <a:avLst/>
                <a:gdLst/>
                <a:ahLst/>
                <a:rect l="l" t="t" r="r" b="b"/>
                <a:pathLst>
                  <a:path w="249" h="184">
                    <a:moveTo>
                      <a:pt x="0" y="151"/>
                    </a:moveTo>
                    <a:lnTo>
                      <a:pt x="41" y="183"/>
                    </a:lnTo>
                    <a:lnTo>
                      <a:pt x="248" y="30"/>
                    </a:lnTo>
                    <a:lnTo>
                      <a:pt x="206" y="0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7560" y="3062160"/>
                <a:ext cx="190440" cy="449280"/>
              </a:xfrm>
              <a:custGeom>
                <a:avLst/>
                <a:gdLst/>
                <a:ahLst/>
                <a:rect l="l" t="t" r="r" b="b"/>
                <a:pathLst>
                  <a:path w="120" h="283">
                    <a:moveTo>
                      <a:pt x="67" y="229"/>
                    </a:moveTo>
                    <a:lnTo>
                      <a:pt x="119" y="282"/>
                    </a:lnTo>
                    <a:lnTo>
                      <a:pt x="43" y="32"/>
                    </a:lnTo>
                    <a:lnTo>
                      <a:pt x="0" y="0"/>
                    </a:lnTo>
                    <a:lnTo>
                      <a:pt x="67" y="229"/>
                    </a:lnTo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1960" y="3057480"/>
                <a:ext cx="198720" cy="442800"/>
              </a:xfrm>
              <a:custGeom>
                <a:avLst/>
                <a:gdLst/>
                <a:ahLst/>
                <a:rect l="l" t="t" r="r" b="b"/>
                <a:pathLst>
                  <a:path w="125" h="279">
                    <a:moveTo>
                      <a:pt x="44" y="278"/>
                    </a:moveTo>
                    <a:lnTo>
                      <a:pt x="124" y="35"/>
                    </a:lnTo>
                    <a:lnTo>
                      <a:pt x="75" y="0"/>
                    </a:lnTo>
                    <a:lnTo>
                      <a:pt x="0" y="243"/>
                    </a:lnTo>
                    <a:lnTo>
                      <a:pt x="44" y="278"/>
                    </a:lnTo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7600" y="2478240"/>
                <a:ext cx="933480" cy="949320"/>
              </a:xfrm>
              <a:custGeom>
                <a:avLst/>
                <a:gdLst/>
                <a:ahLst/>
                <a:rect l="l" t="t" r="r" b="b"/>
                <a:pathLst>
                  <a:path w="588" h="598">
                    <a:moveTo>
                      <a:pt x="336" y="0"/>
                    </a:moveTo>
                    <a:lnTo>
                      <a:pt x="261" y="246"/>
                    </a:lnTo>
                    <a:lnTo>
                      <a:pt x="0" y="244"/>
                    </a:lnTo>
                    <a:lnTo>
                      <a:pt x="216" y="400"/>
                    </a:lnTo>
                    <a:lnTo>
                      <a:pt x="162" y="565"/>
                    </a:lnTo>
                    <a:lnTo>
                      <a:pt x="304" y="460"/>
                    </a:lnTo>
                    <a:lnTo>
                      <a:pt x="490" y="597"/>
                    </a:lnTo>
                    <a:lnTo>
                      <a:pt x="422" y="371"/>
                    </a:lnTo>
                    <a:lnTo>
                      <a:pt x="587" y="246"/>
                    </a:lnTo>
                    <a:lnTo>
                      <a:pt x="416" y="247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2FC8-1D14-4360-8370-FAC086CD51A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2BCE-C1DB-46CC-9C84-9BD0EFC0FC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9ff99"/>
                </a:solidFill>
                <a:uFillTx/>
                <a:latin typeface="Times New Roman"/>
              </a:rPr>
              <a:t>Submandibular Salivary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a large salivary gland composed of a mixture of  serous and mucous ac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lies under cover of the body of the mandible, form a V-shaped concavity with the deep part around the posterior border of the mylohyoid mus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803240"/>
            <a:ext cx="4495680" cy="415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5A1C6-6046-45A1-9080-15C5AD184585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alivary Glands:</a:t>
            </a:r>
            <a:endParaRPr b="1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2024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lingual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 to 20 in number open into the submandibular duct but few open directly into the sublingual f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gual and submental arteries and ve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retomotor fibres reach the submandibular ganglion from the superior salivary nucleus of the VII cranial nerve via the chorda tympani to the lingual n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ubRRectCallout"/>
          <p:cNvSpPr/>
          <p:nvPr/>
        </p:nvSpPr>
        <p:spPr>
          <a:xfrm>
            <a:off x="6629400" y="838080"/>
            <a:ext cx="2286000" cy="76212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5040 h 762120"/>
              <a:gd name="textAreaBottom" fmla="*/ 603720 h 7621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lin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148F1-28F4-4581-9E87-E7DDC320DC14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4728960" cy="43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Clinical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welling can not be moved anteroposteriorly only vertically because it is fixed by the ramus and the mastoid proces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welling of overlying structures, skin, lymph nodes could be moved both vertically and horizontally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ainly due to pyogenic infection (Acute sailadenitis) or viral (Mumps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ixed tum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alignant ones causes facial pals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29480" y="1371600"/>
            <a:ext cx="325116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9E0CE-21E7-4E4E-8D97-E9586AC781F1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3892680" cy="25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bmandibular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Sailolethesi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, stones, are the commonest cause of recurrent painful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9900"/>
                </a:solidFill>
                <a:latin typeface="Times New Roman"/>
              </a:rPr>
              <a:t>Pleomorphic aden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moved as part of the block dissection of the neck because of the lymph n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81480" y="1495440"/>
            <a:ext cx="3962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4232160"/>
            <a:ext cx="5181480" cy="255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E4E58-35AC-4858-9712-4AE82BA3F9C6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46479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ublingu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ucus retention cyst, </a:t>
            </a:r>
            <a:r>
              <a:rPr b="1" i="1" lang="en-GB" sz="1800" spc="-1" strike="noStrike">
                <a:solidFill>
                  <a:srgbClr val="996633"/>
                </a:solidFill>
                <a:latin typeface="Times New Roman"/>
              </a:rPr>
              <a:t>Ranu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inor salivary gla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6633"/>
                </a:solidFill>
                <a:latin typeface="Times New Roman"/>
              </a:rPr>
              <a:t>Mucus retention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or extravasation cyst, on the lip and che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6633"/>
                </a:solidFill>
                <a:latin typeface="Times New Roman"/>
              </a:rPr>
              <a:t>Mixed tumours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mainly in the pal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4392720"/>
            <a:ext cx="3581280" cy="243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4120" y="1390680"/>
            <a:ext cx="3809880" cy="251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410080" y="4373640"/>
            <a:ext cx="373392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C23FF-0D1E-4277-842D-90321212BBA3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511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4419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up of a large superficial and a small deep   part which are continuous with each other around the posterior border of the mylohyoid mus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ficial part lie in the digastric triangle and separated from the parotid by stylomandibular lig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97320" y="1828800"/>
            <a:ext cx="392760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685800"/>
            <a:ext cx="289548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51822-0015-4D17-A108-814F7A7FAA76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5037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884400" cy="33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 re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terior belly of digastric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 re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ylohyoid, posterior belly of digastric, stylomandibular and parotid 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4238640"/>
            <a:ext cx="3429000" cy="260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1144440"/>
            <a:ext cx="3429000" cy="297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72200" y="228600"/>
            <a:ext cx="2971800" cy="76212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7CD1E-6CED-4DE1-B097-4807FA350DE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52531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al re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lohoid, hypoglossal, mylohyoid nerve and vessels, lingual and hypoglossal ner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ral re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kin, platysma, deep cervical fascia, lymph node and medial surface of mandible. Cervical branch of facial ner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3600" y="1281240"/>
            <a:ext cx="3200400" cy="293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43600" y="4392720"/>
            <a:ext cx="3200400" cy="245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19920" y="228600"/>
            <a:ext cx="274320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F896C-1EA1-4F00-977D-4850ECE6CC8C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813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ep pa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end forward between the mylohyoid below &amp; laterally  and the hyoglossus and styloglossus med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ingual salivary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68840" y="1339920"/>
            <a:ext cx="3575160" cy="263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581280" cy="260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19920" y="304920"/>
            <a:ext cx="289548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0516F-1684-4D1D-9711-8F8088B08928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5254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40388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ylohyoid, digastric, ligament and paro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lohyoid musc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io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gual nerve and submandibular gang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hypoglossal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1909800"/>
            <a:ext cx="4724280" cy="372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685800"/>
            <a:ext cx="3048120" cy="91440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85200-DEE6-4C51-B4CD-51020AC10FC2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5541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24356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andibular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erges from the anterior end of the deep part and pass forward under the mucous membra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ed laterally by the lingual nerve and lie between the sublingual gland and the genioglossus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into the mouth on a small papilla situated at the side of the lingual fren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al &amp; lingual arteries and ve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retomor fibres from the superior salivary nucleus of the VII nerve via the chorda tympani and the lingual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762120"/>
            <a:ext cx="2819520" cy="83808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bmandib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12001-08AA-4DA1-BAFC-8CDB63FBA40F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: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41907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Sublingual salivary gl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 smallest, almond-shaped and lie beneath the mucous membrane  of the floor of the mouth close to the mid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n mucous-secreting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986280"/>
          </a:xfrm>
          <a:prstGeom prst="rect">
            <a:avLst/>
          </a:prstGeom>
          <a:ln w="0">
            <a:noFill/>
          </a:ln>
        </p:spPr>
      </p:pic>
      <p:sp>
        <p:nvSpPr>
          <p:cNvPr id="139" name="PubRRectCallout"/>
          <p:cNvSpPr/>
          <p:nvPr/>
        </p:nvSpPr>
        <p:spPr>
          <a:xfrm>
            <a:off x="6629400" y="838080"/>
            <a:ext cx="2286000" cy="76212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5040 h 762120"/>
              <a:gd name="textAreaBottom" fmla="*/ 603720 h 7621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lin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2C899-BA6F-47E8-840A-6AA68E062333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livary Glands: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and of the opposite s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ioglossus, lingual nerve &amp; submandibular 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surface of the mandi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ous membr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r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ylohyoid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16560" y="2544840"/>
            <a:ext cx="3727440" cy="3384360"/>
          </a:xfrm>
          <a:prstGeom prst="rect">
            <a:avLst/>
          </a:prstGeom>
          <a:ln w="0">
            <a:noFill/>
          </a:ln>
        </p:spPr>
      </p:pic>
      <p:sp>
        <p:nvSpPr>
          <p:cNvPr id="143" name="PubRRectCallout"/>
          <p:cNvSpPr/>
          <p:nvPr/>
        </p:nvSpPr>
        <p:spPr>
          <a:xfrm>
            <a:off x="6629400" y="838080"/>
            <a:ext cx="2286000" cy="76212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5040 h 762120"/>
              <a:gd name="textAreaBottom" fmla="*/ 603720 h 7621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lin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8F374-2097-48B5-AE45-302583A818FE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25:00Z</dcterms:created>
  <dc:creator>Dr Abdin</dc:creator>
  <dc:description/>
  <dc:language>en-US</dc:language>
  <cp:lastModifiedBy>Helabdin</cp:lastModifiedBy>
  <dcterms:modified xsi:type="dcterms:W3CDTF">2004-12-13T17:30:13Z</dcterms:modified>
  <cp:revision>53</cp:revision>
  <dc:subject/>
  <dc:title>Salivary Glands:</dc:title>
</cp:coreProperties>
</file>