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179-B1F5-4AFF-AC37-801F270A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3C2-8D7B-4637-A6D3-E5778086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B1D2-960A-45EC-9B92-0627DFEB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31D-536E-4605-B4BB-472B106E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7924-8789-4F6A-B552-A1F960FF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3125-C30B-4DB7-BBE9-F13B087C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804D-6807-4066-A088-53E7756D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ACBF-41BF-40EE-B266-D313E9E1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61E0-6231-4F98-AF39-B9B7F20C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6A8E-B78E-4AA9-B165-A8681A4C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1493-E521-4842-89B9-8C076425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308-2936-49E7-AF01-0E9961F4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2A13-3EBF-4BE1-9423-DED3B48F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0112-3AED-42F5-BDD3-B32DCA33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5ECE-4CEF-4437-983B-FA83B758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4A44-4E52-4A2B-AF85-97BDD868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B1B1-9EB5-4A5A-92E7-95A6FAC1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E3E-097C-41B7-A644-FF3FF5CC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AA7-4F27-4424-8F54-825EE811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381-6E56-4D84-9BF8-7C256296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1FE-A021-4BCF-8EAD-5E987865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764-2CD8-4C82-8BA5-F4EA9610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AD3-D89F-4806-BDD8-C0E317D0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08C-D1DE-4FB5-A578-88DBB015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7760" y="0"/>
            <a:ext cx="1144440" cy="6788160"/>
            <a:chOff x="77760" y="0"/>
            <a:chExt cx="1144440" cy="6788160"/>
          </a:xfrm>
        </p:grpSpPr>
        <p:grpSp>
          <p:nvGrpSpPr>
            <p:cNvPr id="1" name=""/>
            <p:cNvGrpSpPr/>
            <p:nvPr/>
          </p:nvGrpSpPr>
          <p:grpSpPr>
            <a:xfrm>
              <a:off x="77760" y="0"/>
              <a:ext cx="1069920" cy="6084720"/>
              <a:chOff x="77760" y="0"/>
              <a:chExt cx="1069920" cy="6084720"/>
            </a:xfrm>
          </p:grpSpPr>
          <p:sp>
            <p:nvSpPr>
              <p:cNvPr id="2" name=""/>
              <p:cNvSpPr/>
              <p:nvPr/>
            </p:nvSpPr>
            <p:spPr>
              <a:xfrm>
                <a:off x="77760" y="0"/>
                <a:ext cx="1069920" cy="6084720"/>
              </a:xfrm>
              <a:prstGeom prst="rect">
                <a:avLst/>
              </a:prstGeom>
              <a:gradFill rotWithShape="0">
                <a:gsLst>
                  <a:gs pos="0">
                    <a:srgbClr val="333300"/>
                  </a:gs>
                  <a:gs pos="50000">
                    <a:srgbClr val="339933"/>
                  </a:gs>
                  <a:gs pos="100000">
                    <a:srgbClr val="33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85640" y="0"/>
                <a:ext cx="276480" cy="6084720"/>
              </a:xfrm>
              <a:prstGeom prst="rect">
                <a:avLst/>
              </a:prstGeom>
              <a:gradFill rotWithShape="0">
                <a:gsLst>
                  <a:gs pos="0">
                    <a:srgbClr val="339933"/>
                  </a:gs>
                  <a:gs pos="50000">
                    <a:srgbClr val="333300"/>
                  </a:gs>
                  <a:gs pos="100000">
                    <a:srgbClr val="33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81000" y="5703840"/>
              <a:ext cx="1141200" cy="1084320"/>
              <a:chOff x="81000" y="5703840"/>
              <a:chExt cx="1141200" cy="1084320"/>
            </a:xfrm>
          </p:grpSpPr>
          <p:sp>
            <p:nvSpPr>
              <p:cNvPr id="5" name=""/>
              <p:cNvSpPr/>
              <p:nvPr/>
            </p:nvSpPr>
            <p:spPr>
              <a:xfrm>
                <a:off x="822240" y="6141960"/>
                <a:ext cx="398520" cy="247680"/>
              </a:xfrm>
              <a:custGeom>
                <a:avLst/>
                <a:gdLst/>
                <a:ahLst/>
                <a:rect l="l" t="t" r="r" b="b"/>
                <a:pathLst>
                  <a:path w="251" h="156">
                    <a:moveTo>
                      <a:pt x="0" y="124"/>
                    </a:moveTo>
                    <a:lnTo>
                      <a:pt x="40" y="155"/>
                    </a:lnTo>
                    <a:lnTo>
                      <a:pt x="250" y="2"/>
                    </a:lnTo>
                    <a:lnTo>
                      <a:pt x="165" y="0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000" y="6086520"/>
                <a:ext cx="484200" cy="58680"/>
              </a:xfrm>
              <a:custGeom>
                <a:avLst/>
                <a:gdLst/>
                <a:ahLst/>
                <a:rect l="l" t="t" r="r" b="b"/>
                <a:pathLst>
                  <a:path w="305" h="37">
                    <a:moveTo>
                      <a:pt x="0" y="0"/>
                    </a:moveTo>
                    <a:lnTo>
                      <a:pt x="44" y="36"/>
                    </a:lnTo>
                    <a:lnTo>
                      <a:pt x="304" y="36"/>
                    </a:lnTo>
                    <a:lnTo>
                      <a:pt x="25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5640" y="5703840"/>
                <a:ext cx="196920" cy="441360"/>
              </a:xfrm>
              <a:custGeom>
                <a:avLst/>
                <a:gdLst/>
                <a:ahLst/>
                <a:rect l="l" t="t" r="r" b="b"/>
                <a:pathLst>
                  <a:path w="124" h="278">
                    <a:moveTo>
                      <a:pt x="47" y="277"/>
                    </a:moveTo>
                    <a:lnTo>
                      <a:pt x="123" y="32"/>
                    </a:lnTo>
                    <a:lnTo>
                      <a:pt x="78" y="0"/>
                    </a:lnTo>
                    <a:lnTo>
                      <a:pt x="0" y="239"/>
                    </a:lnTo>
                    <a:lnTo>
                      <a:pt x="47" y="277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9120" y="6086520"/>
                <a:ext cx="433080" cy="58680"/>
              </a:xfrm>
              <a:custGeom>
                <a:avLst/>
                <a:gdLst/>
                <a:ahLst/>
                <a:rect l="l" t="t" r="r" b="b"/>
                <a:pathLst>
                  <a:path w="273" h="37">
                    <a:moveTo>
                      <a:pt x="15" y="36"/>
                    </a:moveTo>
                    <a:lnTo>
                      <a:pt x="0" y="0"/>
                    </a:lnTo>
                    <a:lnTo>
                      <a:pt x="227" y="0"/>
                    </a:lnTo>
                    <a:lnTo>
                      <a:pt x="272" y="36"/>
                    </a:lnTo>
                    <a:lnTo>
                      <a:pt x="15" y="36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99880" y="6485040"/>
                <a:ext cx="395280" cy="291960"/>
              </a:xfrm>
              <a:custGeom>
                <a:avLst/>
                <a:gdLst/>
                <a:ahLst/>
                <a:rect l="l" t="t" r="r" b="b"/>
                <a:pathLst>
                  <a:path w="249" h="184">
                    <a:moveTo>
                      <a:pt x="0" y="151"/>
                    </a:moveTo>
                    <a:lnTo>
                      <a:pt x="41" y="183"/>
                    </a:lnTo>
                    <a:lnTo>
                      <a:pt x="248" y="30"/>
                    </a:lnTo>
                    <a:lnTo>
                      <a:pt x="206" y="0"/>
                    </a:lnTo>
                    <a:lnTo>
                      <a:pt x="0" y="151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17560" y="6338880"/>
                <a:ext cx="190440" cy="449280"/>
              </a:xfrm>
              <a:custGeom>
                <a:avLst/>
                <a:gdLst/>
                <a:ahLst/>
                <a:rect l="l" t="t" r="r" b="b"/>
                <a:pathLst>
                  <a:path w="120" h="283">
                    <a:moveTo>
                      <a:pt x="67" y="229"/>
                    </a:moveTo>
                    <a:lnTo>
                      <a:pt x="119" y="282"/>
                    </a:lnTo>
                    <a:lnTo>
                      <a:pt x="43" y="32"/>
                    </a:lnTo>
                    <a:lnTo>
                      <a:pt x="0" y="0"/>
                    </a:lnTo>
                    <a:lnTo>
                      <a:pt x="67" y="229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6334200"/>
                <a:ext cx="198720" cy="442800"/>
              </a:xfrm>
              <a:custGeom>
                <a:avLst/>
                <a:gdLst/>
                <a:ahLst/>
                <a:rect l="l" t="t" r="r" b="b"/>
                <a:pathLst>
                  <a:path w="125" h="279">
                    <a:moveTo>
                      <a:pt x="44" y="278"/>
                    </a:moveTo>
                    <a:lnTo>
                      <a:pt x="124" y="35"/>
                    </a:lnTo>
                    <a:lnTo>
                      <a:pt x="75" y="0"/>
                    </a:lnTo>
                    <a:lnTo>
                      <a:pt x="0" y="243"/>
                    </a:lnTo>
                    <a:lnTo>
                      <a:pt x="44" y="278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47600" y="5754600"/>
                <a:ext cx="933480" cy="949320"/>
              </a:xfrm>
              <a:custGeom>
                <a:avLst/>
                <a:gdLst/>
                <a:ahLst/>
                <a:rect l="l" t="t" r="r" b="b"/>
                <a:pathLst>
                  <a:path w="588" h="598">
                    <a:moveTo>
                      <a:pt x="336" y="0"/>
                    </a:moveTo>
                    <a:lnTo>
                      <a:pt x="261" y="246"/>
                    </a:lnTo>
                    <a:lnTo>
                      <a:pt x="0" y="244"/>
                    </a:lnTo>
                    <a:lnTo>
                      <a:pt x="216" y="400"/>
                    </a:lnTo>
                    <a:lnTo>
                      <a:pt x="162" y="565"/>
                    </a:lnTo>
                    <a:lnTo>
                      <a:pt x="304" y="460"/>
                    </a:lnTo>
                    <a:lnTo>
                      <a:pt x="490" y="597"/>
                    </a:lnTo>
                    <a:lnTo>
                      <a:pt x="422" y="371"/>
                    </a:lnTo>
                    <a:lnTo>
                      <a:pt x="587" y="246"/>
                    </a:lnTo>
                    <a:lnTo>
                      <a:pt x="416" y="247"/>
                    </a:lnTo>
                    <a:lnTo>
                      <a:pt x="336" y="0"/>
                    </a:lnTo>
                  </a:path>
                </a:pathLst>
              </a:cu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8B6F-B05B-462A-BCF3-C6C43305744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827A-452E-4193-AB24-CB0FE00623C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77760" y="0"/>
            <a:ext cx="1144440" cy="3511440"/>
            <a:chOff x="77760" y="0"/>
            <a:chExt cx="1144440" cy="3511440"/>
          </a:xfrm>
        </p:grpSpPr>
        <p:grpSp>
          <p:nvGrpSpPr>
            <p:cNvPr id="55" name=""/>
            <p:cNvGrpSpPr/>
            <p:nvPr/>
          </p:nvGrpSpPr>
          <p:grpSpPr>
            <a:xfrm>
              <a:off x="77760" y="0"/>
              <a:ext cx="1069920" cy="2819520"/>
              <a:chOff x="77760" y="0"/>
              <a:chExt cx="1069920" cy="2819520"/>
            </a:xfrm>
          </p:grpSpPr>
          <p:sp>
            <p:nvSpPr>
              <p:cNvPr id="56" name=""/>
              <p:cNvSpPr/>
              <p:nvPr/>
            </p:nvSpPr>
            <p:spPr>
              <a:xfrm>
                <a:off x="77760" y="0"/>
                <a:ext cx="1069920" cy="2819520"/>
              </a:xfrm>
              <a:prstGeom prst="rect">
                <a:avLst/>
              </a:prstGeom>
              <a:gradFill rotWithShape="0">
                <a:gsLst>
                  <a:gs pos="0">
                    <a:srgbClr val="333300"/>
                  </a:gs>
                  <a:gs pos="50000">
                    <a:srgbClr val="339933"/>
                  </a:gs>
                  <a:gs pos="100000">
                    <a:srgbClr val="33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85640" y="0"/>
                <a:ext cx="276480" cy="2819520"/>
              </a:xfrm>
              <a:prstGeom prst="rect">
                <a:avLst/>
              </a:prstGeom>
              <a:gradFill rotWithShape="0">
                <a:gsLst>
                  <a:gs pos="0">
                    <a:srgbClr val="339933"/>
                  </a:gs>
                  <a:gs pos="50000">
                    <a:srgbClr val="333300"/>
                  </a:gs>
                  <a:gs pos="100000">
                    <a:srgbClr val="33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81000" y="2427120"/>
              <a:ext cx="1141200" cy="1084320"/>
              <a:chOff x="81000" y="2427120"/>
              <a:chExt cx="1141200" cy="1084320"/>
            </a:xfrm>
          </p:grpSpPr>
          <p:sp>
            <p:nvSpPr>
              <p:cNvPr id="59" name=""/>
              <p:cNvSpPr/>
              <p:nvPr/>
            </p:nvSpPr>
            <p:spPr>
              <a:xfrm>
                <a:off x="822240" y="2865600"/>
                <a:ext cx="398520" cy="247320"/>
              </a:xfrm>
              <a:custGeom>
                <a:avLst/>
                <a:gdLst/>
                <a:ahLst/>
                <a:rect l="l" t="t" r="r" b="b"/>
                <a:pathLst>
                  <a:path w="251" h="156">
                    <a:moveTo>
                      <a:pt x="0" y="124"/>
                    </a:moveTo>
                    <a:lnTo>
                      <a:pt x="40" y="155"/>
                    </a:lnTo>
                    <a:lnTo>
                      <a:pt x="250" y="2"/>
                    </a:lnTo>
                    <a:lnTo>
                      <a:pt x="165" y="0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1000" y="2809800"/>
                <a:ext cx="484200" cy="58680"/>
              </a:xfrm>
              <a:custGeom>
                <a:avLst/>
                <a:gdLst/>
                <a:ahLst/>
                <a:rect l="l" t="t" r="r" b="b"/>
                <a:pathLst>
                  <a:path w="305" h="37">
                    <a:moveTo>
                      <a:pt x="0" y="0"/>
                    </a:moveTo>
                    <a:lnTo>
                      <a:pt x="44" y="36"/>
                    </a:lnTo>
                    <a:lnTo>
                      <a:pt x="304" y="36"/>
                    </a:lnTo>
                    <a:lnTo>
                      <a:pt x="25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85640" y="2427120"/>
                <a:ext cx="196920" cy="441360"/>
              </a:xfrm>
              <a:custGeom>
                <a:avLst/>
                <a:gdLst/>
                <a:ahLst/>
                <a:rect l="l" t="t" r="r" b="b"/>
                <a:pathLst>
                  <a:path w="124" h="278">
                    <a:moveTo>
                      <a:pt x="47" y="277"/>
                    </a:moveTo>
                    <a:lnTo>
                      <a:pt x="123" y="32"/>
                    </a:lnTo>
                    <a:lnTo>
                      <a:pt x="78" y="0"/>
                    </a:lnTo>
                    <a:lnTo>
                      <a:pt x="0" y="239"/>
                    </a:lnTo>
                    <a:lnTo>
                      <a:pt x="47" y="277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9120" y="2809800"/>
                <a:ext cx="433080" cy="58680"/>
              </a:xfrm>
              <a:custGeom>
                <a:avLst/>
                <a:gdLst/>
                <a:ahLst/>
                <a:rect l="l" t="t" r="r" b="b"/>
                <a:pathLst>
                  <a:path w="273" h="37">
                    <a:moveTo>
                      <a:pt x="15" y="36"/>
                    </a:moveTo>
                    <a:lnTo>
                      <a:pt x="0" y="0"/>
                    </a:lnTo>
                    <a:lnTo>
                      <a:pt x="227" y="0"/>
                    </a:lnTo>
                    <a:lnTo>
                      <a:pt x="272" y="36"/>
                    </a:lnTo>
                    <a:lnTo>
                      <a:pt x="15" y="36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99880" y="3208320"/>
                <a:ext cx="395280" cy="291960"/>
              </a:xfrm>
              <a:custGeom>
                <a:avLst/>
                <a:gdLst/>
                <a:ahLst/>
                <a:rect l="l" t="t" r="r" b="b"/>
                <a:pathLst>
                  <a:path w="249" h="184">
                    <a:moveTo>
                      <a:pt x="0" y="151"/>
                    </a:moveTo>
                    <a:lnTo>
                      <a:pt x="41" y="183"/>
                    </a:lnTo>
                    <a:lnTo>
                      <a:pt x="248" y="30"/>
                    </a:lnTo>
                    <a:lnTo>
                      <a:pt x="206" y="0"/>
                    </a:lnTo>
                    <a:lnTo>
                      <a:pt x="0" y="151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17560" y="3062160"/>
                <a:ext cx="190440" cy="449280"/>
              </a:xfrm>
              <a:custGeom>
                <a:avLst/>
                <a:gdLst/>
                <a:ahLst/>
                <a:rect l="l" t="t" r="r" b="b"/>
                <a:pathLst>
                  <a:path w="120" h="283">
                    <a:moveTo>
                      <a:pt x="67" y="229"/>
                    </a:moveTo>
                    <a:lnTo>
                      <a:pt x="119" y="282"/>
                    </a:lnTo>
                    <a:lnTo>
                      <a:pt x="43" y="32"/>
                    </a:lnTo>
                    <a:lnTo>
                      <a:pt x="0" y="0"/>
                    </a:lnTo>
                    <a:lnTo>
                      <a:pt x="67" y="229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91960" y="3057480"/>
                <a:ext cx="198720" cy="442800"/>
              </a:xfrm>
              <a:custGeom>
                <a:avLst/>
                <a:gdLst/>
                <a:ahLst/>
                <a:rect l="l" t="t" r="r" b="b"/>
                <a:pathLst>
                  <a:path w="125" h="279">
                    <a:moveTo>
                      <a:pt x="44" y="278"/>
                    </a:moveTo>
                    <a:lnTo>
                      <a:pt x="124" y="35"/>
                    </a:lnTo>
                    <a:lnTo>
                      <a:pt x="75" y="0"/>
                    </a:lnTo>
                    <a:lnTo>
                      <a:pt x="0" y="243"/>
                    </a:lnTo>
                    <a:lnTo>
                      <a:pt x="44" y="278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7600" y="2478240"/>
                <a:ext cx="933480" cy="949320"/>
              </a:xfrm>
              <a:custGeom>
                <a:avLst/>
                <a:gdLst/>
                <a:ahLst/>
                <a:rect l="l" t="t" r="r" b="b"/>
                <a:pathLst>
                  <a:path w="588" h="598">
                    <a:moveTo>
                      <a:pt x="336" y="0"/>
                    </a:moveTo>
                    <a:lnTo>
                      <a:pt x="261" y="246"/>
                    </a:lnTo>
                    <a:lnTo>
                      <a:pt x="0" y="244"/>
                    </a:lnTo>
                    <a:lnTo>
                      <a:pt x="216" y="400"/>
                    </a:lnTo>
                    <a:lnTo>
                      <a:pt x="162" y="565"/>
                    </a:lnTo>
                    <a:lnTo>
                      <a:pt x="304" y="460"/>
                    </a:lnTo>
                    <a:lnTo>
                      <a:pt x="490" y="597"/>
                    </a:lnTo>
                    <a:lnTo>
                      <a:pt x="422" y="371"/>
                    </a:lnTo>
                    <a:lnTo>
                      <a:pt x="587" y="246"/>
                    </a:lnTo>
                    <a:lnTo>
                      <a:pt x="416" y="247"/>
                    </a:lnTo>
                    <a:lnTo>
                      <a:pt x="3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708F-9154-44F3-8A18-1C6C241FA01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A675-C1DD-4E53-9D49-A7F0ADD9616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99ff99"/>
                </a:solidFill>
                <a:uFillTx/>
                <a:latin typeface="Times New Roman"/>
              </a:rPr>
              <a:t>Submandibular Salivary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a large salivary gland composed of a mixture of  serous and mucous ac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lies under cover of the body of the mandible, form a V-shaped concavity with the deep part around the posterior border of the mylohyoid musc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1803240"/>
            <a:ext cx="4495680" cy="415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03DF9-03F5-422D-989D-AC073C0F5517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alivary Glands:</a:t>
            </a:r>
            <a:endParaRPr b="1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32024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lingual du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 to 20 in number open into the submandibular duct but few open directly into the sublingual f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gual and submental arteries and vei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rve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retomotor fibres reach the submandibular ganglion from the superior salivary nucleus of the VII cranial nerve via the chorda tympani to the lingual ner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ubRRectCallout"/>
          <p:cNvSpPr/>
          <p:nvPr/>
        </p:nvSpPr>
        <p:spPr>
          <a:xfrm>
            <a:off x="6629400" y="838080"/>
            <a:ext cx="2286000" cy="762120"/>
          </a:xfrm>
          <a:custGeom>
            <a:avLst/>
            <a:gdLst>
              <a:gd name="textAreaLeft" fmla="*/ 15120 w 2286000"/>
              <a:gd name="textAreaRight" fmla="*/ 2265840 w 2286000"/>
              <a:gd name="textAreaTop" fmla="*/ 5040 h 762120"/>
              <a:gd name="textAreaBottom" fmla="*/ 603720 h 7621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ff99"/>
                </a:solidFill>
                <a:latin typeface="Times New Roman"/>
              </a:rPr>
              <a:t>    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ublin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E6458-29BE-4C4B-8209-3B8693316511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472896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Clinical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welling can not be moved anteroposteriorly only vertically because it is fixed by the ramus and the mastoid proces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welling of overlying structures, skin, lymph nodes could be moved both vertically and horizontally.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Mainly due to pyogenic infection (Acute sailadenitis) or viral (Mumps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Mixed tum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Malignant ones causes facial pals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29480" y="1371600"/>
            <a:ext cx="325116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ECDB1-B415-408F-880D-1C76C21CD529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389268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bmandibular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Sailolethesi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, stones, are the commonest cause of recurrent painful swe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9900"/>
                </a:solidFill>
                <a:latin typeface="Times New Roman"/>
              </a:rPr>
              <a:t>Pleomorphic aden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moved as part of the block dissection of the neck because of the lymph n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181480" y="1495440"/>
            <a:ext cx="3962520" cy="2643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962520" cy="2641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4232160"/>
            <a:ext cx="5181480" cy="255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A7096-1A52-45AE-8A16-3EBDA052A607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46479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ublingu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Mucus retention cyst, </a:t>
            </a:r>
            <a:r>
              <a:rPr b="1" i="1" lang="en-GB" sz="1800" spc="-1" strike="noStrike">
                <a:solidFill>
                  <a:srgbClr val="996633"/>
                </a:solidFill>
                <a:latin typeface="Times New Roman"/>
              </a:rPr>
              <a:t>Ranu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inor salivary glan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6633"/>
                </a:solidFill>
                <a:latin typeface="Times New Roman"/>
              </a:rPr>
              <a:t>Mucus retention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or extravasation cyst, on the lip and che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6633"/>
                </a:solidFill>
                <a:latin typeface="Times New Roman"/>
              </a:rPr>
              <a:t>Mixed tumours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mainly in the pal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7920" y="4392720"/>
            <a:ext cx="3581280" cy="2431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4120" y="139068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410080" y="4373640"/>
            <a:ext cx="373392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53AB2-7963-42D1-BFA8-900F77A5E4FE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511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4419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de up of a large superficial and a small deep   part which are continuous with each other around the posterior border of the mylohyoid mus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erficial part lie in the digastric triangle and separated from the parotid by stylomandibular lig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97320" y="1828800"/>
            <a:ext cx="3927600" cy="3962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19920" y="685800"/>
            <a:ext cx="2895480" cy="91440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bmandi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890B9-C4F9-4DEC-8B82-AC4851DC40CE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5037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884400" cy="33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erior rel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terior belly of digastric mus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erior rel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ylohyoid, posterior belly of digastric, stylomandibular and parotid g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5000" y="4238640"/>
            <a:ext cx="3429000" cy="2608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15000" y="1144440"/>
            <a:ext cx="3429000" cy="297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72200" y="228600"/>
            <a:ext cx="2971800" cy="76212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bmandi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D461D-6464-498C-A35A-D5E05C0C9965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5253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4197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al rel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lohoid, hypoglossal, mylohyoid nerve and vessels, lingual and hypoglossal ner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ral rel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kin, platysma, deep cervical fascia, lymph node and medial surface of mandible. Cervical branch of facial ner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3600" y="1281240"/>
            <a:ext cx="3200400" cy="293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943600" y="4392720"/>
            <a:ext cx="3200400" cy="2454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19920" y="228600"/>
            <a:ext cx="2743200" cy="91440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bmandi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60F58-601F-43FE-80CF-9A88AA54BDB5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8131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ep pa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tend forward between the mylohyoid below &amp; laterally  and the hyoglossus and styloglossus medi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erio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ingual salivary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68840" y="1339920"/>
            <a:ext cx="3575160" cy="2636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3581280" cy="260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19920" y="304920"/>
            <a:ext cx="2895480" cy="91440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ubmandib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B0593-D958-45B1-8508-CC4D32889FEA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52545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40388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eri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ylohyoid, digastric, ligament and parot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r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lohyoid musc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erio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gual nerve and submandibular gangl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eri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hypoglossal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19720" y="1909800"/>
            <a:ext cx="4724280" cy="3726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867280" y="685800"/>
            <a:ext cx="3048120" cy="91440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ubmandib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0E788-BA1C-4579-A2DD-9DF9D2696C6F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55418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2435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mandibular du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erges from the anterior end of the deep part and pass forward under the mucous membra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ossed laterally by the lingual nerve and lie between the sublingual gland and the genioglossus mus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en into the mouth on a small papilla situated at the side of the lingual fren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al &amp; lingual arteries and ve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rve suppl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retomor fibres from the superior salivary nucleus of the VII nerve via the chorda tympani and the lingual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762120"/>
            <a:ext cx="2819520" cy="83808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ubmandib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23BA0-B447-4B7F-A1EB-5D8F479A8C68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: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41907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99ff99"/>
                </a:solidFill>
                <a:uFillTx/>
                <a:latin typeface="Times New Roman"/>
              </a:rPr>
              <a:t>Sublingual salivary glan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e smallest, almond-shaped and lie beneath the mucous membrane  of the floor of the mouth close to the mid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n mucous-secreting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986280"/>
          </a:xfrm>
          <a:prstGeom prst="rect">
            <a:avLst/>
          </a:prstGeom>
          <a:ln w="0">
            <a:noFill/>
          </a:ln>
        </p:spPr>
      </p:pic>
      <p:sp>
        <p:nvSpPr>
          <p:cNvPr id="139" name="PubRRectCallout"/>
          <p:cNvSpPr/>
          <p:nvPr/>
        </p:nvSpPr>
        <p:spPr>
          <a:xfrm>
            <a:off x="6629400" y="838080"/>
            <a:ext cx="2286000" cy="762120"/>
          </a:xfrm>
          <a:custGeom>
            <a:avLst/>
            <a:gdLst>
              <a:gd name="textAreaLeft" fmla="*/ 15120 w 2286000"/>
              <a:gd name="textAreaRight" fmla="*/ 2265840 w 2286000"/>
              <a:gd name="textAreaTop" fmla="*/ 5040 h 762120"/>
              <a:gd name="textAreaBottom" fmla="*/ 603720 h 7621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ff99"/>
                </a:solidFill>
                <a:latin typeface="Times New Roman"/>
              </a:rPr>
              <a:t>    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ublin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7A2BD-54A2-489B-9A4A-5DF1C5221B45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: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eri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and of the opposite s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ioglossus, lingual nerve &amp; submandibular 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r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surface of the mandi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eri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cous membr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eri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mylohyoid mus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16560" y="2544840"/>
            <a:ext cx="3727440" cy="3384360"/>
          </a:xfrm>
          <a:prstGeom prst="rect">
            <a:avLst/>
          </a:prstGeom>
          <a:ln w="0">
            <a:noFill/>
          </a:ln>
        </p:spPr>
      </p:pic>
      <p:sp>
        <p:nvSpPr>
          <p:cNvPr id="143" name="PubRRectCallout"/>
          <p:cNvSpPr/>
          <p:nvPr/>
        </p:nvSpPr>
        <p:spPr>
          <a:xfrm>
            <a:off x="6629400" y="838080"/>
            <a:ext cx="2286000" cy="762120"/>
          </a:xfrm>
          <a:custGeom>
            <a:avLst/>
            <a:gdLst>
              <a:gd name="textAreaLeft" fmla="*/ 15120 w 2286000"/>
              <a:gd name="textAreaRight" fmla="*/ 2265840 w 2286000"/>
              <a:gd name="textAreaTop" fmla="*/ 5040 h 762120"/>
              <a:gd name="textAreaBottom" fmla="*/ 603720 h 7621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ff99"/>
                </a:solidFill>
                <a:latin typeface="Times New Roman"/>
              </a:rPr>
              <a:t>    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ublin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AC3A6-EDAC-4EF6-BD8E-E51E22819E1D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6:25:00Z</dcterms:created>
  <dc:creator>Dr Abdin</dc:creator>
  <dc:description/>
  <dc:language>en-US</dc:language>
  <cp:lastModifiedBy>Helabdin</cp:lastModifiedBy>
  <dcterms:modified xsi:type="dcterms:W3CDTF">2004-12-13T17:30:13Z</dcterms:modified>
  <cp:revision>53</cp:revision>
  <dc:subject/>
  <dc:title>Salivary Glands:</dc:title>
</cp:coreProperties>
</file>