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B20-6CFF-44CB-B8DC-B23F75B1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F69-541B-4F69-A70F-989E6EDE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A5A-8C6A-4CA9-A3D4-56155DC3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0C2-FC33-4CC3-A267-494F114A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544E-EF57-4CAB-9FBA-A96340B2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4045-6B8E-4ACB-999E-281F4F96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636B-4684-4BD7-B843-61208CCD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E723-82AA-47CF-ABC4-58138E6A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7F9E-B94E-44D5-9D50-416A264C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6FBE-9CCF-4CB7-8241-EAED907F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E5B-F9A4-4FE1-8094-D07885D0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C29-4556-4030-A298-FDF1D748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4A4D-B5DE-423D-84A7-B5EF4E0D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8B0A-B685-4708-9E94-8BA3DE1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B0A5-CCB5-4056-85E3-117BBF46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A6FF-0CB8-4EB5-803E-4CD2C447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39FE-B3ED-4E3D-9A2E-B65CCB91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388D-52FA-4B1D-B9C0-F6ED2F82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A1C2-554F-4445-A71F-F83F2CF3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BA72-AB4A-4340-9DD8-4C7A8EE7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9A9D-EF3E-47F1-89DE-168CF685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AAA6-8331-4F69-9BF6-62EDFCC8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95B-EE4D-4709-B618-9CAD21D1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7B0B1-E85A-4F14-AF6D-DE7C863A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691E-2616-4181-BA7D-AD734CB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9756-8CE8-4596-A469-E705881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9C7A-CD1D-463B-AE8F-5853AAA7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2BFF-06FE-40A7-9DDA-83FCE965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C263-6AE9-44D1-964C-00CB1AA5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068D-7C95-4F92-8737-ED2969B8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2C70B-C4D9-4D7C-AD83-EB31C931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A5DE-703E-4AB0-8F80-41BF03A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D1F54-D9DD-4901-817E-361846A8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E1E-605E-47C8-97E0-BD8A03A7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DDFC-45E3-49F4-8E59-FC1E810B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EA46-D8A7-4823-80A2-66C403B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752F-3BC8-40E8-A33D-18F39A40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414D-0210-4A73-BFB8-37A3368E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6E590-FC61-4E32-B90A-4A0459AC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F307-F43A-43F6-B99C-63A70726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A9B3-DBA6-4C28-BBF5-C656CB29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1356-7401-45E0-851F-DC5627AE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382D6-F87C-4F43-BFD6-57ADA535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B16-02B9-4F9B-9456-685459E1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FFB-2E1A-473F-97CC-A985A914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9FE-2ACC-4E65-ACD3-C6119ABC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7C1-0188-40FD-8165-5D42877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FCE-D867-4396-85AE-4DF6A07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D42-7960-4B5F-AC52-478EA5096D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1204-CB36-46DB-BEDC-3B7700EBE5E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48D5-8E01-4D5C-8645-7DE4B294FDC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3689-A775-410F-BB8C-6CF531407FE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69292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Example 3: Determination of M</a:t>
            </a:r>
            <a:r>
              <a:rPr b="1" lang="en-US" sz="3600" spc="-1" strike="noStrike" baseline="-25000">
                <a:solidFill>
                  <a:srgbClr val="04617b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81160" y="706320"/>
            <a:ext cx="8624880" cy="81756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9"/>
          <p:cNvGrpSpPr/>
          <p:nvPr/>
        </p:nvGrpSpPr>
        <p:grpSpPr>
          <a:xfrm>
            <a:off x="285840" y="4638600"/>
            <a:ext cx="8429400" cy="2076480"/>
            <a:chOff x="285840" y="4638600"/>
            <a:chExt cx="8429400" cy="2076480"/>
          </a:xfrm>
        </p:grpSpPr>
        <p:pic>
          <p:nvPicPr>
            <p:cNvPr id="198" name="Picture 5" descr=""/>
            <p:cNvPicPr/>
            <p:nvPr/>
          </p:nvPicPr>
          <p:blipFill>
            <a:blip r:embed="rId2"/>
            <a:stretch/>
          </p:blipFill>
          <p:spPr>
            <a:xfrm>
              <a:off x="285840" y="4638600"/>
              <a:ext cx="842724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" descr=""/>
            <p:cNvPicPr/>
            <p:nvPr/>
          </p:nvPicPr>
          <p:blipFill>
            <a:blip r:embed="rId3"/>
            <a:stretch/>
          </p:blipFill>
          <p:spPr>
            <a:xfrm>
              <a:off x="285840" y="5924880"/>
              <a:ext cx="8429400" cy="79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4255920" y="1643040"/>
            <a:ext cx="460224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3"/>
          <p:cNvGrpSpPr/>
          <p:nvPr/>
        </p:nvGrpSpPr>
        <p:grpSpPr>
          <a:xfrm>
            <a:off x="214200" y="1714680"/>
            <a:ext cx="4050360" cy="2846160"/>
            <a:chOff x="214200" y="1714680"/>
            <a:chExt cx="4050360" cy="2846160"/>
          </a:xfrm>
        </p:grpSpPr>
        <p:pic>
          <p:nvPicPr>
            <p:cNvPr id="202" name="Picture 3" descr=""/>
            <p:cNvPicPr/>
            <p:nvPr/>
          </p:nvPicPr>
          <p:blipFill>
            <a:blip r:embed="rId5"/>
            <a:stretch/>
          </p:blipFill>
          <p:spPr>
            <a:xfrm>
              <a:off x="214200" y="1714680"/>
              <a:ext cx="3834000" cy="28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11"/>
            <p:cNvSpPr/>
            <p:nvPr/>
          </p:nvSpPr>
          <p:spPr>
            <a:xfrm>
              <a:off x="3504600" y="292896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= 3/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2"/>
            <p:cNvSpPr/>
            <p:nvPr/>
          </p:nvSpPr>
          <p:spPr>
            <a:xfrm>
              <a:off x="3143520" y="3000600"/>
              <a:ext cx="1071360" cy="214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692928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Example 4: Pavement Thickness</a:t>
            </a: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142920" y="857160"/>
            <a:ext cx="8858160" cy="81036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iven M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= 10,000 psi (69 MPa) and ESAL = 10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design the thickness of a pavement with a HMA surface over a type-II emulsifies asphalt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4"/>
          <p:cNvGrpSpPr/>
          <p:nvPr/>
        </p:nvGrpSpPr>
        <p:grpSpPr>
          <a:xfrm>
            <a:off x="264960" y="1785960"/>
            <a:ext cx="8164800" cy="4765680"/>
            <a:chOff x="264960" y="1785960"/>
            <a:chExt cx="8164800" cy="4765680"/>
          </a:xfrm>
        </p:grpSpPr>
        <p:pic>
          <p:nvPicPr>
            <p:cNvPr id="208" name="Picture 2" descr=""/>
            <p:cNvPicPr/>
            <p:nvPr/>
          </p:nvPicPr>
          <p:blipFill>
            <a:blip r:embed="rId1"/>
            <a:stretch/>
          </p:blipFill>
          <p:spPr>
            <a:xfrm>
              <a:off x="264960" y="1785960"/>
              <a:ext cx="8164800" cy="4765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9" name="Straight Arrow Connector 11"/>
            <p:cNvCxnSpPr/>
            <p:nvPr/>
          </p:nvCxnSpPr>
          <p:spPr>
            <a:xfrm flipV="1">
              <a:off x="5376960" y="3712320"/>
              <a:ext cx="2160" cy="1429560"/>
            </a:xfrm>
            <a:prstGeom prst="straightConnector1">
              <a:avLst/>
            </a:prstGeom>
            <a:ln w="34920">
              <a:solidFill>
                <a:srgbClr val="ff000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10" name="Straight Arrow Connector 13"/>
            <p:cNvCxnSpPr/>
            <p:nvPr/>
          </p:nvCxnSpPr>
          <p:spPr>
            <a:xfrm>
              <a:off x="1050120" y="3622680"/>
              <a:ext cx="4358520" cy="2160"/>
            </a:xfrm>
            <a:prstGeom prst="straightConnector1">
              <a:avLst/>
            </a:prstGeom>
            <a:ln w="34920">
              <a:solidFill>
                <a:srgbClr val="ff0000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11" name="TextBox 15"/>
          <p:cNvSpPr/>
          <p:nvPr/>
        </p:nvSpPr>
        <p:spPr>
          <a:xfrm>
            <a:off x="4227120" y="5786280"/>
            <a:ext cx="47390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mbined thickness = 10.5 inch (267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2152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imes New Roman"/>
              </a:rPr>
              <a:t>Cont. Example 4: Pavement Thickness</a:t>
            </a:r>
            <a:endParaRPr b="0" lang="en-US" sz="36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57120" y="658800"/>
            <a:ext cx="8358120" cy="7642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lculate the minimum HMA thickness = 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 i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alculate the thickness of emulsified asphalt base = 10.5 -3 =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7.5 in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57160" y="3422520"/>
          <a:ext cx="7715520" cy="3435480"/>
        </p:xfrm>
        <a:graphic>
          <a:graphicData uri="http://schemas.openxmlformats.org/drawingml/2006/table">
            <a:tbl>
              <a:tblPr/>
              <a:tblGrid>
                <a:gridCol w="3522600"/>
                <a:gridCol w="1943280"/>
                <a:gridCol w="2249640"/>
              </a:tblGrid>
              <a:tr h="490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ffic  Level  ES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ype II and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9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15" name="Rectangle 1"/>
          <p:cNvSpPr/>
          <p:nvPr/>
        </p:nvSpPr>
        <p:spPr>
          <a:xfrm>
            <a:off x="428760" y="2958120"/>
            <a:ext cx="82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Thickness of Asphalt Concrete Over  Emulsified Asphalt B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2"/>
          <p:cNvCxnSpPr/>
          <p:nvPr/>
        </p:nvCxnSpPr>
        <p:spPr>
          <a:xfrm flipV="1">
            <a:off x="2999880" y="5571360"/>
            <a:ext cx="4072680" cy="540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217" name="Rectangle 14"/>
          <p:cNvSpPr/>
          <p:nvPr/>
        </p:nvSpPr>
        <p:spPr>
          <a:xfrm>
            <a:off x="2286000" y="5286240"/>
            <a:ext cx="714240" cy="4287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53"/>
          <p:cNvGrpSpPr/>
          <p:nvPr/>
        </p:nvGrpSpPr>
        <p:grpSpPr>
          <a:xfrm>
            <a:off x="2790360" y="1558800"/>
            <a:ext cx="4254840" cy="1369080"/>
            <a:chOff x="2790360" y="1558800"/>
            <a:chExt cx="4254840" cy="1369080"/>
          </a:xfrm>
        </p:grpSpPr>
        <p:sp>
          <p:nvSpPr>
            <p:cNvPr id="219" name="Straight Connector 19"/>
            <p:cNvSpPr/>
            <p:nvPr/>
          </p:nvSpPr>
          <p:spPr>
            <a:xfrm>
              <a:off x="3571920" y="1701720"/>
              <a:ext cx="22860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20"/>
            <p:cNvSpPr/>
            <p:nvPr/>
          </p:nvSpPr>
          <p:spPr>
            <a:xfrm>
              <a:off x="3571920" y="1925640"/>
              <a:ext cx="22860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38"/>
            <p:cNvGrpSpPr/>
            <p:nvPr/>
          </p:nvGrpSpPr>
          <p:grpSpPr>
            <a:xfrm>
              <a:off x="3571560" y="2559600"/>
              <a:ext cx="2286000" cy="142920"/>
              <a:chOff x="3571560" y="2559600"/>
              <a:chExt cx="2286000" cy="142920"/>
            </a:xfrm>
          </p:grpSpPr>
          <p:sp>
            <p:nvSpPr>
              <p:cNvPr id="222" name="Straight Connector 21"/>
              <p:cNvSpPr/>
              <p:nvPr/>
            </p:nvSpPr>
            <p:spPr>
              <a:xfrm>
                <a:off x="3571560" y="2559600"/>
                <a:ext cx="2286000" cy="1440"/>
              </a:xfrm>
              <a:prstGeom prst="line">
                <a:avLst/>
              </a:prstGeom>
              <a:ln w="9360">
                <a:solidFill>
                  <a:srgbClr val="065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Group 28"/>
              <p:cNvGrpSpPr/>
              <p:nvPr/>
            </p:nvGrpSpPr>
            <p:grpSpPr>
              <a:xfrm>
                <a:off x="4642560" y="2559960"/>
                <a:ext cx="1000080" cy="142560"/>
                <a:chOff x="4642560" y="2559960"/>
                <a:chExt cx="1000080" cy="142560"/>
              </a:xfrm>
            </p:grpSpPr>
            <p:sp>
              <p:nvSpPr>
                <p:cNvPr id="224" name="Straight Connector 23"/>
                <p:cNvSpPr/>
                <p:nvPr/>
              </p:nvSpPr>
              <p:spPr>
                <a:xfrm flipH="1">
                  <a:off x="542844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Straight Connector 24"/>
                <p:cNvSpPr/>
                <p:nvPr/>
              </p:nvSpPr>
              <p:spPr>
                <a:xfrm flipH="1">
                  <a:off x="528552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Straight Connector 25"/>
                <p:cNvSpPr/>
                <p:nvPr/>
              </p:nvSpPr>
              <p:spPr>
                <a:xfrm flipH="1">
                  <a:off x="507096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Straight Connector 26"/>
                <p:cNvSpPr/>
                <p:nvPr/>
              </p:nvSpPr>
              <p:spPr>
                <a:xfrm flipH="1">
                  <a:off x="485676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Straight Connector 27"/>
                <p:cNvSpPr/>
                <p:nvPr/>
              </p:nvSpPr>
              <p:spPr>
                <a:xfrm flipH="1">
                  <a:off x="464256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29"/>
              <p:cNvGrpSpPr/>
              <p:nvPr/>
            </p:nvGrpSpPr>
            <p:grpSpPr>
              <a:xfrm>
                <a:off x="3642480" y="2559960"/>
                <a:ext cx="1000080" cy="142560"/>
                <a:chOff x="3642480" y="2559960"/>
                <a:chExt cx="1000080" cy="142560"/>
              </a:xfrm>
            </p:grpSpPr>
            <p:sp>
              <p:nvSpPr>
                <p:cNvPr id="230" name="Straight Connector 30"/>
                <p:cNvSpPr/>
                <p:nvPr/>
              </p:nvSpPr>
              <p:spPr>
                <a:xfrm flipH="1">
                  <a:off x="442836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Straight Connector 31"/>
                <p:cNvSpPr/>
                <p:nvPr/>
              </p:nvSpPr>
              <p:spPr>
                <a:xfrm flipH="1">
                  <a:off x="428544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Straight Connector 32"/>
                <p:cNvSpPr/>
                <p:nvPr/>
              </p:nvSpPr>
              <p:spPr>
                <a:xfrm flipH="1">
                  <a:off x="407088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Straight Connector 33"/>
                <p:cNvSpPr/>
                <p:nvPr/>
              </p:nvSpPr>
              <p:spPr>
                <a:xfrm flipH="1">
                  <a:off x="385668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Straight Connector 34"/>
                <p:cNvSpPr/>
                <p:nvPr/>
              </p:nvSpPr>
              <p:spPr>
                <a:xfrm flipH="1">
                  <a:off x="3642480" y="2559960"/>
                  <a:ext cx="214200" cy="142560"/>
                </a:xfrm>
                <a:prstGeom prst="line">
                  <a:avLst/>
                </a:prstGeom>
                <a:ln w="9360">
                  <a:solidFill>
                    <a:srgbClr val="065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" name="TextBox 36"/>
            <p:cNvSpPr/>
            <p:nvPr/>
          </p:nvSpPr>
          <p:spPr>
            <a:xfrm>
              <a:off x="4008600" y="255960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gr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7"/>
            <p:cNvSpPr/>
            <p:nvPr/>
          </p:nvSpPr>
          <p:spPr>
            <a:xfrm>
              <a:off x="6076800" y="2058840"/>
              <a:ext cx="67464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traight Connector 40"/>
            <p:cNvSpPr/>
            <p:nvPr/>
          </p:nvSpPr>
          <p:spPr>
            <a:xfrm flipH="1">
              <a:off x="3355920" y="1630080"/>
              <a:ext cx="1440" cy="93060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traight Connector 42"/>
            <p:cNvSpPr/>
            <p:nvPr/>
          </p:nvSpPr>
          <p:spPr>
            <a:xfrm>
              <a:off x="3214440" y="1630080"/>
              <a:ext cx="2142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traight Connector 43"/>
            <p:cNvSpPr/>
            <p:nvPr/>
          </p:nvSpPr>
          <p:spPr>
            <a:xfrm>
              <a:off x="3214440" y="1914480"/>
              <a:ext cx="2142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traight Connector 44"/>
            <p:cNvSpPr/>
            <p:nvPr/>
          </p:nvSpPr>
          <p:spPr>
            <a:xfrm>
              <a:off x="3214440" y="2557440"/>
              <a:ext cx="214200" cy="1440"/>
            </a:xfrm>
            <a:prstGeom prst="line">
              <a:avLst/>
            </a:prstGeom>
            <a:ln w="9360">
              <a:solidFill>
                <a:srgbClr val="065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5"/>
            <p:cNvSpPr/>
            <p:nvPr/>
          </p:nvSpPr>
          <p:spPr>
            <a:xfrm>
              <a:off x="3571920" y="1630080"/>
              <a:ext cx="2286000" cy="28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46"/>
            <p:cNvSpPr/>
            <p:nvPr/>
          </p:nvSpPr>
          <p:spPr>
            <a:xfrm>
              <a:off x="3571920" y="1915920"/>
              <a:ext cx="2286000" cy="642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35"/>
            <p:cNvSpPr/>
            <p:nvPr/>
          </p:nvSpPr>
          <p:spPr>
            <a:xfrm>
              <a:off x="6078240" y="1630080"/>
              <a:ext cx="9669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Straight Arrow Connector 48"/>
            <p:cNvCxnSpPr>
              <a:stCxn id="243" idx="1"/>
              <a:endCxn id="241" idx="3"/>
            </p:cNvCxnSpPr>
            <p:nvPr/>
          </p:nvCxnSpPr>
          <p:spPr>
            <a:xfrm flipH="1" flipV="1">
              <a:off x="5857200" y="1772640"/>
              <a:ext cx="21492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Straight Arrow Connector 49"/>
            <p:cNvCxnSpPr/>
            <p:nvPr/>
          </p:nvCxnSpPr>
          <p:spPr>
            <a:xfrm flipH="1" flipV="1">
              <a:off x="5857200" y="2160000"/>
              <a:ext cx="214920" cy="41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6" name="TextBox 50"/>
            <p:cNvSpPr/>
            <p:nvPr/>
          </p:nvSpPr>
          <p:spPr>
            <a:xfrm>
              <a:off x="2790360" y="155880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1"/>
            <p:cNvSpPr/>
            <p:nvPr/>
          </p:nvSpPr>
          <p:spPr>
            <a:xfrm rot="16200000">
              <a:off x="2802960" y="20592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.5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www.slurry.com/images/stories/cont_slurry5.jpg"/>
          <p:cNvPicPr/>
          <p:nvPr/>
        </p:nvPicPr>
        <p:blipFill>
          <a:blip r:embed="rId1"/>
          <a:stretch/>
        </p:blipFill>
        <p:spPr>
          <a:xfrm>
            <a:off x="4788000" y="3575160"/>
            <a:ext cx="4089240" cy="2801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4768920" y="736560"/>
            <a:ext cx="3514680" cy="3591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ttp://www.cpmamerica.com/images/SlurrySeal2.jpg"/>
          <p:cNvPicPr/>
          <p:nvPr/>
        </p:nvPicPr>
        <p:blipFill>
          <a:blip r:embed="rId3"/>
          <a:stretch/>
        </p:blipFill>
        <p:spPr>
          <a:xfrm>
            <a:off x="987480" y="3700440"/>
            <a:ext cx="3809880" cy="2828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http://www.cpmamerica.com/images/SlurrySeal5.jpg"/>
          <p:cNvPicPr/>
          <p:nvPr/>
        </p:nvPicPr>
        <p:blipFill>
          <a:blip r:embed="rId4"/>
          <a:stretch/>
        </p:blipFill>
        <p:spPr>
          <a:xfrm>
            <a:off x="969840" y="1019160"/>
            <a:ext cx="3810240" cy="27147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7"/>
          <p:cNvSpPr/>
          <p:nvPr/>
        </p:nvSpPr>
        <p:spPr>
          <a:xfrm>
            <a:off x="142920" y="214200"/>
            <a:ext cx="87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ed as a cold mix asphalt = Fine aggregate + Emul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Marshall Method- Numerical Example</a:t>
            </a:r>
            <a:endParaRPr b="0" lang="en-US" sz="3200" spc="-1" strike="noStrike">
              <a:solidFill>
                <a:srgbClr val="04617b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71280" y="928800"/>
            <a:ext cx="8961480" cy="8697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749160" y="1920960"/>
            <a:ext cx="7540920" cy="284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1536840" y="4638600"/>
            <a:ext cx="580860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6072120" y="2286000"/>
            <a:ext cx="2986200" cy="4287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5637240" cy="1194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71280" y="4621320"/>
            <a:ext cx="6593040" cy="2093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070680" y="71280"/>
            <a:ext cx="2930400" cy="2359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3286080" y="2214720"/>
            <a:ext cx="2738520" cy="2373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6"/>
          <a:stretch/>
        </p:blipFill>
        <p:spPr>
          <a:xfrm>
            <a:off x="69840" y="214200"/>
            <a:ext cx="61452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429080" y="1428840"/>
            <a:ext cx="3149640" cy="4394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571680" y="2000160"/>
            <a:ext cx="32684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0:26:17Z</dcterms:created>
  <dc:creator>Abdulrahman</dc:creator>
  <dc:description/>
  <dc:language>en-US</dc:language>
  <cp:lastModifiedBy>ksu</cp:lastModifiedBy>
  <dcterms:modified xsi:type="dcterms:W3CDTF">2013-05-18T13:09:32Z</dcterms:modified>
  <cp:revision>71</cp:revision>
  <dc:subject/>
  <dc:title>CHAPTER 16</dc:title>
</cp:coreProperties>
</file>