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97C-541C-46F8-B4C1-45738A6B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8BC-DF0C-4A1C-9359-3B237FC5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019-7D99-41B2-9CA8-0BE56D55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015-F6B6-42D1-8DDE-7919571F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B186-B4FF-44B7-BD42-1357786A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C271-56BA-43B1-8AA8-E0145F56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F0FA-2E4E-435B-B2BB-E4E0FC8D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A4CA-EA44-4CE9-8B17-A222E8F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A312-5364-4C82-A8BB-69FEEA6F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CEC7-A44F-4040-B3B2-BBF4D813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91AF-D6D5-484B-AB93-8059BB45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0AB-445C-4345-ADE0-989249CF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D29E-1286-4319-883C-36FBBAC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2A6E-D07E-47E0-B467-65893946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FF00-E78B-4D88-B6DF-D441E610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4370-1884-4DD1-BE47-9736D5D4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6C07-E325-43EB-9154-94B7BA0A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AEF3-62EE-403B-981C-BB23D7FD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6B21-BD8A-4A20-9EA1-3927165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EFA2-82AF-47E5-A8CE-06047CF5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4818-3C70-4EB4-9ECA-5E56674C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7A13-F528-45C1-929A-395C3D85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AB5-F53B-4FCC-B8C6-AE1DA944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8D8C-400D-4F9D-B1D5-75C3C05E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F69E-D70D-4D37-BBB7-2876C49A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ACEE-E92D-402C-89C5-1953F5D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F452-ACAC-49FF-AE15-57B1F7D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AD5C-998B-47BC-9A63-979B0E67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73DE-4B02-475B-8B94-1D8ECA2A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4B26-4CB9-4A78-8BDC-58E507B7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DEEF-DB50-4E29-852F-B4BE57CE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5412-2A73-43F4-8A59-FF6DBC05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AFE8-5D11-4FD3-AD94-EA4B954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547-9C6F-4E16-BF1D-9E6AB596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AEDF-8D41-44FA-997F-1BC356F5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808B-E536-4702-8A5C-7980EA98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A050-8495-4846-B474-71966AA2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2620-0715-41C3-A2D4-B537B8D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37A2-13EC-4CCB-BF3A-7104D140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E5E1B-7FE2-4E8A-85FF-8F9215C7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FF844-59E3-4894-968F-A4388FC8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9BBE4-DBFE-4829-87FD-4886D226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7B2C-9E9A-474D-97EE-4C25021E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724-EC7F-41FC-9E00-44BBD170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A0F-F4F5-4E38-ACA5-65C15837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897-A187-4A00-9093-9921BD1E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0A1-EBB9-4C62-84C3-FC0FC5B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D7B-1591-4463-A312-3DF961B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0565-E8C1-49E5-AAB4-3184054E96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707-6B14-4B58-AA78-0049BACF56C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E11D-D0FB-4EB9-9129-E95A56E1155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AB3C-51FD-4E85-BE7E-7E1405BD135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69292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Example 3: Determination of M</a:t>
            </a:r>
            <a:r>
              <a:rPr b="1" lang="en-US" sz="3600" spc="-1" strike="noStrike" baseline="-25000">
                <a:solidFill>
                  <a:srgbClr val="04617b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81160" y="706320"/>
            <a:ext cx="8624880" cy="81756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9"/>
          <p:cNvGrpSpPr/>
          <p:nvPr/>
        </p:nvGrpSpPr>
        <p:grpSpPr>
          <a:xfrm>
            <a:off x="285840" y="4638600"/>
            <a:ext cx="8429400" cy="2076480"/>
            <a:chOff x="285840" y="4638600"/>
            <a:chExt cx="8429400" cy="2076480"/>
          </a:xfrm>
        </p:grpSpPr>
        <p:pic>
          <p:nvPicPr>
            <p:cNvPr id="198" name="Picture 5" descr=""/>
            <p:cNvPicPr/>
            <p:nvPr/>
          </p:nvPicPr>
          <p:blipFill>
            <a:blip r:embed="rId2"/>
            <a:stretch/>
          </p:blipFill>
          <p:spPr>
            <a:xfrm>
              <a:off x="285840" y="4638600"/>
              <a:ext cx="842724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" descr=""/>
            <p:cNvPicPr/>
            <p:nvPr/>
          </p:nvPicPr>
          <p:blipFill>
            <a:blip r:embed="rId3"/>
            <a:stretch/>
          </p:blipFill>
          <p:spPr>
            <a:xfrm>
              <a:off x="285840" y="5924880"/>
              <a:ext cx="8429400" cy="79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4255920" y="1643040"/>
            <a:ext cx="460224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3"/>
          <p:cNvGrpSpPr/>
          <p:nvPr/>
        </p:nvGrpSpPr>
        <p:grpSpPr>
          <a:xfrm>
            <a:off x="214200" y="1714680"/>
            <a:ext cx="4050360" cy="2846160"/>
            <a:chOff x="214200" y="1714680"/>
            <a:chExt cx="4050360" cy="2846160"/>
          </a:xfrm>
        </p:grpSpPr>
        <p:pic>
          <p:nvPicPr>
            <p:cNvPr id="202" name="Picture 3" descr=""/>
            <p:cNvPicPr/>
            <p:nvPr/>
          </p:nvPicPr>
          <p:blipFill>
            <a:blip r:embed="rId5"/>
            <a:stretch/>
          </p:blipFill>
          <p:spPr>
            <a:xfrm>
              <a:off x="214200" y="1714680"/>
              <a:ext cx="3834000" cy="28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11"/>
            <p:cNvSpPr/>
            <p:nvPr/>
          </p:nvSpPr>
          <p:spPr>
            <a:xfrm>
              <a:off x="3504600" y="292896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= 3/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3143520" y="3000600"/>
              <a:ext cx="1071360" cy="214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69292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Example 4: Pavement Thickness</a:t>
            </a: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142920" y="857160"/>
            <a:ext cx="8858160" cy="81036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iven 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= 10,000 psi (69 MPa) and ESAL =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design the thickness of a pavement with a HMA surface over a type-II emulsifies asphalt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4"/>
          <p:cNvGrpSpPr/>
          <p:nvPr/>
        </p:nvGrpSpPr>
        <p:grpSpPr>
          <a:xfrm>
            <a:off x="264960" y="1785960"/>
            <a:ext cx="8164800" cy="4765680"/>
            <a:chOff x="264960" y="1785960"/>
            <a:chExt cx="8164800" cy="4765680"/>
          </a:xfrm>
        </p:grpSpPr>
        <p:pic>
          <p:nvPicPr>
            <p:cNvPr id="208" name="Picture 2" descr=""/>
            <p:cNvPicPr/>
            <p:nvPr/>
          </p:nvPicPr>
          <p:blipFill>
            <a:blip r:embed="rId1"/>
            <a:stretch/>
          </p:blipFill>
          <p:spPr>
            <a:xfrm>
              <a:off x="264960" y="1785960"/>
              <a:ext cx="8164800" cy="4765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9" name="Straight Arrow Connector 11"/>
            <p:cNvCxnSpPr/>
            <p:nvPr/>
          </p:nvCxnSpPr>
          <p:spPr>
            <a:xfrm flipV="1">
              <a:off x="5376960" y="3712320"/>
              <a:ext cx="2160" cy="1429560"/>
            </a:xfrm>
            <a:prstGeom prst="straightConnector1">
              <a:avLst/>
            </a:prstGeom>
            <a:ln w="34920">
              <a:solidFill>
                <a:srgbClr val="ff000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10" name="Straight Arrow Connector 13"/>
            <p:cNvCxnSpPr/>
            <p:nvPr/>
          </p:nvCxnSpPr>
          <p:spPr>
            <a:xfrm>
              <a:off x="1050120" y="3622680"/>
              <a:ext cx="4358520" cy="2160"/>
            </a:xfrm>
            <a:prstGeom prst="straightConnector1">
              <a:avLst/>
            </a:prstGeom>
            <a:ln w="34920">
              <a:solidFill>
                <a:srgbClr val="ff0000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11" name="TextBox 15"/>
          <p:cNvSpPr/>
          <p:nvPr/>
        </p:nvSpPr>
        <p:spPr>
          <a:xfrm>
            <a:off x="4227120" y="5786280"/>
            <a:ext cx="47390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mbined thickness = 10.5 inch (267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2152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Cont. Example 4: Pavement Thickness</a:t>
            </a: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57120" y="658800"/>
            <a:ext cx="8358120" cy="7642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lculate the minimum HMA thickness = 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 i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lculate the thickness of emulsified asphalt base = 10.5 -3 =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7.5 i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57160" y="3422520"/>
          <a:ext cx="7715520" cy="3435480"/>
        </p:xfrm>
        <a:graphic>
          <a:graphicData uri="http://schemas.openxmlformats.org/drawingml/2006/table">
            <a:tbl>
              <a:tblPr/>
              <a:tblGrid>
                <a:gridCol w="3522600"/>
                <a:gridCol w="1943280"/>
                <a:gridCol w="2249640"/>
              </a:tblGrid>
              <a:tr h="490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ffic  Level  ES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 II and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9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15" name="Rectangle 1"/>
          <p:cNvSpPr/>
          <p:nvPr/>
        </p:nvSpPr>
        <p:spPr>
          <a:xfrm>
            <a:off x="428760" y="2958120"/>
            <a:ext cx="82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Thickness of Asphalt Concrete Over  Emulsified Asphalt B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2"/>
          <p:cNvCxnSpPr/>
          <p:nvPr/>
        </p:nvCxnSpPr>
        <p:spPr>
          <a:xfrm flipV="1">
            <a:off x="2999880" y="5571360"/>
            <a:ext cx="4072680" cy="540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217" name="Rectangle 14"/>
          <p:cNvSpPr/>
          <p:nvPr/>
        </p:nvSpPr>
        <p:spPr>
          <a:xfrm>
            <a:off x="2286000" y="5286240"/>
            <a:ext cx="714240" cy="4287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53"/>
          <p:cNvGrpSpPr/>
          <p:nvPr/>
        </p:nvGrpSpPr>
        <p:grpSpPr>
          <a:xfrm>
            <a:off x="2790360" y="1558800"/>
            <a:ext cx="4254840" cy="1369080"/>
            <a:chOff x="2790360" y="1558800"/>
            <a:chExt cx="4254840" cy="1369080"/>
          </a:xfrm>
        </p:grpSpPr>
        <p:sp>
          <p:nvSpPr>
            <p:cNvPr id="219" name="Straight Connector 19"/>
            <p:cNvSpPr/>
            <p:nvPr/>
          </p:nvSpPr>
          <p:spPr>
            <a:xfrm>
              <a:off x="3571920" y="1701720"/>
              <a:ext cx="22860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20"/>
            <p:cNvSpPr/>
            <p:nvPr/>
          </p:nvSpPr>
          <p:spPr>
            <a:xfrm>
              <a:off x="3571920" y="1925640"/>
              <a:ext cx="22860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38"/>
            <p:cNvGrpSpPr/>
            <p:nvPr/>
          </p:nvGrpSpPr>
          <p:grpSpPr>
            <a:xfrm>
              <a:off x="3571560" y="2559600"/>
              <a:ext cx="2286000" cy="142920"/>
              <a:chOff x="3571560" y="2559600"/>
              <a:chExt cx="2286000" cy="142920"/>
            </a:xfrm>
          </p:grpSpPr>
          <p:sp>
            <p:nvSpPr>
              <p:cNvPr id="222" name="Straight Connector 21"/>
              <p:cNvSpPr/>
              <p:nvPr/>
            </p:nvSpPr>
            <p:spPr>
              <a:xfrm>
                <a:off x="3571560" y="2559600"/>
                <a:ext cx="2286000" cy="144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Group 28"/>
              <p:cNvGrpSpPr/>
              <p:nvPr/>
            </p:nvGrpSpPr>
            <p:grpSpPr>
              <a:xfrm>
                <a:off x="4642560" y="2559960"/>
                <a:ext cx="1000080" cy="142560"/>
                <a:chOff x="4642560" y="2559960"/>
                <a:chExt cx="1000080" cy="142560"/>
              </a:xfrm>
            </p:grpSpPr>
            <p:sp>
              <p:nvSpPr>
                <p:cNvPr id="224" name="Straight Connector 23"/>
                <p:cNvSpPr/>
                <p:nvPr/>
              </p:nvSpPr>
              <p:spPr>
                <a:xfrm flipH="1">
                  <a:off x="542844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Straight Connector 24"/>
                <p:cNvSpPr/>
                <p:nvPr/>
              </p:nvSpPr>
              <p:spPr>
                <a:xfrm flipH="1">
                  <a:off x="528552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Straight Connector 25"/>
                <p:cNvSpPr/>
                <p:nvPr/>
              </p:nvSpPr>
              <p:spPr>
                <a:xfrm flipH="1">
                  <a:off x="507096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Straight Connector 26"/>
                <p:cNvSpPr/>
                <p:nvPr/>
              </p:nvSpPr>
              <p:spPr>
                <a:xfrm flipH="1">
                  <a:off x="485676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Straight Connector 27"/>
                <p:cNvSpPr/>
                <p:nvPr/>
              </p:nvSpPr>
              <p:spPr>
                <a:xfrm flipH="1">
                  <a:off x="464256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29"/>
              <p:cNvGrpSpPr/>
              <p:nvPr/>
            </p:nvGrpSpPr>
            <p:grpSpPr>
              <a:xfrm>
                <a:off x="3642480" y="2559960"/>
                <a:ext cx="1000080" cy="142560"/>
                <a:chOff x="3642480" y="2559960"/>
                <a:chExt cx="1000080" cy="142560"/>
              </a:xfrm>
            </p:grpSpPr>
            <p:sp>
              <p:nvSpPr>
                <p:cNvPr id="230" name="Straight Connector 30"/>
                <p:cNvSpPr/>
                <p:nvPr/>
              </p:nvSpPr>
              <p:spPr>
                <a:xfrm flipH="1">
                  <a:off x="442836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Straight Connector 31"/>
                <p:cNvSpPr/>
                <p:nvPr/>
              </p:nvSpPr>
              <p:spPr>
                <a:xfrm flipH="1">
                  <a:off x="428544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Straight Connector 32"/>
                <p:cNvSpPr/>
                <p:nvPr/>
              </p:nvSpPr>
              <p:spPr>
                <a:xfrm flipH="1">
                  <a:off x="407088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Straight Connector 33"/>
                <p:cNvSpPr/>
                <p:nvPr/>
              </p:nvSpPr>
              <p:spPr>
                <a:xfrm flipH="1">
                  <a:off x="385668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Straight Connector 34"/>
                <p:cNvSpPr/>
                <p:nvPr/>
              </p:nvSpPr>
              <p:spPr>
                <a:xfrm flipH="1">
                  <a:off x="364248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" name="TextBox 36"/>
            <p:cNvSpPr/>
            <p:nvPr/>
          </p:nvSpPr>
          <p:spPr>
            <a:xfrm>
              <a:off x="4008600" y="255960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gr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7"/>
            <p:cNvSpPr/>
            <p:nvPr/>
          </p:nvSpPr>
          <p:spPr>
            <a:xfrm>
              <a:off x="6076800" y="2058840"/>
              <a:ext cx="67464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traight Connector 40"/>
            <p:cNvSpPr/>
            <p:nvPr/>
          </p:nvSpPr>
          <p:spPr>
            <a:xfrm flipH="1">
              <a:off x="3355920" y="1630080"/>
              <a:ext cx="1440" cy="9306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42"/>
            <p:cNvSpPr/>
            <p:nvPr/>
          </p:nvSpPr>
          <p:spPr>
            <a:xfrm>
              <a:off x="3214440" y="1630080"/>
              <a:ext cx="2142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traight Connector 43"/>
            <p:cNvSpPr/>
            <p:nvPr/>
          </p:nvSpPr>
          <p:spPr>
            <a:xfrm>
              <a:off x="3214440" y="1914480"/>
              <a:ext cx="2142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44"/>
            <p:cNvSpPr/>
            <p:nvPr/>
          </p:nvSpPr>
          <p:spPr>
            <a:xfrm>
              <a:off x="3214440" y="2557440"/>
              <a:ext cx="2142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5"/>
            <p:cNvSpPr/>
            <p:nvPr/>
          </p:nvSpPr>
          <p:spPr>
            <a:xfrm>
              <a:off x="3571920" y="1630080"/>
              <a:ext cx="2286000" cy="28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46"/>
            <p:cNvSpPr/>
            <p:nvPr/>
          </p:nvSpPr>
          <p:spPr>
            <a:xfrm>
              <a:off x="3571920" y="1915920"/>
              <a:ext cx="2286000" cy="642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35"/>
            <p:cNvSpPr/>
            <p:nvPr/>
          </p:nvSpPr>
          <p:spPr>
            <a:xfrm>
              <a:off x="6078240" y="1630080"/>
              <a:ext cx="9669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Straight Arrow Connector 48"/>
            <p:cNvCxnSpPr>
              <a:stCxn id="243" idx="1"/>
              <a:endCxn id="241" idx="3"/>
            </p:cNvCxnSpPr>
            <p:nvPr/>
          </p:nvCxnSpPr>
          <p:spPr>
            <a:xfrm flipH="1" flipV="1">
              <a:off x="5857200" y="1772640"/>
              <a:ext cx="21492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Straight Arrow Connector 49"/>
            <p:cNvCxnSpPr/>
            <p:nvPr/>
          </p:nvCxnSpPr>
          <p:spPr>
            <a:xfrm flipH="1" flipV="1">
              <a:off x="5857200" y="2160000"/>
              <a:ext cx="21492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6" name="TextBox 50"/>
            <p:cNvSpPr/>
            <p:nvPr/>
          </p:nvSpPr>
          <p:spPr>
            <a:xfrm>
              <a:off x="2790360" y="155880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1"/>
            <p:cNvSpPr/>
            <p:nvPr/>
          </p:nvSpPr>
          <p:spPr>
            <a:xfrm rot="16200000">
              <a:off x="2802960" y="20592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.5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www.slurry.com/images/stories/cont_slurry5.jpg"/>
          <p:cNvPicPr/>
          <p:nvPr/>
        </p:nvPicPr>
        <p:blipFill>
          <a:blip r:embed="rId1"/>
          <a:stretch/>
        </p:blipFill>
        <p:spPr>
          <a:xfrm>
            <a:off x="4788000" y="3575160"/>
            <a:ext cx="4089240" cy="2801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4768920" y="736560"/>
            <a:ext cx="3514680" cy="3591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ttp://www.cpmamerica.com/images/SlurrySeal2.jpg"/>
          <p:cNvPicPr/>
          <p:nvPr/>
        </p:nvPicPr>
        <p:blipFill>
          <a:blip r:embed="rId3"/>
          <a:stretch/>
        </p:blipFill>
        <p:spPr>
          <a:xfrm>
            <a:off x="987480" y="3700440"/>
            <a:ext cx="3809880" cy="2828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http://www.cpmamerica.com/images/SlurrySeal5.jpg"/>
          <p:cNvPicPr/>
          <p:nvPr/>
        </p:nvPicPr>
        <p:blipFill>
          <a:blip r:embed="rId4"/>
          <a:stretch/>
        </p:blipFill>
        <p:spPr>
          <a:xfrm>
            <a:off x="969840" y="1019160"/>
            <a:ext cx="3810240" cy="27147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7"/>
          <p:cNvSpPr/>
          <p:nvPr/>
        </p:nvSpPr>
        <p:spPr>
          <a:xfrm>
            <a:off x="142920" y="214200"/>
            <a:ext cx="87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ed as a cold mix asphalt = Fine aggregate + Emul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Marshall Method- Numerical Example</a:t>
            </a:r>
            <a:endParaRPr b="0" lang="en-US" sz="32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71280" y="928800"/>
            <a:ext cx="8961480" cy="869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749160" y="1920960"/>
            <a:ext cx="7540920" cy="284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1536840" y="4638600"/>
            <a:ext cx="580860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6072120" y="2286000"/>
            <a:ext cx="2986200" cy="4287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5637240" cy="1194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71280" y="4621320"/>
            <a:ext cx="6593040" cy="2093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070680" y="71280"/>
            <a:ext cx="2930400" cy="2359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3286080" y="2214720"/>
            <a:ext cx="2738520" cy="2373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6"/>
          <a:stretch/>
        </p:blipFill>
        <p:spPr>
          <a:xfrm>
            <a:off x="69840" y="214200"/>
            <a:ext cx="61452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429080" y="1428840"/>
            <a:ext cx="3149640" cy="4394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571680" y="2000160"/>
            <a:ext cx="32684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ksu</cp:lastModifiedBy>
  <dcterms:modified xsi:type="dcterms:W3CDTF">2013-05-18T13:09:32Z</dcterms:modified>
  <cp:revision>71</cp:revision>
  <dc:subject/>
  <dc:title>CHAPTER 16</dc:title>
</cp:coreProperties>
</file>