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F42-1E15-4EDD-A034-92ADF9B6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2A1-DFA2-46AD-A069-5A87C08F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D43-3549-41BC-B3F5-4635D046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10BF-20BA-43F7-B8AF-DC525EC3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3999-4F72-485E-9F35-D51CC0E0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13F4-78E8-4F9E-9AA1-3211C332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584-9114-4C76-B0F9-FA7F3271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11BD-B8CC-4897-AB2A-923D953A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EB76-A896-4180-8180-0C4DDA41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E2B-593F-4B11-999A-7E01711B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A88B-8E7A-4B92-8B53-6F7EC81A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494-7BEC-4F5B-883B-DE7849E1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17C5-1C02-4943-8176-8C266FC43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trinsarc.com/download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stalling and Using Evol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lve is written in Java and runs on any system with Java 1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Evolve fr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ntrinsarc.com/downlo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zip the distribution into a directory and you should see the following set of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vigating Around the Tutoria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abs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volve uses a tabbed graphical interf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current in new t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he Tool Palette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tools used to define compone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he Size of a Diagram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 enlarge the diagram simply drag a figure to the edge of the diagra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Keys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le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eferences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dit Environment Preferen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asting into a Wordprocessor: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control 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nd pasted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control 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Full Screen Mode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le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ggle full screen OR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F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ubjects and Views and the Subject Brows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lve is a powerful and versatile CASE tool, and adopts common CASE tool con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underlying data of a component or other model element. Deleting 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however, will delete all it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view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vie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graphical presentation of this shown on a diagram. Deleting 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vie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ll not delete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u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bjects and Views and the Subject Brows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629928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304920" y="14479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an delete views by selecting them and invoking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dit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Delet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380880" y="2895480"/>
            <a:ext cx="221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re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ubjec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all its views, however, we need to pres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 invok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dit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bject Brow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rams allow us to see graphical views of subj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look at the subjects directly, however, we instead use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ubject brow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an item on the screen and invok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Object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rowse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bject Brow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5962680" cy="332424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304920" y="15238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ft tree shows the strata of th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457200" y="27432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bottom left tree shows the elements in the 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lected st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33520" y="4419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ight hand pane shows the details of the selected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nning A Backbone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ad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ar-rental.evol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dle-click on the base stratum to navigate int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, “tag” the current stratum to indicate that we want to run it 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ackbone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ag current stratu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choose the 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ackbone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un Backbone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u 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ackbone runner 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867640" cy="4167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1600200" y="57150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his all works, your installation is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ve direc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081080" y="1600200"/>
            <a:ext cx="6981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Evol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several ways to run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are using Windows, you can double-click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volve.ex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create a shortcut, drag it to the desktop, and double-click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are using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inux or MacO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n you may be able to double-click the executabl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volve.j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lve from the command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java -jar evolve.j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ve on start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518148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943600" y="14479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artup diagram shows a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trat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taining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ackbo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efinitions. Every model builds on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6095880" y="27432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may like to change the Swing look and feel used for Evol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191120" y="6019920"/>
            <a:ext cx="43434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Up The 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4343400" cy="371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5172120" cy="422928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304920" y="5029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olve environment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Up The 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886200" y="1676520"/>
            <a:ext cx="5076720" cy="4076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80880" y="16002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first need to add a variabl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B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which will be where Evolve writes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ackbone fil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457200" y="28954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h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A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oint i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utorial\CarRent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irectory of the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4038480" y="59436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ting up the BB and othe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457200" y="4495680"/>
            <a:ext cx="2895480" cy="99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st Java using Backbone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vigating Around the Tutoria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vigate to the tutorial directory of the installation, and select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ar-rental.evol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7848720" cy="551664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685800" y="5867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olve models ar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XML fil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Files with a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evolve extensi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uncompress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To create a compressed model choose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evolvez extensi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sav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vigating Around the Tutoria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vigating into Str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visit into a stratum, double-click it, or alternatively middle-click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g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ackwar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orwar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 diagram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previous diagram or View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next dia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6:32:28Z</dcterms:created>
  <dc:creator>ccis-hpdx2300-26</dc:creator>
  <dc:description/>
  <dc:language>en-US</dc:language>
  <cp:lastModifiedBy>Nasir</cp:lastModifiedBy>
  <dcterms:modified xsi:type="dcterms:W3CDTF">2013-11-27T08:05:27Z</dcterms:modified>
  <cp:revision>34</cp:revision>
  <dc:subject/>
  <dc:title>Evolve</dc:title>
</cp:coreProperties>
</file>