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D2F-2660-4094-AE54-840BDC8E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156C-DDC0-4A87-82AD-56D58CBC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20D-EA08-40BA-97E1-53CB21EC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060-532E-40C8-896A-E8A1A674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8D8-E7E5-476E-8136-BB62ABF2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2AB-289C-4C40-91E7-51EF3ED2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2FC-49C8-41AA-8306-0F2AD209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32F2-E4C0-4476-9C89-1A5D6F43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C45B-D23B-478A-B16F-BA0657D7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301-B75B-4E5F-8BBB-29E83914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38F-7A20-4E11-9759-97A5E68E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B69-5173-44E3-B8E6-F1853B15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75A6-53FD-457E-8A3B-38CC9C277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rinsarc.com/download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stalling and Using Evol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ve is written in Java and runs on any system with Java 1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Evolve fr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ntrinsarc.com/downlo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zip the distribution into a directory and you should see the following set of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vigating Around the Tutoria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abs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volve uses a tabbed graphical interf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en current in new t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he Tool Palette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tools used to define compon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he Size of a Diagram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 enlarge the diagram simply drag a figure to the edge of the diagra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Keys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le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eferences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dit Environment Preferen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asting into a Wordprocessor: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control 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nd pasted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control 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Full Screen Mode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le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ggle full screen OR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F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ubjects and Views and the Subject Brows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ve is a powerful and versatile CASE tool, and adopts common CASE tool co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underlying data of a component or other model element. Deleting 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however, will delete all it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iew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ie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graphical presentation of this shown on a diagram. Deleting 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vie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ll not delete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u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bjects and Views and the Subject Brows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629928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304920" y="14479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 delete views by selecting them and invoking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dit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elet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380880" y="2895480"/>
            <a:ext cx="221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re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ubjec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all its views, however, we need to pres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ele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invok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dit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bject Brow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rams allow us to see graphical views of subj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look at the subjects directly, however, we instead use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ubject brow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an item on the screen and invok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bject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rowse e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bject Brow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5962680" cy="3324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304920" y="15238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ft tree shows the strata of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457200" y="27432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bottom left tree shows the elements in the 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lected st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533520" y="4419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ight hand pane shows the details of the selected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nning A Backbone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ad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r-rental.evol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le-click on the base stratum to navigate into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st, “tag” the current stratum to indicate that we want to run it 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ackbone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ag current stratu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choose the 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ackbone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un Backbone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u 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ackbone runner 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867640" cy="4167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1600200" y="57150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is all works, your installation is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ve direc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081080" y="1600200"/>
            <a:ext cx="6981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Evol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several ways to run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are using Windows, you can double-click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volve.ex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create a shortcut, drag it to the desktop, and double-click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are using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inux or MacO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n you may be able to double-click the executabl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volve.j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olve from the command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java -jar evolve.j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ve on star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518148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943600" y="14479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artup diagram shows a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rat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taining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ackb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finitions. Every model builds on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6095880" y="27432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may like to change the Swing look and feel used for Evol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191120" y="6019920"/>
            <a:ext cx="43434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Up The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4343400" cy="371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5172120" cy="422928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304920" y="5029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olve environment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tting Up The Enviro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5076720" cy="4076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80880" y="16002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first need to add a variabl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which will be where Evolve writes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ackbone fil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57200" y="2895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h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A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oint i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utorial\CarRent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irectory of the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4038480" y="59436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ting up the BB and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457200" y="4495680"/>
            <a:ext cx="2895480" cy="99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st Java using Backbone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vigating Around the Tutoria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e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vigate to the tutorial directory of the installation, and select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r-rental.evol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7848720" cy="5516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685800" y="5867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olve models ar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ML fi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Files with a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evolve extens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uncompress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To create a compressed model choose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.evolvez extensio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sav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vigating Around the Tutoria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vigating into Str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visit into a stratum, double-click it, or alternatively middle-click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g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backwar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war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the diagram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previous diagram or View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next dia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6:32:28Z</dcterms:created>
  <dc:creator>ccis-hpdx2300-26</dc:creator>
  <dc:description/>
  <dc:language>en-US</dc:language>
  <cp:lastModifiedBy>Nasir</cp:lastModifiedBy>
  <dcterms:modified xsi:type="dcterms:W3CDTF">2013-11-27T08:05:27Z</dcterms:modified>
  <cp:revision>34</cp:revision>
  <dc:subject/>
  <dc:title>Evolve</dc:title>
</cp:coreProperties>
</file>