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065A-E290-4735-8976-ACA88127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7C7-C3B4-4808-AD4C-F896CCA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CAE-55E4-45C0-9FA7-23CAB9BF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34A-3D8B-4D8F-95E5-E0AB51D5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D34-C0BC-4FA0-B0D9-E6ED2ADE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537-A256-426A-A7C2-EF8C41BC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634-A067-432A-AE41-0D862337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A1D-2705-4AC6-9392-AE60201C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ED1-5B39-4768-97B2-A84640EA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148-408D-48D9-88C0-AFC4F9C4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843-E8AC-4430-BAD4-0E53BAC8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DB0-1AA1-4947-A498-AA61387C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680F-75ED-4A76-A2A1-4E6026711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2666880" y="3808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verview of the Tuto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33520" y="1219320"/>
            <a:ext cx="807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tratum defines the components for representing rental c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 how to generate Java class skeletons from leaf components and also how to roundtrip these so that any code added in an IDE is not l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how to use the Bean Importer to update the leaves if the structure of the Java classes is modified extern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shown how to register for lifecycle callbacks, and various ways to execute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emb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troduces resemblance, which is a form of structural inheritance between compon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685800" y="228600"/>
            <a:ext cx="807732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ol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troduces evolution, which builds on resemblance to allow an existing component to be globally and incrementally altered, without destroying the original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hows how to define state machi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omponents with the visual appearance and behavior of UML2 statecha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machines can be resembled and ev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hows how to dynamically instantiate compon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ally, factories are composite components where the internal parts and connectors are created on de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powerful approach that allows complex structures to be created easi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y are also components, factories can be resembled and evolved giving access to the full power of these constructs for dynamic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914400"/>
            <a:ext cx="815328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yper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ports are ports which cut through the compositional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low a part, at a high level in the hierarchy, to connect to any number of lower level pa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he Bean Importer to import the GWT widget classes into Evolve as le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vice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ice interfaces between the client and server are def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interfaces are implemented by the back-end and used by the front-end to retrieve information about the rental c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09480" y="914400"/>
            <a:ext cx="80773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wt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uilds the server as a set of Evolve compon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keeps track of the rental cars and who is rent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wt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builds the client as a set of GWT widgets, expressed as Evolve compon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isplays the rental cars, and allows new cars to be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ber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volves the gwtservice stratum to store the car rental information in a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the evolution construct to update the server to make it transact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6:32:28Z</dcterms:created>
  <dc:creator>ccis-hpdx2300-26</dc:creator>
  <dc:description/>
  <dc:language>en-US</dc:language>
  <cp:lastModifiedBy>Nasir</cp:lastModifiedBy>
  <dcterms:modified xsi:type="dcterms:W3CDTF">2013-11-25T05:58:28Z</dcterms:modified>
  <cp:revision>39</cp:revision>
  <dc:subject/>
  <dc:title>Evolve</dc:title>
</cp:coreProperties>
</file>