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ABC-2690-45A7-A06F-CA84EF2A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71B-E2E7-45CC-93D4-A8FE39D0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66-B570-4BEE-BC63-C14594AF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A27-7C7C-42EF-B1B2-2F95D9E2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EBB-200F-42B8-AEFF-8FBA2C6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463-4908-433A-8AC8-50A6D26E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369-4313-4475-8C51-8B66EBB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8D0-DCA9-478C-B2B6-EC88ADD2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433-DFA7-4169-9DE6-1C2E3BD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7C9-C58A-436C-A71F-1B4B986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79A-8335-41E5-A4CD-027F6DCD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C94-31A1-4237-9D63-39572F0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773-DD2F-4A41-AEFB-E35CC4AC6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666880" y="380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view of the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3520" y="121932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ratum defines the components for representing rental c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how to generate Java class skeletons from leaf components and also how to roundtrip these so that any code added in an IDE is not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how to use the Bean Importer to update the leaves if the structure of the Java classes is modified extern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shown how to register for lifecycle callbacks, and various ways to execute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em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troduces resemblance, which is a form of structural inheritance between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685800" y="228600"/>
            <a:ext cx="80773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troduces evolution, which builds on resemblance to allow an existing component to be globally and incrementally altered, without destroying the original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hows how to define state machi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ponents with the visual appearance and behavior of UML2 statecha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machines can be resembled and e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hows how to dynamically instantiat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, factories are composite components where the internal parts and connectors are created on de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powerful approach that allows complex structures to be created easi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y are also components, factories can be resembled and evolved giving access to the full power of these constructs for dynamic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914400"/>
            <a:ext cx="8153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yper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ports are ports which cut through the compositional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ow a part, at a high level in the hierarchy, to connect to any number of lower level pa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he Bean Importer to import the GWT widget classes into Evolve as le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vic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 interfaces between the client and server are 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nterfaces are implemented by the back-end and used by the front-end to retrieve information about the rental c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09480" y="914400"/>
            <a:ext cx="8077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uilds the server as a set of Evolv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keeps track of the rental cars and who is rent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uilds the client as a set of GWT widgets, expressed as Evolv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isplays the rental cars, and allows new cars to b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ber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volves the gwtservice stratum to store the car rental information in a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evolution construct to update the server to make it transac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32:28Z</dcterms:created>
  <dc:creator>ccis-hpdx2300-26</dc:creator>
  <dc:description/>
  <dc:language>en-US</dc:language>
  <cp:lastModifiedBy>Nasir</cp:lastModifiedBy>
  <dcterms:modified xsi:type="dcterms:W3CDTF">2013-11-25T05:58:28Z</dcterms:modified>
  <cp:revision>39</cp:revision>
  <dc:subject/>
  <dc:title>Evolve</dc:title>
</cp:coreProperties>
</file>