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1C0-CDDD-4ADD-994B-2BFA3528C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E101-DFB3-427D-A4E7-31BF9CD0A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7409-2C49-454D-A2AC-104A9F8BC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984-BE1E-4FF5-B51D-63AE3D0D2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2D6-7BF4-4697-AF53-AE6E28B4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131-7253-4BD3-94D5-AC209A5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F98-8053-45F9-8800-3A727B6E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112-4A4D-476C-92FA-2A7C70D7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08E-61EA-4FE3-9F0B-C8A19EA2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1B8A-5A11-4B57-9A44-40D5D824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10C4-7B67-403F-9A82-335D59B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B3A1-C9DF-45A3-8E19-0660601F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3BB-07C2-482F-97FB-9446BEB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968D-7834-49F7-AE8B-AC61BAC9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CBF-72DE-4550-9A4A-E6C5F2E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D8B-1706-4EC5-B73A-0E8FA3A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618-F059-44CC-8951-7F2D4FE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2967-DF37-402D-98BF-9B2A160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70B-84EC-48F6-BCC1-DC32392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960C-3519-4B76-B9CC-EFF6673F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8DD-59D0-4A38-BAFF-1BEDA497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ACD07-EA08-4C1D-8479-97F81136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41FC6-6278-4753-95F6-6B71832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E4392-0D68-4E6E-B9BE-F753F49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65159-F5CF-436C-845C-81636D98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351E5-8BF6-488A-A1A5-B00436D2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9A7-F020-4C6C-B948-E20FE1A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98FCF-BB0F-41B7-9F3F-B764329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E8440-A6CE-43D5-A204-3BBAD24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8F20D-AB0D-46CC-ABF1-7338C7F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E1496-6855-4A3D-9516-89ADC8C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82C5F-2EDF-4F53-B572-EA0C1BA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30E15-0B9B-4BA8-B6DA-F8B00140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6D7E4-7E86-47CB-801E-23617727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1C98-7D26-4143-B253-247A0EA8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3A06-364E-4219-A308-D686490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C179-BA2D-49F5-93FE-2BFA0C31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BA5-37DB-48F4-B1F3-F8F5D71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5ACC-EBD6-4F03-A964-72A477E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3973-B293-4BF7-9FCE-F0C6756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640A-8CB5-42C6-B20E-4C27297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08F3-81C7-4584-96AF-83AEA976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1EF3-248B-46C3-9DF0-2CEDE4F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FEB2-1015-4009-8B00-6E34E62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ACEA-87D4-4A5A-8EDD-BDD483C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52CD-B2B0-4414-B130-2B6A866D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3682-C336-4A6C-9EB5-E28ADBC2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8AE-C4B5-4096-915C-458A73D4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9BB-9D0E-4C1B-AD23-ADE2F78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603-71CF-4FAD-BDC0-D191020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0D7-F928-4BCA-B9D7-38FED66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2CB-0C8C-423B-BF85-BC3E850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FFB-41EF-40E8-91C2-B63025A7F4E7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D0BD-33CA-49F8-B8FF-E9750D480309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AD56-0DFC-48BB-9CFC-E64F28D21D29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2E62-9E84-4216-A0E5-6D444CBE8E2C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almobty@ksu.edu.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yllabu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1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 Semester: 1436/ 143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SW Project Management(CT1413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SW Project Management(CT1413)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Rabab Almobty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fac.ksu.edu.sa/ralmobty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ralmobty@ksu.edu.s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ice hou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Sunday (1-2), Wednesday (1-2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ctur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Sunday (12-1),Wednesday(9-11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b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hursday (1-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53548a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53548a"/>
                </a:solidFill>
                <a:uFillTx/>
                <a:latin typeface="Arial"/>
                <a:ea typeface="Arial"/>
              </a:rPr>
              <a:t>Text Boo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wer, Jeffrey L., Dittman, Kevin C., Methods of IT Project Management, Prentice Hall (Pearson), ISBN: 978-0-13-236725-7,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thy Schwalbe , Information Technology Project Management, 6th edition ,Thomson Course Technology , ISBN: 10-0-324-78692-1, ISBN-13: 978032478692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7f09"/>
                </a:solidFill>
                <a:uFillTx/>
                <a:latin typeface="Arial"/>
                <a:ea typeface="Arial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S Project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7f09"/>
                </a:solidFill>
                <a:uFillTx/>
                <a:latin typeface="Arial"/>
                <a:ea typeface="Arial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ides, lecture, notes, and the text b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Assessment Plan for the Course</a:t>
            </a: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:</a:t>
            </a:r>
            <a:br>
              <a:rPr sz="3600"/>
            </a:br>
            <a:r>
              <a:rPr b="0" sz="3600" spc="-1" strike="noStrike">
                <a:solidFill>
                  <a:srgbClr val="424456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8380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izzes                    10%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dterm  exams      3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ments &amp; lab  10% 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                     1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l Exam            4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                      10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Course Topics</a:t>
            </a: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76520"/>
          <a:ext cx="8229600" cy="4800600"/>
        </p:xfrm>
        <a:graphic>
          <a:graphicData uri="http://schemas.openxmlformats.org/drawingml/2006/table">
            <a:tbl>
              <a:tblPr/>
              <a:tblGrid>
                <a:gridCol w="835200"/>
                <a:gridCol w="739440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ek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1: Intro to PM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2:Systems View /Methodolo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3:The Project Management Frame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4:Project Init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5.2:Project Scope and Human Resource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5.2:Project Scope and Human Resource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6.1.:Project Time and Cos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6.2: Project Time and Cos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7:Project Quality and Communications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8:Project Risk Managemen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9: Project Procuremen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10: Project Exec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ject discussio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457200" y="235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24456"/>
                </a:solidFill>
                <a:uFillTx/>
                <a:latin typeface="Trebuchet MS"/>
              </a:rPr>
              <a:t>Notes</a:t>
            </a:r>
            <a:r>
              <a:rPr b="0" lang="en-US" sz="2800" spc="-1" strike="noStrike" u="sng">
                <a:solidFill>
                  <a:srgbClr val="424456"/>
                </a:solidFill>
                <a:uFillTx/>
                <a:latin typeface="Trebuchet MS"/>
              </a:rPr>
              <a:t>: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Screen Shot 2015-08-29 at 10.27.02 PM.png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00:10:45Z</dcterms:created>
  <dc:creator>maram</dc:creator>
  <dc:description/>
  <dc:language>en-US</dc:language>
  <cp:lastModifiedBy>User</cp:lastModifiedBy>
  <dcterms:modified xsi:type="dcterms:W3CDTF">2016-01-26T18:05:29Z</dcterms:modified>
  <cp:revision>8</cp:revision>
  <dc:subject/>
  <dc:title>Syllabus</dc:title>
</cp:coreProperties>
</file>