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6D4E-4FAF-47CA-87F3-BC3F0405A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A667-5D0A-4369-8B11-08F5C86EC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EC1F-0794-47ED-A250-D74B57B6B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B373-9667-4E9A-A262-44507F242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B89A-607B-487B-857E-FEFDD1DD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666A-939D-40FB-AEB2-01C0C69A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B4C8-0BAC-4504-8ECB-89AE0E50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9AD-E2A7-43EF-B9E0-754D2CF1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AC86-7932-4CC7-A81A-E08E9ECB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44D0-E731-4A3C-92BB-A547721B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88C2-2BCF-4E9F-8247-5C022360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5F51-6F3C-4DCE-89BD-4FDE2A5C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AA85-95EA-419A-80BA-89294514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1207-69F5-437D-ADFE-74E54F3D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5F45-D1F8-42A3-B10C-ECAF7A17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2FF-5949-43A4-8E13-37769462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25A8-4251-49C9-98A5-7650C0A3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0A31-1B1E-4659-802E-C3C21F6B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D28C-2EA0-4415-9FA9-F04D30F5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0F22-D576-4EF8-AFA6-2B9422BC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8152-1F59-4213-AB25-40229EE6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C74FB-B933-45AC-896C-8788B2ED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A3CC0-8452-4A8E-AD79-A5A6DD65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C181A-7D8D-4271-95FA-9B03B7D8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BD449-FC0E-44B4-9841-B2D64552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1146A-D2F6-49E9-A996-32CDCBD9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DA50-FCF7-4A17-B791-FE021F1C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794ED-B891-427F-A264-903059E6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B546C-DDE0-4CDB-8039-515F6B12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AF560-46E9-4830-A32F-63A8FD51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B1E86-0994-4E90-BA04-183451A2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403AA-DE2E-48A7-BC4E-BD59D72A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4F3AD-86F0-4D7A-B8B8-9AAD4B45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2E4F7-C37F-48EB-A6AB-58459860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9F9B2-67F9-4E3C-BFDD-4539490C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DF293-9421-438A-AEF4-F8947619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8F73C-CBC9-4B55-8427-55B92F32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5651-CF61-4087-8429-4C36097D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E075D-AB9A-4631-837F-A629DEFE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36D5D-B228-4994-8610-C4A38DC6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42E63-D6C4-42B3-8305-B29295E1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B4E0C-B4CD-45C3-8901-A490F6FF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1D3C0-30A6-4515-BEAD-EBC0A93F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AB3F4-B22F-427F-921E-44A329F7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56394-12E4-48F1-BEC0-30016CD6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C61E9-54BA-4BE8-94CE-681A28C9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0F6AF-7B19-474E-A64E-3D29206F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4EA5-B3B5-4E96-B504-88D3A7B0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FF04-1307-4F3D-ABBB-E128F308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724D-5EDD-4F42-832B-6938A4BC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BB92-512B-4474-A4F4-CE972E82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98C5-1BF0-47DB-AE13-3D68DEAB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26B2-6474-4084-9BE2-095FD91039CA}" type="slidenum">
              <a:rPr b="0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C616-D114-4225-9CBC-2AAB40A54B79}" type="slidenum">
              <a:rPr b="0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CA14-B04B-421D-9AB7-EB655048EA27}" type="slidenum">
              <a:rPr b="0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CE19-DC93-4AD9-95DD-2A96F1912D08}" type="slidenum">
              <a:rPr b="0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ralmobty@ksu.edu.s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yllabu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Georgia"/>
              </a:rPr>
              <a:t>2</a:t>
            </a:r>
            <a:r>
              <a:rPr b="1" lang="en-US" sz="2400" spc="-1" strike="noStrike" baseline="30000">
                <a:solidFill>
                  <a:srgbClr val="424456"/>
                </a:solidFill>
                <a:latin typeface="Georgia"/>
              </a:rPr>
              <a:t>nd</a:t>
            </a:r>
            <a:r>
              <a:rPr b="1" lang="en-US" sz="2400" spc="-1" strike="noStrike">
                <a:solidFill>
                  <a:srgbClr val="424456"/>
                </a:solidFill>
                <a:latin typeface="Georgia"/>
              </a:rPr>
              <a:t> Semester: 1436/ 143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Georgia"/>
              </a:rPr>
              <a:t>SW Project Management(CT1413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SW Project Management(CT1413)</a:t>
            </a: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ruct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Rabab Almobty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fac.ksu.edu.sa/ralmobty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1"/>
              </a:rPr>
              <a:t>ralmobty@ksu.edu.s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fice hou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Sunday (1-2), Wednesday (1-2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cture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Sunday (12-1),Wednesday(9-11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b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Thursday (1-3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53548a"/>
                </a:solidFill>
                <a:latin typeface="Arial"/>
                <a:ea typeface="Arial"/>
              </a:rPr>
              <a:t> </a:t>
            </a:r>
            <a:r>
              <a:rPr b="1" lang="en-US" sz="2400" spc="-1" strike="noStrike" u="sng">
                <a:solidFill>
                  <a:srgbClr val="53548a"/>
                </a:solidFill>
                <a:uFillTx/>
                <a:latin typeface="Arial"/>
                <a:ea typeface="Arial"/>
              </a:rPr>
              <a:t>Text Book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ewer, Jeffrey L., Dittman, Kevin C., Methods of IT Project Management, Prentice Hall (Pearson), ISBN: 978-0-13-236725-7, 20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thy Schwalbe , Information Technology Project Management, 6th edition ,Thomson Course Technology , ISBN: 10-0-324-78692-1, ISBN-13: 978032478692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07f09"/>
                </a:solidFill>
                <a:uFillTx/>
                <a:latin typeface="Arial"/>
                <a:ea typeface="Arial"/>
              </a:rPr>
              <a:t>Softwar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S Project 20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07f09"/>
                </a:solidFill>
                <a:uFillTx/>
                <a:latin typeface="Arial"/>
                <a:ea typeface="Arial"/>
              </a:rPr>
              <a:t>Referenc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lides, lecture, notes, and the text boo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 u="sng">
                <a:solidFill>
                  <a:srgbClr val="424456"/>
                </a:solidFill>
                <a:uFillTx/>
                <a:latin typeface="Arial"/>
                <a:ea typeface="Arial"/>
              </a:rPr>
              <a:t>Assessment Plan for the Course</a:t>
            </a:r>
            <a:r>
              <a:rPr b="1" lang="en-US" sz="3600" spc="-1" strike="noStrike" u="sng">
                <a:solidFill>
                  <a:srgbClr val="424456"/>
                </a:solidFill>
                <a:uFillTx/>
                <a:latin typeface="Arial"/>
                <a:ea typeface="Arial"/>
              </a:rPr>
              <a:t>:</a:t>
            </a:r>
            <a:br>
              <a:rPr sz="3600"/>
            </a:br>
            <a:r>
              <a:rPr b="0" sz="3600" spc="-1" strike="noStrike">
                <a:solidFill>
                  <a:srgbClr val="424456"/>
                </a:solidFill>
                <a:latin typeface="Arial"/>
                <a:ea typeface="Arial"/>
              </a:rPr>
              <a:t> 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838080"/>
            <a:ext cx="818352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izzes                    10% 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dterm  exams      30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signments &amp; lab  10%  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ject                     10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nal Exam            40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tal                      100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424456"/>
                </a:solidFill>
                <a:uFillTx/>
                <a:latin typeface="Arial"/>
                <a:ea typeface="Arial"/>
              </a:rPr>
              <a:t>Course Topics</a:t>
            </a:r>
            <a:r>
              <a:rPr b="1" lang="en-US" sz="3600" spc="-1" strike="noStrike" u="sng">
                <a:solidFill>
                  <a:srgbClr val="424456"/>
                </a:solidFill>
                <a:uFillTx/>
                <a:latin typeface="Arial"/>
                <a:ea typeface="Arial"/>
              </a:rPr>
              <a:t>: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1676520"/>
          <a:ext cx="8229600" cy="4800600"/>
        </p:xfrm>
        <a:graphic>
          <a:graphicData uri="http://schemas.openxmlformats.org/drawingml/2006/table">
            <a:tbl>
              <a:tblPr/>
              <a:tblGrid>
                <a:gridCol w="835200"/>
                <a:gridCol w="7394400"/>
              </a:tblGrid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Week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#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op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1: Intro to PM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8463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2:Systems View /Methodolo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3:The Project Management Frame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4:Project Init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5.2:Project Scope and Human Resource Plan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5.2:Project Scope and Human Resource Plan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6.1.:Project Time and Cost Plan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6.2: Project Time and Cost Plan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7:Project Quality and Communications Plan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8:Project Risk Management Plan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034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9: Project Procurement Plan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apter10: Project Execu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evie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oject discussion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sp>
        <p:nvSpPr>
          <p:cNvPr id="230" name="Rectangle 1"/>
          <p:cNvSpPr/>
          <p:nvPr/>
        </p:nvSpPr>
        <p:spPr>
          <a:xfrm>
            <a:off x="457200" y="235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24456"/>
                </a:solidFill>
                <a:uFillTx/>
                <a:latin typeface="Trebuchet MS"/>
              </a:rPr>
              <a:t>Notes</a:t>
            </a:r>
            <a:r>
              <a:rPr b="0" lang="en-US" sz="2800" spc="-1" strike="noStrike" u="sng">
                <a:solidFill>
                  <a:srgbClr val="424456"/>
                </a:solidFill>
                <a:uFillTx/>
                <a:latin typeface="Trebuchet MS"/>
              </a:rPr>
              <a:t>: 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Content Placeholder 3" descr="Screen Shot 2015-08-29 at 10.27.02 PM.png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3T00:10:45Z</dcterms:created>
  <dc:creator>maram</dc:creator>
  <dc:description/>
  <dc:language>en-US</dc:language>
  <cp:lastModifiedBy>User</cp:lastModifiedBy>
  <dcterms:modified xsi:type="dcterms:W3CDTF">2016-01-26T18:05:29Z</dcterms:modified>
  <cp:revision>8</cp:revision>
  <dc:subject/>
  <dc:title>Syllabus</dc:title>
</cp:coreProperties>
</file>