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1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39E53-3CB7-425B-8137-AA04DD1BE05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C1D1D-E974-4784-B29C-C30DE13F1B1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9196-A015-4F56-9FD9-C6D1BFB3B24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167D-399B-4DC9-BCB5-88D1D081A6C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690F8-9954-4B32-A7E7-9BAEB183499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1CC1-93DC-450A-9DB8-EAB19A5975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91CF2-03F6-491C-BEF9-0B5875D7F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92D94-86CD-43C6-903D-27D8F6468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DB932-7E32-4D9C-8133-62CBE25B3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0C209-8B48-40EA-918E-54F780BDC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39C34-B581-4618-AC99-42D82C08C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F55E5-ACFC-4CD3-9EC9-F1D05321F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DCA1E-605B-4D5B-AE56-EFA05026D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3288E-35AA-4613-A374-3A70FBC15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FBF69-F0A4-4E15-A3B5-E798FD741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04228-EFC0-46B4-9DAB-ED7C2F2C8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CA346-FFF8-4CDB-9DE8-EDA464A59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60661-B7C6-472F-9B54-491182A89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678E7-2D5C-4CBA-9B9F-38C0F5241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D3337-1B41-44BC-969D-13D21364F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BAD71-F9E2-4530-AFA0-7FE4B56754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F6C86-DBD6-4B00-940D-2D7529CF1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867D02-AFC7-40CD-9187-6B52AB8464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C79CA7-25E6-4D45-86AC-B44F111FB5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74790C-129E-49F0-9FBB-07A79B65F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05B039-F77D-46E1-9687-ABE1C1526C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EA906-6530-47E4-A9E6-D82890D689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09CF6-0AEC-4D37-B454-7EB264F4A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D5EFA-E13E-44AB-9BAD-DE93CE96B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1EDF20-B92F-4C46-82F4-38DFF629F8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25F61-CE51-45FD-9AAA-C2A3581EDE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F5DEA-C110-4B6B-BCBB-EDBD6D049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A8593-B2EC-4DDE-A6AF-1BCED9E15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80DE8-123C-47F5-B9A9-84B45F668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BFF229-D34F-491E-9933-337E520F19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142738-0344-410C-A7F2-B8C98DFA10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B56423-6A63-4453-A6A6-451F35B625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3"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740C77-19FB-4DBE-B2D4-4BED87F196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5"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C3711C-1AC0-46D5-B41F-9508617FF9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CC7FB-D611-47FC-BB69-3AF087A2D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7"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8"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BCA807-DF74-4BAF-8768-97F31F2C1A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DB151B-4DD5-4447-B866-76D5A13879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A2B189-882D-413A-B903-8457C1EF4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4"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D5D9C4-DB0F-4FF1-9D7D-7430E10D3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8"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BC8C1C-8071-4121-8A51-9AA9DF10C3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0"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FD863E-BD15-4775-88C8-C4711F7FD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4"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5"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2E7B4-96E3-460A-8184-7299CBABAC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0"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8727C2-B28F-427F-8DBD-B1F4BD1977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2"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DC40AC-C4D0-4DC1-8C11-B992EBB6D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FB79F-5CAA-4C35-B588-6ADEEDD5F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2C7DA-80EF-4A70-8A56-FD37F20C9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B345A-CB66-4F0E-8BE6-88436633B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5C7FB-77AD-4E28-A7AA-B7B668E0D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CE5C6-A2C1-4080-9471-C25730E03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20840" y="433440"/>
            <a:ext cx="8302320" cy="5486400"/>
            <a:chOff x="420840" y="433440"/>
            <a:chExt cx="8302320" cy="5486400"/>
          </a:xfrm>
        </p:grpSpPr>
        <p:pic>
          <p:nvPicPr>
            <p:cNvPr id="2" name="Rounded Rectangle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25816-D41C-4096-A2D6-192049BE7CA8}" type="slidenum">
              <a:rPr b="0" lang="ar-SA"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20840" y="433440"/>
            <a:ext cx="8302320" cy="3108240"/>
            <a:chOff x="420840" y="433440"/>
            <a:chExt cx="8302320" cy="3108240"/>
          </a:xfrm>
        </p:grpSpPr>
        <p:pic>
          <p:nvPicPr>
            <p:cNvPr id="47" name="Rounded Rectangle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BCF4-B208-49EB-8646-6B2C32ED9910}" type="slidenum">
              <a:rPr b="0" lang="ar-SA"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20840" y="433440"/>
            <a:ext cx="8302320" cy="4340160"/>
            <a:chOff x="420840" y="433440"/>
            <a:chExt cx="8302320" cy="4340160"/>
          </a:xfrm>
        </p:grpSpPr>
        <p:pic>
          <p:nvPicPr>
            <p:cNvPr id="92" name="Rounded Rectangle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267F-7E05-47A3-9BF0-C2CB815C605A}" type="slidenum">
              <a:rPr b="0" lang="ar-SA"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8"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9"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6369-79C0-4EE7-84AA-236CA2354413}" type="slidenum">
              <a:rPr b="0" lang="ar-SA" sz="1000" spc="-1" strike="noStrike">
                <a:solidFill>
                  <a:srgbClr val="a7a39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4"/>
          <p:cNvGrpSpPr/>
          <p:nvPr/>
        </p:nvGrpSpPr>
        <p:grpSpPr>
          <a:xfrm>
            <a:off x="343080" y="5918040"/>
            <a:ext cx="8457840" cy="838080"/>
            <a:chOff x="343080" y="5918040"/>
            <a:chExt cx="8457840" cy="838080"/>
          </a:xfrm>
        </p:grpSpPr>
        <p:grpSp>
          <p:nvGrpSpPr>
            <p:cNvPr id="186" name="Group 12"/>
            <p:cNvGrpSpPr/>
            <p:nvPr/>
          </p:nvGrpSpPr>
          <p:grpSpPr>
            <a:xfrm>
              <a:off x="343080" y="5918040"/>
              <a:ext cx="8457840" cy="838080"/>
              <a:chOff x="343080" y="5918040"/>
              <a:chExt cx="8457840" cy="838080"/>
            </a:xfrm>
          </p:grpSpPr>
          <p:sp>
            <p:nvSpPr>
              <p:cNvPr id="187" name="AutoShape 11"/>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189" name="Group 8"/>
              <p:cNvGrpSpPr/>
              <p:nvPr/>
            </p:nvGrpSpPr>
            <p:grpSpPr>
              <a:xfrm>
                <a:off x="7874640" y="5956200"/>
                <a:ext cx="889200" cy="761760"/>
                <a:chOff x="7874640" y="5956200"/>
                <a:chExt cx="889200" cy="761760"/>
              </a:xfrm>
            </p:grpSpPr>
            <p:pic>
              <p:nvPicPr>
                <p:cNvPr id="190" name="Picture 9" descr="me%20logo2"/>
                <p:cNvPicPr/>
                <p:nvPr/>
              </p:nvPicPr>
              <p:blipFill>
                <a:blip r:embed="rId2"/>
                <a:stretch/>
              </p:blipFill>
              <p:spPr>
                <a:xfrm>
                  <a:off x="7874640" y="5956200"/>
                  <a:ext cx="889200" cy="761760"/>
                </a:xfrm>
                <a:prstGeom prst="rect">
                  <a:avLst/>
                </a:prstGeom>
                <a:ln w="0">
                  <a:noFill/>
                </a:ln>
              </p:spPr>
            </p:pic>
            <p:sp>
              <p:nvSpPr>
                <p:cNvPr id="191" name="Text Box 10"/>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192" name="Text Box 13"/>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Mechanical Engineering Department, King Saud University, P.O. Box 800, Riyadh 11421, Saudi Arabia</a:t>
              </a:r>
              <a:r>
                <a:rPr b="0" lang="en-US" sz="1800" spc="-1" strike="noStrike">
                  <a:solidFill>
                    <a:srgbClr val="000000"/>
                  </a:solidFill>
                  <a:latin typeface="Arial"/>
                </a:rPr>
                <a:t> </a:t>
              </a:r>
              <a:endParaRPr b="0" lang="en-US" sz="1800" spc="-1" strike="noStrike">
                <a:solidFill>
                  <a:srgbClr val="000000"/>
                </a:solidFill>
                <a:latin typeface="Arial"/>
              </a:endParaRPr>
            </a:p>
          </p:txBody>
        </p:sp>
      </p:grpSp>
      <p:pic>
        <p:nvPicPr>
          <p:cNvPr id="193" name="Picture 11" descr=""/>
          <p:cNvPicPr/>
          <p:nvPr/>
        </p:nvPicPr>
        <p:blipFill>
          <a:blip r:embed="rId3"/>
          <a:stretch/>
        </p:blipFill>
        <p:spPr>
          <a:xfrm>
            <a:off x="620640" y="1951200"/>
            <a:ext cx="7900920" cy="296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Group 2"/>
          <p:cNvGrpSpPr/>
          <p:nvPr/>
        </p:nvGrpSpPr>
        <p:grpSpPr>
          <a:xfrm>
            <a:off x="380880" y="5791320"/>
            <a:ext cx="8457840" cy="838080"/>
            <a:chOff x="380880" y="5791320"/>
            <a:chExt cx="8457840" cy="838080"/>
          </a:xfrm>
        </p:grpSpPr>
        <p:grpSp>
          <p:nvGrpSpPr>
            <p:cNvPr id="195" name="Group 3"/>
            <p:cNvGrpSpPr/>
            <p:nvPr/>
          </p:nvGrpSpPr>
          <p:grpSpPr>
            <a:xfrm>
              <a:off x="380880" y="5791320"/>
              <a:ext cx="8457840" cy="838080"/>
              <a:chOff x="380880" y="5791320"/>
              <a:chExt cx="8457840" cy="838080"/>
            </a:xfrm>
          </p:grpSpPr>
          <p:sp>
            <p:nvSpPr>
              <p:cNvPr id="196" name="AutoShape 4"/>
              <p:cNvSpPr/>
              <p:nvPr/>
            </p:nvSpPr>
            <p:spPr>
              <a:xfrm>
                <a:off x="380880" y="579132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5" descr="ksulogo"/>
              <p:cNvPicPr/>
              <p:nvPr/>
            </p:nvPicPr>
            <p:blipFill>
              <a:blip r:embed="rId1"/>
              <a:stretch/>
            </p:blipFill>
            <p:spPr>
              <a:xfrm>
                <a:off x="461160" y="5829480"/>
                <a:ext cx="805320" cy="761760"/>
              </a:xfrm>
              <a:prstGeom prst="rect">
                <a:avLst/>
              </a:prstGeom>
              <a:ln w="9360">
                <a:solidFill>
                  <a:srgbClr val="ff0000"/>
                </a:solidFill>
                <a:miter/>
              </a:ln>
            </p:spPr>
          </p:pic>
          <p:grpSp>
            <p:nvGrpSpPr>
              <p:cNvPr id="198" name="Group 6"/>
              <p:cNvGrpSpPr/>
              <p:nvPr/>
            </p:nvGrpSpPr>
            <p:grpSpPr>
              <a:xfrm>
                <a:off x="7912440" y="5829480"/>
                <a:ext cx="889200" cy="761760"/>
                <a:chOff x="7912440" y="5829480"/>
                <a:chExt cx="889200" cy="761760"/>
              </a:xfrm>
            </p:grpSpPr>
            <p:pic>
              <p:nvPicPr>
                <p:cNvPr id="199" name="Picture 7" descr="me%20logo2"/>
                <p:cNvPicPr/>
                <p:nvPr/>
              </p:nvPicPr>
              <p:blipFill>
                <a:blip r:embed="rId2"/>
                <a:stretch/>
              </p:blipFill>
              <p:spPr>
                <a:xfrm>
                  <a:off x="7912440" y="5829480"/>
                  <a:ext cx="889200" cy="761760"/>
                </a:xfrm>
                <a:prstGeom prst="rect">
                  <a:avLst/>
                </a:prstGeom>
                <a:ln w="0">
                  <a:noFill/>
                </a:ln>
              </p:spPr>
            </p:pic>
            <p:sp>
              <p:nvSpPr>
                <p:cNvPr id="200" name="Text Box 8"/>
                <p:cNvSpPr/>
                <p:nvPr/>
              </p:nvSpPr>
              <p:spPr>
                <a:xfrm>
                  <a:off x="8031240" y="6424560"/>
                  <a:ext cx="747720" cy="12024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201" name="Text Box 9"/>
            <p:cNvSpPr/>
            <p:nvPr/>
          </p:nvSpPr>
          <p:spPr>
            <a:xfrm>
              <a:off x="1358640" y="593100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Mechanical Engineering Department, King Saud University, P.O. Box 800, Riyadh 11421, Saudi Arabia</a:t>
              </a:r>
              <a:r>
                <a:rPr b="0" lang="en-US" sz="1800" spc="-1" strike="noStrike">
                  <a:solidFill>
                    <a:srgbClr val="000000"/>
                  </a:solidFill>
                  <a:latin typeface="Arial"/>
                </a:rPr>
                <a:t> </a:t>
              </a:r>
              <a:endParaRPr b="0" lang="en-US" sz="1800" spc="-1" strike="noStrike">
                <a:solidFill>
                  <a:srgbClr val="000000"/>
                </a:solidFill>
                <a:latin typeface="Arial"/>
              </a:endParaRPr>
            </a:p>
          </p:txBody>
        </p:sp>
      </p:grpSp>
      <p:graphicFrame>
        <p:nvGraphicFramePr>
          <p:cNvPr id="202" name=""/>
          <p:cNvGraphicFramePr/>
          <p:nvPr/>
        </p:nvGraphicFramePr>
        <p:xfrm>
          <a:off x="228600" y="380880"/>
          <a:ext cx="8305920" cy="6309000"/>
        </p:xfrm>
        <a:graphic>
          <a:graphicData uri="http://schemas.openxmlformats.org/drawingml/2006/table">
            <a:tbl>
              <a:tblPr/>
              <a:tblGrid>
                <a:gridCol w="1981080"/>
                <a:gridCol w="6324840"/>
              </a:tblGrid>
              <a:tr h="549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talog Da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 493  Polymer Engineering                                             4 (3,1,2)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759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lymer Structures, Hydrocarbon Molecules, Polymer Molecules, The Chemistry of Polymer Molecules, Thermoplastic and Thermosetting Polymers, Copolymers, Polymer Crystallinity, Polymer Crystals, Defects in Polymers, Diffusion in Polymeric Materials, Characteristics, Applications, and Processing of Polymers, MECHANICAL BEHAVIOR OF POLYMERS, Stress–Strain Behavior, Macroscopic Deformation, Viscoelastic Deformation, Fracture of, Polymers, Miscellaneous Mechanical Characteristics, MECHANISMS OF DEFORMATION AND FOR  STRENGTHENING OF POLYMERS, CRYSTALLIZATION, TRANSITION PHENOMENA IN POLYMERS, Melting and Glass Transition Temperatures, POLYMER TYPES, Plastics, Elastomers, Fibers, Miscellaneous Applications, Advanced Polymeric Materials, Polymer-Matrix Composi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2"/>
          <p:cNvGrpSpPr/>
          <p:nvPr/>
        </p:nvGrpSpPr>
        <p:grpSpPr>
          <a:xfrm>
            <a:off x="343080" y="5918040"/>
            <a:ext cx="8457840" cy="838080"/>
            <a:chOff x="343080" y="5918040"/>
            <a:chExt cx="8457840" cy="838080"/>
          </a:xfrm>
        </p:grpSpPr>
        <p:grpSp>
          <p:nvGrpSpPr>
            <p:cNvPr id="204" name="Group 3"/>
            <p:cNvGrpSpPr/>
            <p:nvPr/>
          </p:nvGrpSpPr>
          <p:grpSpPr>
            <a:xfrm>
              <a:off x="343080" y="5918040"/>
              <a:ext cx="8457840" cy="838080"/>
              <a:chOff x="343080" y="5918040"/>
              <a:chExt cx="8457840" cy="838080"/>
            </a:xfrm>
          </p:grpSpPr>
          <p:sp>
            <p:nvSpPr>
              <p:cNvPr id="205"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207" name="Group 6"/>
              <p:cNvGrpSpPr/>
              <p:nvPr/>
            </p:nvGrpSpPr>
            <p:grpSpPr>
              <a:xfrm>
                <a:off x="7874640" y="5956200"/>
                <a:ext cx="889200" cy="761760"/>
                <a:chOff x="7874640" y="5956200"/>
                <a:chExt cx="889200" cy="761760"/>
              </a:xfrm>
            </p:grpSpPr>
            <p:pic>
              <p:nvPicPr>
                <p:cNvPr id="208" name="Picture 7" descr="me%20logo2"/>
                <p:cNvPicPr/>
                <p:nvPr/>
              </p:nvPicPr>
              <p:blipFill>
                <a:blip r:embed="rId2"/>
                <a:stretch/>
              </p:blipFill>
              <p:spPr>
                <a:xfrm>
                  <a:off x="7874640" y="5956200"/>
                  <a:ext cx="889200" cy="761760"/>
                </a:xfrm>
                <a:prstGeom prst="rect">
                  <a:avLst/>
                </a:prstGeom>
                <a:ln w="0">
                  <a:noFill/>
                </a:ln>
              </p:spPr>
            </p:pic>
            <p:sp>
              <p:nvSpPr>
                <p:cNvPr id="209"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210"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Mechanical Engineering Department, King Saud University, P.O. Box 800, Riyadh 11421, Saudi Arabia</a:t>
              </a:r>
              <a:r>
                <a:rPr b="0" lang="en-US" sz="1800" spc="-1" strike="noStrike">
                  <a:solidFill>
                    <a:srgbClr val="000000"/>
                  </a:solidFill>
                  <a:latin typeface="Arial"/>
                </a:rPr>
                <a:t> </a:t>
              </a:r>
              <a:endParaRPr b="0" lang="en-US" sz="1800" spc="-1" strike="noStrike">
                <a:solidFill>
                  <a:srgbClr val="000000"/>
                </a:solidFill>
                <a:latin typeface="Arial"/>
              </a:endParaRPr>
            </a:p>
          </p:txBody>
        </p:sp>
      </p:grpSp>
      <p:graphicFrame>
        <p:nvGraphicFramePr>
          <p:cNvPr id="211" name=""/>
          <p:cNvGraphicFramePr/>
          <p:nvPr/>
        </p:nvGraphicFramePr>
        <p:xfrm>
          <a:off x="401760" y="258840"/>
          <a:ext cx="8340480" cy="5608440"/>
        </p:xfrm>
        <a:graphic>
          <a:graphicData uri="http://schemas.openxmlformats.org/drawingml/2006/table">
            <a:tbl>
              <a:tblPr/>
              <a:tblGrid>
                <a:gridCol w="1828800"/>
                <a:gridCol w="466560"/>
                <a:gridCol w="6045120"/>
              </a:tblGrid>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umber of Credit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3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Level:</a:t>
                      </a:r>
                      <a:r>
                        <a:rPr b="1" lang="en-US" sz="1600" spc="-1" strike="noStrike">
                          <a:solidFill>
                            <a:srgbClr val="000000"/>
                          </a:solidFill>
                          <a:latin typeface="Verdan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requisite by Cours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E25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requisites by Topic:</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terials Engineering</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xtbook:</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terials Science and Engineering - An Introduction, W.D. Callister, John Wile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cCrum, Buckley, Bucknall, «Principles of Polymer Engineering, Oxford Science, 2nd edition 199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ferenc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sswald and Menges, «Materials Science of Polymers for Engineers, Hanser, 2nd edition 200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Laboratory Schedule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hree 50 minutes lectures, one and 50-minute recitation per week.</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83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ssessment tool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omework----------------------------------------------------------  2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wo mid-term exams---------------------------------------------- 4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inal exam----------------------------------------------------------  4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87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ate of Preparation</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07/04/143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343080" y="5918040"/>
            <a:ext cx="8457840" cy="838080"/>
            <a:chOff x="343080" y="5918040"/>
            <a:chExt cx="8457840" cy="838080"/>
          </a:xfrm>
        </p:grpSpPr>
        <p:grpSp>
          <p:nvGrpSpPr>
            <p:cNvPr id="213" name="Group 3"/>
            <p:cNvGrpSpPr/>
            <p:nvPr/>
          </p:nvGrpSpPr>
          <p:grpSpPr>
            <a:xfrm>
              <a:off x="343080" y="5918040"/>
              <a:ext cx="8457840" cy="838080"/>
              <a:chOff x="343080" y="5918040"/>
              <a:chExt cx="8457840" cy="838080"/>
            </a:xfrm>
          </p:grpSpPr>
          <p:sp>
            <p:nvSpPr>
              <p:cNvPr id="214"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216" name="Group 6"/>
              <p:cNvGrpSpPr/>
              <p:nvPr/>
            </p:nvGrpSpPr>
            <p:grpSpPr>
              <a:xfrm>
                <a:off x="7874640" y="5956200"/>
                <a:ext cx="889200" cy="761760"/>
                <a:chOff x="7874640" y="5956200"/>
                <a:chExt cx="889200" cy="761760"/>
              </a:xfrm>
            </p:grpSpPr>
            <p:pic>
              <p:nvPicPr>
                <p:cNvPr id="217" name="Picture 7" descr="me%20logo2"/>
                <p:cNvPicPr/>
                <p:nvPr/>
              </p:nvPicPr>
              <p:blipFill>
                <a:blip r:embed="rId2"/>
                <a:stretch/>
              </p:blipFill>
              <p:spPr>
                <a:xfrm>
                  <a:off x="7874640" y="5956200"/>
                  <a:ext cx="889200" cy="761760"/>
                </a:xfrm>
                <a:prstGeom prst="rect">
                  <a:avLst/>
                </a:prstGeom>
                <a:ln w="0">
                  <a:noFill/>
                </a:ln>
              </p:spPr>
            </p:pic>
            <p:sp>
              <p:nvSpPr>
                <p:cNvPr id="218"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219"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Mechanical Engineering Department, King Saud University, P.O. Box 800, Riyadh 11421, Saudi Arabia</a:t>
              </a:r>
              <a:r>
                <a:rPr b="0" lang="en-US" sz="1800" spc="-1" strike="noStrike">
                  <a:solidFill>
                    <a:srgbClr val="000000"/>
                  </a:solidFill>
                  <a:latin typeface="Arial"/>
                </a:rPr>
                <a:t> </a:t>
              </a:r>
              <a:endParaRPr b="0" lang="en-US" sz="1800" spc="-1" strike="noStrike">
                <a:solidFill>
                  <a:srgbClr val="000000"/>
                </a:solidFill>
                <a:latin typeface="Arial"/>
              </a:endParaRPr>
            </a:p>
          </p:txBody>
        </p:sp>
      </p:grpSp>
      <p:graphicFrame>
        <p:nvGraphicFramePr>
          <p:cNvPr id="220" name=""/>
          <p:cNvGraphicFramePr/>
          <p:nvPr/>
        </p:nvGraphicFramePr>
        <p:xfrm>
          <a:off x="423720" y="932040"/>
          <a:ext cx="8034480" cy="4481280"/>
        </p:xfrm>
        <a:graphic>
          <a:graphicData uri="http://schemas.openxmlformats.org/drawingml/2006/table">
            <a:tbl>
              <a:tblPr/>
              <a:tblGrid>
                <a:gridCol w="592200"/>
                <a:gridCol w="4311720"/>
                <a:gridCol w="1042920"/>
                <a:gridCol w="957240"/>
                <a:gridCol w="1130400"/>
              </a:tblGrid>
              <a:tr h="426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pic Concept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uration (lectur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rticl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omework Proble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853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Polymer Struc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roduc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ydrocarbon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olymer Molecule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3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Chemistry of Polymer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lecular Weight, Molecular Shape, Molecular Structure, Molecular Configurat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39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rmoplastic and Thermosetting Polym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polymers, Polymer Crystallinity, Polymer Cryst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fects in Polymers, Diffusion in Polymeric Material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920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Characteristics, Applications, and Processing of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rodu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f3"/>
                          </a:solidFill>
                          <a:latin typeface="Times New Roman"/>
                          <a:ea typeface="Times New Roman"/>
                        </a:rPr>
                        <a:t>MECHANICAL BEHAVIOR OF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ress–Strain Behavi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croscopic De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scoelastic De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racture of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scellaneous Mechanical Characteristic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1" name="Group 2"/>
          <p:cNvGrpSpPr/>
          <p:nvPr/>
        </p:nvGrpSpPr>
        <p:grpSpPr>
          <a:xfrm>
            <a:off x="343080" y="5918040"/>
            <a:ext cx="8457840" cy="838080"/>
            <a:chOff x="343080" y="5918040"/>
            <a:chExt cx="8457840" cy="838080"/>
          </a:xfrm>
        </p:grpSpPr>
        <p:grpSp>
          <p:nvGrpSpPr>
            <p:cNvPr id="222" name="Group 3"/>
            <p:cNvGrpSpPr/>
            <p:nvPr/>
          </p:nvGrpSpPr>
          <p:grpSpPr>
            <a:xfrm>
              <a:off x="343080" y="5918040"/>
              <a:ext cx="8457840" cy="838080"/>
              <a:chOff x="343080" y="5918040"/>
              <a:chExt cx="8457840" cy="838080"/>
            </a:xfrm>
          </p:grpSpPr>
          <p:sp>
            <p:nvSpPr>
              <p:cNvPr id="223" name="AutoShape 4"/>
              <p:cNvSpPr/>
              <p:nvPr/>
            </p:nvSpPr>
            <p:spPr>
              <a:xfrm>
                <a:off x="343080" y="5918040"/>
                <a:ext cx="8457840" cy="838080"/>
              </a:xfrm>
              <a:prstGeom prst="roundRect">
                <a:avLst>
                  <a:gd name="adj" fmla="val 16667"/>
                </a:avLst>
              </a:prstGeom>
              <a:gradFill rotWithShape="0">
                <a:gsLst>
                  <a:gs pos="0">
                    <a:srgbClr val="000082"/>
                  </a:gs>
                  <a:gs pos="100000">
                    <a:srgbClr val="ff8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4" name="Picture 5" descr="ksulogo"/>
              <p:cNvPicPr/>
              <p:nvPr/>
            </p:nvPicPr>
            <p:blipFill>
              <a:blip r:embed="rId1"/>
              <a:stretch/>
            </p:blipFill>
            <p:spPr>
              <a:xfrm>
                <a:off x="423360" y="5956200"/>
                <a:ext cx="805320" cy="761760"/>
              </a:xfrm>
              <a:prstGeom prst="rect">
                <a:avLst/>
              </a:prstGeom>
              <a:ln w="9360">
                <a:solidFill>
                  <a:srgbClr val="ff0000"/>
                </a:solidFill>
                <a:miter/>
              </a:ln>
            </p:spPr>
          </p:pic>
          <p:grpSp>
            <p:nvGrpSpPr>
              <p:cNvPr id="225" name="Group 6"/>
              <p:cNvGrpSpPr/>
              <p:nvPr/>
            </p:nvGrpSpPr>
            <p:grpSpPr>
              <a:xfrm>
                <a:off x="7874640" y="5956200"/>
                <a:ext cx="889200" cy="761760"/>
                <a:chOff x="7874640" y="5956200"/>
                <a:chExt cx="889200" cy="761760"/>
              </a:xfrm>
            </p:grpSpPr>
            <p:pic>
              <p:nvPicPr>
                <p:cNvPr id="226" name="Picture 7" descr="me%20logo2"/>
                <p:cNvPicPr/>
                <p:nvPr/>
              </p:nvPicPr>
              <p:blipFill>
                <a:blip r:embed="rId2"/>
                <a:stretch/>
              </p:blipFill>
              <p:spPr>
                <a:xfrm>
                  <a:off x="7874640" y="5956200"/>
                  <a:ext cx="889200" cy="761760"/>
                </a:xfrm>
                <a:prstGeom prst="rect">
                  <a:avLst/>
                </a:prstGeom>
                <a:ln w="0">
                  <a:noFill/>
                </a:ln>
              </p:spPr>
            </p:pic>
            <p:sp>
              <p:nvSpPr>
                <p:cNvPr id="227" name="Text Box 8"/>
                <p:cNvSpPr/>
                <p:nvPr/>
              </p:nvSpPr>
              <p:spPr>
                <a:xfrm>
                  <a:off x="7993440" y="6551280"/>
                  <a:ext cx="747720" cy="12024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 spc="-1" strike="noStrike">
                      <a:solidFill>
                        <a:srgbClr val="000000"/>
                      </a:solidFill>
                      <a:latin typeface="Times New Roman"/>
                      <a:ea typeface="Times New Roman"/>
                    </a:rPr>
                    <a:t>    </a:t>
                  </a:r>
                  <a:r>
                    <a:rPr b="1" lang="ar-SA" sz="600" spc="-1" strike="noStrike">
                      <a:solidFill>
                        <a:srgbClr val="000000"/>
                      </a:solidFill>
                      <a:latin typeface="Times New Roman"/>
                      <a:cs typeface="Times New Roman"/>
                    </a:rPr>
                    <a:t>قسم الهندسة الميكانيكية</a:t>
                  </a:r>
                  <a:endParaRPr b="0" lang="en-US" sz="600" spc="-1" strike="noStrike">
                    <a:solidFill>
                      <a:srgbClr val="000000"/>
                    </a:solidFill>
                    <a:latin typeface="Arial"/>
                  </a:endParaRPr>
                </a:p>
              </p:txBody>
            </p:sp>
          </p:grpSp>
        </p:grpSp>
        <p:sp>
          <p:nvSpPr>
            <p:cNvPr id="228" name="Text Box 9"/>
            <p:cNvSpPr/>
            <p:nvPr/>
          </p:nvSpPr>
          <p:spPr>
            <a:xfrm>
              <a:off x="1320840" y="6057720"/>
              <a:ext cx="6477120" cy="58140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Mechanical Engineering Department, King Saud University, P.O. Box 800, Riyadh 11421, Saudi Arabia</a:t>
              </a:r>
              <a:r>
                <a:rPr b="0" lang="en-US" sz="1800" spc="-1" strike="noStrike">
                  <a:solidFill>
                    <a:srgbClr val="000000"/>
                  </a:solidFill>
                  <a:latin typeface="Arial"/>
                </a:rPr>
                <a:t> </a:t>
              </a:r>
              <a:endParaRPr b="0" lang="en-US" sz="1800" spc="-1" strike="noStrike">
                <a:solidFill>
                  <a:srgbClr val="000000"/>
                </a:solidFill>
                <a:latin typeface="Arial"/>
              </a:endParaRPr>
            </a:p>
          </p:txBody>
        </p:sp>
      </p:grpSp>
      <p:graphicFrame>
        <p:nvGraphicFramePr>
          <p:cNvPr id="229" name=""/>
          <p:cNvGraphicFramePr/>
          <p:nvPr/>
        </p:nvGraphicFramePr>
        <p:xfrm>
          <a:off x="757080" y="609480"/>
          <a:ext cx="8013960" cy="5005440"/>
        </p:xfrm>
        <a:graphic>
          <a:graphicData uri="http://schemas.openxmlformats.org/drawingml/2006/table">
            <a:tbl>
              <a:tblPr/>
              <a:tblGrid>
                <a:gridCol w="567000"/>
                <a:gridCol w="4246560"/>
                <a:gridCol w="990360"/>
                <a:gridCol w="1067040"/>
                <a:gridCol w="1143000"/>
              </a:tblGrid>
              <a:tr h="1279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f3"/>
                          </a:solidFill>
                          <a:latin typeface="Times New Roman"/>
                          <a:ea typeface="Times New Roman"/>
                        </a:rPr>
                        <a:t>MECHANISMS OF DEFORMATION AND FOR  STRENGTHENING OF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formation of Semicrystalline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s That Influence the Mechanical Properties of Semicrystalline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formation of Elastom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7078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f3"/>
                          </a:solidFill>
                          <a:latin typeface="Times New Roman"/>
                          <a:ea typeface="Times New Roman"/>
                        </a:rPr>
                        <a:t>CRYSTALLIZATION, MELTING, AND G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f3"/>
                          </a:solidFill>
                          <a:latin typeface="Times New Roman"/>
                          <a:ea typeface="Times New Roman"/>
                        </a:rPr>
                        <a:t>TRANSITION PHENOMENA IN POLY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rystalliz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l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Glass Transi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lting and Glass Transition Temperatur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s That Influence Melting and Glass Transition Temperature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40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6f3"/>
                          </a:solidFill>
                          <a:latin typeface="Times New Roman"/>
                          <a:ea typeface="Times New Roman"/>
                        </a:rPr>
                        <a:t>POLYMER TYP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lastics, Elastomers, Fibers, Miscellaneous, Applications, Advanced Polymeric Material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066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olymeriz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olymer Additiv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orming Techniques for Plasti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brication of Elastom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brication of Fibers and Fil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 cla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ll sectio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3110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olymer-Matrix Composite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 classe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ll sec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8:28:30Z</dcterms:created>
  <dc:creator>Dr. Khalil</dc:creator>
  <dc:description/>
  <dc:language>en-US</dc:language>
  <cp:lastModifiedBy>dell</cp:lastModifiedBy>
  <dcterms:modified xsi:type="dcterms:W3CDTF">2016-01-24T09:37:03Z</dcterms:modified>
  <cp:revision>394</cp:revision>
  <dc:subject/>
  <dc:title>Slide 1</dc:title>
</cp:coreProperties>
</file>