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BA8F-3374-4E8C-9EDA-1D375B4C7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0FC2-521D-4A4F-B96B-1A7EC83FE8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9962-749F-4F40-84F1-29BFA1C2A7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845B-C5FC-4750-A881-B61ED4E6C7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7123-A8B5-426D-B8AF-028E5BDF43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7D3E-1FC1-4AC6-AF84-4EC152E290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DF95-D0A4-494D-8E0A-A9AF9B8270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E577-7E19-4289-A67F-F2B94B66CA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162E-F2FA-4504-A404-8B479E9560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8691-6828-4301-AB65-437D8CD028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9E66-D8DC-4065-BAB4-90400F1A9A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D0AA-009E-4871-B55C-06833F801B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BD7C-92CE-4373-A23D-B81BC52441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61F2-9D5B-4F46-95E8-5C19CC1528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132F-ACF0-4730-83E6-79EE5EBD9E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7E41-12B9-4F52-B7BA-842A66C56F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1D5A-842A-4384-83B8-1CD7BFB178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D860-5B1E-429C-91A6-A1F5A3FE39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3D77-1AB4-49C8-AFD1-C4E2DA2107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778F-5A8F-44B2-B899-59A297F62C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11A5-D22B-4CB9-8EF1-151D58C37B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5246-A8DA-4616-AFF1-FD33BE0405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CB0E-BD13-4226-8285-E82CA60D07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ED16-C5A2-4F06-A527-CB01622E63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F92E-50B8-4372-A7A3-AB650892F2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84AF-8EA2-4BA8-8881-378A3019DF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5D4E-1D23-42DD-A6A6-4ED79097D5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CCF8-2979-403F-A493-B2392F357B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CB40-BC48-40B8-B35A-5704B7A3FE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4B9D-A17F-4E7D-B639-EEDB61D9D0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D373-35E3-4E4D-9DED-F8889FB282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ADCA-14A5-4787-B275-768149385D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8894-303D-4E72-AF56-E08B5D1999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1AD3-F971-4949-90C0-2E1C70F795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7F2-7965-45D1-BE83-4FF0E0AA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00E-E0C9-4976-B1AB-51A7FCD5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0D1-48AF-4DA8-857D-60827266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2D6-E402-4C66-A083-B488B432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D39E-5BFC-48CB-A2BB-BC4EF280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31B9-3AF8-4487-80AA-365B040E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F8F9-8DCC-4192-A2CF-7071C91B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E784-F9DD-41AA-8322-84EBF66F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1393-33DB-420A-A082-31B22159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F573-AF67-4D12-B6DB-CBA6DB37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C8A8-C8D6-45FA-9822-FF1FF4B1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2010-3350-4012-8293-A451DC9E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1771-327D-44F5-99E2-2CDCB336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866C-3BBC-489A-95CC-86C9274F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D21C-9099-4FDC-8AAE-AA1B8B0F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54AB-5F1B-4665-BD02-B9A69450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4BEF-D757-4B43-8460-7B8B5FF3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85D-8504-422D-AA11-E440A5DD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C30-7DB6-482F-AEBC-A825035F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7FB-067F-49D1-A53E-B60D9F75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9E8-FD79-4BD2-97BF-D9396C33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4E92-DEE0-40A6-B649-D456B941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3FA-BC74-4865-A438-78330BD3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A02-A82F-4A79-9F10-C9DE5763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A09B-2C2B-4696-8EAD-8DBEBB08A3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9FBD-C6D6-4932-BFE9-BF879A0C75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ymmetry Elements I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9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9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9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9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9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0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11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12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15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20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23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35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36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39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43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44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47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6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6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6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6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6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7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932040" y="5140440"/>
            <a:ext cx="26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4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7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8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9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895320" y="5746680"/>
            <a:ext cx="26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hy not 4mmm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5169960" y="3983760"/>
            <a:ext cx="2540880" cy="15652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287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9"/>
          <p:cNvGrpSpPr/>
          <p:nvPr/>
        </p:nvGrpSpPr>
        <p:grpSpPr>
          <a:xfrm>
            <a:off x="7203600" y="4878000"/>
            <a:ext cx="786240" cy="1087560"/>
            <a:chOff x="7203600" y="4878000"/>
            <a:chExt cx="786240" cy="1087560"/>
          </a:xfrm>
        </p:grpSpPr>
        <p:sp>
          <p:nvSpPr>
            <p:cNvPr id="290" name="Freeform 10"/>
            <p:cNvSpPr/>
            <p:nvPr/>
          </p:nvSpPr>
          <p:spPr>
            <a:xfrm flipV="1" rot="17877000">
              <a:off x="7290000" y="55962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1"/>
            <p:cNvSpPr/>
            <p:nvPr/>
          </p:nvSpPr>
          <p:spPr>
            <a:xfrm flipH="1" flipV="1" rot="17877000">
              <a:off x="7647480" y="489780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Line 12"/>
          <p:cNvSpPr/>
          <p:nvPr/>
        </p:nvSpPr>
        <p:spPr>
          <a:xfrm>
            <a:off x="6462720" y="3263760"/>
            <a:ext cx="144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61516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fold rotation axis with a mirror creates point group 3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not 3mm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5136120" y="4025880"/>
            <a:ext cx="2561040" cy="15321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29"/>
          <p:cNvGrpSpPr/>
          <p:nvPr/>
        </p:nvGrpSpPr>
        <p:grpSpPr>
          <a:xfrm>
            <a:off x="4833000" y="4901400"/>
            <a:ext cx="937080" cy="1019160"/>
            <a:chOff x="4833000" y="4901400"/>
            <a:chExt cx="937080" cy="1019160"/>
          </a:xfrm>
        </p:grpSpPr>
        <p:sp>
          <p:nvSpPr>
            <p:cNvPr id="296" name="Freeform 30"/>
            <p:cNvSpPr/>
            <p:nvPr/>
          </p:nvSpPr>
          <p:spPr>
            <a:xfrm flipV="1" rot="3045000">
              <a:off x="4921200" y="49356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31"/>
            <p:cNvSpPr/>
            <p:nvPr/>
          </p:nvSpPr>
          <p:spPr>
            <a:xfrm flipH="1" flipV="1" rot="3045000">
              <a:off x="5425920" y="55360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AutoShape 32"/>
          <p:cNvSpPr/>
          <p:nvPr/>
        </p:nvSpPr>
        <p:spPr>
          <a:xfrm>
            <a:off x="6324480" y="4616280"/>
            <a:ext cx="304920" cy="25740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52948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-fold rotation axis with a mirror creates point group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2"/>
          <p:cNvGrpSpPr/>
          <p:nvPr/>
        </p:nvGrpSpPr>
        <p:grpSpPr>
          <a:xfrm>
            <a:off x="4833000" y="3200400"/>
            <a:ext cx="3156840" cy="3048120"/>
            <a:chOff x="4833000" y="3200400"/>
            <a:chExt cx="3156840" cy="3048120"/>
          </a:xfrm>
        </p:grpSpPr>
        <p:sp>
          <p:nvSpPr>
            <p:cNvPr id="303" name="Line 3"/>
            <p:cNvSpPr/>
            <p:nvPr/>
          </p:nvSpPr>
          <p:spPr>
            <a:xfrm>
              <a:off x="5169960" y="3983760"/>
              <a:ext cx="2540880" cy="15652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Group 5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305" name="Freeform 6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7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8"/>
            <p:cNvGrpSpPr/>
            <p:nvPr/>
          </p:nvGrpSpPr>
          <p:grpSpPr>
            <a:xfrm>
              <a:off x="7203600" y="4878000"/>
              <a:ext cx="786240" cy="1087560"/>
              <a:chOff x="7203600" y="4878000"/>
              <a:chExt cx="786240" cy="1087560"/>
            </a:xfrm>
          </p:grpSpPr>
          <p:sp>
            <p:nvSpPr>
              <p:cNvPr id="308" name="Freeform 9"/>
              <p:cNvSpPr/>
              <p:nvPr/>
            </p:nvSpPr>
            <p:spPr>
              <a:xfrm flipV="1" rot="17877000">
                <a:off x="7290000" y="55962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0"/>
              <p:cNvSpPr/>
              <p:nvPr/>
            </p:nvSpPr>
            <p:spPr>
              <a:xfrm flipH="1" flipV="1" rot="17877000">
                <a:off x="7647480" y="489780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11"/>
            <p:cNvSpPr/>
            <p:nvPr/>
          </p:nvSpPr>
          <p:spPr>
            <a:xfrm>
              <a:off x="6462720" y="3263760"/>
              <a:ext cx="1440" cy="29847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 flipH="1">
              <a:off x="5136120" y="4025880"/>
              <a:ext cx="2561040" cy="15321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2" name="Group 14"/>
            <p:cNvGrpSpPr/>
            <p:nvPr/>
          </p:nvGrpSpPr>
          <p:grpSpPr>
            <a:xfrm>
              <a:off x="4833000" y="4901400"/>
              <a:ext cx="937080" cy="1019160"/>
              <a:chOff x="4833000" y="4901400"/>
              <a:chExt cx="937080" cy="1019160"/>
            </a:xfrm>
          </p:grpSpPr>
          <p:sp>
            <p:nvSpPr>
              <p:cNvPr id="313" name="Freeform 15"/>
              <p:cNvSpPr/>
              <p:nvPr/>
            </p:nvSpPr>
            <p:spPr>
              <a:xfrm flipV="1" rot="3045000">
                <a:off x="4921200" y="49356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6"/>
              <p:cNvSpPr/>
              <p:nvPr/>
            </p:nvSpPr>
            <p:spPr>
              <a:xfrm flipH="1" flipV="1" rot="3045000">
                <a:off x="5425920" y="553608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21"/>
          <p:cNvGrpSpPr/>
          <p:nvPr/>
        </p:nvGrpSpPr>
        <p:grpSpPr>
          <a:xfrm>
            <a:off x="7208640" y="3540240"/>
            <a:ext cx="820080" cy="1077480"/>
            <a:chOff x="7208640" y="3540240"/>
            <a:chExt cx="820080" cy="1077480"/>
          </a:xfrm>
        </p:grpSpPr>
        <p:sp>
          <p:nvSpPr>
            <p:cNvPr id="316" name="Freeform 22"/>
            <p:cNvSpPr/>
            <p:nvPr/>
          </p:nvSpPr>
          <p:spPr>
            <a:xfrm rot="3562800">
              <a:off x="7296120" y="3564360"/>
              <a:ext cx="255240" cy="34920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 flipH="1" rot="3562800">
              <a:off x="7685640" y="4244040"/>
              <a:ext cx="255240" cy="34920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24"/>
          <p:cNvGrpSpPr/>
          <p:nvPr/>
        </p:nvGrpSpPr>
        <p:grpSpPr>
          <a:xfrm>
            <a:off x="5922000" y="5904720"/>
            <a:ext cx="1054440" cy="408600"/>
            <a:chOff x="5922000" y="5904720"/>
            <a:chExt cx="1054440" cy="408600"/>
          </a:xfrm>
        </p:grpSpPr>
        <p:sp>
          <p:nvSpPr>
            <p:cNvPr id="319" name="Freeform 25"/>
            <p:cNvSpPr/>
            <p:nvPr/>
          </p:nvSpPr>
          <p:spPr>
            <a:xfrm flipV="1" rot="21439800">
              <a:off x="5929920" y="59580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 flipH="1" flipV="1" rot="21439800">
              <a:off x="6712920" y="59104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29"/>
          <p:cNvGrpSpPr/>
          <p:nvPr/>
        </p:nvGrpSpPr>
        <p:grpSpPr>
          <a:xfrm>
            <a:off x="4913280" y="3539880"/>
            <a:ext cx="674640" cy="1100520"/>
            <a:chOff x="4913280" y="3539880"/>
            <a:chExt cx="674640" cy="1100520"/>
          </a:xfrm>
        </p:grpSpPr>
        <p:sp>
          <p:nvSpPr>
            <p:cNvPr id="322" name="Freeform 30"/>
            <p:cNvSpPr/>
            <p:nvPr/>
          </p:nvSpPr>
          <p:spPr>
            <a:xfrm flipV="1" rot="6607800">
              <a:off x="5252400" y="3545280"/>
              <a:ext cx="255600" cy="3488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31"/>
            <p:cNvSpPr/>
            <p:nvPr/>
          </p:nvSpPr>
          <p:spPr>
            <a:xfrm flipH="1" flipV="1" rot="6607800">
              <a:off x="4993200" y="4285800"/>
              <a:ext cx="255600" cy="3488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Line 33"/>
          <p:cNvSpPr/>
          <p:nvPr/>
        </p:nvSpPr>
        <p:spPr>
          <a:xfrm>
            <a:off x="5653080" y="3394080"/>
            <a:ext cx="1612800" cy="27590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4"/>
          <p:cNvSpPr/>
          <p:nvPr/>
        </p:nvSpPr>
        <p:spPr>
          <a:xfrm flipV="1">
            <a:off x="5702400" y="3492000"/>
            <a:ext cx="1465200" cy="2551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35"/>
          <p:cNvSpPr/>
          <p:nvPr/>
        </p:nvSpPr>
        <p:spPr>
          <a:xfrm>
            <a:off x="4994280" y="4749840"/>
            <a:ext cx="2952720" cy="126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36"/>
          <p:cNvSpPr/>
          <p:nvPr/>
        </p:nvSpPr>
        <p:spPr>
          <a:xfrm>
            <a:off x="6284880" y="4605480"/>
            <a:ext cx="353880" cy="304560"/>
          </a:xfrm>
          <a:prstGeom prst="hexagon">
            <a:avLst>
              <a:gd name="adj" fmla="val 29048"/>
              <a:gd name="vf" fmla="val 11547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242640" y="1473120"/>
            <a:ext cx="852948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iginal 6 elements plus the 4 combinations create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-D Point Grou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   2   3   4   6   m  2mm 3m 4mm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-D pattern of objects surrounding a point must conform to one of these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93360" y="1162080"/>
            <a:ext cx="809316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in 2-D, the number of possible combinations is limited only b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compati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dund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onl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unique 3-D combinations, when combined with t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iginal 3-D elements yields t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2 3-D Poi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93720" y="755280"/>
            <a:ext cx="808200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3-D pattern must conform 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ncludes every crystal, and every point within a crys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18" descr=""/>
          <p:cNvPicPr/>
          <p:nvPr/>
        </p:nvPicPr>
        <p:blipFill>
          <a:blip r:embed="rId1"/>
          <a:stretch/>
        </p:blipFill>
        <p:spPr>
          <a:xfrm>
            <a:off x="270000" y="2746440"/>
            <a:ext cx="8588160" cy="33526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9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1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ouping point groups that require a similar arrangement of axes to describe the crystal lattice. |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even unique crystal syste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5480" y="43956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36320" y="2026800"/>
            <a:ext cx="83358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now hav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iqu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ymmetry oper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   2   3   4   6 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   4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5760" y="4052880"/>
            <a:ext cx="8335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bin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se elements are also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pl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lysis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ymmetry about a point in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quires that we try all possible combinations of these symmetry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549760" y="313200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130800" y="311796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93720" y="1089000"/>
            <a:ext cx="808200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rouped by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rysta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20" descr=""/>
          <p:cNvPicPr/>
          <p:nvPr/>
        </p:nvPicPr>
        <p:blipFill>
          <a:blip r:embed="rId1"/>
          <a:stretch/>
        </p:blipFill>
        <p:spPr>
          <a:xfrm>
            <a:off x="1244520" y="2706840"/>
            <a:ext cx="6542280" cy="29574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1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3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s between axes are not equ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: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9" descr="tricliniccrystal"/>
          <p:cNvPicPr/>
          <p:nvPr/>
        </p:nvPicPr>
        <p:blipFill>
          <a:blip r:embed="rId1"/>
          <a:stretch/>
        </p:blipFill>
        <p:spPr>
          <a:xfrm>
            <a:off x="509760" y="1717560"/>
            <a:ext cx="3930480" cy="2948040"/>
          </a:xfrm>
          <a:prstGeom prst="rect">
            <a:avLst/>
          </a:prstGeom>
          <a:ln w="0">
            <a:noFill/>
          </a:ln>
        </p:spPr>
      </p:pic>
      <p:sp>
        <p:nvSpPr>
          <p:cNvPr id="346" name="Line 10"/>
          <p:cNvSpPr/>
          <p:nvPr/>
        </p:nvSpPr>
        <p:spPr>
          <a:xfrm>
            <a:off x="7099200" y="435456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no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two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 m, 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monocliniccrystal"/>
          <p:cNvPicPr/>
          <p:nvPr/>
        </p:nvPicPr>
        <p:blipFill>
          <a:blip r:embed="rId1"/>
          <a:stretch/>
        </p:blipFill>
        <p:spPr>
          <a:xfrm>
            <a:off x="371520" y="173988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thorhomb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2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m2/m/2/m,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9" descr="tetragonalcrystal"/>
          <p:cNvPicPr/>
          <p:nvPr/>
        </p:nvPicPr>
        <p:blipFill>
          <a:blip r:embed="rId1"/>
          <a:stretch/>
        </p:blipFill>
        <p:spPr>
          <a:xfrm>
            <a:off x="457200" y="1633680"/>
            <a:ext cx="41022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tr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4, 4, 4/m, 4mm, 422, 42m, 4/m2/m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orthorhombiccrystal"/>
          <p:cNvPicPr/>
          <p:nvPr/>
        </p:nvPicPr>
        <p:blipFill>
          <a:blip r:embed="rId1"/>
          <a:stretch/>
        </p:blipFill>
        <p:spPr>
          <a:xfrm>
            <a:off x="380880" y="1728720"/>
            <a:ext cx="4221360" cy="3165480"/>
          </a:xfrm>
          <a:prstGeom prst="rect">
            <a:avLst/>
          </a:prstGeom>
          <a:ln w="0">
            <a:noFill/>
          </a:ln>
        </p:spPr>
      </p:pic>
      <p:sp>
        <p:nvSpPr>
          <p:cNvPr id="356" name="Line 6"/>
          <p:cNvSpPr/>
          <p:nvPr/>
        </p:nvSpPr>
        <p:spPr>
          <a:xfrm>
            <a:off x="7723080" y="436572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7693200" y="486108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x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6, 6, 6/m, 6mm, 622, 62m, 6/m2/m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7315200" y="48070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66294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8" descr="hexagonalcrystal"/>
          <p:cNvPicPr/>
          <p:nvPr/>
        </p:nvPicPr>
        <p:blipFill>
          <a:blip r:embed="rId1"/>
          <a:stretch/>
        </p:blipFill>
        <p:spPr>
          <a:xfrm>
            <a:off x="392040" y="1762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gonal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(Subset of Hexagonal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3, 3, 3/m, 32, 3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4"/>
          <p:cNvSpPr/>
          <p:nvPr/>
        </p:nvSpPr>
        <p:spPr>
          <a:xfrm>
            <a:off x="5583240" y="55594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72738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8" descr="trigonalcrystal"/>
          <p:cNvPicPr/>
          <p:nvPr/>
        </p:nvPicPr>
        <p:blipFill>
          <a:blip r:embed="rId1"/>
          <a:stretch/>
        </p:blipFill>
        <p:spPr>
          <a:xfrm>
            <a:off x="349200" y="1600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ubic / Isometr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3, 423, 2/m3, 43m, 4/m3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5700600" y="4827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6078600" y="482760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8" descr="cubiccrystal"/>
          <p:cNvPicPr/>
          <p:nvPr/>
        </p:nvPicPr>
        <p:blipFill>
          <a:blip r:embed="rId1"/>
          <a:stretch/>
        </p:blipFill>
        <p:spPr>
          <a:xfrm>
            <a:off x="380880" y="1719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373" name="Line 9"/>
          <p:cNvSpPr/>
          <p:nvPr/>
        </p:nvSpPr>
        <p:spPr>
          <a:xfrm>
            <a:off x="7553160" y="48402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5943600" y="373392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6782400" y="16765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6326640" y="373392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N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int Gro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t of symmetry operations that leave the appearance of the crystal structure unchang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32 possible point group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.e., unique combinations of symmetry operation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5410080" y="44956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5638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TWO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ference Fig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6860880" y="27432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UN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6936840" y="44956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B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4419720" y="4495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NON-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181480" y="2819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tin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6709320" y="3124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6860880" y="48769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NC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combining a 2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i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oint Group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mm”  indicat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rrors are diffe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17" name="Freeform 8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"/>
          <p:cNvGrpSpPr/>
          <p:nvPr/>
        </p:nvGrpSpPr>
        <p:grpSpPr>
          <a:xfrm>
            <a:off x="5940360" y="5889240"/>
            <a:ext cx="1040040" cy="360360"/>
            <a:chOff x="5940360" y="5889240"/>
            <a:chExt cx="1040040" cy="360360"/>
          </a:xfrm>
        </p:grpSpPr>
        <p:sp>
          <p:nvSpPr>
            <p:cNvPr id="120" name="Freeform 11"/>
            <p:cNvSpPr/>
            <p:nvPr/>
          </p:nvSpPr>
          <p:spPr>
            <a:xfrm flipV="1">
              <a:off x="5940360" y="59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 flipH="1" flipV="1">
              <a:off x="6724800" y="588924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Line 14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6362640" y="4457880"/>
            <a:ext cx="177840" cy="622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6"/>
          <p:cNvSpPr/>
          <p:nvPr/>
        </p:nvSpPr>
        <p:spPr>
          <a:xfrm>
            <a:off x="5925960" y="3200400"/>
            <a:ext cx="255600" cy="349200"/>
          </a:xfrm>
          <a:custGeom>
            <a:avLst/>
            <a:gdLst>
              <a:gd name="textAreaLeft" fmla="*/ 0 w 255600"/>
              <a:gd name="textAreaRight" fmla="*/ 255960 w 25560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537" h="883">
                <a:moveTo>
                  <a:pt x="520" y="0"/>
                </a:moveTo>
                <a:lnTo>
                  <a:pt x="520" y="24"/>
                </a:lnTo>
                <a:lnTo>
                  <a:pt x="479" y="29"/>
                </a:lnTo>
                <a:lnTo>
                  <a:pt x="445" y="36"/>
                </a:lnTo>
                <a:lnTo>
                  <a:pt x="413" y="46"/>
                </a:lnTo>
                <a:lnTo>
                  <a:pt x="385" y="57"/>
                </a:lnTo>
                <a:lnTo>
                  <a:pt x="358" y="71"/>
                </a:lnTo>
                <a:lnTo>
                  <a:pt x="333" y="88"/>
                </a:lnTo>
                <a:lnTo>
                  <a:pt x="307" y="109"/>
                </a:lnTo>
                <a:lnTo>
                  <a:pt x="282" y="133"/>
                </a:lnTo>
                <a:lnTo>
                  <a:pt x="258" y="159"/>
                </a:lnTo>
                <a:lnTo>
                  <a:pt x="236" y="186"/>
                </a:lnTo>
                <a:lnTo>
                  <a:pt x="215" y="215"/>
                </a:lnTo>
                <a:lnTo>
                  <a:pt x="198" y="246"/>
                </a:lnTo>
                <a:lnTo>
                  <a:pt x="181" y="278"/>
                </a:lnTo>
                <a:lnTo>
                  <a:pt x="166" y="313"/>
                </a:lnTo>
                <a:lnTo>
                  <a:pt x="153" y="352"/>
                </a:lnTo>
                <a:lnTo>
                  <a:pt x="141" y="393"/>
                </a:lnTo>
                <a:lnTo>
                  <a:pt x="185" y="366"/>
                </a:lnTo>
                <a:lnTo>
                  <a:pt x="231" y="346"/>
                </a:lnTo>
                <a:lnTo>
                  <a:pt x="277" y="335"/>
                </a:lnTo>
                <a:lnTo>
                  <a:pt x="322" y="331"/>
                </a:lnTo>
                <a:lnTo>
                  <a:pt x="343" y="332"/>
                </a:lnTo>
                <a:lnTo>
                  <a:pt x="364" y="335"/>
                </a:lnTo>
                <a:lnTo>
                  <a:pt x="383" y="340"/>
                </a:lnTo>
                <a:lnTo>
                  <a:pt x="403" y="349"/>
                </a:lnTo>
                <a:lnTo>
                  <a:pt x="421" y="359"/>
                </a:lnTo>
                <a:lnTo>
                  <a:pt x="439" y="371"/>
                </a:lnTo>
                <a:lnTo>
                  <a:pt x="456" y="385"/>
                </a:lnTo>
                <a:lnTo>
                  <a:pt x="472" y="402"/>
                </a:lnTo>
                <a:lnTo>
                  <a:pt x="488" y="420"/>
                </a:lnTo>
                <a:lnTo>
                  <a:pt x="500" y="440"/>
                </a:lnTo>
                <a:lnTo>
                  <a:pt x="512" y="459"/>
                </a:lnTo>
                <a:lnTo>
                  <a:pt x="520" y="481"/>
                </a:lnTo>
                <a:lnTo>
                  <a:pt x="527" y="505"/>
                </a:lnTo>
                <a:lnTo>
                  <a:pt x="532" y="529"/>
                </a:lnTo>
                <a:lnTo>
                  <a:pt x="535" y="555"/>
                </a:lnTo>
                <a:lnTo>
                  <a:pt x="537" y="582"/>
                </a:lnTo>
                <a:lnTo>
                  <a:pt x="535" y="608"/>
                </a:lnTo>
                <a:lnTo>
                  <a:pt x="532" y="633"/>
                </a:lnTo>
                <a:lnTo>
                  <a:pt x="527" y="659"/>
                </a:lnTo>
                <a:lnTo>
                  <a:pt x="520" y="684"/>
                </a:lnTo>
                <a:lnTo>
                  <a:pt x="512" y="707"/>
                </a:lnTo>
                <a:lnTo>
                  <a:pt x="500" y="731"/>
                </a:lnTo>
                <a:lnTo>
                  <a:pt x="488" y="753"/>
                </a:lnTo>
                <a:lnTo>
                  <a:pt x="472" y="776"/>
                </a:lnTo>
                <a:lnTo>
                  <a:pt x="452" y="801"/>
                </a:lnTo>
                <a:lnTo>
                  <a:pt x="429" y="822"/>
                </a:lnTo>
                <a:lnTo>
                  <a:pt x="407" y="840"/>
                </a:lnTo>
                <a:lnTo>
                  <a:pt x="382" y="855"/>
                </a:lnTo>
                <a:lnTo>
                  <a:pt x="355" y="868"/>
                </a:lnTo>
                <a:lnTo>
                  <a:pt x="328" y="876"/>
                </a:lnTo>
                <a:lnTo>
                  <a:pt x="297" y="882"/>
                </a:lnTo>
                <a:lnTo>
                  <a:pt x="266" y="883"/>
                </a:lnTo>
                <a:lnTo>
                  <a:pt x="245" y="882"/>
                </a:lnTo>
                <a:lnTo>
                  <a:pt x="224" y="879"/>
                </a:lnTo>
                <a:lnTo>
                  <a:pt x="205" y="875"/>
                </a:lnTo>
                <a:lnTo>
                  <a:pt x="187" y="868"/>
                </a:lnTo>
                <a:lnTo>
                  <a:pt x="169" y="859"/>
                </a:lnTo>
                <a:lnTo>
                  <a:pt x="151" y="850"/>
                </a:lnTo>
                <a:lnTo>
                  <a:pt x="120" y="825"/>
                </a:lnTo>
                <a:lnTo>
                  <a:pt x="92" y="795"/>
                </a:lnTo>
                <a:lnTo>
                  <a:pt x="68" y="765"/>
                </a:lnTo>
                <a:lnTo>
                  <a:pt x="47" y="731"/>
                </a:lnTo>
                <a:lnTo>
                  <a:pt x="31" y="695"/>
                </a:lnTo>
                <a:lnTo>
                  <a:pt x="17" y="657"/>
                </a:lnTo>
                <a:lnTo>
                  <a:pt x="7" y="618"/>
                </a:lnTo>
                <a:lnTo>
                  <a:pt x="1" y="578"/>
                </a:lnTo>
                <a:lnTo>
                  <a:pt x="0" y="534"/>
                </a:lnTo>
                <a:lnTo>
                  <a:pt x="3" y="479"/>
                </a:lnTo>
                <a:lnTo>
                  <a:pt x="11" y="423"/>
                </a:lnTo>
                <a:lnTo>
                  <a:pt x="26" y="368"/>
                </a:lnTo>
                <a:lnTo>
                  <a:pt x="46" y="317"/>
                </a:lnTo>
                <a:lnTo>
                  <a:pt x="71" y="266"/>
                </a:lnTo>
                <a:lnTo>
                  <a:pt x="100" y="219"/>
                </a:lnTo>
                <a:lnTo>
                  <a:pt x="137" y="176"/>
                </a:lnTo>
                <a:lnTo>
                  <a:pt x="176" y="134"/>
                </a:lnTo>
                <a:lnTo>
                  <a:pt x="217" y="98"/>
                </a:lnTo>
                <a:lnTo>
                  <a:pt x="259" y="68"/>
                </a:lnTo>
                <a:lnTo>
                  <a:pt x="300" y="45"/>
                </a:lnTo>
                <a:lnTo>
                  <a:pt x="339" y="27"/>
                </a:lnTo>
                <a:lnTo>
                  <a:pt x="376" y="15"/>
                </a:lnTo>
                <a:lnTo>
                  <a:pt x="414" y="7"/>
                </a:lnTo>
                <a:lnTo>
                  <a:pt x="449" y="1"/>
                </a:lnTo>
                <a:lnTo>
                  <a:pt x="484" y="0"/>
                </a:lnTo>
                <a:lnTo>
                  <a:pt x="520" y="0"/>
                </a:lnTo>
                <a:close/>
                <a:moveTo>
                  <a:pt x="131" y="440"/>
                </a:moveTo>
                <a:lnTo>
                  <a:pt x="125" y="479"/>
                </a:lnTo>
                <a:lnTo>
                  <a:pt x="123" y="515"/>
                </a:lnTo>
                <a:lnTo>
                  <a:pt x="120" y="547"/>
                </a:lnTo>
                <a:lnTo>
                  <a:pt x="120" y="575"/>
                </a:lnTo>
                <a:lnTo>
                  <a:pt x="121" y="606"/>
                </a:lnTo>
                <a:lnTo>
                  <a:pt x="125" y="638"/>
                </a:lnTo>
                <a:lnTo>
                  <a:pt x="131" y="671"/>
                </a:lnTo>
                <a:lnTo>
                  <a:pt x="141" y="706"/>
                </a:lnTo>
                <a:lnTo>
                  <a:pt x="153" y="739"/>
                </a:lnTo>
                <a:lnTo>
                  <a:pt x="169" y="769"/>
                </a:lnTo>
                <a:lnTo>
                  <a:pt x="187" y="795"/>
                </a:lnTo>
                <a:lnTo>
                  <a:pt x="208" y="818"/>
                </a:lnTo>
                <a:lnTo>
                  <a:pt x="224" y="830"/>
                </a:lnTo>
                <a:lnTo>
                  <a:pt x="243" y="840"/>
                </a:lnTo>
                <a:lnTo>
                  <a:pt x="262" y="846"/>
                </a:lnTo>
                <a:lnTo>
                  <a:pt x="284" y="847"/>
                </a:lnTo>
                <a:lnTo>
                  <a:pt x="311" y="844"/>
                </a:lnTo>
                <a:lnTo>
                  <a:pt x="336" y="834"/>
                </a:lnTo>
                <a:lnTo>
                  <a:pt x="360" y="818"/>
                </a:lnTo>
                <a:lnTo>
                  <a:pt x="382" y="795"/>
                </a:lnTo>
                <a:lnTo>
                  <a:pt x="400" y="766"/>
                </a:lnTo>
                <a:lnTo>
                  <a:pt x="414" y="733"/>
                </a:lnTo>
                <a:lnTo>
                  <a:pt x="422" y="693"/>
                </a:lnTo>
                <a:lnTo>
                  <a:pt x="425" y="649"/>
                </a:lnTo>
                <a:lnTo>
                  <a:pt x="422" y="597"/>
                </a:lnTo>
                <a:lnTo>
                  <a:pt x="414" y="550"/>
                </a:lnTo>
                <a:lnTo>
                  <a:pt x="400" y="505"/>
                </a:lnTo>
                <a:lnTo>
                  <a:pt x="382" y="463"/>
                </a:lnTo>
                <a:lnTo>
                  <a:pt x="371" y="445"/>
                </a:lnTo>
                <a:lnTo>
                  <a:pt x="358" y="428"/>
                </a:lnTo>
                <a:lnTo>
                  <a:pt x="346" y="416"/>
                </a:lnTo>
                <a:lnTo>
                  <a:pt x="332" y="405"/>
                </a:lnTo>
                <a:lnTo>
                  <a:pt x="316" y="396"/>
                </a:lnTo>
                <a:lnTo>
                  <a:pt x="300" y="389"/>
                </a:lnTo>
                <a:lnTo>
                  <a:pt x="282" y="386"/>
                </a:lnTo>
                <a:lnTo>
                  <a:pt x="262" y="385"/>
                </a:lnTo>
                <a:lnTo>
                  <a:pt x="238" y="388"/>
                </a:lnTo>
                <a:lnTo>
                  <a:pt x="210" y="395"/>
                </a:lnTo>
                <a:lnTo>
                  <a:pt x="195" y="402"/>
                </a:lnTo>
                <a:lnTo>
                  <a:pt x="177" y="412"/>
                </a:lnTo>
                <a:lnTo>
                  <a:pt x="156" y="424"/>
                </a:lnTo>
                <a:lnTo>
                  <a:pt x="131" y="4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35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45" name="Freeform 16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22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48" name="Freeform 23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54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55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58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15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62" name="Freeform 16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7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70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71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74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78" name="Group 15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79" name="Freeform 16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7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8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182" name="Freeform 19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20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ksu</cp:lastModifiedBy>
  <dcterms:modified xsi:type="dcterms:W3CDTF">2011-10-27T13:50:45Z</dcterms:modified>
  <cp:revision>163</cp:revision>
  <dc:subject/>
  <dc:title>Chapter 8: Major Elements</dc:title>
</cp:coreProperties>
</file>