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B847-D531-43C2-83DB-E787B72D3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04F9-B8D3-43B1-953F-80400CBC7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44C9-BFB5-45AE-A440-5BDFB9EAD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9736-D436-4E0E-BFC5-286097B22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07BA-2912-4262-9327-AD91BF1458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A114-D6A1-4BBD-9163-4A4C6C0B8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A94-49EF-478A-A92F-466F763BC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FBCC-2F8C-4E4F-9239-D48C5464B1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221-B887-4131-82D9-136697390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052-B4CB-40DD-9575-5AAC3C6B7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D73A-7393-4747-A81D-ECBDBADB3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3DC-5AEE-4AFF-9CEC-EED9D3367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D4D8-4AFE-4BDE-A243-A44C2095E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FD3-79C1-4FB4-9609-3C44B1926E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251-3D51-48BC-9FD3-5A27D9F7AC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087-7037-4176-901F-B59FA9DCD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A907-DAE1-445C-9CE1-202557D8C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E4D-92A4-496E-ADFA-312FA64012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067-9406-45AA-9856-AE397DB90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53E-2360-43F1-A0C7-49EC700210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73D0-B0E2-495E-8EA0-6A4D6A7526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B8E9-4E32-41E5-89A3-63BEFBFE9C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8FCB-A90F-4A15-BDE7-477724C04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5EB-57D0-49DB-AE19-30638BFB3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6A3-3156-47E8-8E2B-F46AB9158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CE5-DB59-487F-97D0-732B70FD7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565E-7010-4A8C-AB8B-125973340C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C92F-E8F2-4346-97A7-99561EF52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4459-685B-48AC-B68F-7FBF9FAD0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2DD-3AC0-4B06-A9BD-2D54604383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5A70-0C6E-41BE-A630-904501383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7759-498F-4371-B922-9D0516EA85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3C9-07E4-45A1-898D-C16A10C0A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C61F-CFCB-479D-9124-E7343CB89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C01-1946-4882-8EFD-17B4AED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D90-4D96-4A86-B0A8-3833A2A0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CC9-05B4-4B66-8A79-6F452D18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559-57B2-490B-AC18-56BE1CD4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121E-C3DC-4EF6-8D64-5482C09B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FA28-81FF-49E7-9138-ECEDD908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5857-E842-47CC-828A-29048E36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391F-FAA5-44EC-B24D-65A5E52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4DD-4471-438C-8C16-33DE2F47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BEE7-7159-46B3-A0DC-F2993753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BA8-BA54-4593-B3B0-78071069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29A-79DC-41A0-BE37-356A21C2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81CB-EB29-47CB-B258-1F80F89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EF7-640E-4EF4-B7EB-83E19D8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F562-A858-45BF-902D-56E8DDE7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E61-C9BA-4538-BAAA-6882619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89E2-5D96-4544-B8E8-A54CACB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279-3AE0-45A2-A96E-EEA2735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7A2-0F03-4C5D-A875-6942B569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C85-A658-4153-9187-F9A652E6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35A-7EA6-4C96-BB4D-71DB83A1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CDC-208B-436A-ACA8-DD7FEC9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88C-AE4A-45BB-AEFC-8DABD87B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CA3-7782-48C0-9645-0B1D234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5191-9A16-4C3E-ABE7-2894DE4786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3C1-3449-438B-9AE9-107193AD54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0:45Z</dcterms:modified>
  <cp:revision>163</cp:revision>
  <dc:subject/>
  <dc:title>Chapter 8: Major Elements</dc:title>
</cp:coreProperties>
</file>