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D15F-F983-4655-AF7F-48B28E53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EFF8-FDA8-4866-9A4C-B66D5FE3BF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DEF7-64A8-4D20-B064-91C58B200B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CA5-232F-4762-B842-598279B919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D24E-D52C-4640-AFBB-82DF860E10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CEF-3B25-434A-AC01-43619381C6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4A2D-ED0C-4E03-B409-DF17CFAE87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174C-B61F-42F5-9DA4-36D3112DB3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5A2C-8C4C-4785-BE99-D7B1847AFC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CE00-C496-4312-B3DD-9B4B032B3A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B40C-C5C9-4FF6-88C2-6501FCF268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BF87-F9CB-4299-BA77-1472254AA7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D68A-C7CC-4C6F-B4F8-0BD2FD3855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5B6-6577-4F92-90AA-C73B107108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F8A3-7DA7-42FE-A8CE-4AB0FEEC23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8490-CEB0-41CC-88B2-7F0873898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186C-D4F2-4916-B6D3-F52FF6B5D4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C451-27DD-4C65-A37F-654E739D6C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FB7-311A-4842-8E2F-4F764DA79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55EB-BB4C-4F2A-81F8-8BA7D53E71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F9ED-DBA8-45BC-85A0-43C2B5DAE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5D95-27A8-41D9-9B78-2A6E8F572B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D9F7-5D24-49B6-8123-BE2EC8AC3A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E0D6-A975-47B6-B150-EE22D31E2B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4D16-11C0-410E-BC5A-40C802D9FE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7619-44CD-4AF9-A942-F591FEEABD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946C-1FA9-4A0C-8D50-CE298BD51B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4F81-26E7-4CAD-8828-FD7A7A6F67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F28C-5C08-4246-A1B1-9C96296E17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49B0-4477-4D85-9F06-D3ACDB4534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8268-265E-40E1-A797-159107F085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024A-6D14-4F1A-B4E1-358B430D13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4923-D99C-4BFD-A887-AEE17AD9E1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B5A1-AEA1-486C-B852-FD7D89869D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D22-224C-4EBB-8409-F34EDFFA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B9D-D5DB-4733-AA14-66078CF0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908-8B67-4D1D-96F0-061A390A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C73-BD74-4019-AA0F-B09A8B99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7EAA-95F8-4401-9964-E89875F0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465C-5922-4B93-8918-328CA7FB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07FF-B8A0-4FA2-BCC6-9C4378DC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EBD-5CAF-498B-9837-E22B2D31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1462-2290-4BE1-B9AA-62CAB0C6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E00D-F496-4F56-A017-4E49853C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DB1A-4A2A-4B47-9703-88124D2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AC9-38CE-44AC-AFF0-D296A208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8808-92EF-40A8-9C0B-C63941A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8F28-0DF7-41C9-B242-68AC33F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3562-8B25-4683-953D-2E44A11D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B96D-9D84-4F70-BADB-B8233E35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FAF1-05C4-4463-B105-4EC959EC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97B-E31D-4089-B336-1E0841E5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E31-6F3A-42CD-9349-8D2C8DC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A9E-4D4C-4873-B4D5-A64A1521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334-4B06-451F-8CEE-2BA2C0CB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9A4-1934-4BA4-93A4-BF10E7FA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24A-ADA1-4660-AFAE-30D54634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6F1-DF40-4001-9AA2-B4C6C006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2DF4-64C5-4A18-958E-658628DEA3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16AA-406C-49BC-87EF-35ABBEFD99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-D Point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l 3-D elements yields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0:45Z</dcterms:modified>
  <cp:revision>163</cp:revision>
  <dc:subject/>
  <dc:title>Chapter 8: Major Elements</dc:title>
</cp:coreProperties>
</file>